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CB96-2408-4578-8215-F5E001286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78E2-9583-4785-BA26-394EB4A0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D843-89BE-4B2A-9945-53E4E3816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4390-96EF-4A46-B23C-3D10DF04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FA3E-E9DC-48B0-A0FB-D065E1A15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D088-BE45-4248-9D75-8786A136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A1CF-B00A-429E-A5C0-FFD27A79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B1C9-A937-48C3-8C74-A376C15D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2727-6E43-449D-A53A-7E4A2FFA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916D-5E0F-4E8B-BAA7-3BD81753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C895-C399-48D3-937C-80905D48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A534-E1ED-4A26-AE59-0AFE959B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BD3E-F4B1-4028-BDF4-A94DD700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311B-2DB6-41E0-8EDF-38F21C78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3937-621C-4418-8330-3F60912B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2110-D3F9-4A3E-AEF0-A983A6446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A221-B9A1-49CD-9215-C3823236E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5D24-968B-499A-8C85-F7776397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1446-79BA-4F8B-9564-2DA68700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1C44-5ABD-4E20-BC1D-4037B44A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425F-C362-4E82-AC8E-8B4AC037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6B0E-1304-4B02-BBB0-C2C7418B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F794-5C01-4459-B16C-C278E0A2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490B-B1C5-4A9A-B6E2-5DE70D75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9CE9-2955-4C80-9C2B-76F789B3A123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a00"/>
              </a:gs>
              <a:gs pos="50000">
                <a:srgbClr val="afe9cc"/>
              </a:gs>
              <a:gs pos="100000">
                <a:srgbClr val="001a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a00"/>
              </a:gs>
              <a:gs pos="50000">
                <a:srgbClr val="afe9cc"/>
              </a:gs>
              <a:gs pos="100000">
                <a:srgbClr val="001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8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afe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fe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09A9-C712-4428-95FA-08CCF18872F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0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a00"/>
              </a:gs>
              <a:gs pos="50000">
                <a:srgbClr val="afe9cc"/>
              </a:gs>
              <a:gs pos="100000">
                <a:srgbClr val="001a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a00"/>
              </a:gs>
              <a:gs pos="50000">
                <a:srgbClr val="afe9cc"/>
              </a:gs>
              <a:gs pos="100000">
                <a:srgbClr val="001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afe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afe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4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Distance Education: Opportunities and Constraint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952880" y="3882960"/>
          <a:ext cx="3886200" cy="27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882960"/>
                    <a:ext cx="3886200" cy="27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457200" y="21337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U.S. Department of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418680"/>
            <a:ext cx="85345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Congressional Concern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5345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emory of the late 80’s and early 90’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Quality assuranc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Possibilities for fraud and abus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Aid requirements structured around traditional concepts of higher education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Increase educational opportunitie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7162920" y="5334120"/>
          <a:ext cx="167328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334120"/>
                    <a:ext cx="16732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418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Statutory &amp; Regulatory Limitation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2362320"/>
            <a:ext cx="853452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Note that the laws and regulations governing 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itle IV programs do not use the term “distanc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education” but rather use the term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elecommunications” and “correspondence”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4186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Statutory &amp; Regulatory Limitation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61084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Impact"/>
              </a:rPr>
              <a:t>Telecommunications course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153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A course that is delivered primarily through th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use of technology except that this does no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include a course that is delivered using video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assette or disc recordings unless that course i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also provided n the school’s campus 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during the same award year.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Statutory &amp; Regulatory Limitation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36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Impact"/>
              </a:rPr>
              <a:t>Correspondence Cours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A “home study” course in which instructiona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aterials are primarily paper-based and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provided to students via the mail; and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4186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Statutory &amp; Regulatory Limitation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Impact"/>
              </a:rPr>
              <a:t>Correspondence Course (continued)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A course in which instruction is provided vi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video cassettes or video discs unless the schoo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also delivers the same course to student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physically attending classes at the 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chool during the same award year; 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Statutory &amp; Regulatory Limitation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53452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Impact"/>
              </a:rPr>
              <a:t>Correspondence Course (continued)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0528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A telecommunications course is considered 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orrespondence course if tota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elecommunications and correspondenc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ourses is 50 percent or more of the total course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provided by that school during that award year;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08660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Statutory &amp; Regulatory Limitation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2514240"/>
            <a:ext cx="853452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Impact"/>
              </a:rPr>
              <a:t>Correspondence Course (continued)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If a course is part correspondence and par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residential it is considered to be 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orrespondence course.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Statutory &amp; Regulatory Limitation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Impact"/>
              </a:rPr>
              <a:t>Educational Program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1896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A school is not considered to provide an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educational program if the school does no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provide instruction itself, but merely give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redit for instruction provided by other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chools; examinations provided by agencie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or organizations; or other accomplishment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uch as “life experience.”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7238880" y="5486400"/>
          <a:ext cx="167328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5486400"/>
                    <a:ext cx="16732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868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Statutory &amp; Regulatory Limitation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Impact"/>
              </a:rPr>
              <a:t>Bottom lin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A school cannot contract out an entire program or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establish a program that is made up entirely of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ourses that a student takes at another school ; or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291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Offer a program based on credits earned by means of demonstrated competencies 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without offering courses in that 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program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708660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Statutory &amp; Regulatory Limitation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53452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an not  contract out a program with another school or company - such as a publishing company, a truck driving company, a medical facility, etc. -  unless the school provides some courses towards the program itself.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7162920" y="5334120"/>
          <a:ext cx="167328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334120"/>
                    <a:ext cx="16732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4186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686800" cy="39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e Context:  Distance Education in 2001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tatutory &amp; Regulatory Limitation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Distance Education Demonstration Program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Statutory &amp; Regulatory Limitation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53452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Impact"/>
              </a:rPr>
              <a:t>Student Eligibility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A student is not eligible to receive Title IV aid for 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orrespondence course unless that course is par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of a program leading to an associate, bachelor’s,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or graduate degree.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723888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Statutory &amp; Regulatory Limitation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Impact"/>
              </a:rPr>
              <a:t>Bottom Lin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orrespondence study students enrolled in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ertificate programs are not eligible.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7086600" y="5257800"/>
          <a:ext cx="167328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5257800"/>
                    <a:ext cx="16732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19040"/>
            <a:ext cx="86868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Statutory &amp; Regulatory Limitation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Impact"/>
              </a:rPr>
              <a:t>Cost of Attendanc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r a student engaged in a program of study by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orrespondence, the student’s cost of attendanc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an include only tuition and fees and, if required,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books and supplies, travel, and room and board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osts incurred specifically in fulfilling 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a required period of residential 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raining.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Statutory &amp; Regulatory Limitation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53452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Impact"/>
              </a:rPr>
              <a:t>Bottom Lin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Generally, there are no living expenses allowed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r correspondence students.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7010280" y="5257800"/>
          <a:ext cx="167328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5257800"/>
                    <a:ext cx="16732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Statutory &amp; Regulatory Limitation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Impact"/>
              </a:rPr>
              <a:t>Institutional Eligibility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Generally, a school is ineligible if --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1. More than 50% of the school’s courses are correspondence and/or telecommunication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and/or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2. 50% or more of the school’s regular  enrolled students are enrolled in correspondence course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7238880" y="5486400"/>
          <a:ext cx="167328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5486400"/>
                    <a:ext cx="16732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Statutory &amp; Regulatory Limitation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792468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Impact"/>
              </a:rPr>
              <a:t>Bottom Lin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290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A schools in ineligible if more than 50% of its programs or students are enrolled in correspondence courses or program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2904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(Rule - School is a sum of its eligible programs)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723888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Statutory &amp; Regulatory Limitation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686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Keep in mind that --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A telecommunications course is considered 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orrespondence course if tota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elecommunications and correspondence course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is 50% or more of the total courses provided by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at school during that award year.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Statutory &amp; Regulatory Limitation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Impact"/>
              </a:rPr>
              <a:t>Bottom Lin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394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Virtual Universities are not eligibl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chools with large numbers of distanc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education students and/or programs may not be eligibl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chools with large number of students enrolled in correspondence 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programs may not be  eligible.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723888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Statutory &amp; Regulatory Limitation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686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Impact"/>
              </a:rPr>
              <a:t>Student Enrollment Statu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Regardless of the number of credits or hours 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tudent is carrying, no student enrolled solely in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orrespondence study is considered more than 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half-time student.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7162920" y="5334120"/>
          <a:ext cx="167328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334120"/>
                    <a:ext cx="16732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18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Statutory &amp; Regulatory Limitation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686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Impact"/>
              </a:rPr>
              <a:t>Bottom Lin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Limits the amount of Pell Grant Program fund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Limit on deferments under loan program.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7162920" y="5334120"/>
          <a:ext cx="167328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334120"/>
                    <a:ext cx="16732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4186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Context:  Rapid Growth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53452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Large Number of Institutions Offer Course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05600" indent="-271440">
              <a:spcBef>
                <a:spcPts val="700"/>
              </a:spcBef>
              <a:buClr>
                <a:srgbClr val="0033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Half of all postsecondary institutions 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705600" indent="-271440">
              <a:spcBef>
                <a:spcPts val="700"/>
              </a:spcBef>
              <a:buClr>
                <a:srgbClr val="0033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Number of courses more than doubled in three years (95-98) from 25,730 to 54,470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705600" indent="-271440">
              <a:spcBef>
                <a:spcPts val="700"/>
              </a:spcBef>
              <a:buClr>
                <a:srgbClr val="0033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Enrollments also doubled, reaching 1.6 million in 1998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705600" indent="-271440">
              <a:spcBef>
                <a:spcPts val="700"/>
              </a:spcBef>
              <a:buClr>
                <a:srgbClr val="0033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50% offer 15 or fewer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705600" indent="-271440">
              <a:spcBef>
                <a:spcPts val="700"/>
              </a:spcBef>
              <a:buClr>
                <a:srgbClr val="0033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23% offer 1-5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7086600" y="5334120"/>
          <a:ext cx="167328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5334120"/>
                    <a:ext cx="16732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676520" y="2590920"/>
            <a:ext cx="685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Enter the Distance Education Demonstration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7238880" y="5334120"/>
          <a:ext cx="167328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5334120"/>
                    <a:ext cx="16732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4186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Statutory Purposes of Program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20448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est quality and viability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Increase acces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Help determine: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Most effective means of delivering Distance Education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tatutory and regulatory changes needed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Appropriate level of student assistance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723888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4186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Status of Program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160" y="2044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Began July 1, 1999 with 15 participant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en new participants added July 1, 2001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Waivers and PPA amendment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onitoring plan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Data Collection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Work with accrediting agencie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723888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08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Waivers Provided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5345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50% rule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Courses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tudents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Telecommunications/  correspondence student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ime requirement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033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30 week academic year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033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Definition of a week of instruction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4186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Waivers Provided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orrespondence student - halftime only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394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ost of attendance for correspondence studen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394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atisfactory academic progress - consistent application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394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pecified for Western Governors University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23888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419040"/>
            <a:ext cx="85345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New Approache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New methods of enrollment tracking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Connecticut Distance Learning Consortium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6908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North Dakota University System    </a:t>
            </a: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1896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ultiple Disbursements/Just in Time Delivery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Colorado Community Colleges Online (CCCOnline) Consortium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Western Governor’s University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708660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419040"/>
            <a:ext cx="85345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New Approache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5345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Exclude living expenses from calculation of cos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of attendanc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Western Governor’s University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LDS Church Educational System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7238880" y="5334120"/>
          <a:ext cx="167328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5334120"/>
                    <a:ext cx="16732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419040"/>
            <a:ext cx="85345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New Approache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5345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Decouple credits from tim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Western Governors’ University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veral participants with 12- hour rule waiver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Individual academic plan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Western Governors’ University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419040"/>
            <a:ext cx="85345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New Approache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2 Plus 2 program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Franklin University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Washington State University and Washington Community Colleges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Debt managemen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LDS Church Educational System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7162920" y="5334120"/>
          <a:ext cx="167328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334120"/>
                    <a:ext cx="16732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419040"/>
            <a:ext cx="85345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New Approache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tate systems sharing enrollment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Connecticut Distance Learning Consortium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North Dakota University System 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Colorado Community Colleges Online (CCCOnline) Consortium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atisfactory academic progres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Western Governors’ University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Colorado Community Colleges Online (CCCOnline) Consortium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7238880" y="5486400"/>
          <a:ext cx="167328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5486400"/>
                    <a:ext cx="16732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4186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Context:  Rapid Growth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20448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ewer Offer Degree Program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121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676080" indent="-259920">
              <a:spcBef>
                <a:spcPts val="700"/>
              </a:spcBef>
              <a:buClr>
                <a:srgbClr val="0033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10-12% offer full degree programs by DE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676080" indent="-259920">
              <a:spcBef>
                <a:spcPts val="700"/>
              </a:spcBef>
              <a:buClr>
                <a:srgbClr val="0033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Number of programs doubled from 95-98 from 690 degrees and 170 certificates to 1,190 degrees and 330 certificates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All have high expectations 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162920" y="5257800"/>
          <a:ext cx="167328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257800"/>
                    <a:ext cx="16732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419040"/>
            <a:ext cx="85345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Report to Congres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5345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aps the terrain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Recommends further experimentation with “student-based” delivery system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Raises lots of question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Is available for your reading pleasure at 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http:// www.ed.gov/offices/OPE/PPI/DistDemo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7238880" y="5486400"/>
          <a:ext cx="167328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5486400"/>
                    <a:ext cx="16732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4186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Questions Raised in the Repor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2362320"/>
            <a:ext cx="853452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hould the HEA distinguish among various means of delivering education, either between distance education delivery methods, or between distance education and onsite educational delivery, for purposes of Title IV aid?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4186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Questions Raised in Repor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hould current rules governing the amount of distance education an eligible institution may provide be retained, modified or replaced?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7238880" y="5334120"/>
          <a:ext cx="167328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5334120"/>
                    <a:ext cx="16732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4186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Questions Raised in Repor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Is there an alternative to the “12-hour rule” that would ensure that the amount of instruction is adequate in the variety of ways that academic activity is organized in distance education?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186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Questions Raised in the Repor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2590560"/>
            <a:ext cx="8534520" cy="35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hould the current rules that treat correspondence students differently from other students be retained, modified, or replaced?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4186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Questions Raised in the Repor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2590560"/>
            <a:ext cx="8534520" cy="35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Are there additional waiver authorities that would improve the Demonstration Program and enable it to test more completely new approaches to administering aid?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419040"/>
            <a:ext cx="853452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Contact u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Kay Gilcher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kay.gilcher@ed.gov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202-502-7693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heryl Leibovitz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heryl.leibovitz@ed.gov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202-708-9900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7086600" y="5486400"/>
          <a:ext cx="167328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5486400"/>
                    <a:ext cx="16732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419040"/>
            <a:ext cx="85345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Context:   Anytime, Anywher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5345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Asynchronous programs provide flexibility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668520" indent="-257040">
              <a:spcBef>
                <a:spcPts val="700"/>
              </a:spcBef>
              <a:buClr>
                <a:srgbClr val="0033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Time and place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668520" indent="-257040">
              <a:spcBef>
                <a:spcPts val="700"/>
              </a:spcBef>
              <a:buClr>
                <a:srgbClr val="0033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When they begin their work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668520" indent="-257040">
              <a:spcBef>
                <a:spcPts val="700"/>
              </a:spcBef>
              <a:buClr>
                <a:srgbClr val="0033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How many units of work they might wish to undertake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668520" indent="-257040">
              <a:spcBef>
                <a:spcPts val="700"/>
              </a:spcBef>
              <a:buClr>
                <a:srgbClr val="0033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How long it takes them to complete a given unit of work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668520" indent="-257040">
              <a:spcBef>
                <a:spcPts val="700"/>
              </a:spcBef>
              <a:buClr>
                <a:srgbClr val="0033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When they wish to take vacations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or breaks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4186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Context: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New Institutional Arrangement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20448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tate-based Consorti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05600" indent="-271440">
              <a:spcBef>
                <a:spcPts val="700"/>
              </a:spcBef>
              <a:buClr>
                <a:srgbClr val="0033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35 states and growing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705600" indent="-271440">
              <a:spcBef>
                <a:spcPts val="700"/>
              </a:spcBef>
              <a:buClr>
                <a:srgbClr val="0033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Marketing, cross registration, shared course development, specialized services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705600" indent="-271440">
              <a:spcBef>
                <a:spcPts val="700"/>
              </a:spcBef>
              <a:buClr>
                <a:srgbClr val="0033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Home and host institution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70560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Joint Degree Program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258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Degree Completion Program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010280" y="5334120"/>
          <a:ext cx="167328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5334120"/>
                    <a:ext cx="16732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419040"/>
            <a:ext cx="85345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Context:  New Institutional Type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5345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roprietary Degree-Granting 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rving adult student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Regionally accredited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Innovative and responsiv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ay be publicly-traded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omplex management structure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Example  University of Phoenix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010280" y="5334120"/>
          <a:ext cx="167328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5334120"/>
                    <a:ext cx="16732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419040"/>
            <a:ext cx="853452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Context: New Institutional Type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Virtual Universities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  <a:p>
            <a:pPr marL="32220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No on-site program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Response to great demand from adult learners in the workplac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ay not be degree-granting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rving individuals and corporation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Accreditation issue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Example:  Jones International University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23888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4186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New Academic Structure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quential courses -- year round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oncurrent courses on different calendar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lf-paced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requent start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Overlapping term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Variable length module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ix of on-campus and distance ed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ompetency-based approach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08660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5T13:48:41Z</dcterms:created>
  <dc:creator>Kay Gilcher</dc:creator>
  <dc:description/>
  <dc:language>en-US</dc:language>
  <cp:lastModifiedBy>EPCLEIBOVITZ</cp:lastModifiedBy>
  <cp:lastPrinted>2001-07-11T14:20:18Z</cp:lastPrinted>
  <dcterms:modified xsi:type="dcterms:W3CDTF">2001-07-11T20:49:35Z</dcterms:modified>
  <cp:revision>59</cp:revision>
  <dc:subject/>
  <dc:title>Distance Education: Opportunties and Constraints</dc:title>
</cp:coreProperties>
</file>