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BB98-2431-4516-9CDD-9BADF6342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lo-online.ed.gov/unsecure/index.shtml" TargetMode="External"/><Relationship Id="rId2" Type="http://schemas.openxmlformats.org/officeDocument/2006/relationships/hyperlink" Target="http://lo-online.ed.gov/unsecure/index.shtml" TargetMode="External"/><Relationship Id="rId3" Type="http://schemas.openxmlformats.org/officeDocument/2006/relationships/hyperlink" Target="http://lo-online.ed.gov/unsecure/index.shtml" TargetMode="External"/><Relationship Id="rId4" Type="http://schemas.openxmlformats.org/officeDocument/2006/relationships/hyperlink" Target="http://lo-online.ed.gov/unsecure/index.shtml"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build Loan Fil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le sent by the LOC, at the school’s request, that consists of origination and disbursement details to rebuild the school’s Direct Loan database. The Rebuild Loan File can be used to compare Direct Loan records at the LOC with the school’s Direct Loan records.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Tools for Windows or DL Tools is a new software product with the functionality to Rebuild an EDExpress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assists schools with rebuilding Direct Loan origination and disbursement records in EDExpress 2000-2001 (Version 6.1 or higher) or EDExpress 2001-2002 (Version 7.1 or higher).  DL Tools is used in conjunction with an LOC Rebuild Loan File.  The Rebuild Loan File provides current LOC origination and disbursement data to schools electronically and must be requested from the LOC.</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is designed to allow users to:</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all EDExpress records with data from an electronic Rebuild Loan File received from the LOC. </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selected records in EDExpress with data from a Rebuild Loan File.</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records in the Rebuild Loan File to EDExpress records. In the compare process, there are no updates to the EDExpress records with the information in the Rebuild Loan File. A report displays any unmatched origination records and/or unmatched disbursement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DExpress database has become corrupted and a backup of the database is not current, or is not usable, you may request a Rebuild Loan File to aid in rebuilding loan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is is not a reconciliation tool.  You should continue to process all records using your curr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Requesting Rebuild Loan File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can request a Rebuild Loan File from the LOC Customer Service Representatives by calling </a:t>
            </a:r>
            <a:r>
              <a:rPr b="1" lang="en-US" sz="1200" spc="-1" strike="noStrike">
                <a:solidFill>
                  <a:srgbClr val="000000"/>
                </a:solidFill>
                <a:latin typeface="Times New Roman"/>
              </a:rPr>
              <a:t>1-800-848-0978</a:t>
            </a:r>
            <a:r>
              <a:rPr b="0" lang="en-US" sz="1200" spc="-1" strike="noStrike">
                <a:solidFill>
                  <a:srgbClr val="000000"/>
                </a:solidFill>
                <a:latin typeface="Times New Roman"/>
              </a:rPr>
              <a:t> or by entering a request through the LO Online Web Application.        (</a:t>
            </a:r>
            <a:r>
              <a:rPr b="0" lang="en-US" sz="1200" spc="-1" strike="noStrike" u="sng">
                <a:solidFill>
                  <a:srgbClr val="ccccff"/>
                </a:solidFill>
                <a:uFillTx/>
                <a:latin typeface="Times New Roman"/>
                <a:hlinkClick r:id="rId1"/>
              </a:rPr>
              <a:t>lo-online.ed.gov/</a:t>
            </a:r>
            <a:r>
              <a:rPr b="0" lang="en-US" sz="1200" spc="-1" strike="noStrike" u="sng">
                <a:solidFill>
                  <a:srgbClr val="ccccff"/>
                </a:solidFill>
                <a:uFillTx/>
                <a:latin typeface="Times New Roman"/>
                <a:hlinkClick r:id="rId2"/>
              </a:rPr>
              <a:t>unsecure</a:t>
            </a:r>
            <a:r>
              <a:rPr b="0" lang="en-US" sz="1200" spc="-1" strike="noStrike" u="sng">
                <a:solidFill>
                  <a:srgbClr val="ccccff"/>
                </a:solidFill>
                <a:uFillTx/>
                <a:latin typeface="Times New Roman"/>
                <a:hlinkClick r:id="rId3"/>
              </a:rPr>
              <a:t>/index.</a:t>
            </a:r>
            <a:r>
              <a:rPr b="0" lang="en-US" sz="1200" spc="-1" strike="noStrike" u="sng">
                <a:solidFill>
                  <a:srgbClr val="ccccff"/>
                </a:solidFill>
                <a:uFillTx/>
                <a:latin typeface="Times New Roman"/>
                <a:hlinkClick r:id="rId4"/>
              </a:rPr>
              <a:t>shtm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 creates a standard electronic Rebuild Loan File according to the specifications found in  the Direct Loan Technical Reference, Appendix E and electronically transmits the file to you via the SAIG.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e electronic Rebuild Loan File can be requested, received and used by all schools to rebuild a Direct Loan database.  However, DL Tools can only be used to rebuild an EDExpress Direct Loan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ilable rebuild request options ar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by single or multiple program years (for example, 2000-2001 or 2001-2002)</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a specific student by providing both the Social Security Number and date of birth</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a specific loan by providing the 21-character Loan Identifier</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by date range (for example, 01/02/2001 to 05/01/2001)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e request for data by date range is not supported by DL Tools and is not available to EDExpress user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build Loan File is program year specific.  For example, data for program year 2000-2001 is in a separate file from data for program year 2001-2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The Rebuild Loan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sage class or file name for the Rebuild Loan File is DLRBLDOP. This message class is not year-specific.  The message class or file name is the same whether you are receiving a Rebuild Loan File for 2000-2001 or 2001-2002. The cycle year within the batch ID identifies the program year of the data included in the Rebuild Loan File. The Batch Type for this file is RB.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Loan File consists of the following two record types:</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Origination Detail Record (Record Type = O)</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Disbursement Detail Record (Record Type = 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data accepted by the LOC for Full Loan Origination, Loan Origination Change, and Disbursement records are included in the Rebuild Loan File since the LOC does not store rejected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OC Rebuild File is a comma delimited with the message class DLRBLDOP, batch type RB.</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jected Loan Records are not included in the LOC Rebuild file.</a:t>
            </a:r>
            <a:r>
              <a:rPr b="0" lang="en-US" sz="1200" spc="-1" strike="noStrike">
                <a:solidFill>
                  <a:srgbClr val="000000"/>
                </a:solidFill>
                <a:latin typeface="Times New Roman"/>
              </a:rPr>
              <a:t>  </a:t>
            </a:r>
            <a:r>
              <a:rPr b="0" i="1" lang="en-US" sz="1200" spc="-1" strike="noStrike">
                <a:solidFill>
                  <a:srgbClr val="000000"/>
                </a:solidFill>
                <a:latin typeface="Times New Roman"/>
              </a:rPr>
              <a:t>Therefore, s</a:t>
            </a:r>
            <a:r>
              <a:rPr b="0" i="1" lang="en-US" sz="1200" spc="-1" strike="noStrike">
                <a:solidFill>
                  <a:srgbClr val="000000"/>
                </a:solidFill>
                <a:latin typeface="Times New Roman"/>
              </a:rPr>
              <a:t>chools need to identify Loan Records that were in their DL database but were rejected by the LOC and add these records into their rebuilt databa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 Loan Tools for Window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Tools for Windows or DL Tools is a stand-alone software that provides the following functionality to: </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an EDExpress database (loan and disbursement data) in automated fashion</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Direct Loan cash receipts (drawdowns) and returns of excess cash for Direct Loan as reported in GAPS/FMS</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 732 report to actual disbursements recorded in EDExpress or an external file; and compare to the DL Tools Cash Management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being developed to process data for multiple cycles.  The initial release (Version 1.0) contains cash management functionality for 2000-2001 and 2001-2002 and compare functionality for 2001-2002.</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language about how custom schools can u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a:t>
            </a:r>
            <a:r>
              <a:rPr b="0" i="1" lang="en-US" sz="1200" spc="-1" strike="noStrike">
                <a:solidFill>
                  <a:srgbClr val="000000"/>
                </a:solidFill>
                <a:latin typeface="Times New Roman"/>
              </a:rPr>
              <a:t>The Cash Management and Compare functionality can be utilized by any Direct Loan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L Tools Setup</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processing in DL Tools you must first establish system parameters specific to your Direct Loan process.   You also have the option to setup security for the use of the system in your office in the Security User dialog. </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ystem Setup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arameters are established in System Set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eld Name</a:t>
            </a:r>
            <a:r>
              <a:rPr b="1" lang="en-US" sz="1200" spc="-1" strike="noStrike">
                <a:solidFill>
                  <a:srgbClr val="ffffff"/>
                </a:solidFill>
                <a:latin typeface="Arial"/>
              </a:rPr>
              <a:t>	</a:t>
            </a:r>
            <a:r>
              <a:rPr b="1" lang="en-US" sz="1200" spc="-1" strike="noStrike">
                <a:solidFill>
                  <a:srgbClr val="ffffff"/>
                </a:solidFill>
                <a:latin typeface="Arial"/>
              </a:rPr>
              <a:t>Description</a:t>
            </a:r>
            <a:r>
              <a:rPr b="1" lang="en-US" sz="1200" spc="-1" strike="noStrike">
                <a:solidFill>
                  <a:srgbClr val="ffffff"/>
                </a:solidFill>
                <a:latin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Direct Loan School Code</a:t>
            </a:r>
            <a:r>
              <a:rPr b="0" lang="en-US" sz="1200" spc="-1" strike="noStrike">
                <a:solidFill>
                  <a:srgbClr val="000000"/>
                </a:solidFill>
                <a:latin typeface="Times New Roman"/>
              </a:rPr>
              <a:t>	</a:t>
            </a:r>
            <a:r>
              <a:rPr b="0" lang="en-US" sz="1200" spc="-1" strike="noStrike">
                <a:solidFill>
                  <a:srgbClr val="000000"/>
                </a:solidFill>
                <a:latin typeface="Times New Roman"/>
              </a:rPr>
              <a:t>Sets the default Direct Loan School Code for the syst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DExpress versions do you use to process Direct Loans?</a:t>
            </a:r>
            <a:r>
              <a:rPr b="0" lang="en-US" sz="1200" spc="-1" strike="noStrike">
                <a:solidFill>
                  <a:srgbClr val="000000"/>
                </a:solidFill>
                <a:latin typeface="Times New Roman"/>
              </a:rPr>
              <a:t>	</a:t>
            </a:r>
            <a:r>
              <a:rPr b="0" lang="en-US" sz="1200" spc="-1" strike="noStrike">
                <a:solidFill>
                  <a:srgbClr val="000000"/>
                </a:solidFill>
                <a:latin typeface="Times New Roman"/>
              </a:rPr>
              <a:t>Determines what database connections are made at application star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valu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 EDExpress v6.x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 EDExpress v7.x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Both EDExpress v6.x and v7.x (Default valu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number of days difference between 732 Cash records and cash records entered by the school which will be considered a match</a:t>
            </a:r>
            <a:r>
              <a:rPr b="0" lang="en-US" sz="1200" spc="-1" strike="noStrike">
                <a:solidFill>
                  <a:srgbClr val="000000"/>
                </a:solidFill>
                <a:latin typeface="Times New Roman"/>
              </a:rPr>
              <a:t>	</a:t>
            </a:r>
            <a:r>
              <a:rPr b="0" lang="en-US" sz="1200" spc="-1" strike="noStrike">
                <a:solidFill>
                  <a:srgbClr val="000000"/>
                </a:solidFill>
                <a:latin typeface="Times New Roman"/>
              </a:rPr>
              <a:t>Determines match status in the Cash Detail Comparison report which is discussed later in this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is 5 da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Dialog</a:t>
            </a:r>
            <a:r>
              <a:rPr b="0" lang="en-US" sz="1200" spc="-1" strike="noStrike">
                <a:solidFill>
                  <a:srgbClr val="000000"/>
                </a:solidFill>
                <a:latin typeface="Times New Roman"/>
              </a:rPr>
              <a:t>	</a:t>
            </a:r>
            <a:r>
              <a:rPr b="0" lang="en-US" sz="1200" spc="-1" strike="noStrike">
                <a:solidFill>
                  <a:srgbClr val="000000"/>
                </a:solidFill>
                <a:latin typeface="Times New Roman"/>
              </a:rPr>
              <a:t>Indicates whether you want to return to the dialog once you have saved your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is checkbox indicates “Yes” or leaving blank indicates “No.”</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Multiple  (Default Print)</a:t>
            </a:r>
            <a:r>
              <a:rPr b="0" lang="en-US" sz="1200" spc="-1" strike="noStrike">
                <a:solidFill>
                  <a:srgbClr val="000000"/>
                </a:solidFill>
                <a:latin typeface="Times New Roman"/>
              </a:rPr>
              <a:t>	</a:t>
            </a:r>
            <a:r>
              <a:rPr b="0" lang="en-US" sz="1200" spc="-1" strike="noStrike">
                <a:solidFill>
                  <a:srgbClr val="000000"/>
                </a:solidFill>
                <a:latin typeface="Times New Roman"/>
              </a:rPr>
              <a:t>Indicates the default for the Print dialo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sh Management Entry and Tracking</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Management provides a tracking method for Direct Loan schools to record Cash Receipts (drawdowns) and Returns of Excess Cash made by the school.  Drawdowns and returns of excess cash may be entered by the user manually or by importing an External Import Add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h Management Dialog box allows you to add, delete, save, and retrieve a cash transaction. A school enters cash receipts (drawdowns) as a positive number and returns of excess cash as a positive number and any adjustments for these cash transaction are entered as a negative number.  This duplicates how these transactions are displayed on the 732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fields includ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Cod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Taken (R = cash receipt or X = return of excess cash)</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Amount</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PS Control Number/Check Number/Memo field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o field allows you to record: </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PS control number associated with a drawdown or return of excess cash, </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ck number associated with a return of excess cash, or</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xt comment or description.</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cash transaction is entered and saved, the system generates and displays a Sequence Number, a Record Source of either “M” (Manual) or “E” (External), and Last Updated ID, Date, and Tim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o obtain a listing of the cash transactions recorded in DL Tools, print the cash detail grid in brow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orting the 732 Report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comparing data, you must first import a 732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732 report can be imported and stored in DL Tools for 2001-2002.   Once imported, DL Tools can compare the 732 report data with EDExpress loan detail data and DL Tools cash detail data.</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school with loan detail and cash detail in an external system such as a mainframe or other PC system can import this data into DL Tools to be compare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732 report data reflects what is on file at the LOC as of the date indicated on the report.  Each 732 file contains data for one school code and one academic year.</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732 file contain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 Disbursement Summary by Loan Typ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I: Cash Receipts (Drawdowns)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II: Excess Cash (Return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V: Loan Detail</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importing a 732 Loan file, a 732 Loan Detail Import Edit report is generated to provide statistics on the im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orting an External Data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can import their external Cash Detail data or Loan Detail data from external sources, such as a mainframe or another PC system, by using the Cash Detail External Add file and the Loan Detail External Add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h Detail External Add Fil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h Detail External Add file record layout is provided in the DL Tools software under the Print function or is available in Direct Loan Technical Reference, Appendix E.  To import a file, you select the File/Import and select the Import Type of Cash Detail External Ad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importing the Cash Detail External Add file, DL Tools adds data to all relevant tables. A Cash Detail External Add Import Edit report is generated to provide statistics on the im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port can be performed for 2000-2001 and 2001-2002.</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oan Detail External Add Fil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an Detail External Add file record layout is provide in the DL Tools software under the Print function or is available in the Direct Loan Technical Reference, Appendix E.  To import a file, select File/Import and then, select the Import Type of Loan Detail External Ad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importing the Loan Detail External Add file, DL Tools adds data to all relevant tables. A Loan Detail External Add Import Edit report is generated to provide statistics on the im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port can be performed for 2001-2002.</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are the imported 732 report with the loan detail and cash detail records in DL Tools, generate the following two repor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sh Detail Comparison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Detail Comparison Report provides a comparison of cash detail records from the 732 file received from the LOC with the cash detail records recorded in DL Tools Cash Management.  Cash detail records are entered into Cash Management either manually or through an external impo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oan Detail Comparison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Detail Comparison – Loan Level Report provides a comparison of loan detail records from the 732 file received from the LOC with loan detail records imported from an external system or with disbursement records from EDExpress.  This report has the option to run for booked disbursement activity, unbooked disbursement activity, or both.  Records on the report are grouped by matched/unmatched status and booked/unbooked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sh Summary Repor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Summary Report displays cash and disbursement summary totals.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otals are calculated using the cash transaction amounts entered in DL Tools Cash Management and disbursement records from EDExpress.</a:t>
            </a:r>
            <a:endParaRPr b="0" lang="en-US" sz="1200" spc="-1" strike="noStrike">
              <a:solidFill>
                <a:srgbClr val="000000"/>
              </a:solidFill>
              <a:latin typeface="Times New Roman"/>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732 Loan Detail</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732 Loan Detail Report displays the loan detail records on a 732 report imported from the LOC.  </a:t>
            </a:r>
            <a:endParaRPr b="0" lang="en-US" sz="1200" spc="-1" strike="noStrike">
              <a:solidFill>
                <a:srgbClr val="000000"/>
              </a:solidFill>
              <a:latin typeface="Times New Roman"/>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732 Cash Detail</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732 Cash Detail Report displays the cash detail records on a 732 report imported from the LO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C30CD-2F28-420E-B3E1-D524309F3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1904760" y="198108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1904760" y="413064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6AEF5-12C3-44C2-BF8D-40157D8C2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190476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526284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0814B-10D1-4E96-8F4C-F61317FD0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19047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1205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3363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19047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41205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3363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2E287-972E-431E-9BE8-FCD510CD3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5843E-C983-4CF2-BA89-6B98C56F4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77D8A-08CF-46DC-AC87-17511C9FB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190476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526284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D7070-E7A8-4E94-B4A3-B6B163C7B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7E19-3E77-4156-8478-E4C3828E7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4760" y="990720"/>
            <a:ext cx="655308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23582-3C3B-4E4F-87E1-BCCB6381E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526284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190476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D082B-2B1B-45D8-A254-78AA7A8C7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190476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526284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B090-7A02-46EE-87AA-180A7E4DA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1904760" y="413064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D9348-9D73-44E5-9F30-2C7724E3B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nference%20pages"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1904760" y="1981080"/>
            <a:ext cx="6553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0070-8385-4F8C-9BBA-3CE78E4B1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lo-online.ed.gov/"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conference%20cover2"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Rebuild Record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9"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rebuilds EDExpress 00-01 and 01-02 record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s all records in EDExp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s selected records in EDExp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s with no updates</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record rebuild in EDExpress can be exported through External Export to another system</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990720"/>
            <a:ext cx="6553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ing Rebuild </a:t>
            </a:r>
            <a:br>
              <a:rPr sz="4400"/>
            </a:br>
            <a:r>
              <a:rPr b="0" lang="en-US" sz="4400" spc="-1" strike="noStrike">
                <a:solidFill>
                  <a:srgbClr val="000000"/>
                </a:solidFill>
                <a:latin typeface="Arial"/>
              </a:rPr>
              <a:t>Loan Files</a:t>
            </a:r>
            <a:endParaRPr b="0" lang="en-US" sz="4400" spc="-1" strike="noStrike">
              <a:solidFill>
                <a:srgbClr val="000000"/>
              </a:solidFill>
              <a:latin typeface="Times New Roman"/>
            </a:endParaRPr>
          </a:p>
        </p:txBody>
      </p:sp>
      <p:sp>
        <p:nvSpPr>
          <p:cNvPr id="71" name="PlaceHolder 2"/>
          <p:cNvSpPr>
            <a:spLocks noGrp="1"/>
          </p:cNvSpPr>
          <p:nvPr>
            <p:ph/>
          </p:nvPr>
        </p:nvSpPr>
        <p:spPr>
          <a:xfrm>
            <a:off x="1904760" y="2209320"/>
            <a:ext cx="65530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ro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www.lo-online.ed.gov</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 Customer Service Representative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 to the school via SAI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option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yea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student (by yea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loan</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build Loan File</a:t>
            </a:r>
            <a:endParaRPr b="0" lang="en-US" sz="4400" spc="-1" strike="noStrike">
              <a:solidFill>
                <a:srgbClr val="000000"/>
              </a:solidFill>
              <a:latin typeface="Times New Roman"/>
            </a:endParaRPr>
          </a:p>
        </p:txBody>
      </p:sp>
      <p:sp>
        <p:nvSpPr>
          <p:cNvPr id="73"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class:  DLRBLDOP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ch Type: RB</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two record type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uild Origination Detail Recor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uild Disbursement Detail Record</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Tools</a:t>
            </a:r>
            <a:endParaRPr b="0" lang="en-US" sz="4400" spc="-1" strike="noStrike">
              <a:solidFill>
                <a:srgbClr val="000000"/>
              </a:solidFill>
              <a:latin typeface="Times New Roman"/>
            </a:endParaRPr>
          </a:p>
        </p:txBody>
      </p:sp>
      <p:sp>
        <p:nvSpPr>
          <p:cNvPr id="75"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software version 1.0 and Install Guide is available at:</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51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sfadownload.ed.gov</a:t>
            </a:r>
            <a:endParaRPr b="0" lang="en-US" sz="2800" spc="-1" strike="noStrike">
              <a:solidFill>
                <a:srgbClr val="000000"/>
              </a:solidFill>
              <a:latin typeface="Times New Roman"/>
            </a:endParaRPr>
          </a:p>
          <a:p>
            <a:pPr lvl="2" marL="1051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Customer Service for further assistance</a:t>
            </a:r>
            <a:endParaRPr b="0" lang="en-US" sz="2800" spc="-1" strike="noStrike">
              <a:solidFill>
                <a:srgbClr val="000000"/>
              </a:solidFill>
              <a:latin typeface="Times New Roman"/>
            </a:endParaRPr>
          </a:p>
          <a:p>
            <a:pPr lvl="1" marL="683280" indent="-262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330-5947</a:t>
            </a:r>
            <a:endParaRPr b="0" lang="en-US" sz="2800" spc="-1" strike="noStrike">
              <a:solidFill>
                <a:srgbClr val="000000"/>
              </a:solidFill>
              <a:latin typeface="Times New Roman"/>
            </a:endParaRPr>
          </a:p>
          <a:p>
            <a:pPr lvl="1" marL="683280" indent="-262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CPS@NCS.COM</a:t>
            </a:r>
            <a:endParaRPr b="0" lang="en-US" sz="2800" spc="-1" strike="noStrike">
              <a:solidFill>
                <a:srgbClr val="000000"/>
              </a:solidFill>
              <a:latin typeface="Times New Roman"/>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Times New Roman"/>
            </a:endParaRPr>
          </a:p>
        </p:txBody>
      </p:sp>
      <p:pic>
        <p:nvPicPr>
          <p:cNvPr id="77" name="" descr=""/>
          <p:cNvPicPr/>
          <p:nvPr/>
        </p:nvPicPr>
        <p:blipFill>
          <a:blip r:embed="rId1"/>
          <a:stretch/>
        </p:blipFill>
        <p:spPr>
          <a:xfrm>
            <a:off x="3735360" y="1981080"/>
            <a:ext cx="28908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057400" y="144756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rect Loan Tools</a:t>
            </a:r>
            <a:endParaRPr b="0" lang="en-US" sz="5400" spc="-1" strike="noStrike">
              <a:solidFill>
                <a:srgbClr val="000000"/>
              </a:solidFill>
              <a:latin typeface="Times New Roman"/>
            </a:endParaRPr>
          </a:p>
        </p:txBody>
      </p:sp>
      <p:sp>
        <p:nvSpPr>
          <p:cNvPr id="53" name="PlaceHolder 2"/>
          <p:cNvSpPr>
            <a:spLocks noGrp="1"/>
          </p:cNvSpPr>
          <p:nvPr>
            <p:ph type="subTitle"/>
          </p:nvPr>
        </p:nvSpPr>
        <p:spPr>
          <a:xfrm>
            <a:off x="2437920" y="4648320"/>
            <a:ext cx="632484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Berry</a:t>
            </a:r>
            <a:endParaRPr b="0" lang="en-US" sz="4400" spc="-1" strike="noStrike">
              <a:solidFill>
                <a:srgbClr val="000000"/>
              </a:solidFill>
              <a:latin typeface="Times New Roman"/>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bie Mill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5120" y="990720"/>
            <a:ext cx="6858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build, Cash</a:t>
            </a:r>
            <a:br>
              <a:rPr sz="4400"/>
            </a:br>
            <a:r>
              <a:rPr b="0" lang="en-US" sz="4400" spc="-1" strike="noStrike">
                <a:solidFill>
                  <a:srgbClr val="000000"/>
                </a:solidFill>
                <a:latin typeface="Arial"/>
              </a:rPr>
              <a:t> Management &amp; Compare</a:t>
            </a:r>
            <a:endParaRPr b="0" lang="en-US" sz="4400" spc="-1" strike="noStrike">
              <a:solidFill>
                <a:srgbClr val="000000"/>
              </a:solidFill>
              <a:latin typeface="Times New Roman"/>
            </a:endParaRPr>
          </a:p>
        </p:txBody>
      </p:sp>
      <p:sp>
        <p:nvSpPr>
          <p:cNvPr id="55" name="PlaceHolder 2"/>
          <p:cNvSpPr>
            <a:spLocks noGrp="1"/>
          </p:cNvSpPr>
          <p:nvPr>
            <p:ph/>
          </p:nvPr>
        </p:nvSpPr>
        <p:spPr>
          <a:xfrm>
            <a:off x="1904760" y="2285640"/>
            <a:ext cx="6553080" cy="38862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provides functionality to:</a:t>
            </a:r>
            <a:endParaRPr b="0" lang="en-US" sz="2800" spc="-1" strike="noStrike">
              <a:solidFill>
                <a:srgbClr val="000000"/>
              </a:solidFill>
              <a:latin typeface="Times New Roman"/>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uild an EDExpress database</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 cash receipts (drawdowns) and returns of excess cash </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732 report to actual disbursement records</a:t>
            </a:r>
            <a:endParaRPr b="0" lang="en-US" sz="24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can be used with custom or combination systems as well as EDExp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L Tools Setup</a:t>
            </a:r>
            <a:endParaRPr b="0" lang="en-US" sz="4400" spc="-1" strike="noStrike">
              <a:solidFill>
                <a:srgbClr val="000000"/>
              </a:solidFill>
              <a:latin typeface="Times New Roman"/>
            </a:endParaRPr>
          </a:p>
        </p:txBody>
      </p:sp>
      <p:sp>
        <p:nvSpPr>
          <p:cNvPr id="57"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etup is required to set system parameters prior to using DL Tool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ecurity Setup is optional and is established in the Security Users dialog</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990720"/>
            <a:ext cx="6553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Management Entry and Tracking</a:t>
            </a:r>
            <a:endParaRPr b="0" lang="en-US" sz="4400" spc="-1" strike="noStrike">
              <a:solidFill>
                <a:srgbClr val="000000"/>
              </a:solidFill>
              <a:latin typeface="Times New Roman"/>
            </a:endParaRPr>
          </a:p>
        </p:txBody>
      </p:sp>
      <p:sp>
        <p:nvSpPr>
          <p:cNvPr id="59" name="PlaceHolder 2"/>
          <p:cNvSpPr>
            <a:spLocks noGrp="1"/>
          </p:cNvSpPr>
          <p:nvPr>
            <p:ph/>
          </p:nvPr>
        </p:nvSpPr>
        <p:spPr>
          <a:xfrm>
            <a:off x="1904760" y="2133720"/>
            <a:ext cx="6553080" cy="396216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a school to track cash transactions </a:t>
            </a:r>
            <a:endParaRPr b="0" lang="en-US" sz="28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Receipts (drawdown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of Excess Cash  </a:t>
            </a:r>
            <a:endParaRPr b="0" lang="en-US" sz="2400" spc="-1" strike="noStrike">
              <a:solidFill>
                <a:srgbClr val="000000"/>
              </a:solidFill>
              <a:latin typeface="Times New Roman"/>
            </a:endParaRPr>
          </a:p>
          <a:p>
            <a:pPr lvl="1" marL="743040" indent="0">
              <a:lnSpc>
                <a:spcPct val="100000"/>
              </a:lnSpc>
              <a:spcBef>
                <a:spcPts val="224"/>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Management dialog box is under Tools/Cash Management on the menu b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ing 732 Report File</a:t>
            </a:r>
            <a:endParaRPr b="0" lang="en-US" sz="4400" spc="-1" strike="noStrike">
              <a:solidFill>
                <a:srgbClr val="000000"/>
              </a:solidFill>
              <a:latin typeface="Times New Roman"/>
            </a:endParaRPr>
          </a:p>
        </p:txBody>
      </p:sp>
      <p:sp>
        <p:nvSpPr>
          <p:cNvPr id="61"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comparing data, you must first import a 732 report.</a:t>
            </a:r>
            <a:endParaRPr b="0" lang="en-US" sz="2800" spc="-1" strike="noStrike">
              <a:solidFill>
                <a:srgbClr val="000000"/>
              </a:solidFill>
              <a:latin typeface="Times New Roman"/>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732 file contains:</a:t>
            </a:r>
            <a:endParaRPr b="0" lang="en-US" sz="2800" spc="-1" strike="noStrike">
              <a:solidFill>
                <a:srgbClr val="000000"/>
              </a:solidFill>
              <a:latin typeface="Times New Roman"/>
            </a:endParaRPr>
          </a:p>
          <a:p>
            <a:pPr lvl="1" marL="743040" indent="-285840">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I:   Disbursement Summary by Loan Type.  </a:t>
            </a:r>
            <a:endParaRPr b="0" lang="en-US" sz="2000" spc="-1" strike="noStrike">
              <a:solidFill>
                <a:srgbClr val="000000"/>
              </a:solidFill>
              <a:latin typeface="Times New Roman"/>
            </a:endParaRPr>
          </a:p>
          <a:p>
            <a:pPr lvl="1" marL="743040" indent="-285840">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II:  Cash Receipts (Drawdowns) </a:t>
            </a:r>
            <a:endParaRPr b="0" lang="en-US" sz="2000" spc="-1" strike="noStrike">
              <a:solidFill>
                <a:srgbClr val="000000"/>
              </a:solidFill>
              <a:latin typeface="Times New Roman"/>
            </a:endParaRPr>
          </a:p>
          <a:p>
            <a:pPr lvl="1" marL="743040" indent="-285840">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III:  Excess Cash (Returns)</a:t>
            </a:r>
            <a:endParaRPr b="0" lang="en-US" sz="2000" spc="-1" strike="noStrike">
              <a:solidFill>
                <a:srgbClr val="000000"/>
              </a:solidFill>
              <a:latin typeface="Times New Roman"/>
            </a:endParaRPr>
          </a:p>
          <a:p>
            <a:pPr lvl="1" marL="743040" indent="-285840">
              <a:lnSpc>
                <a:spcPct val="10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IV:  Loan Detail</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4760" y="990720"/>
            <a:ext cx="6553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ing External </a:t>
            </a:r>
            <a:br>
              <a:rPr sz="4400"/>
            </a:br>
            <a:r>
              <a:rPr b="0" lang="en-US" sz="4400" spc="-1" strike="noStrike">
                <a:solidFill>
                  <a:srgbClr val="000000"/>
                </a:solidFill>
                <a:latin typeface="Arial"/>
              </a:rPr>
              <a:t>Data File</a:t>
            </a:r>
            <a:endParaRPr b="0" lang="en-US" sz="4400" spc="-1" strike="noStrike">
              <a:solidFill>
                <a:srgbClr val="000000"/>
              </a:solidFill>
              <a:latin typeface="Times New Roman"/>
            </a:endParaRPr>
          </a:p>
        </p:txBody>
      </p:sp>
      <p:sp>
        <p:nvSpPr>
          <p:cNvPr id="63" name="PlaceHolder 2"/>
          <p:cNvSpPr>
            <a:spLocks noGrp="1"/>
          </p:cNvSpPr>
          <p:nvPr>
            <p:ph/>
          </p:nvPr>
        </p:nvSpPr>
        <p:spPr>
          <a:xfrm>
            <a:off x="1904760" y="2209320"/>
            <a:ext cx="65530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can import data from an external source to be used with the Compare Program in DL Tools</a:t>
            </a:r>
            <a:endParaRPr b="0" lang="en-US" sz="2800" spc="-1" strike="noStrike">
              <a:solidFill>
                <a:srgbClr val="000000"/>
              </a:solidFill>
              <a:latin typeface="Times New Roman"/>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External Add file</a:t>
            </a:r>
            <a:endParaRPr b="0" lang="en-US" sz="2800" spc="-1" strike="noStrike">
              <a:solidFill>
                <a:srgbClr val="000000"/>
              </a:solidFill>
              <a:latin typeface="Times New Roman"/>
            </a:endParaRPr>
          </a:p>
          <a:p>
            <a:pPr lvl="1" marL="74304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External Add fil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Compare Records</a:t>
            </a:r>
            <a:endParaRPr b="0" lang="en-US" sz="4400" spc="-1" strike="noStrike">
              <a:solidFill>
                <a:srgbClr val="000000"/>
              </a:solidFill>
              <a:latin typeface="Times New Roman"/>
            </a:endParaRPr>
          </a:p>
        </p:txBody>
      </p:sp>
      <p:sp>
        <p:nvSpPr>
          <p:cNvPr id="65" name="PlaceHolder 2"/>
          <p:cNvSpPr>
            <a:spLocks noGrp="1"/>
          </p:cNvSpPr>
          <p:nvPr>
            <p:ph/>
          </p:nvPr>
        </p:nvSpPr>
        <p:spPr>
          <a:xfrm>
            <a:off x="1904760" y="2133720"/>
            <a:ext cx="655308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the following compare reports:</a:t>
            </a:r>
            <a:endParaRPr b="0" lang="en-US" sz="2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Comparis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Compari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ports</a:t>
            </a:r>
            <a:endParaRPr b="0" lang="en-US" sz="4400" spc="-1" strike="noStrike">
              <a:solidFill>
                <a:srgbClr val="000000"/>
              </a:solidFill>
              <a:latin typeface="Times New Roman"/>
            </a:endParaRPr>
          </a:p>
        </p:txBody>
      </p:sp>
      <p:sp>
        <p:nvSpPr>
          <p:cNvPr id="67"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Summar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Loan Detail (Displays loan detail on the imported 732 rep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Cash Detail (Displays cash detail on the imported 732 repo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9:10:10Z</dcterms:created>
  <dc:creator>Steve Crow</dc:creator>
  <dc:description/>
  <dc:language>en-US</dc:language>
  <cp:lastModifiedBy>I.R.G.</cp:lastModifiedBy>
  <dcterms:modified xsi:type="dcterms:W3CDTF">2001-08-28T17:04:03Z</dcterms:modified>
  <cp:revision>9</cp:revision>
  <dc:subject/>
  <dc:title>No Slide Title</dc:title>
</cp:coreProperties>
</file>