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8FDA-FA6A-4FEC-8760-AE3192A5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93E5-65E6-4E1F-B89F-8052467B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E577-12A4-4F7D-A458-1D313C23A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B9A6-FB99-484A-89CB-70BAAA235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E3C0-3224-48E9-B4D0-8BF60FA4E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766E-D790-4C53-B341-1D4A86A9E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1D32-B1A3-4681-99EA-696C6282B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74B6-E03F-431F-9E0B-A7D6F5DC9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D7D9-9E1E-4E5D-8689-078B1F1A8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4333-0B58-4F98-88CC-51FF90F5E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E516-A986-4FA2-A305-7F277E6DE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2BEE-998C-4008-8AB3-4ABAB7CA5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8900-EC94-4819-9BFE-2422D4EE1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3ADF-61A0-4988-A796-AE541370D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1D01-F27D-4F19-A40F-DAF9F91C32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BOF 4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ibally-Controlled Colleges and Univers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ohn Grit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59E-FFDE-4C2E-BD9D-DAB3124E11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1447920"/>
            <a:ext cx="71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303-844-31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john.gritt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303-844-57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erly was the Special Initiatives Unit which was created in response to a series of Presidential Executive Or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EFD-046E-4ADF-9FB4-BC769ADB8C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dolores.davis\AppData\Local\Microsoft\Windows\Temporary Internet Files\Content.IE5\LCP0CB4M\MC900323091[1].wmf"/>
          <p:cNvPicPr/>
          <p:nvPr/>
        </p:nvPicPr>
        <p:blipFill>
          <a:blip r:embed="rId1"/>
          <a:stretch/>
        </p:blipFill>
        <p:spPr>
          <a:xfrm>
            <a:off x="5334120" y="2743200"/>
            <a:ext cx="3092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will continue t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ssistance to strengthen the administrative capabilities of Historically Black Colleges and Universities, Hispanic-Serving Institutions, and Tribally-Controlled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F9F1-6947-4153-B86B-59CE82E713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dolores.davis\AppData\Local\Microsoft\Windows\Temporary Internet Files\Content.IE5\LCP0CB4M\MC900088594[1].wmf"/>
          <p:cNvPicPr/>
          <p:nvPr/>
        </p:nvPicPr>
        <p:blipFill>
          <a:blip r:embed="rId1"/>
          <a:stretch/>
        </p:blipFill>
        <p:spPr>
          <a:xfrm>
            <a:off x="5638680" y="4648320"/>
            <a:ext cx="2895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F9E-42CE-4CF6-AF35-94D198AB00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opportunities for these institutions to participate in Feder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actively identify the unique service needs of HBCU’s, HSI’s, and TCC’s as it relates to the management of the Title IV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mall and Under Resourced School Division (SURS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the assistance required to ensure continued participation in the Title IV programs which the institution has chosen to particip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D8A-F047-4C3B-A8FB-04848971B9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dolores.davis\AppData\Local\Microsoft\Windows\Temporary Internet Files\Content.IE5\LCP0CB4M\MC900056116[1].wmf"/>
          <p:cNvPicPr/>
          <p:nvPr/>
        </p:nvPicPr>
        <p:blipFill>
          <a:blip r:embed="rId1"/>
          <a:stretch/>
        </p:blipFill>
        <p:spPr>
          <a:xfrm>
            <a:off x="5715000" y="3886200"/>
            <a:ext cx="2209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-campus Site Vis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Staff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 Assess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DC0-A4DB-4488-8F06-35F1B4C422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Users\dolores.davis\AppData\Local\Microsoft\Windows\Temporary Internet Files\Content.IE5\ZHUH7CR1\MC900252547[1].wmf"/>
          <p:cNvPicPr/>
          <p:nvPr/>
        </p:nvPicPr>
        <p:blipFill>
          <a:blip r:embed="rId1"/>
          <a:stretch/>
        </p:blipFill>
        <p:spPr>
          <a:xfrm>
            <a:off x="6477120" y="3200400"/>
            <a:ext cx="1706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SA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iscal Operations Report and Application to Participate in Campus-based Program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 Reconcil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239-54B6-415B-95B9-86946B7551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dolores.davis\AppData\Local\Microsoft\Windows\Temporary Internet Files\Content.IE5\ZHUH7CR1\MC900238036[1].wmf"/>
          <p:cNvPicPr/>
          <p:nvPr/>
        </p:nvPicPr>
        <p:blipFill>
          <a:blip r:embed="rId1"/>
          <a:stretch/>
        </p:blipFill>
        <p:spPr>
          <a:xfrm>
            <a:off x="5791320" y="3581280"/>
            <a:ext cx="2778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2T4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turn of Title IV Fund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Re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-Procedures Man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D7E3-E8C7-498B-BC92-4A8DC853BF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Users\dolores.davis\AppData\Local\Microsoft\Windows\Temporary Internet Files\Content.IE5\8VA4MO6L\MC900012869[1].wmf"/>
          <p:cNvPicPr/>
          <p:nvPr/>
        </p:nvPicPr>
        <p:blipFill>
          <a:blip r:embed="rId1"/>
          <a:stretch/>
        </p:blipFill>
        <p:spPr>
          <a:xfrm>
            <a:off x="6934320" y="3276720"/>
            <a:ext cx="140328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dolores.davis\AppData\Local\Microsoft\Windows\Temporary Internet Files\Content.IE5\LCP0CB4M\MC900310816[1].wmf"/>
          <p:cNvPicPr/>
          <p:nvPr/>
        </p:nvPicPr>
        <p:blipFill>
          <a:blip r:embed="rId2"/>
          <a:stretch/>
        </p:blipFill>
        <p:spPr>
          <a:xfrm>
            <a:off x="5791320" y="4800600"/>
            <a:ext cx="184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SD Services Offere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56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n Default Rates /Defaul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ommon Origination and Disbursemen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5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Grant Administration Payment Syste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228E-573C-4E75-8737-5EF365F132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dolores.davis\AppData\Local\Microsoft\Windows\Temporary Internet Files\Content.IE5\LCP0CB4M\MC900285472[1].wmf"/>
          <p:cNvPicPr/>
          <p:nvPr/>
        </p:nvPicPr>
        <p:blipFill>
          <a:blip r:embed="rId1"/>
          <a:stretch/>
        </p:blipFill>
        <p:spPr>
          <a:xfrm>
            <a:off x="6095880" y="2438280"/>
            <a:ext cx="2438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09T17:55:11Z</dcterms:modified>
  <cp:revision>232</cp:revision>
  <dc:subject/>
  <dc:title>PowerPoint Presentation</dc:title>
</cp:coreProperties>
</file>