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41A3-F682-4DCE-9B44-3B0EA2C44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55BC-2F51-4AAB-A275-72FB5E13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E0AF-328D-4432-8A5E-AA637BD2A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D209-DD9A-421E-BAAF-38558D203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03D5-4D33-487C-BA0D-0BD33ED03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2AD6-D5D8-400A-891B-47DA20D97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6052-28B2-404E-A1A5-C779E70579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8FE0-C623-4909-80FB-D89E959A2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16CC-36C8-41FC-859E-9A7F108AD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CCF3-BB30-4266-B495-8CEAE7381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366B-BB75-40E3-9331-5798FD42A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ED8E-17F7-48B8-A4F2-6CE2285A0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F688-E71F-4861-9B56-805602FD4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6124-F6A0-41D1-98F9-2F637DF09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DDEB-6D82-40F5-A55A-B6068436CA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raul.galvan@ed.gov" TargetMode="External"/><Relationship Id="rId2" Type="http://schemas.openxmlformats.org/officeDocument/2006/relationships/hyperlink" Target="mailto:eric.santiago@ed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BOF 3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spanic-Serving Instit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úl M. Galvá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ric Santia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slie Acosta-Mart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9865-CCA7-427C-A7A5-FC6378C252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1295280"/>
            <a:ext cx="861084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14-661-9455 – Raúl Galv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87-779-0805 – Eric Santi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-377-3067 – Leslie Acosta-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raul.galvan@ed.go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eric.santiago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 u="sng">
                <a:solidFill>
                  <a:srgbClr val="2d2db9"/>
                </a:solidFill>
                <a:uFillTx/>
                <a:latin typeface="Verdana"/>
              </a:rPr>
              <a:t>leslie.acosta-marti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mall and Under Resourced School Division (SURSD)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4190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erly was the Special Initiatives Unit which was created in response to a series of Presidential Executive Or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CD23-7D7E-4E5A-B34B-BC5C97D513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Users\dolores.davis\AppData\Local\Microsoft\Windows\Temporary Internet Files\Content.IE5\LCP0CB4M\MC900323091[1].wmf"/>
          <p:cNvPicPr/>
          <p:nvPr/>
        </p:nvPicPr>
        <p:blipFill>
          <a:blip r:embed="rId1"/>
          <a:stretch/>
        </p:blipFill>
        <p:spPr>
          <a:xfrm>
            <a:off x="5334120" y="2743200"/>
            <a:ext cx="30924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will continue t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ssistance to strengthen the administrative capabilities of Historically Black Colleges and Universities, Hispanic-Serving Institutions, and Tribally-Controlled Colle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A917-1AD3-4FED-B6DA-A66BD714D5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C:\Users\dolores.davis\AppData\Local\Microsoft\Windows\Temporary Internet Files\Content.IE5\LCP0CB4M\MC900088594[1].wmf"/>
          <p:cNvPicPr/>
          <p:nvPr/>
        </p:nvPicPr>
        <p:blipFill>
          <a:blip r:embed="rId1"/>
          <a:stretch/>
        </p:blipFill>
        <p:spPr>
          <a:xfrm>
            <a:off x="5638680" y="4648320"/>
            <a:ext cx="2895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3DEC-E3BD-4F0F-B98D-C5752436C7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opportunities for these institutions to participate in Federal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actively identify the unique service needs of HBCU’s, HSI’s, and TCC’s as they relate to the management of the Title IV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RS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the assistance required to ensure continued participation in the Title IV programs which the institution has chosen to particip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0EAD-97B0-466E-9661-02991819EE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dolores.davis\AppData\Local\Microsoft\Windows\Temporary Internet Files\Content.IE5\LCP0CB4M\MC900056116[1].wmf"/>
          <p:cNvPicPr/>
          <p:nvPr/>
        </p:nvPicPr>
        <p:blipFill>
          <a:blip r:embed="rId1"/>
          <a:stretch/>
        </p:blipFill>
        <p:spPr>
          <a:xfrm>
            <a:off x="5715000" y="3886200"/>
            <a:ext cx="2209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-campus Site Visi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ized Staff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Assessm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D447-28E4-4108-9BA0-5BD7CFEB1F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Users\dolores.davis\AppData\Local\Microsoft\Windows\Temporary Internet Files\Content.IE5\ZHUH7CR1\MC900252547[1].wmf"/>
          <p:cNvPicPr/>
          <p:nvPr/>
        </p:nvPicPr>
        <p:blipFill>
          <a:blip r:embed="rId1"/>
          <a:stretch/>
        </p:blipFill>
        <p:spPr>
          <a:xfrm>
            <a:off x="6477120" y="3200400"/>
            <a:ext cx="1706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SA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Fiscal Operations Report and Application to Participate in Campus-based Program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 Reconcili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BF4B-5552-492D-A27D-BD80914C91C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C:\Users\dolores.davis\AppData\Local\Microsoft\Windows\Temporary Internet Files\Content.IE5\ZHUH7CR1\MC900238036[1].wmf"/>
          <p:cNvPicPr/>
          <p:nvPr/>
        </p:nvPicPr>
        <p:blipFill>
          <a:blip r:embed="rId1"/>
          <a:stretch/>
        </p:blipFill>
        <p:spPr>
          <a:xfrm>
            <a:off x="5791320" y="3581280"/>
            <a:ext cx="27781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2T4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Return of Title IV Fund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 Re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y-Procedures Manu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42C9-0077-41E6-A418-A97ACE85FB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Users\dolores.davis\AppData\Local\Microsoft\Windows\Temporary Internet Files\Content.IE5\8VA4MO6L\MC900012869[1].wmf"/>
          <p:cNvPicPr/>
          <p:nvPr/>
        </p:nvPicPr>
        <p:blipFill>
          <a:blip r:embed="rId1"/>
          <a:stretch/>
        </p:blipFill>
        <p:spPr>
          <a:xfrm>
            <a:off x="6934320" y="3276720"/>
            <a:ext cx="1403280" cy="163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dolores.davis\AppData\Local\Microsoft\Windows\Temporary Internet Files\Content.IE5\LCP0CB4M\MC900310816[1].wmf"/>
          <p:cNvPicPr/>
          <p:nvPr/>
        </p:nvPicPr>
        <p:blipFill>
          <a:blip r:embed="rId2"/>
          <a:stretch/>
        </p:blipFill>
        <p:spPr>
          <a:xfrm>
            <a:off x="5791320" y="4800600"/>
            <a:ext cx="184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Default Rates/Defaul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mmon Origination and Disbursement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5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Grant Administr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ment System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4D0B-B636-474E-81FE-F5746FC7D55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C:\Users\dolores.davis\AppData\Local\Microsoft\Windows\Temporary Internet Files\Content.IE5\LCP0CB4M\MC900285472[1].wmf"/>
          <p:cNvPicPr/>
          <p:nvPr/>
        </p:nvPicPr>
        <p:blipFill>
          <a:blip r:embed="rId1"/>
          <a:stretch/>
        </p:blipFill>
        <p:spPr>
          <a:xfrm rot="16200000">
            <a:off x="6087960" y="3512880"/>
            <a:ext cx="22100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uthorised User</cp:lastModifiedBy>
  <dcterms:modified xsi:type="dcterms:W3CDTF">2010-11-09T17:40:18Z</dcterms:modified>
  <cp:revision>234</cp:revision>
  <dc:subject/>
  <dc:title>PowerPoint Presentation</dc:title>
</cp:coreProperties>
</file>