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5957-648F-495A-8B4D-90ED96491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C2C2-9715-4687-99A0-1F306229C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0A71D-1EBA-485B-B85A-76C4F3CE7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28C9-76EA-44B3-9317-0FCFD8B55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EE82-4ADF-45ED-B20A-8E55761D5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3008-091B-4047-8033-FC758C81D9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F69E-7DD4-439C-8D58-5ACFDC3129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B780-8458-4E89-ADFC-28EF40819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6E95-D340-4F58-8234-A8DF9E233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9EC3-11C2-4BA6-B1BA-E79175B50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B8C6-D5F1-4049-9EAA-7D405D742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0DBB-7DD2-4A7E-BE2F-C16A2878D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1FE8-7233-479E-AB27-5663BDE19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8D3E-41C6-458D-92C5-D44A5A353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3C15-78A7-4D94-BE04-EBDDC6FC680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raul.galvan@ed.gov" TargetMode="External"/><Relationship Id="rId2" Type="http://schemas.openxmlformats.org/officeDocument/2006/relationships/hyperlink" Target="mailto:eric.santiago@ed.g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BOF 3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ispanic-Serving Instit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úl M. Galvá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ric Santia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slie Acosta-Mart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854C-DD74-4510-8212-CC603D2948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2280" y="1295280"/>
            <a:ext cx="8610840" cy="48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214-661-9455 – Raúl Galv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87-779-0805 – Eric Santi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-377-3067 – Leslie Acosta-Mar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raul.galvan@ed.go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eric.santiago@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 u="sng">
                <a:solidFill>
                  <a:srgbClr val="2d2db9"/>
                </a:solidFill>
                <a:uFillTx/>
                <a:latin typeface="Verdana"/>
              </a:rPr>
              <a:t>leslie.acosta-martin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mall and Under Resourced School Division (SURSD)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4190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erly was the Special Initiatives Unit which was created in response to a series of Presidential Executive Or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2842-D932-4B40-99CE-B4276EF8DE5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C:\Users\dolores.davis\AppData\Local\Microsoft\Windows\Temporary Internet Files\Content.IE5\LCP0CB4M\MC900323091[1].wmf"/>
          <p:cNvPicPr/>
          <p:nvPr/>
        </p:nvPicPr>
        <p:blipFill>
          <a:blip r:embed="rId1"/>
          <a:stretch/>
        </p:blipFill>
        <p:spPr>
          <a:xfrm>
            <a:off x="5334120" y="2743200"/>
            <a:ext cx="30924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 will continue t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ssistance to strengthen the administrative capabilities of Historically Black Colleges and Universities, Hispanic-Serving Institutions, and Tribally-Controlled Colle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2FAD-BC23-4175-8198-602EBE788D7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C:\Users\dolores.davis\AppData\Local\Microsoft\Windows\Temporary Internet Files\Content.IE5\LCP0CB4M\MC900088594[1].wmf"/>
          <p:cNvPicPr/>
          <p:nvPr/>
        </p:nvPicPr>
        <p:blipFill>
          <a:blip r:embed="rId1"/>
          <a:stretch/>
        </p:blipFill>
        <p:spPr>
          <a:xfrm>
            <a:off x="5638680" y="4648320"/>
            <a:ext cx="2895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1394-83D0-43C3-A10C-46077FC1C23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opportunities for these institutions to participate in Federal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actively identify the unique service needs of HBCU’s, HSI’s, and TCC’s as they relate to the management of the Title IV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URSD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the assistance required to ensure continued participation in the Title IV programs which the institution has chosen to particip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E487-4D0F-478B-8D9C-7BF40CE82D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dolores.davis\AppData\Local\Microsoft\Windows\Temporary Internet Files\Content.IE5\LCP0CB4M\MC900056116[1].wmf"/>
          <p:cNvPicPr/>
          <p:nvPr/>
        </p:nvPicPr>
        <p:blipFill>
          <a:blip r:embed="rId1"/>
          <a:stretch/>
        </p:blipFill>
        <p:spPr>
          <a:xfrm>
            <a:off x="5715000" y="3886200"/>
            <a:ext cx="22096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-campus Site Visi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ized Staff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l Assessme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BDE7-9911-45C5-83BC-5597F624E2F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Users\dolores.davis\AppData\Local\Microsoft\Windows\Temporary Internet Files\Content.IE5\ZHUH7CR1\MC900252547[1].wmf"/>
          <p:cNvPicPr/>
          <p:nvPr/>
        </p:nvPicPr>
        <p:blipFill>
          <a:blip r:embed="rId1"/>
          <a:stretch/>
        </p:blipFill>
        <p:spPr>
          <a:xfrm>
            <a:off x="6477120" y="3200400"/>
            <a:ext cx="17064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SA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Fiscal Operations Report and Application to Participate in Campus-based Program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d Reconcili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0552-40B1-4C0C-A0E7-79A8EAABD10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C:\Users\dolores.davis\AppData\Local\Microsoft\Windows\Temporary Internet Files\Content.IE5\ZHUH7CR1\MC900238036[1].wmf"/>
          <p:cNvPicPr/>
          <p:nvPr/>
        </p:nvPicPr>
        <p:blipFill>
          <a:blip r:embed="rId1"/>
          <a:stretch/>
        </p:blipFill>
        <p:spPr>
          <a:xfrm>
            <a:off x="5791320" y="3581280"/>
            <a:ext cx="27781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2T4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Return of Title IV Fund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t Resol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y-Procedures Manu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C8F1-9CED-48A5-93B3-3258094B323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Users\dolores.davis\AppData\Local\Microsoft\Windows\Temporary Internet Files\Content.IE5\8VA4MO6L\MC900012869[1].wmf"/>
          <p:cNvPicPr/>
          <p:nvPr/>
        </p:nvPicPr>
        <p:blipFill>
          <a:blip r:embed="rId1"/>
          <a:stretch/>
        </p:blipFill>
        <p:spPr>
          <a:xfrm>
            <a:off x="6934320" y="3276720"/>
            <a:ext cx="1403280" cy="1638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dolores.davis\AppData\Local\Microsoft\Windows\Temporary Internet Files\Content.IE5\LCP0CB4M\MC900310816[1].wmf"/>
          <p:cNvPicPr/>
          <p:nvPr/>
        </p:nvPicPr>
        <p:blipFill>
          <a:blip r:embed="rId2"/>
          <a:stretch/>
        </p:blipFill>
        <p:spPr>
          <a:xfrm>
            <a:off x="5791320" y="4800600"/>
            <a:ext cx="18428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 Default Rates/Defaul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mmon Origination and Disbursement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5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Grant Administr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yment System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118E-E65F-4242-AFFA-4385F710072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C:\Users\dolores.davis\AppData\Local\Microsoft\Windows\Temporary Internet Files\Content.IE5\LCP0CB4M\MC900285472[1].wmf"/>
          <p:cNvPicPr/>
          <p:nvPr/>
        </p:nvPicPr>
        <p:blipFill>
          <a:blip r:embed="rId1"/>
          <a:stretch/>
        </p:blipFill>
        <p:spPr>
          <a:xfrm rot="16200000">
            <a:off x="6087960" y="3512880"/>
            <a:ext cx="221004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uthorised User</cp:lastModifiedBy>
  <dcterms:modified xsi:type="dcterms:W3CDTF">2010-11-09T17:40:18Z</dcterms:modified>
  <cp:revision>234</cp:revision>
  <dc:subject/>
  <dc:title>PowerPoint Presentation</dc:title>
</cp:coreProperties>
</file>