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3810-BA80-430E-95E3-01CD1E3B1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C305-AB12-414C-B122-DAB831F25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BA1A-1A34-42B3-AE68-4B2C2124F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6D05-4AFC-4856-99AD-FE82F3132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9F35-B079-49D8-81B6-755BB3326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72AC-E901-4A52-B7F6-55E1738F6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864B-3B61-4376-8987-976108AD9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B2B1-2155-49A4-857D-9C67EDCE0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B2A4-609D-4F35-8F19-476357CAF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284D-A6C8-40E0-A960-85E354493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1415-EA32-4159-9521-D9E33C1F7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E540-B084-437B-99F3-30E735CCB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FA79-838A-4150-98B2-4BD3C8DE1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FA04-15C8-41ED-872C-207473BA3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7BDD-319F-45F7-842A-C57EDAC5EE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dolores.davis@ed.gov" TargetMode="External"/><Relationship Id="rId2" Type="http://schemas.openxmlformats.org/officeDocument/2006/relationships/hyperlink" Target="mailto:larry.eadie@ed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BOF 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storically Black Colleges and Univers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lores S. Dav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rry Ead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ames McMil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83A8-359A-482F-BD40-38AAB8B117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1143000"/>
            <a:ext cx="716256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404-974-9308-D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04-974-9309-Ea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04-974-9437-McMil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dolores.davis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larry.eadie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 u="sng">
                <a:solidFill>
                  <a:srgbClr val="2d2db9"/>
                </a:solidFill>
                <a:uFillTx/>
                <a:latin typeface="Verdana"/>
              </a:rPr>
              <a:t>james.mcmilla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 404-974-9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mall and Under Resourced School Division (SURSD)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erly was the Special Initiatives Unit which was created in response to a series of Presidential Executive Or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60D6-3C02-4D6E-8C8D-99CA9564201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Users\dolores.davis\AppData\Local\Microsoft\Windows\Temporary Internet Files\Content.IE5\LCP0CB4M\MC900323091[1].wmf"/>
          <p:cNvPicPr/>
          <p:nvPr/>
        </p:nvPicPr>
        <p:blipFill>
          <a:blip r:embed="rId1"/>
          <a:stretch/>
        </p:blipFill>
        <p:spPr>
          <a:xfrm>
            <a:off x="5334120" y="2743200"/>
            <a:ext cx="30924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will continue t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ssistance to strengthen the administrative capabilities of Historically Black Colleges and Universities, Hispanic-Serving Institutions, and Tribally-Controlled Colle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D0E4-52ED-47A1-913E-A3029A4AB6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C:\Users\dolores.davis\AppData\Local\Microsoft\Windows\Temporary Internet Files\Content.IE5\LCP0CB4M\MC900088594[1].wmf"/>
          <p:cNvPicPr/>
          <p:nvPr/>
        </p:nvPicPr>
        <p:blipFill>
          <a:blip r:embed="rId1"/>
          <a:stretch/>
        </p:blipFill>
        <p:spPr>
          <a:xfrm>
            <a:off x="5638680" y="4648320"/>
            <a:ext cx="2895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328E-44C2-4B46-8540-B032A90CF17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opportunities for these institutions to participate in Federal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actively identify the unique service needs of HBCU’s, HSI’s, and TCC’s as it relates to the management of the Title IV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RS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the assistance required to ensure continued participation in the Title IV programs which the institution has chosen to particip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2600-B637-4E91-A2E9-AEB5A3BCA0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dolores.davis\AppData\Local\Microsoft\Windows\Temporary Internet Files\Content.IE5\LCP0CB4M\MC900056116[1].wmf"/>
          <p:cNvPicPr/>
          <p:nvPr/>
        </p:nvPicPr>
        <p:blipFill>
          <a:blip r:embed="rId1"/>
          <a:stretch/>
        </p:blipFill>
        <p:spPr>
          <a:xfrm>
            <a:off x="5715000" y="3886200"/>
            <a:ext cx="2209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-campus Site Visi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ized Staff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Assessm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4CFE-AC6A-47F5-B065-2117BFDF6BB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Users\dolores.davis\AppData\Local\Microsoft\Windows\Temporary Internet Files\Content.IE5\ZHUH7CR1\MC900252547[1].wmf"/>
          <p:cNvPicPr/>
          <p:nvPr/>
        </p:nvPicPr>
        <p:blipFill>
          <a:blip r:embed="rId1"/>
          <a:stretch/>
        </p:blipFill>
        <p:spPr>
          <a:xfrm>
            <a:off x="6477120" y="3200400"/>
            <a:ext cx="1706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SA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Fiscal Operations Report and Application to Participate in Campus-based Program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 Reconcili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8D39-5CA5-4ADD-BA45-A3B2A4D8CB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C:\Users\dolores.davis\AppData\Local\Microsoft\Windows\Temporary Internet Files\Content.IE5\ZHUH7CR1\MC900238036[1].wmf"/>
          <p:cNvPicPr/>
          <p:nvPr/>
        </p:nvPicPr>
        <p:blipFill>
          <a:blip r:embed="rId1"/>
          <a:stretch/>
        </p:blipFill>
        <p:spPr>
          <a:xfrm>
            <a:off x="5791320" y="3581280"/>
            <a:ext cx="27781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2T4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Return of Title IV Fund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 Re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y-Procedures Manu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5A2C-7978-4A4A-A46A-C287B754BA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Users\dolores.davis\AppData\Local\Microsoft\Windows\Temporary Internet Files\Content.IE5\8VA4MO6L\MC900012869[1].wmf"/>
          <p:cNvPicPr/>
          <p:nvPr/>
        </p:nvPicPr>
        <p:blipFill>
          <a:blip r:embed="rId1"/>
          <a:stretch/>
        </p:blipFill>
        <p:spPr>
          <a:xfrm>
            <a:off x="6934320" y="3276720"/>
            <a:ext cx="1403280" cy="163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dolores.davis\AppData\Local\Microsoft\Windows\Temporary Internet Files\Content.IE5\LCP0CB4M\MC900310816[1].wmf"/>
          <p:cNvPicPr/>
          <p:nvPr/>
        </p:nvPicPr>
        <p:blipFill>
          <a:blip r:embed="rId2"/>
          <a:stretch/>
        </p:blipFill>
        <p:spPr>
          <a:xfrm>
            <a:off x="5791320" y="4800600"/>
            <a:ext cx="184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5562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Default Rates/Defaul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mmon Origination and Disbursement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5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Grant Administration Payment Syst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3811-C25E-4FC9-8AD9-CE7D44389D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C:\Users\dolores.davis\AppData\Local\Microsoft\Windows\Temporary Internet Files\Content.IE5\LCP0CB4M\MC900285472[1].wmf"/>
          <p:cNvPicPr/>
          <p:nvPr/>
        </p:nvPicPr>
        <p:blipFill>
          <a:blip r:embed="rId1"/>
          <a:stretch/>
        </p:blipFill>
        <p:spPr>
          <a:xfrm>
            <a:off x="6095880" y="2438280"/>
            <a:ext cx="24386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uthorised User</cp:lastModifiedBy>
  <dcterms:modified xsi:type="dcterms:W3CDTF">2010-11-08T21:35:31Z</dcterms:modified>
  <cp:revision>233</cp:revision>
  <dc:subject/>
  <dc:title>PowerPoint Presentation</dc:title>
</cp:coreProperties>
</file>