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B9F-4E40-425D-A6EE-43FD1A6D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9BBD-A26B-4B18-89FF-1CE801DA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ACAE-9266-4060-A7FB-E6CFA439A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6690-285F-489A-9FB9-55CBC899A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8380-4152-42CD-B265-DDD9CEA50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E5B0-EAB4-484C-B0F5-D133630A0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ED29-DFBF-4242-99D5-A183AD1C5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9B04-CB0E-4E30-AAED-8089F6CFB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19F2-88C2-43CE-8C64-09E0F955F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924A-ACC2-4593-8DC8-E118FDC1A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8173-E498-4595-9DA2-167FC58D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4CA0-B7A1-4647-BC4D-3FCCAB6A6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9FA5-FFE4-4DE4-A5E4-E8473AB8E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5775-27E6-4507-A500-939B71B72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AAB-8CB0-4F74-8E93-E910F13744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dolores.davis@ed.gov" TargetMode="External"/><Relationship Id="rId2" Type="http://schemas.openxmlformats.org/officeDocument/2006/relationships/hyperlink" Target="mailto:larry.eadie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BOF 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storically Black Colleges and Univers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lores S. Dav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rry Ead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ames McMil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3745-FD87-4B29-A013-9294761C13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1143000"/>
            <a:ext cx="716256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404-974-9308-D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309-Ea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437-McMil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dolores.davi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larry.eadi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2d2db9"/>
                </a:solidFill>
                <a:uFillTx/>
                <a:latin typeface="Verdana"/>
              </a:rPr>
              <a:t>james.mcmilla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404-974-9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(SURSD)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ly was the Special Initiatives Unit which was created in response to a series of Presidential Executive Or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33E1-A15D-4695-A496-87E31CD7F9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dolores.davis\AppData\Local\Microsoft\Windows\Temporary Internet Files\Content.IE5\LCP0CB4M\MC900323091[1].wmf"/>
          <p:cNvPicPr/>
          <p:nvPr/>
        </p:nvPicPr>
        <p:blipFill>
          <a:blip r:embed="rId1"/>
          <a:stretch/>
        </p:blipFill>
        <p:spPr>
          <a:xfrm>
            <a:off x="5334120" y="2743200"/>
            <a:ext cx="3092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will contin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ssistance to strengthen the administrative capabilities of Historically Black Colleges and Universities, Hispanic-Serving Institutions, and Tribally-Controlled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B1A-137D-4744-9937-6373E2D79E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dolores.davis\AppData\Local\Microsoft\Windows\Temporary Internet Files\Content.IE5\LCP0CB4M\MC900088594[1].wmf"/>
          <p:cNvPicPr/>
          <p:nvPr/>
        </p:nvPicPr>
        <p:blipFill>
          <a:blip r:embed="rId1"/>
          <a:stretch/>
        </p:blipFill>
        <p:spPr>
          <a:xfrm>
            <a:off x="5638680" y="4648320"/>
            <a:ext cx="289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BBD-B614-4306-A3A0-3D7DDD52891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opportunities for these institutions to participate in Feder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actively identify the unique service needs of HBCU’s, HSI’s, and TCC’s as it relates to the management of the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he assistance required to ensure continued participation in the Title IV programs which the institution has chosen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2864-5C25-44C4-AADB-805A5EDFE7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dolores.davis\AppData\Local\Microsoft\Windows\Temporary Internet Files\Content.IE5\LCP0CB4M\MC900056116[1].wmf"/>
          <p:cNvPicPr/>
          <p:nvPr/>
        </p:nvPicPr>
        <p:blipFill>
          <a:blip r:embed="rId1"/>
          <a:stretch/>
        </p:blipFill>
        <p:spPr>
          <a:xfrm>
            <a:off x="5715000" y="3886200"/>
            <a:ext cx="2209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campus Site Vis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ssess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951-DF6B-4750-B679-85E1A72C21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Users\dolores.davis\AppData\Local\Microsoft\Windows\Temporary Internet Files\Content.IE5\ZHUH7CR1\MC900252547[1].wmf"/>
          <p:cNvPicPr/>
          <p:nvPr/>
        </p:nvPicPr>
        <p:blipFill>
          <a:blip r:embed="rId1"/>
          <a:stretch/>
        </p:blipFill>
        <p:spPr>
          <a:xfrm>
            <a:off x="6477120" y="3200400"/>
            <a:ext cx="1706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SA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iscal Operations Report and Application to Participate in Campus-based Program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 Reconcil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06A9-2BDD-4BBA-B261-D4A236B3A9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dolores.davis\AppData\Local\Microsoft\Windows\Temporary Internet Files\Content.IE5\ZHUH7CR1\MC900238036[1].wmf"/>
          <p:cNvPicPr/>
          <p:nvPr/>
        </p:nvPicPr>
        <p:blipFill>
          <a:blip r:embed="rId1"/>
          <a:stretch/>
        </p:blipFill>
        <p:spPr>
          <a:xfrm>
            <a:off x="5791320" y="3581280"/>
            <a:ext cx="2778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turn of Title IV Fund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-Procedures Ma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096-5817-409F-98B8-9A90491BF7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dolores.davis\AppData\Local\Microsoft\Windows\Temporary Internet Files\Content.IE5\8VA4MO6L\MC900012869[1].wmf"/>
          <p:cNvPicPr/>
          <p:nvPr/>
        </p:nvPicPr>
        <p:blipFill>
          <a:blip r:embed="rId1"/>
          <a:stretch/>
        </p:blipFill>
        <p:spPr>
          <a:xfrm>
            <a:off x="6934320" y="3276720"/>
            <a:ext cx="14032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dolores.davis\AppData\Local\Microsoft\Windows\Temporary Internet Files\Content.IE5\LCP0CB4M\MC900310816[1].wmf"/>
          <p:cNvPicPr/>
          <p:nvPr/>
        </p:nvPicPr>
        <p:blipFill>
          <a:blip r:embed="rId2"/>
          <a:stretch/>
        </p:blipFill>
        <p:spPr>
          <a:xfrm>
            <a:off x="5791320" y="4800600"/>
            <a:ext cx="184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562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Rates/Defaul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mmon Origination and Disbursemen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Grant Administration Payment 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09C-FF2E-46A5-AF80-D98787BBCF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dolores.davis\AppData\Local\Microsoft\Windows\Temporary Internet Files\Content.IE5\LCP0CB4M\MC900285472[1].wmf"/>
          <p:cNvPicPr/>
          <p:nvPr/>
        </p:nvPicPr>
        <p:blipFill>
          <a:blip r:embed="rId1"/>
          <a:stretch/>
        </p:blipFill>
        <p:spPr>
          <a:xfrm>
            <a:off x="6095880" y="2438280"/>
            <a:ext cx="2438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8T21:35:31Z</dcterms:modified>
  <cp:revision>233</cp:revision>
  <dc:subject/>
  <dc:title>PowerPoint Presentation</dc:title>
</cp:coreProperties>
</file>