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3B4-B1CC-4636-A1AB-EA170BE7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5D1-8D0C-4BD4-8A4F-3F8BFBEC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278-BF2C-410C-A745-AC53BE25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205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36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205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36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B0B-5EF2-44B2-9356-DBCB492C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FCF-A6FB-412A-919C-6D07CABD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F51-E945-45A3-BC1A-36C9E553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F6A-0ACF-4B71-A1CE-C369904B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F9B-E886-41B1-A6F5-574F3CC0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4760" y="990720"/>
            <a:ext cx="65530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6BF-93DB-418B-9ABB-E725B1A2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155-1E6A-4301-8AF1-B4965B55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28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F81-C940-4470-AAC1-F75C8BFD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28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372-56FC-4BC7-9F28-1B84DDBA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onference%20pages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8406-1A3F-4799-8C79-DF0BB381A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onference%20cover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1447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2-2003 Application Processing System Updat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37920" y="4648320"/>
            <a:ext cx="6324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i Hunt, ORC Macro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ol Erban, NCS Pea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 Spec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 Distribution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System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&amp;A on 2002-2003 EDE Layo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S Spec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s available on Extranet Test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not be e-mailed this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ata element changes for 2002-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 changes to ed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of Tax Return field added to AGI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 revised in Reject A and B 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ation updates only in EFC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S Test Case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ile will be available at the Extranet Test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form not required this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 will not be e-ma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will continue to be in ISIR recor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t System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mid-November 2001 through end of January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Guide and Test Cases available by late Octo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 with COD -- the records you  submit to CPS will be passed to COD for your use in testing with C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t System Plans (cont.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2001-2002 Tes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“SSNs” based on method described in User G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unlimited electronic application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t System Plan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 and submit up to 25 electronic corrections (you can reuse these I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is cleared daily so today’s records won’t be there 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entering more than one school code, you’ll also get automatic ISIR file (SARA message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&amp;A on 2002-2003 EDE Layo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outs available on SFADownload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S Header/Tr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IR cross-reference is also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vailable on IF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19:10:10Z</dcterms:created>
  <dc:creator>Steve Crow</dc:creator>
  <dc:description/>
  <dc:language>en-US</dc:language>
  <cp:lastModifiedBy>I.R.G.</cp:lastModifiedBy>
  <dcterms:modified xsi:type="dcterms:W3CDTF">2001-09-06T18:33:37Z</dcterms:modified>
  <cp:revision>7</cp:revision>
  <dc:subject/>
  <dc:title>No Slide Title</dc:title>
</cp:coreProperties>
</file>