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66C3-5F22-4AE7-AE5A-3C86B00B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49B0-05DF-4A11-B1C1-E564F863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DA1E-EB33-439B-A00C-A976125AF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5043-3D61-4722-B1A9-FD4F82E94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828800" y="533520"/>
            <a:ext cx="3335400" cy="2503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7E9E-6B1B-481A-B286-3D9887810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2014-378B-4141-AE18-6ED6D450C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828800" y="533520"/>
            <a:ext cx="3335400" cy="2503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908D-7447-4B6E-BA62-726F617CD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8CB8-337B-4980-B044-58F32A1D0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3214-BCB2-449B-9CE5-3979263F5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ACE1-A6E1-4637-8FFB-2D4169596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3DF6-7F49-4C5F-845C-82B13163D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860E-B7C6-4F43-BC92-8523DF017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F9B-2F19-46D2-9CB5-36D0E2591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8B80-2DBB-4686-BD3D-0DC4BA07B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6BDD-84F8-47B8-83A5-CA921081B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FA12-385D-4E6D-9DC3-B72D6788B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AA1A-E006-4170-BBC4-A2DC675F2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4917-8CFA-4722-B0C0-73269E90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F5F5-EBD0-4D74-88C5-285C83C34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FE59-BC40-4C9A-A849-E0224EE22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D848-9FC4-4712-9D0C-D524A003B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6D2E-9063-491D-A7E4-AD1A0510D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F203-530A-4179-B6BF-E7925FF3C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34EA-F577-4E8D-A95D-CBD8EDA0F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9C7D-FED7-4283-A9BA-2318434E3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276C-14A2-4206-9DA0-11AEFBE3E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B41A-E1E5-4AFD-B6E1-26E45BC6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0071-C5FE-4481-B5EF-47E0AA8A0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BADB-AB9A-4CC8-A5C2-6CB874DDD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56D7-9C7E-4A7A-A657-F4A6D4571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2797-AFD4-4257-B70B-D573361AE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2034-4D6E-4B96-8F6A-1043FEB8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2A86-0201-4081-9F1C-EDCC53FF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E26E-3F1E-4498-B559-A4C12252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66B9-21F8-46E6-9045-926FA8DB2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F7C-B060-4F1A-B52B-4C1A15C3D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DBE6-D795-4248-B543-CD82D5625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8D32-63E5-4537-A946-519C45D4F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1953-27B2-4A95-9AD7-31A268DF2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041C-F2E1-4FCE-AA75-776237CD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CF18-E8EE-4E5F-97F3-C0205462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9596-40EB-4E3C-8A4E-7CFCEB65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222D-5125-4B0F-A69F-CD2FAA664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99C5-2ECE-4C4A-9245-BCEC92FB5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C40-E779-4CD6-8534-CC039B600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CF16-54FC-4486-98C6-1D2E13A87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02A0-B57A-42CF-9191-6D51B6851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147C-C8CE-41EB-A2E8-B3A7724CD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11D-67F8-46FA-AA02-892B22BD2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CDCA-37D1-4A6D-B0C5-6183A0845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CDB4-74EF-4C53-8B60-68AFDD70B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A792-845E-45DD-BC03-FF5D7D9E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1145-0920-4F74-8C59-C4CDF7791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1985-FC25-4D3F-86A7-C2C076A38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C84B-112F-42A4-A2CE-75DDDC4C9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2008-A313-4ABB-A6E5-6ED916B13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3085-4779-4835-B3C8-E626DABBE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944F-C383-4DE0-888D-B1D66B923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1879-10A4-44AD-821E-CCFA2C763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13D2-BB8C-4591-9DBD-961270104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C2D2-975B-4780-ABC4-CD693945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B3B0-12E1-4CBA-AB4E-52DE8F1C2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892B-CB10-45C2-A6B7-7AA85F90B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7072-46A5-45EF-91AF-73F20D5F1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D337-C2C3-45AB-959E-8CBACF3AF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74DCE-DC3B-4360-94B9-66533056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029D9-9F7D-4BE5-87EB-9F059B2F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7E893-B555-4B2F-A4FD-3F6955B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340A3-E06D-454D-98AB-F616F051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942A9-FD94-4F06-BD68-E4CE6D61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F4557-5006-4751-B9B0-BA996D25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EF486-B0E6-4C4B-9DF2-41EC5A3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7E10-1E1F-41F7-A251-F1FB72B6F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E7FF9-D3B5-4F26-B412-3204614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1CC70-944E-4BF6-818C-5ECD699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86AEB-BCCB-4A2F-98F6-C5D35716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6245E-645B-4AFA-8271-35F735F5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3B76D-C064-43F2-A0DF-3B308B1A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FACB-698C-40F8-A7C4-053191DA6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C475-167F-4F74-8331-FB0AA1534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0425-D9EB-40DA-90BF-F89AEC026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39DA-9535-4688-9929-DBF12FE60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541E-E2DF-49C1-8B5A-6C0F6A1C0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AF9F-76DC-4695-919C-E8CFA6A09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4E56-2ACF-4645-B13A-335E98E98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6D0F-50AD-4B11-AB0F-B9502D316EB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EFBC-EC13-423E-BF98-6C60CA6146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federalstudentaid.ed.gov/datacenter/cohort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studentloans.gov/" TargetMode="External"/><Relationship Id="rId4" Type="http://schemas.openxmlformats.org/officeDocument/2006/relationships/hyperlink" Target="http://www.nslds.ed.gov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fdic.gov/index.html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mailto:angela.johnson@tri-c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mailto:sigh@msu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mailto:ricky@mitchells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5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s’ Best Practices in Default and Delinquency Manage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28600" y="2509920"/>
            <a:ext cx="86868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Present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John Pierson, U.S. Department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Mark Walsh, U.S. Department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chool Paneli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Angela Johnson, Cuyahoga Community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inda Sigh, Michigan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icky Mitchell, Mitchell’s Hair Styling Acad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410080" y="464832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39B7-5F03-4279-AD00-7CFE5C35F6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hart 2" descr=""/>
          <p:cNvPicPr/>
          <p:nvPr/>
        </p:nvPicPr>
        <p:blipFill>
          <a:blip r:embed="rId1"/>
          <a:stretch/>
        </p:blipFill>
        <p:spPr>
          <a:xfrm>
            <a:off x="-6480" y="0"/>
            <a:ext cx="917424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E99-3877-4885-B6E5-65CF97D31F1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ction 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y Discuss Defaul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ventio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Changes, Risks, and Challe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4AE3-ABA8-4A57-A62C-498263D0E6C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974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fault Prevention                </a:t>
            </a:r>
            <a:r>
              <a:rPr b="1" i="1" lang="en-US" sz="3600" spc="-1" strike="noStrike">
                <a:solidFill>
                  <a:srgbClr val="0099cc"/>
                </a:solidFill>
                <a:latin typeface="Verdana"/>
              </a:rPr>
              <a:t>Why is it Important?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81260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51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cause defaulted loans have significa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equences fo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xpay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rrow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o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AEB6-F0C5-43D2-8EE1-E7AD065464D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7408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onsequences of Default</a:t>
            </a:r>
            <a:br>
              <a:rPr sz="3600"/>
            </a:br>
            <a:r>
              <a:rPr b="1" i="1" lang="en-US" sz="3600" spc="-1" strike="noStrike">
                <a:solidFill>
                  <a:srgbClr val="0099cc"/>
                </a:solidFill>
                <a:latin typeface="Verdana"/>
              </a:rPr>
              <a:t>For the Taxpayer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ault impacts the integrity of the student loan pro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loss of taxpayer dollars currently exceeds one billion dollars per ye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vering defaulted loans is costly to the Department of Education, and therefore to the taxpay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9C7F-26F6-4AB3-BEBC-A64592DE7E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24280" y="6435720"/>
            <a:ext cx="54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DL/FFEL portfolio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04920" y="100476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– Dollars in Default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43000" y="2286000"/>
          <a:ext cx="6858000" cy="25146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107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3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4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5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7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</a:tr>
              <a:tr h="1107000"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47 Mill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80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l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15 Mill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183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ion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465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533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Up Arrow 8"/>
          <p:cNvSpPr/>
          <p:nvPr/>
        </p:nvSpPr>
        <p:spPr>
          <a:xfrm>
            <a:off x="396252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Up Arrow 9"/>
          <p:cNvSpPr/>
          <p:nvPr/>
        </p:nvSpPr>
        <p:spPr>
          <a:xfrm>
            <a:off x="6172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Up Arrow 11"/>
          <p:cNvSpPr/>
          <p:nvPr/>
        </p:nvSpPr>
        <p:spPr>
          <a:xfrm>
            <a:off x="7315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Up Arrow 12"/>
          <p:cNvSpPr/>
          <p:nvPr/>
        </p:nvSpPr>
        <p:spPr>
          <a:xfrm>
            <a:off x="5029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Up Arrow 14"/>
          <p:cNvSpPr/>
          <p:nvPr/>
        </p:nvSpPr>
        <p:spPr>
          <a:xfrm>
            <a:off x="2743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Up Arrow 15"/>
          <p:cNvSpPr/>
          <p:nvPr/>
        </p:nvSpPr>
        <p:spPr>
          <a:xfrm>
            <a:off x="1600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F9F2-865D-4772-B0B3-4F093B83F5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579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Dollars in Defaul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me of Dollars in Defaul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hough not currently used to measure schools, the dollars in default impact the integrity of the student loan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member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 Schools +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 Volume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 Dollars 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ADE9-60E9-4FF9-B5DD-D1DD1685794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7408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onsequences of Default</a:t>
            </a:r>
            <a:br>
              <a:rPr sz="3600"/>
            </a:br>
            <a:r>
              <a:rPr b="1" i="1" lang="en-US" sz="3600" spc="-1" strike="noStrike">
                <a:solidFill>
                  <a:srgbClr val="0099cc"/>
                </a:solidFill>
                <a:latin typeface="Verdana"/>
              </a:rPr>
              <a:t>For the Borrower</a:t>
            </a:r>
            <a:r>
              <a:rPr b="1" lang="en-US" sz="3600" spc="-1" strike="noStrike">
                <a:solidFill>
                  <a:srgbClr val="0099cc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77300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edit report damage (7-year minimu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ge garnish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izure of federal and state tax ref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izure of portion of any federal pay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gal action in federal district cou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tle IV ineligib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724280" y="1774800"/>
            <a:ext cx="4191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lose state occupational licen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mortgage lo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have difficulty obtaining car lo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be unable to rent an apar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be turned down for jo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ion co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9C2-5D4C-4754-A8E2-BD7A581C856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724280" y="6435720"/>
            <a:ext cx="54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DL/FFEL portfolio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304920" y="100476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– Borrowers in Defa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3000" y="2286000"/>
          <a:ext cx="6858000" cy="22399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107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3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4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5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7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</a:tr>
              <a:tr h="709560"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4,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1,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,5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1,6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8,8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3" name="Up Arrow 7"/>
          <p:cNvSpPr/>
          <p:nvPr/>
        </p:nvSpPr>
        <p:spPr>
          <a:xfrm>
            <a:off x="167652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Up Arrow 8"/>
          <p:cNvSpPr/>
          <p:nvPr/>
        </p:nvSpPr>
        <p:spPr>
          <a:xfrm>
            <a:off x="275904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Up Arrow 9"/>
          <p:cNvSpPr/>
          <p:nvPr/>
        </p:nvSpPr>
        <p:spPr>
          <a:xfrm>
            <a:off x="733104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Up Arrow 11"/>
          <p:cNvSpPr/>
          <p:nvPr/>
        </p:nvSpPr>
        <p:spPr>
          <a:xfrm>
            <a:off x="388620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Up Arrow 12"/>
          <p:cNvSpPr/>
          <p:nvPr/>
        </p:nvSpPr>
        <p:spPr>
          <a:xfrm>
            <a:off x="502920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Up Arrow 14"/>
          <p:cNvSpPr/>
          <p:nvPr/>
        </p:nvSpPr>
        <p:spPr>
          <a:xfrm>
            <a:off x="617220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180C-312A-4FC0-956B-701A5A6486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7408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onsequences of Default</a:t>
            </a:r>
            <a:br>
              <a:rPr sz="3600"/>
            </a:br>
            <a:r>
              <a:rPr b="1" i="1" lang="en-US" sz="3600" spc="-1" strike="noStrike">
                <a:solidFill>
                  <a:srgbClr val="0099cc"/>
                </a:solidFill>
                <a:latin typeface="Verdana"/>
              </a:rPr>
              <a:t>For the Schoo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DR is a measure of a school’s administrative capability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 CDRs 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gatively reflect on school quali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 in provisional cert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 in loss of Title IV eligi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aten access to private loan fund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3541-5E17-41A0-9F44-28454415DF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hanging Landscape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default is increasing for most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costs continue to r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tudents borrowing more mone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bination of Stafford and private loans equal greater debt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to CDR calculation accompanied by new sanctions and an enhanced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tion to all-Direct Loan origination and new servicing part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F834-FE24-4840-BCEE-9FE7CADEB88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 This Sess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tion 1: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ort Default Rate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tion 2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y Discuss Default Prevention?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34596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sequ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34596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nges, Risks, and Challe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tion 3: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fault Prevention Strateg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34596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tional: Financial Aid Office Cent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34596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-Traditional: A Student Success Focu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02B5-6402-48F3-BE3D-2976492604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s and the Econom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DR default data is retrospective, so the economic impact on borrower repayment will be seen in future CDR calc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rowers are having difficulty repay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unemployment and economic problems are occurring concurrent with the change from a 2-year to a 3-year CDR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chools may face compliance difficulties due to CDRs in coming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A031-046C-4975-8F71-E5B57FB81A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3-Year CDR Calculation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s the default tracking window from 2 years to 3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s a transition perio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Y09/10/1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ises penalty threshold from 25% - 3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set of requirements for FY09, FY10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sible compliance issue beginning in September 2014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Y 2011 CDR –  receipt of third 3-Year CD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s availability of “disbursement relief” from 10 to 15%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fective 10/01/1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035A-E778-4C31-A117-934193F442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2 to 3-Year CDR (a scenario)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119240" y="1663560"/>
            <a:ext cx="685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119240" y="2349360"/>
            <a:ext cx="685800" cy="3812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109960" y="158760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ator = # of borrowers from the     denominator who default within a 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097000" y="2349360"/>
            <a:ext cx="51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minator = # of borrowers who enter                  repayment within a 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61960" y="5321160"/>
            <a:ext cx="152388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87520" y="3233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210280" y="3263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5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= .071 or </a:t>
            </a:r>
            <a:r>
              <a:rPr b="1" lang="en-US" sz="2400" spc="-1" strike="noStrike">
                <a:solidFill>
                  <a:srgbClr val="009973"/>
                </a:solidFill>
                <a:latin typeface="Times New Roman"/>
              </a:rPr>
              <a:t>7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268960" y="463536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0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= .121 or </a:t>
            </a:r>
            <a:r>
              <a:rPr b="1" lang="en-US" sz="2400" spc="-1" strike="noStrike">
                <a:solidFill>
                  <a:srgbClr val="009973"/>
                </a:solidFill>
                <a:latin typeface="Times New Roman"/>
              </a:rPr>
              <a:t>12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61960" y="3568680"/>
            <a:ext cx="15238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085840" y="3568680"/>
            <a:ext cx="152424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61960" y="4940280"/>
            <a:ext cx="15238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2085840" y="4940280"/>
            <a:ext cx="146052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3533760" y="4940280"/>
            <a:ext cx="146052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60520" y="3946680"/>
            <a:ext cx="152388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63400" y="460224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408400" y="46022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840120" y="46022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209680" y="3200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Institutional CDR Calculations By CDR Year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aining Publications of 2-year CD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D26B-87CD-43B8-B5DC-4A5FEC17BA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Table 4" descr=""/>
          <p:cNvPicPr/>
          <p:nvPr/>
        </p:nvPicPr>
        <p:blipFill>
          <a:blip r:embed="rId1"/>
          <a:stretch/>
        </p:blipFill>
        <p:spPr>
          <a:xfrm>
            <a:off x="615960" y="2517840"/>
            <a:ext cx="82231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2692-817A-4D09-88D7-E61D0AFFA3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Table 2" descr=""/>
          <p:cNvPicPr/>
          <p:nvPr/>
        </p:nvPicPr>
        <p:blipFill>
          <a:blip r:embed="rId1"/>
          <a:stretch/>
        </p:blipFill>
        <p:spPr>
          <a:xfrm>
            <a:off x="841320" y="1974960"/>
            <a:ext cx="7802640" cy="41209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68580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Institutional CDR Calculations By CD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066680" y="1143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s of 3-year 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17E4-180F-4770-86D8-CBA7117C80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-Year CDR Corrective Ac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86832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lvl="1" marL="393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1800" indent="-181800">
              <a:spcBef>
                <a:spcPts val="176"/>
              </a:spcBef>
              <a:spcAft>
                <a:spcPts val="1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ear at 30% or m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-1512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ault prevention plan and task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-1512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mit plan to FSA for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81800" indent="-181800">
              <a:spcBef>
                <a:spcPts val="176"/>
              </a:spcBef>
              <a:spcAft>
                <a:spcPts val="1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cutive year at 30% or m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-181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/revise default prevention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-181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mit revised plan to F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-181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SA may require additional steps to promote student loan repayment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800" indent="-181800">
              <a:spcBef>
                <a:spcPts val="176"/>
              </a:spcBef>
              <a:spcAft>
                <a:spcPts val="1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ecutive year at 30% or m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-1512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s of eligibility: Pell, ACG/SMART, FFEL/D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-1512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 has appeal righ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8180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8180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900" spc="-1" strike="noStrike">
                <a:solidFill>
                  <a:srgbClr val="cc5407"/>
                </a:solidFill>
                <a:latin typeface="Verdana"/>
              </a:rPr>
              <a:t>Trial” 3-Year Rates Released</a:t>
            </a:r>
            <a:endParaRPr b="1" lang="en-US" sz="39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E500-D7FE-43B8-98A5-0F85FCA324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875160" y="144900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Calibri"/>
                <a:hlinkClick r:id="rId1"/>
              </a:rPr>
              <a:t>http://federalstudentaid.ed.gov/datacenter/cohor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rcRect l="0" t="17190" r="18359" b="22874"/>
          <a:stretch/>
        </p:blipFill>
        <p:spPr>
          <a:xfrm>
            <a:off x="1359000" y="2239920"/>
            <a:ext cx="6527880" cy="3594240"/>
          </a:xfrm>
          <a:prstGeom prst="rect">
            <a:avLst/>
          </a:prstGeom>
          <a:ln w="0">
            <a:noFill/>
          </a:ln>
        </p:spPr>
      </p:pic>
      <p:sp>
        <p:nvSpPr>
          <p:cNvPr id="216" name="Oval 7"/>
          <p:cNvSpPr/>
          <p:nvPr/>
        </p:nvSpPr>
        <p:spPr>
          <a:xfrm>
            <a:off x="1523880" y="4854600"/>
            <a:ext cx="2057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8B0E-60E7-46D9-A329-7D2D6F0BE4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552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Sessions Related to CD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34800" y="17982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ssion 15                          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70c0"/>
                </a:solidFill>
                <a:latin typeface="Verdana"/>
              </a:rPr>
              <a:t>Using the eCDR Appeal System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ay #2, Day #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ssion 18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70c0"/>
                </a:solidFill>
                <a:latin typeface="Verdana"/>
              </a:rPr>
              <a:t>Cohort Default Ra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ay #1, Day #2, Day #3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44956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e agenda for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B088-7DF4-4FC9-ACDB-11928E03A1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ction 3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88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ault Prevention Strateg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FFFF-E2D6-4F8D-9F27-AE42E0C5E2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5742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y Schools Should Participate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hough our servicers work diligently to encourage repayment, schools can play a critical role and their contribution will yield improve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your motivation to help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 loan program integr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wer default dollars/taxpayer saving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 your school’s default rat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ve students from the consequences of defaul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0BE-A159-40CD-9E65-6011559E0C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 This Session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tion 4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Engagement in Defaul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Prevention – School Pan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yahoga Community College     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Working With At-Risk Borrowers in Developmental Studies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higan State University                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Working With At-Risk Borrowers on Academic Prob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tchell’s Hair Styling Academy    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Working With At-Risk Borrowers in Repa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A4ED-EDC8-4C50-8AC9-E63DAAFE85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8028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-Based Default Prevention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 a Default Prevention Tea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or adopt a default prevention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traditional financial aid office-based default preven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non-traditional student success-based default preven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t option is for schools to use a combination of these two approa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Default Prevention </a:t>
            </a:r>
            <a:r>
              <a:rPr b="1" lang="en-US" sz="3800" spc="-1" strike="noStrike">
                <a:solidFill>
                  <a:srgbClr val="0099cc"/>
                </a:solidFill>
                <a:latin typeface="Verdana"/>
              </a:rPr>
              <a:t>Plan</a:t>
            </a: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9080" y="137160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 is achieved when solid pla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are developed and exec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lan pulls together peopl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sources toward a common 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 Default Management sample plan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r Colleague Letter GEN-05-1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issued September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lan should not remain static, s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se and adjust the plan as needed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ize you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680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680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C7C9-25EC-4B8A-9BAA-7C333C2C80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Default Prevention </a:t>
            </a:r>
            <a:r>
              <a:rPr b="1" lang="en-US" sz="3800" spc="-1" strike="noStrike">
                <a:solidFill>
                  <a:srgbClr val="0099cc"/>
                </a:solidFill>
                <a:latin typeface="Verdana"/>
              </a:rPr>
              <a:t>Team</a:t>
            </a: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9080" y="126504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members should include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ior school offi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 from all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ly scheduled meet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genda/minutes, discussion of agreed upon assign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about default and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 progress and adjust the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ebrate and promote your succ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779F-7049-4CBC-8926-AE33A975D0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DD36-C4FD-4B47-8FAE-E96D28F1FF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aditional” Approach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involves the financial aid off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is on helping borrowers to develop a healthy relationship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 their lo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includ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loan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literacy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ing enrollment status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aging at-risk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1B54-105B-4B72-B89D-9A07F95B91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’s Entrance/Exit Counsel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600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25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25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2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74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15" descr="homepage.gif"/>
          <p:cNvPicPr/>
          <p:nvPr/>
        </p:nvPicPr>
        <p:blipFill>
          <a:blip r:embed="rId1"/>
          <a:srcRect l="1271" t="1284" r="0" b="2562"/>
          <a:stretch/>
        </p:blipFill>
        <p:spPr>
          <a:xfrm>
            <a:off x="609480" y="1676520"/>
            <a:ext cx="38545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809880" cy="28702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44" name="Rectangle 9"/>
          <p:cNvSpPr/>
          <p:nvPr/>
        </p:nvSpPr>
        <p:spPr>
          <a:xfrm>
            <a:off x="4572000" y="1752480"/>
            <a:ext cx="4572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ntrance Couns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ea typeface="Verdana"/>
                <a:hlinkClick r:id="rId3"/>
              </a:rPr>
              <a:t>www.StudentLoans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457200" y="5045040"/>
            <a:ext cx="4572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xit Counse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ea typeface="Verdana"/>
                <a:hlinkClick r:id="rId4"/>
              </a:rPr>
              <a:t>www.NSLDS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ight Arrow 11"/>
          <p:cNvSpPr/>
          <p:nvPr/>
        </p:nvSpPr>
        <p:spPr>
          <a:xfrm>
            <a:off x="3809880" y="51814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70c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ight Arrow 12"/>
          <p:cNvSpPr/>
          <p:nvPr/>
        </p:nvSpPr>
        <p:spPr>
          <a:xfrm rot="10800000">
            <a:off x="4572000" y="25142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70c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7C9E-072A-4932-BD2A-494D85289DB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trance and Exit Counseling (Session #19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Offered: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1                                      </a:t>
            </a:r>
            <a:br>
              <a:rPr sz="3400"/>
            </a:b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2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veiling FSA’s new Entrance and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it Counseling websi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44956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e agenda for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D85-FFEB-4579-B843-5EFD6BB304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For Student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54" name="Picture 4" descr="nslds paint"/>
          <p:cNvPicPr/>
          <p:nvPr/>
        </p:nvPicPr>
        <p:blipFill>
          <a:blip r:embed="rId1"/>
          <a:srcRect l="0" t="20741" r="13334" b="5183"/>
          <a:stretch/>
        </p:blipFill>
        <p:spPr>
          <a:xfrm>
            <a:off x="768240" y="1371600"/>
            <a:ext cx="69343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4D03-74DE-4CE8-B31E-0C5C20A2BB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 Literac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lation exists between increased financial literacy and decreased defa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can play an important ro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you make it part of your curricul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schools offer literacy classes for cre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many free resource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, non-profits, lenders, guaran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online financial literacy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you enhance what you are doing n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60F1-CF2A-4A40-8E8D-ECBA9784166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Financial Literacy Info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549360" y="1579680"/>
            <a:ext cx="8043840" cy="4101840"/>
            <a:chOff x="549360" y="1579680"/>
            <a:chExt cx="8043840" cy="4101840"/>
          </a:xfrm>
        </p:grpSpPr>
        <p:pic>
          <p:nvPicPr>
            <p:cNvPr id="261" name="Picture 4" descr="mymoneylogo"/>
            <p:cNvPicPr/>
            <p:nvPr/>
          </p:nvPicPr>
          <p:blipFill>
            <a:blip r:embed="rId1"/>
            <a:stretch/>
          </p:blipFill>
          <p:spPr>
            <a:xfrm>
              <a:off x="4876920" y="3332160"/>
              <a:ext cx="3657600" cy="174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Group 5"/>
            <p:cNvGrpSpPr/>
            <p:nvPr/>
          </p:nvGrpSpPr>
          <p:grpSpPr>
            <a:xfrm>
              <a:off x="549360" y="1884240"/>
              <a:ext cx="8043840" cy="914040"/>
              <a:chOff x="549360" y="1884240"/>
              <a:chExt cx="8043840" cy="914040"/>
            </a:xfrm>
          </p:grpSpPr>
          <p:pic>
            <p:nvPicPr>
              <p:cNvPr id="263" name="Picture 6" descr="FDIC Home - Federal Deposit Insurance Corporation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603360" y="1884240"/>
                <a:ext cx="2765520" cy="53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Rectangle 7"/>
              <p:cNvSpPr/>
              <p:nvPr/>
            </p:nvSpPr>
            <p:spPr>
              <a:xfrm>
                <a:off x="549360" y="2432880"/>
                <a:ext cx="80438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3366"/>
                    </a:solidFill>
                    <a:latin typeface="Times New Roman"/>
                  </a:rPr>
                  <a:t>Money Smart</a:t>
                </a: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 - A Financial Education Progra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5" name="Picture 8" descr="ConGov(USA)"/>
            <p:cNvPicPr/>
            <p:nvPr/>
          </p:nvPicPr>
          <p:blipFill>
            <a:blip r:embed="rId4"/>
            <a:stretch/>
          </p:blipFill>
          <p:spPr>
            <a:xfrm>
              <a:off x="1981080" y="4856040"/>
              <a:ext cx="525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1" descr="leftTop_fed_on"/>
            <p:cNvPicPr/>
            <p:nvPr/>
          </p:nvPicPr>
          <p:blipFill>
            <a:blip r:embed="rId5"/>
            <a:stretch/>
          </p:blipFill>
          <p:spPr>
            <a:xfrm>
              <a:off x="5639040" y="1579680"/>
              <a:ext cx="142848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7" name="Group 13"/>
            <p:cNvGrpSpPr/>
            <p:nvPr/>
          </p:nvGrpSpPr>
          <p:grpSpPr>
            <a:xfrm>
              <a:off x="685800" y="3179880"/>
              <a:ext cx="3429000" cy="1523520"/>
              <a:chOff x="685800" y="3179880"/>
              <a:chExt cx="3429000" cy="1523520"/>
            </a:xfrm>
          </p:grpSpPr>
          <p:grpSp>
            <p:nvGrpSpPr>
              <p:cNvPr id="268" name="Group 14"/>
              <p:cNvGrpSpPr/>
              <p:nvPr/>
            </p:nvGrpSpPr>
            <p:grpSpPr>
              <a:xfrm>
                <a:off x="685800" y="3179880"/>
                <a:ext cx="3429000" cy="1523520"/>
                <a:chOff x="685800" y="3179880"/>
                <a:chExt cx="3429000" cy="1523520"/>
              </a:xfrm>
            </p:grpSpPr>
            <p:sp>
              <p:nvSpPr>
                <p:cNvPr id="269" name="Rectangle 15"/>
                <p:cNvSpPr/>
                <p:nvPr/>
              </p:nvSpPr>
              <p:spPr>
                <a:xfrm>
                  <a:off x="685800" y="3179880"/>
                  <a:ext cx="3429000" cy="1523520"/>
                </a:xfrm>
                <a:prstGeom prst="rect">
                  <a:avLst/>
                </a:prstGeom>
                <a:solidFill>
                  <a:srgbClr val="2f65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Rectangle 16"/>
                <p:cNvSpPr/>
                <p:nvPr/>
              </p:nvSpPr>
              <p:spPr>
                <a:xfrm>
                  <a:off x="685800" y="3179880"/>
                  <a:ext cx="3429000" cy="1523520"/>
                </a:xfrm>
                <a:prstGeom prst="rect">
                  <a:avLst/>
                </a:prstGeom>
                <a:solidFill>
                  <a:srgbClr val="2f65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333333"/>
                      </a:solidFill>
                      <a:latin typeface="Times New Roman"/>
                    </a:rPr>
                    <a:t>  </a:t>
                  </a:r>
                  <a:r>
                    <a:rPr b="0" lang="en-US" sz="7000" spc="-1" strike="noStrike">
                      <a:solidFill>
                        <a:srgbClr val="333333"/>
                      </a:solidFill>
                      <a:latin typeface="Times New Roman"/>
                    </a:rPr>
                    <a:t> </a:t>
                  </a:r>
                  <a:r>
                    <a:rPr b="0" lang="en-US" sz="900" spc="-1" strike="noStrike">
                      <a:solidFill>
                        <a:srgbClr val="333333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71" name="Picture 17" descr="U.S. Department of the Treasury Logo"/>
              <p:cNvPicPr/>
              <p:nvPr/>
            </p:nvPicPr>
            <p:blipFill>
              <a:blip r:embed="rId6"/>
              <a:stretch/>
            </p:blipFill>
            <p:spPr>
              <a:xfrm>
                <a:off x="1143000" y="3332160"/>
                <a:ext cx="2514600" cy="11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2" name="Text Box 12"/>
          <p:cNvSpPr/>
          <p:nvPr/>
        </p:nvSpPr>
        <p:spPr>
          <a:xfrm>
            <a:off x="7162920" y="153036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Gothic"/>
              </a:rPr>
              <a:t>U.S. Federal Reser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68F1-084D-41AE-8B85-B681C23860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tecting the Grace Perio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Of the borrowers who defaulted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ost d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 receive their full 6-month grac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to late or inaccurat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fication by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Schools must learn when a borrower leaves campus and promptly report this to NS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Why is this so importa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ACAE-2237-4778-91E4-04E6219404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ction 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Cohort Default Rate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79C7-907D-43AF-A71B-3E2B6408B23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rvicer Repayment Counsel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s a relationship with the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s the correct repay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es the appropriate repayment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motes self-service through the we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s and enhances borrowe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es consolidation op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11040" y="15732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ring the Grace Period a Loan Servicer Performs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528C-18D8-44A4-95AF-D904D3D2FA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Essentials of Federal Student Loan Servicing (Session #3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Offered: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1                                      </a:t>
            </a:r>
            <a:br>
              <a:rPr sz="3400"/>
            </a:b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2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how federal student loan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ing can help you reduce lo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44956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e agenda for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4546-3874-48AC-BF11-2940C9C33B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Loan Servicer Meet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e session with each Service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56 – Day #1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A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57 – Day #2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HEA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58 – Day #2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Great Lake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59 – Day #3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Nelne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60 – Day #3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Sallie Ma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44956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e agenda for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AD6E-6857-48D5-89C8-9E137DD907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ing Delinquent Borro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examining large populations of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aulted borrowers FSA determine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at the majority had </a:t>
            </a:r>
            <a:r>
              <a:rPr b="1" i="1" lang="en-US" sz="3000" spc="-1" strike="noStrike">
                <a:solidFill>
                  <a:srgbClr val="0099cc"/>
                </a:solidFill>
                <a:latin typeface="Verdana"/>
              </a:rPr>
              <a:t>contact issu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 had bad telephone numbers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st defaulters were not successfully contacted by phone during the 360-day collection effort leading up to defaul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CB99-4A52-46C4-BDE5-55BF6910AE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sure Borrowers Can Be Fou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468080"/>
            <a:ext cx="807696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should create a separate form to collect additional borrower contact info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supplement what is obtained via the MP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 info during admissions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 borrowers that you may verify this info (to improve accuracy) and spot check if time per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99cc"/>
                </a:solidFill>
                <a:uFillTx/>
                <a:latin typeface="Verdana"/>
              </a:rPr>
              <a:t>Important Note:</a:t>
            </a:r>
            <a:r>
              <a:rPr b="1" lang="en-US" sz="2200" spc="-1" strike="noStrike">
                <a:solidFill>
                  <a:srgbClr val="0099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though you may collect thi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, you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t no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a borrower’s receipt of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id contingent upon providing this informat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7883-F5E7-469A-95A4-1247F04B3E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579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 Contact She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34440" y="138708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uld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borrower’s e-mail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 information for siblings, parents, grandparents, etc., including e-mail and cell phone numbe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borrower for the one phone number through which he/she c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 reac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ll social networking sites where borrower has an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2CB6-7AE0-4AD6-BF0B-B5234643873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734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/Low-Cost Methods For Locating Delinquent Borro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85220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e-mail addresses (fre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kins Loan information (fre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rar and Alumni Offices (fre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 cell phone numbers (fre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Networking:                        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</a:rPr>
              <a:t>Facebo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free)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</a:rPr>
              <a:t>MySpa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fre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-mining/skip-tracing services (c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D244-8AD4-40A9-A06E-08C71F4E8C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ips For Succ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phone calls are most eff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 light touch – remember you are calling to help, not to col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 handwritten notes can be successfu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ters and e-mail may be used with varying degrees of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rs send many pieces of correspondence to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4931-A0D7-4781-ACFA-8588CFE3AB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 You Decide to Send a Lette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, get the borrower to open it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-address regular envelop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 stamp – not a postage 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colored envelopes or 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ize the letter – sign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cards can also be eff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correspondence should not loo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 a bil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2C75-AD3C-4608-AAA2-B52F2F1198D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Reports for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4173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Reports for Data Accu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Entered Repayment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Repayment Info Loan Detai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Cohort Default Rate Histo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ollment Reporting 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Reports for Default Preven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Entered Repayment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rower Default Summa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t Counsel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nquent Borrower Report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(New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AB00-D586-4FBF-819A-683CA9E9DA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969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nderstanding Cohort Default Rates (CDRs) – A Quick Review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85868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aft and Official CD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umerator and Denomin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mulas used for CDR calc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DRs – a historical perspecti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1F4-28EC-4718-B42D-C52D93CC43D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563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n-Traditional” Approach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is on helping borrowers to develop a healthy relationship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 their education (student success solutions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program completion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ing program completion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ing non-completers find a jo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students become successful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verage efforts to increase retention, graduation, an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B383-0CE5-48E4-B2F3-2FC820F4F3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Do Not Comple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torically, the majority of borrowers who default withdrew from school without completing their academic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different measures of success exis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n important indicator that students who fail to complete have a higher risk of loan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E741-D91D-4EFB-B2F4-88CAC1EEC8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Do Not Comple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d not achieve academic credent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have reduced earning power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benefit from school job 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one or more loans to re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receive exit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respond to communication attempts by their loan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lose part or all of their grace period if they fail to notify the financial aid office and NSLDS is not updated timely and accurat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9C9B-977C-4A8B-BA3F-F20F2E2FB1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haracteristics: Students At Risk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84200" y="15238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es/ne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hip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&amp; mental health 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-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r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tion difficul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4510080" y="1562040"/>
            <a:ext cx="48006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study ha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-prepared,    basic skil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nguage b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l unwelcome, no “campus conne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generation: No      role models or famil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413160" y="5502240"/>
            <a:ext cx="5334120" cy="7038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  <a:ea typeface="Verdana"/>
              </a:rPr>
              <a:t>Schools may have unique factors which must be identified and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BD2E-3063-41E1-B061-86FDBA6D5DF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59328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dentifying Students in Troubl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387080"/>
            <a:ext cx="8991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your school have an “early warning” syste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e mid-term grades which provide clues as to whether or not student will pers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erts from faculty members, student support staff: who has missed classes? failed tests? had adjustment challeng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allow academic or social problems to become default r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287A-3702-4E99-A42B-87706B44F3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ing Students in Troubl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h out immediat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elp them remain in schoo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f they’ve already left, help them to retur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ay involve help to overcome obstacles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f they will not return, help them to understand their repayment obligations – some think they don’t owe anything because they lef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earn what you can about their experiences and use this information to help other students stay in schoo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0CD7-8FB2-44A2-8AEF-A3FEC43FCF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ction 4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argeted School Eng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nel Discu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C237-4276-4366-98CA-57FC9C1E38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560" y="1236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engagement can help reduce risk 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stage of the borrowing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are my at-risk borrowe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ing to identify risk fa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should I intervene, and h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ight time and the right strateg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6FF3-9DE2-411B-83FF-3A0F6E4CF0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560" y="1236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ing At-Risk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, using available data, which students have defaulted in the p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what point are you most likely to be able to conta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nd influen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particular borrowe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choo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rac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repayme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12C0-05DC-4ED2-8F6C-C20BA82936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669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xample: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While In </a:t>
            </a:r>
            <a:r>
              <a:rPr b="1" lang="en-US" sz="3600" spc="-1" strike="noStrike">
                <a:solidFill>
                  <a:srgbClr val="0099cc"/>
                </a:solidFill>
                <a:latin typeface="Verdana"/>
              </a:rPr>
              <a:t>Schoo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get at-risk borrowers with early/extra exit loan counseling, financial literacy training, and collect additional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at-risk borrower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Students on academic prob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Students who express intention to withdr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Students currently enrolled in programs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ducing a disproportionate number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8319-CC2F-4189-9DB2-D312C0557F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s Are Released Twice A Yea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1231920" y="1736640"/>
            <a:ext cx="4114800" cy="3476160"/>
            <a:chOff x="1231920" y="1736640"/>
            <a:chExt cx="4114800" cy="3476160"/>
          </a:xfrm>
        </p:grpSpPr>
        <p:sp>
          <p:nvSpPr>
            <p:cNvPr id="111" name="Rectangle 6"/>
            <p:cNvSpPr/>
            <p:nvPr/>
          </p:nvSpPr>
          <p:spPr>
            <a:xfrm>
              <a:off x="1231920" y="1949040"/>
              <a:ext cx="4114800" cy="32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February </a:t>
              </a:r>
              <a:r>
                <a:rPr b="0" lang="en-US" sz="4000" spc="-1" strike="noStrike">
                  <a:solidFill>
                    <a:srgbClr val="0070c0"/>
                  </a:solidFill>
                  <a:latin typeface="Times New Roman"/>
                </a:rPr>
                <a:t>(DRAFT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ot publi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o sanc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o benef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Straight Connector 7"/>
            <p:cNvSpPr/>
            <p:nvPr/>
          </p:nvSpPr>
          <p:spPr>
            <a:xfrm>
              <a:off x="3170160" y="1736640"/>
              <a:ext cx="2133720" cy="0"/>
            </a:xfrm>
            <a:prstGeom prst="line">
              <a:avLst/>
            </a:prstGeom>
            <a:ln w="38160">
              <a:solidFill>
                <a:srgbClr val="329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4795920" y="1981080"/>
            <a:ext cx="41749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ptember 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(OFFICIAL)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ctions a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nefits a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9"/>
          <p:cNvSpPr/>
          <p:nvPr/>
        </p:nvSpPr>
        <p:spPr>
          <a:xfrm>
            <a:off x="4221000" y="1752480"/>
            <a:ext cx="0" cy="3810240"/>
          </a:xfrm>
          <a:prstGeom prst="line">
            <a:avLst/>
          </a:prstGeom>
          <a:ln w="38160">
            <a:solidFill>
              <a:srgbClr val="329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69F6-D9DE-4E4E-B961-F2D9FC3348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669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ample: While In </a:t>
            </a:r>
            <a:r>
              <a:rPr b="1" lang="en-US" sz="3600" spc="-1" strike="noStrike">
                <a:solidFill>
                  <a:srgbClr val="0099cc"/>
                </a:solidFill>
                <a:latin typeface="Verdana"/>
              </a:rPr>
              <a:t>Gra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s to tak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ate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rollment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pare borrower for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employment counseling and search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b placement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BA51-0CDE-4A45-871A-276015A269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669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ample: While In </a:t>
            </a:r>
            <a:r>
              <a:rPr b="1" lang="en-US" sz="3600" spc="-1" strike="noStrike">
                <a:solidFill>
                  <a:srgbClr val="0099cc"/>
                </a:solidFill>
                <a:latin typeface="Verdana"/>
              </a:rPr>
              <a:t>Re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20760" y="178236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h out to at-risk borrowers and facilita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itical contact with the loan servicer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in repayment: Target borrowers who did not 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in repayment: Target borrowers who are 240+ days delinqu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2770-9721-4F1E-9C7E-D4BA54996B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560" y="502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nelis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gela John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cutive Director Enrollment Operations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Financial Assist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yahoga Community Colle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angela.johnson@tri-c.e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16-987-42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pic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ing With At-Risk Borrowers Enroll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Developmental Studies Progra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C869-F7F9-490F-8C72-ACAC5EA186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502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nelis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Linda Sig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ociate Director of Financial A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higan State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sigh@msu.e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17-432-649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pic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ing With At-Risk Borrowers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cademic Prob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842B-D06E-4732-8E9B-6AA580BFA7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502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nelis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Ricky Mitchel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ce President and Director of Financial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tchell’s Hair Styling Acade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ricky@mitchells.e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19-851-096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pic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ing With At-Risk Borrowers in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3D8C-4F5D-469E-9BAB-1E551D3AB2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scuss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9940-C3D6-4F2D-BEFC-97776AC8D4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fault Prevention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46340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Mark Walsh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16-268-0412  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mark.walsh@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John Pierson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4-974-9315  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john.pierson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Operations Performance Management Service Grou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CDR calculations and data challenge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in Line: 202-377-4258        Hotline: 202-377-4259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fsa.schools.default.management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ifap.ed.gov/DefaultManagement/DefaultManagement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AB8E-6F56-4C66-84AB-E111C50E0F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 Release Dat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Y09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Dra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hort Defaul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be released on February 14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Y09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Offici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hort Default Ra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be released on September 12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F6D-0F30-4C3D-806D-D5A7C9FC41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s: The Formul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traight Connector 6"/>
          <p:cNvSpPr/>
          <p:nvPr/>
        </p:nvSpPr>
        <p:spPr>
          <a:xfrm>
            <a:off x="990720" y="3916440"/>
            <a:ext cx="2819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066680" y="25909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  <a:ea typeface="Verdana"/>
              </a:rPr>
              <a:t>Num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1036800" y="4525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  <a:ea typeface="Verdana"/>
              </a:rPr>
              <a:t>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419720" y="17524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orrowers who entered repayment in one year, and defaulted in that year or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4495680" y="4038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orrowers who entered repayment during the one-year cohor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87FA-AEB9-46F4-9ADB-E8F7F02C7C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s: Applying the Formul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Average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r more borrowers in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 than 30 borrowers in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years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Suggestion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tend Session #18 where CDRs will b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ussed in greater detail.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1-12T14:24:55Z</dcterms:modified>
  <cp:revision>1058</cp:revision>
  <dc:subject/>
  <dc:title>PowerPoint Presentation</dc:title>
</cp:coreProperties>
</file>