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6909-25A1-496B-A116-B74297C7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BFB9-56A7-4FE9-A7E6-EEEADBE4D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2D3A-3D1C-4EC2-B007-7864C0604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D457-35DD-47D0-B0C7-1F5C97B85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828800" y="533520"/>
            <a:ext cx="3335400" cy="2503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B2C0-8901-474B-BE53-1F0C968A2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F90-EFBE-408A-9D25-28E108AC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828800" y="533520"/>
            <a:ext cx="3335400" cy="2503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13A-B26E-4D61-B6C5-7AAFE68DE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C47E-9B06-4135-A444-11D61947E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300A-28E7-40E9-9409-32BF0C93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752-6ECB-4ECF-929D-64C442A53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966-A54D-49E9-AFF7-976929EBD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3F9-6A38-47CA-B4B3-24BAB062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9F36-C924-44CB-856C-4C0CEB50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D407-85D3-4304-9FD5-7EFE39E7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95C6-02B6-49A4-B8B3-5149A1F3D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BD4-29DA-4D0B-A302-62EE8DA4A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96D-4941-40E3-BDC7-A37C935CE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CDE-4FE6-4E47-AEBA-07BE28202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6E2-AC90-4DE8-8339-9511BFE8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87C2-1177-4B8F-98B5-6A746FF4A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0279-C9D8-4BC0-A55E-8AE6BA16D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C2C-1C02-4420-BDD0-223571F45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967-4E13-4F62-9BFD-14CE090D6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D0A9-6D8F-4E8C-B559-87CC5EDA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6C81-5B23-4C2D-BA14-D617696E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754A-815F-4574-9640-CD587067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F5B2-9481-4040-9180-B4DAE7399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2C48-5035-4DB4-9841-611786AAD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5BD6-B96A-4B19-823B-FC660ABF5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BD21-77AA-494A-A6F6-DC57EF00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25C-E90C-4E9C-951B-6D7C9BECF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E6F7-051A-4BD4-A97B-CEA510920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9554-8D0E-4D3F-ACA7-36F284092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D10-806C-4A9E-A60F-70311E37A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3315-A43B-4485-934D-F4C6105C1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A0B6-5B46-4708-BDB9-BFBD54A3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847C-711F-4483-8797-5C0082F4B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7BB-122C-4A35-9C72-11BAF6254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6004-0EFB-4425-91E4-494A3C695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9EE8-A8D2-4EE5-B3FD-FFB0E0473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675-A76D-4E95-B182-727C34E36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DB4A-99AA-4694-9E8E-7E667CE54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873-7DFA-4FDD-9D27-C842E4923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E874-123C-4DBF-A867-0B0B6986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92C8-0EAC-47BF-A649-CE2A983E1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63C5-F46D-4390-97D5-BABD07C4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E4C-602F-4DFD-8926-E71BA3C1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7824-1C69-4069-BD81-E27B012D6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F56-B29A-42EE-9537-394450C9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F80-86D5-4B76-BA23-E69849DF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051C-186B-48BE-A0CD-06A55D9BE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A0E9-A13D-4F45-81BB-93FC8AA8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EEC-58D7-4DDF-940E-CF1800D6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B057-445B-4C0D-A712-260258C65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08F-9107-43F8-86E4-DD5739765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3B8B-C930-4475-8B5D-76944796E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293-94FC-4713-83A1-147639EE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B6E9-5851-4493-A5B2-D3FF91E1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BF50-7203-4956-B3CC-391964146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0D59-93C6-4271-BD9D-7133DA7F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03A-63B9-426A-AF5C-8CB8CB227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DCA0-3317-4B3F-A841-C7C683456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EC59-083A-4AED-B6B6-96A3AA7B9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5E9B-5ADB-4B8C-8824-7283DA2F8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CF46-BFC0-4D68-BA40-D32C1B509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274CF-7F50-432E-8188-24DA205F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8250A-F07A-4D42-BA6E-F8C8AC63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90046-7B11-490D-B401-461FAB2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E216A-0BAA-426C-B171-1D18B53B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4BC9-2214-47A4-B6D4-DA0A6DD5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7C510-E17A-47A9-B1A7-8F7B1CE6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F9310-FE87-4EBB-BA24-ABA081B1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DE74-58F5-4790-A1F2-7105B2163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E7FF0-AD51-47F3-B235-C776607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E3A3E-9CDB-49C2-836A-CD8B1C85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5B3F1-D568-4325-9928-E5686FE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0A29D-565E-4EE1-ACC0-C3C37458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D3A56-F020-470F-AAB2-F6200D35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A720-B2BC-4935-9A2E-A05DFDCF9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D367-2821-456B-8B7C-C27C5AA47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C7C4-3E62-453B-B842-6444336B2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8108-0ED5-4E5D-BC30-FEDB75040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3FEF-E425-45FB-B007-8307FE0D2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D090-9D19-4543-A9F3-08C6BCA9C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BA50-D149-493C-9B1F-FD0C618E1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16F0-EA70-4C03-A820-457582B98A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98F8-6CCF-4555-AC24-A73AD62594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federalstudentaid.ed.gov/datacenter/cohort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studentloans.gov/" TargetMode="External"/><Relationship Id="rId4" Type="http://schemas.openxmlformats.org/officeDocument/2006/relationships/hyperlink" Target="http://www.nslds.ed.gov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fdic.gov/index.html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mailto:angela.johnson@tri-c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mailto:sigh@msu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mailto:ricky@mitchells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5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s’ Best Practices in Default and Delinquency Manage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28600" y="2509920"/>
            <a:ext cx="8686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Presente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John Pierson, U.S.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Mark Walsh, U.S.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chool Paneli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Angela Johnson, Cuyahoga Community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da Sigh, Michigan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icky Mitchell, Mitchell’s Hair Styling Acade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410080" y="464832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484D-98AF-4C7C-A2B9-42804C1CC5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hart 2" descr=""/>
          <p:cNvPicPr/>
          <p:nvPr/>
        </p:nvPicPr>
        <p:blipFill>
          <a:blip r:embed="rId1"/>
          <a:stretch/>
        </p:blipFill>
        <p:spPr>
          <a:xfrm>
            <a:off x="-6480" y="0"/>
            <a:ext cx="91742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1031-0E43-480B-BCBD-EDD9E4515E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y Discuss Defaul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ventio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Changes, Risks, and Challen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5F22-CBC1-4D27-A771-CA5BCCBAF7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974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fault Prevention                </a:t>
            </a: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Why is it Important?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81260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cause defaulted loans have significa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equences fo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xpay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rrow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58C2-8C61-48F7-9213-E8744ABC26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7408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nsequences of Default</a:t>
            </a:r>
            <a:br>
              <a:rPr sz="3600"/>
            </a:b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For the Taxpayer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ault impacts the integrity of the student loan pro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loss of taxpayer dollars currently exceeds one billion dollars per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vering defaulted loans is costly to the Department of Education, and therefore to the taxpay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098A-00AE-45B0-8F24-D39F2C11B3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24280" y="643572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DL/FFEL portfolio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04920" y="100476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– Dollars in Default 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2286000"/>
          <a:ext cx="6858000" cy="25146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107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3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4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7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</a:tr>
              <a:tr h="1107000"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647 M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80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l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15 M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183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ion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465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533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Bill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Up Arrow 8"/>
          <p:cNvSpPr/>
          <p:nvPr/>
        </p:nvSpPr>
        <p:spPr>
          <a:xfrm>
            <a:off x="396252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Up Arrow 9"/>
          <p:cNvSpPr/>
          <p:nvPr/>
        </p:nvSpPr>
        <p:spPr>
          <a:xfrm>
            <a:off x="6172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Up Arrow 11"/>
          <p:cNvSpPr/>
          <p:nvPr/>
        </p:nvSpPr>
        <p:spPr>
          <a:xfrm>
            <a:off x="7315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Up Arrow 12"/>
          <p:cNvSpPr/>
          <p:nvPr/>
        </p:nvSpPr>
        <p:spPr>
          <a:xfrm>
            <a:off x="5029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Up Arrow 14"/>
          <p:cNvSpPr/>
          <p:nvPr/>
        </p:nvSpPr>
        <p:spPr>
          <a:xfrm>
            <a:off x="2743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Up Arrow 15"/>
          <p:cNvSpPr/>
          <p:nvPr/>
        </p:nvSpPr>
        <p:spPr>
          <a:xfrm>
            <a:off x="1600200" y="408456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6E87-2687-472D-963D-2D22510F35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579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Dollars in Defaul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of Dollars in Defaul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not currently used to measure schools, the dollars in default impact the integrity of the student loan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member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Schools +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Volume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Dollars 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0AC6-21C5-49A5-ABCA-B1ACDC8663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7408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nsequences of Default</a:t>
            </a:r>
            <a:br>
              <a:rPr sz="3600"/>
            </a:b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For the Borrower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77300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edit report damage (7-year minimu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ge garnish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izure of federal and state tax refun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izure of portion of any federal pay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gal action in federal district cou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tle IV ineligib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724280" y="1774800"/>
            <a:ext cx="4191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lose state occupational licen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mortgage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have difficulty obtaining car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be unable to rent an apar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be turned down for jo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ion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AFBA-E70F-4207-BA6C-C26EFD1B32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724280" y="6435720"/>
            <a:ext cx="5486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DL/FFEL portfolio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304920" y="100476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ational – Borrowers in Defa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3000" y="2286000"/>
          <a:ext cx="6858000" cy="22399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107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3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4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5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7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      200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b6da"/>
                    </a:solidFill>
                  </a:tcPr>
                </a:tc>
              </a:tr>
              <a:tr h="709560"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,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1,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,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1,6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,8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Up Arrow 7"/>
          <p:cNvSpPr/>
          <p:nvPr/>
        </p:nvSpPr>
        <p:spPr>
          <a:xfrm>
            <a:off x="167652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Up Arrow 8"/>
          <p:cNvSpPr/>
          <p:nvPr/>
        </p:nvSpPr>
        <p:spPr>
          <a:xfrm>
            <a:off x="275904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Up Arrow 9"/>
          <p:cNvSpPr/>
          <p:nvPr/>
        </p:nvSpPr>
        <p:spPr>
          <a:xfrm>
            <a:off x="733104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Up Arrow 11"/>
          <p:cNvSpPr/>
          <p:nvPr/>
        </p:nvSpPr>
        <p:spPr>
          <a:xfrm>
            <a:off x="388620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Up Arrow 12"/>
          <p:cNvSpPr/>
          <p:nvPr/>
        </p:nvSpPr>
        <p:spPr>
          <a:xfrm>
            <a:off x="502920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Up Arrow 14"/>
          <p:cNvSpPr/>
          <p:nvPr/>
        </p:nvSpPr>
        <p:spPr>
          <a:xfrm>
            <a:off x="617220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DAC8-C16F-42AC-9387-04E7F3F48D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7408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onsequences of Default</a:t>
            </a:r>
            <a:br>
              <a:rPr sz="3600"/>
            </a:br>
            <a:r>
              <a:rPr b="1" i="1" lang="en-US" sz="3600" spc="-1" strike="noStrike">
                <a:solidFill>
                  <a:srgbClr val="0099cc"/>
                </a:solidFill>
                <a:latin typeface="Verdana"/>
              </a:rPr>
              <a:t>For the Schoo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DR is a measure of a school’s administrative capability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 CDRs 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gatively reflect on school quali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 in provisional cert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 in loss of Title IV eligi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1430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aten access to private loan fund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6880-C13A-4F43-B08E-57B8B3A40D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hanging Landscape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default is increasing for most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costs continue to r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tudents borrowing more mone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bination of Stafford and private loans equal greater debt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to CDR calculation accompanied by new sanctions and an enhanced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 to all-Direct Loan origination and new servicing part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CEE2-E6F2-42AE-B92E-7A8089AE2B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 This Sess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1: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ort Default Rate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2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y Discuss Default Prevention?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equ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nges, Risks, and Challe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3: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ault Prevention Strateg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tional: Financial Aid Office Cen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34596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-Traditional: A Student Success Focu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6FD-07E0-4825-8EDC-0617A0B2E0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 and the Econom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DR default data is retrospective, so the economic impact on borrower repayment will be seen in future CDR calc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s are having difficulty repay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unemployment and economic problems are occurring concurrent with the change from a 2-year to a 3-year CDR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chools may face compliance difficulties due to CDRs in coming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B25D-5AFA-4892-831C-EE8E8816EF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3-Year CDR Calculation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s the default tracking window from 2 years to 3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s a transition perio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Y09/10/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es penalty threshold from 25% - 3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set of requirements for FY09, FY10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sible compliance issue beginning in September 2014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Y 2011 CDR –  receipt of third 3-Year CD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availability of “disbursement relief” from 10 to 15%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fective 10/01/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9853-8C29-4694-A186-C3A7377B55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2 to 3-Year CDR (a scenario)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119240" y="1663560"/>
            <a:ext cx="685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119240" y="2349360"/>
            <a:ext cx="685800" cy="3812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109960" y="158760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ator = # of borrowers from the     denominator who default within a 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097000" y="2349360"/>
            <a:ext cx="51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minator = # of borrowers who enter                  repayment within a 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61960" y="5321160"/>
            <a:ext cx="152388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87520" y="3233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210280" y="3263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5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= .071 or </a:t>
            </a:r>
            <a:r>
              <a:rPr b="1" lang="en-US" sz="2400" spc="-1" strike="noStrike">
                <a:solidFill>
                  <a:srgbClr val="009973"/>
                </a:solidFill>
                <a:latin typeface="Times New Roman"/>
              </a:rPr>
              <a:t>7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268960" y="463536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= .121 or </a:t>
            </a:r>
            <a:r>
              <a:rPr b="1" lang="en-US" sz="2400" spc="-1" strike="noStrike">
                <a:solidFill>
                  <a:srgbClr val="009973"/>
                </a:solidFill>
                <a:latin typeface="Times New Roman"/>
              </a:rPr>
              <a:t>12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61960" y="3568680"/>
            <a:ext cx="15238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085840" y="3568680"/>
            <a:ext cx="152424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61960" y="4940280"/>
            <a:ext cx="152388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2085840" y="4940280"/>
            <a:ext cx="14605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3533760" y="4940280"/>
            <a:ext cx="14605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60520" y="3946680"/>
            <a:ext cx="152388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63400" y="460224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408400" y="46022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840120" y="46022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209680" y="3200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Institutional CDR Calculations By CDR Year</a:t>
            </a:r>
            <a:endParaRPr b="1" lang="en-US" sz="2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aining Publications of 2-year CD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90C3-2847-4D08-A5AE-3D55C78041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Table 4" descr=""/>
          <p:cNvPicPr/>
          <p:nvPr/>
        </p:nvPicPr>
        <p:blipFill>
          <a:blip r:embed="rId1"/>
          <a:stretch/>
        </p:blipFill>
        <p:spPr>
          <a:xfrm>
            <a:off x="615960" y="2517840"/>
            <a:ext cx="822312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59CE-1C31-4506-8FED-2E1E1FA304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Table 2" descr=""/>
          <p:cNvPicPr/>
          <p:nvPr/>
        </p:nvPicPr>
        <p:blipFill>
          <a:blip r:embed="rId1"/>
          <a:stretch/>
        </p:blipFill>
        <p:spPr>
          <a:xfrm>
            <a:off x="841320" y="1974960"/>
            <a:ext cx="7802640" cy="4120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68580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5407"/>
                </a:solidFill>
                <a:latin typeface="Verdana"/>
              </a:rPr>
              <a:t>Institutional CDR Calculations By CD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066680" y="1143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s of 3-year 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6DD-5A38-4662-B23A-7DC527BEAB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-Year CDR Corrective Ac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86832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lvl="1" marL="393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1800" indent="-181800">
              <a:spcBef>
                <a:spcPts val="176"/>
              </a:spcBef>
              <a:spcAft>
                <a:spcPts val="1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ear at 30% or m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ault prevention plan and task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mit plan to FSA for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81800" indent="-181800">
              <a:spcBef>
                <a:spcPts val="176"/>
              </a:spcBef>
              <a:spcAft>
                <a:spcPts val="1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cutive year at 30% or m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-181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/revise default prevention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-181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mit revised plan to F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-1818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SA may require additional steps to promote student loan repayment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800" indent="-181800">
              <a:spcBef>
                <a:spcPts val="176"/>
              </a:spcBef>
              <a:spcAft>
                <a:spcPts val="1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ecutive year at 30% or m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 of eligibility: Pell, ACG/SMART, FFEL/D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-1512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 has appeal righ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424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81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8180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1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93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900" spc="-1" strike="noStrike">
                <a:solidFill>
                  <a:srgbClr val="cc5407"/>
                </a:solidFill>
                <a:latin typeface="Verdana"/>
              </a:rPr>
              <a:t>Trial” 3-Year Rates Released</a:t>
            </a:r>
            <a:endParaRPr b="1" lang="en-US" sz="39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180D-508D-46EB-8A3E-D3C609B48B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875160" y="144900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Calibri"/>
                <a:hlinkClick r:id="rId1"/>
              </a:rPr>
              <a:t>http://federalstudentaid.ed.gov/datacenter/cohor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rcRect l="0" t="17190" r="18359" b="22874"/>
          <a:stretch/>
        </p:blipFill>
        <p:spPr>
          <a:xfrm>
            <a:off x="1359000" y="2239920"/>
            <a:ext cx="6527880" cy="3594240"/>
          </a:xfrm>
          <a:prstGeom prst="rect">
            <a:avLst/>
          </a:prstGeom>
          <a:ln w="0">
            <a:noFill/>
          </a:ln>
        </p:spPr>
      </p:pic>
      <p:sp>
        <p:nvSpPr>
          <p:cNvPr id="216" name="Oval 7"/>
          <p:cNvSpPr/>
          <p:nvPr/>
        </p:nvSpPr>
        <p:spPr>
          <a:xfrm>
            <a:off x="1523880" y="4854600"/>
            <a:ext cx="20574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A16-3248-46CE-9474-6E9B3BA552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552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Sessions Related to CD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34800" y="17982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ssion 15                          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70c0"/>
                </a:solidFill>
                <a:latin typeface="Verdana"/>
              </a:rPr>
              <a:t>Using the eCDR Appeal System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ay #2, Day #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ssion 18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70c0"/>
                </a:solidFill>
                <a:latin typeface="Verdana"/>
              </a:rPr>
              <a:t>Cohort Default Ra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ay #1, Day #2, Day #3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0341-91AC-42EB-B6F2-48D1C0918B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3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88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ault Prevention Strateg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647-61DE-4DA4-934A-C6749037E1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5742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y Schools Should Participate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our servicers work diligently to encourage repayment, schools can play a critical role and their contribution will yield improve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your motivation to hel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 loan program integr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wer default dollars/taxpayer saving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 your school’s default rat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ve students from the consequences of defaul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302F-C872-492D-839E-3A185A16B3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 This Sess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tion 4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Engagement in Defaul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Prevention – School Pa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yahoga Community College 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Working With At-Risk Borrowers in Developmental Studies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igan State University            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Working With At-Risk Borrowers on Academic Prob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tchell’s Hair Styling Academy    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Working With At-Risk Borrowers in Repa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BE46-AE4A-4034-A822-4853A26C2D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8028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-Based Default Prevention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 a Default Prevention Tea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or adopt a default prevention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traditional financial aid office-based default preven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non-traditional student success-based default preven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option is for schools to use a combination of these two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Default Prevention </a:t>
            </a:r>
            <a:r>
              <a:rPr b="1" lang="en-US" sz="3800" spc="-1" strike="noStrike">
                <a:solidFill>
                  <a:srgbClr val="0099cc"/>
                </a:solidFill>
                <a:latin typeface="Verdana"/>
              </a:rPr>
              <a:t>Plan</a:t>
            </a: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9080" y="137160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 is achieved when solid pla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are developed and exec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lan pulls together peopl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sources toward a common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 Default Management sample plan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ar Colleague Letter GEN-05-1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issued September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n should not remain static, s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se and adjust the plan as needed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ize you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680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680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C29B-D1D1-4FB1-BA64-6A425357E8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Default Prevention </a:t>
            </a:r>
            <a:r>
              <a:rPr b="1" lang="en-US" sz="3800" spc="-1" strike="noStrike">
                <a:solidFill>
                  <a:srgbClr val="0099cc"/>
                </a:solidFill>
                <a:latin typeface="Verdana"/>
              </a:rPr>
              <a:t>Team</a:t>
            </a:r>
            <a:r>
              <a:rPr b="1" lang="en-US" sz="3800" spc="-1" strike="noStrike">
                <a:solidFill>
                  <a:srgbClr val="cc5407"/>
                </a:solidFill>
                <a:latin typeface="Verdana"/>
              </a:rPr>
              <a:t> 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9080" y="126504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members should include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ior school offi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 from all off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represen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ly scheduled meet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genda/minutes, discussion of agreed upon assig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about default and pre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progress and adjust the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ebrate and promote your succ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432-7C6E-41E8-A2C5-55F73C5DAF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321-54CF-4296-A386-226212C591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ditional” Approach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involves the financial aid off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is on helping borrowers to develop a healthy relationship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 their loa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includ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loan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literacy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ing enrollment status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aging at-risk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D32E-7C91-4D86-B421-F6B5A59265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SA’s Entrance/Exit Counsel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600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25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25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2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74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5" descr="homepage.gif"/>
          <p:cNvPicPr/>
          <p:nvPr/>
        </p:nvPicPr>
        <p:blipFill>
          <a:blip r:embed="rId1"/>
          <a:srcRect l="1271" t="1284" r="0" b="2562"/>
          <a:stretch/>
        </p:blipFill>
        <p:spPr>
          <a:xfrm>
            <a:off x="609480" y="1676520"/>
            <a:ext cx="38545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809880" cy="28702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44" name="Rectangle 9"/>
          <p:cNvSpPr/>
          <p:nvPr/>
        </p:nvSpPr>
        <p:spPr>
          <a:xfrm>
            <a:off x="4572000" y="1752480"/>
            <a:ext cx="457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ntrance Couns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ea typeface="Verdana"/>
                <a:hlinkClick r:id="rId3"/>
              </a:rPr>
              <a:t>www.StudentLoans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57200" y="5045040"/>
            <a:ext cx="4572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xit Counse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  <a:ea typeface="Verdana"/>
                <a:hlinkClick r:id="rId4"/>
              </a:rPr>
              <a:t>www.NSLDS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ight Arrow 11"/>
          <p:cNvSpPr/>
          <p:nvPr/>
        </p:nvSpPr>
        <p:spPr>
          <a:xfrm>
            <a:off x="3809880" y="51814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70c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ight Arrow 12"/>
          <p:cNvSpPr/>
          <p:nvPr/>
        </p:nvSpPr>
        <p:spPr>
          <a:xfrm rot="10800000">
            <a:off x="4572000" y="2514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70c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F029-154F-4177-B14C-40BEF22729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trance and Exit Counseling (Session #19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Offered: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1                                      </a:t>
            </a:r>
            <a:br>
              <a:rPr sz="3400"/>
            </a:b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2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veiling FSA’s new Entrance and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it Counseling websi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9BD-6152-4E9F-A195-7318C357CE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For Students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254" name="Picture 4" descr="nslds paint"/>
          <p:cNvPicPr/>
          <p:nvPr/>
        </p:nvPicPr>
        <p:blipFill>
          <a:blip r:embed="rId1"/>
          <a:srcRect l="0" t="20741" r="13334" b="5183"/>
          <a:stretch/>
        </p:blipFill>
        <p:spPr>
          <a:xfrm>
            <a:off x="768240" y="1371600"/>
            <a:ext cx="69343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C52-C3AE-48A2-9D07-95304A2926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ancial Literac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lation exists between increased financial literacy and decreased de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can play an important ro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make it part of your curricul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schools offer literacy classes for cre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many free resources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l, non-profits, lenders, guaran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online financial literacy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enhance what you are doing n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A3B6-6D64-4A32-8AFD-E9F57D1BE4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Financial Literacy Info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549360" y="1579680"/>
            <a:ext cx="8043840" cy="4101840"/>
            <a:chOff x="549360" y="1579680"/>
            <a:chExt cx="8043840" cy="4101840"/>
          </a:xfrm>
        </p:grpSpPr>
        <p:pic>
          <p:nvPicPr>
            <p:cNvPr id="261" name="Picture 4" descr="mymoneylogo"/>
            <p:cNvPicPr/>
            <p:nvPr/>
          </p:nvPicPr>
          <p:blipFill>
            <a:blip r:embed="rId1"/>
            <a:stretch/>
          </p:blipFill>
          <p:spPr>
            <a:xfrm>
              <a:off x="4876920" y="3332160"/>
              <a:ext cx="3657600" cy="174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oup 5"/>
            <p:cNvGrpSpPr/>
            <p:nvPr/>
          </p:nvGrpSpPr>
          <p:grpSpPr>
            <a:xfrm>
              <a:off x="549360" y="1884240"/>
              <a:ext cx="8043840" cy="914040"/>
              <a:chOff x="549360" y="1884240"/>
              <a:chExt cx="8043840" cy="914040"/>
            </a:xfrm>
          </p:grpSpPr>
          <p:pic>
            <p:nvPicPr>
              <p:cNvPr id="263" name="Picture 6" descr="FDIC Home - Federal Deposit Insurance Corporation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603360" y="1884240"/>
                <a:ext cx="2765520" cy="53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Rectangle 7"/>
              <p:cNvSpPr/>
              <p:nvPr/>
            </p:nvSpPr>
            <p:spPr>
              <a:xfrm>
                <a:off x="549360" y="2432880"/>
                <a:ext cx="80438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3366"/>
                    </a:solidFill>
                    <a:latin typeface="Times New Roman"/>
                  </a:rPr>
                  <a:t>Money Smart</a:t>
                </a:r>
                <a:r>
                  <a:rPr b="0" lang="en-US" sz="1400" spc="-1" strike="noStrike">
                    <a:solidFill>
                      <a:srgbClr val="003366"/>
                    </a:solidFill>
                    <a:latin typeface="Times New Roman"/>
                  </a:rPr>
                  <a:t> - A Financial Education Progra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5" name="Picture 8" descr="ConGov(USA)"/>
            <p:cNvPicPr/>
            <p:nvPr/>
          </p:nvPicPr>
          <p:blipFill>
            <a:blip r:embed="rId4"/>
            <a:stretch/>
          </p:blipFill>
          <p:spPr>
            <a:xfrm>
              <a:off x="1981080" y="4856040"/>
              <a:ext cx="525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1" descr="leftTop_fed_on"/>
            <p:cNvPicPr/>
            <p:nvPr/>
          </p:nvPicPr>
          <p:blipFill>
            <a:blip r:embed="rId5"/>
            <a:stretch/>
          </p:blipFill>
          <p:spPr>
            <a:xfrm>
              <a:off x="5639040" y="1579680"/>
              <a:ext cx="142848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7" name="Group 13"/>
            <p:cNvGrpSpPr/>
            <p:nvPr/>
          </p:nvGrpSpPr>
          <p:grpSpPr>
            <a:xfrm>
              <a:off x="685800" y="3179880"/>
              <a:ext cx="3429000" cy="1523520"/>
              <a:chOff x="685800" y="3179880"/>
              <a:chExt cx="3429000" cy="1523520"/>
            </a:xfrm>
          </p:grpSpPr>
          <p:grpSp>
            <p:nvGrpSpPr>
              <p:cNvPr id="268" name="Group 14"/>
              <p:cNvGrpSpPr/>
              <p:nvPr/>
            </p:nvGrpSpPr>
            <p:grpSpPr>
              <a:xfrm>
                <a:off x="685800" y="3179880"/>
                <a:ext cx="3429000" cy="1523520"/>
                <a:chOff x="685800" y="3179880"/>
                <a:chExt cx="3429000" cy="1523520"/>
              </a:xfrm>
            </p:grpSpPr>
            <p:sp>
              <p:nvSpPr>
                <p:cNvPr id="269" name="Rectangle 15"/>
                <p:cNvSpPr/>
                <p:nvPr/>
              </p:nvSpPr>
              <p:spPr>
                <a:xfrm>
                  <a:off x="685800" y="3179880"/>
                  <a:ext cx="3429000" cy="1523520"/>
                </a:xfrm>
                <a:prstGeom prst="rect">
                  <a:avLst/>
                </a:prstGeom>
                <a:solidFill>
                  <a:srgbClr val="2f65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16"/>
                <p:cNvSpPr/>
                <p:nvPr/>
              </p:nvSpPr>
              <p:spPr>
                <a:xfrm>
                  <a:off x="685800" y="3179880"/>
                  <a:ext cx="3429000" cy="1523520"/>
                </a:xfrm>
                <a:prstGeom prst="rect">
                  <a:avLst/>
                </a:prstGeom>
                <a:solidFill>
                  <a:srgbClr val="2f65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333333"/>
                      </a:solidFill>
                      <a:latin typeface="Times New Roman"/>
                    </a:rPr>
                    <a:t>  </a:t>
                  </a:r>
                  <a:r>
                    <a:rPr b="0" lang="en-US" sz="7000" spc="-1" strike="noStrike">
                      <a:solidFill>
                        <a:srgbClr val="333333"/>
                      </a:solidFill>
                      <a:latin typeface="Times New Roman"/>
                    </a:rPr>
                    <a:t> </a:t>
                  </a:r>
                  <a:r>
                    <a:rPr b="0" lang="en-US" sz="900" spc="-1" strike="noStrike">
                      <a:solidFill>
                        <a:srgbClr val="333333"/>
                      </a:solidFill>
                      <a:latin typeface="Times New Roman"/>
                    </a:rPr>
                    <a:t>                                                                        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71" name="Picture 17" descr="U.S. Department of the Treasury Logo"/>
              <p:cNvPicPr/>
              <p:nvPr/>
            </p:nvPicPr>
            <p:blipFill>
              <a:blip r:embed="rId6"/>
              <a:stretch/>
            </p:blipFill>
            <p:spPr>
              <a:xfrm>
                <a:off x="1143000" y="3332160"/>
                <a:ext cx="2514600" cy="11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2" name="Text Box 12"/>
          <p:cNvSpPr/>
          <p:nvPr/>
        </p:nvSpPr>
        <p:spPr>
          <a:xfrm>
            <a:off x="7162920" y="153036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Gothic"/>
              </a:rPr>
              <a:t>U.S.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4A6D-D0D0-4A76-BD83-3B12D9383C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tecting the Grace Perio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Of the borrowers who defaulted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ost d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 receive their full 6-month grac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o late or inaccurate enroll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fication by the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chools must learn when a borrower leaves campus and promptly report this to NS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Why is this so importa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83B-FD25-4811-8761-78E0779E4E6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Cohort Default Rate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659A-4B2E-41AF-8584-CEC3E2B6B4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rvicer Repayment Counsel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 relationship with the borr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s the correct repay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es the appropriate repayment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tes self-service through the we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s and enhances borrowe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es consolidation o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11040" y="15732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ing the Grace Period a Loan Servicer Perform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BCC2-FB2E-48BF-A4A2-45D4CB75AE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Essentials of Federal Student Loan Servicing (Session #3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904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Offered: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1                                      </a:t>
            </a:r>
            <a:br>
              <a:rPr sz="3400"/>
            </a:b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2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6699"/>
                </a:solidFill>
                <a:latin typeface="Verdana"/>
              </a:rPr>
              <a:t>Day #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how federal student loan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ing can help you reduce lo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A5AF-62BA-4422-A23C-921104BE79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Loan Servicer Meeting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e session with each Service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6 – Day #1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AC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7 – Day #2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HEA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8 – Day #2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Great Lakes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59 – Day #3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Nelne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ssion 60 – Day #3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Sallie Ma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4956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e agenda for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82D3-AAF7-445D-9224-50723BDAB8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ing Delinquent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examining large populations of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aulted borrowers FSA determine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at the majority had </a:t>
            </a:r>
            <a:r>
              <a:rPr b="1" i="1" lang="en-US" sz="3000" spc="-1" strike="noStrike">
                <a:solidFill>
                  <a:srgbClr val="0099cc"/>
                </a:solidFill>
                <a:latin typeface="Verdana"/>
              </a:rPr>
              <a:t>contact issu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 had bad telephone numbers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t defaulters were not successfully contacted by phone during the 360-day collection effort leading up to defaul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7A7C-1D67-4609-8F34-C27F24B9C9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sure Borrowers Can Be Foun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468080"/>
            <a:ext cx="807696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should create a separate form to collect additional borrower contact info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supplement what is obtained via the MP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 info during admission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 borrowers that you may verify this info (to improve accuracy) and spot check if time perm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99cc"/>
                </a:solidFill>
                <a:uFillTx/>
                <a:latin typeface="Verdana"/>
              </a:rPr>
              <a:t>Important Note:</a:t>
            </a:r>
            <a:r>
              <a:rPr b="1" lang="en-US" sz="2200" spc="-1" strike="noStrike">
                <a:solidFill>
                  <a:srgbClr val="0099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though you may collect thi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, you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t no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a borrower’s receipt of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id contingent upon providing this informat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EB5E-848B-4CC2-8280-2F2E2928EC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579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 Contact She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34440" y="138708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borrower’s e-mail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 information for siblings, parents, grandparents, etc., including e-mail and cell phone numbe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borrower for the one phone number through which he/she c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 reac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ll social networking sites where borrower has an accou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8EA0-1100-4381-8CE3-CAD808DA70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734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/Low-Cost Methods For Locating Delinquent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85220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e-mail addresses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kins Loan information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rar and Alumni Offices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ct cell phone numbers (fre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Networking:                     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</a:rPr>
              <a:t>Facebo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free)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</a:rPr>
              <a:t>MySp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fre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-mining/skip-tracing services (c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4369-3202-4B6C-BE0E-DD6F9F3D3B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ps For Succ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phone calls are most eff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light touch – remember you are calling to help, not to col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handwritten notes can be successfu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ters and e-mail may be used with varying degrees of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4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rs send many pieces of correspondence to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134E-0D9B-49D1-9B90-A59A80BD5D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You Decide to Send a Lett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, get the borrower to open it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-address regular envelop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 stamp – not a postage 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colored envelopes or pa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ize the letter – sign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cards can also be eff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correspondence should not loo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17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 a bil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6EE-4263-4A03-A718-445444EACED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SLDS Reports for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4173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Reports for Data Accu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Entered Repayment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Repayment Info Loan Detai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Cohort Default Rate Histo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rollment Reporting 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Reports for Default Preven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Entered Repayment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rower Default Summa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t Counsel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nquent Borrower Report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(New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AD91-EF15-4098-902A-A881D7E60B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969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nderstanding Cohort Default Rates (CDRs) – A Quick Review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85868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ft and Official CD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umerator and Denomin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ulas used for CDR calc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DRs – a historical perspecti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51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0ABE-4E40-4D28-BBD7-F0B8E8F848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563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“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on-Traditional” Approach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is on helping borrowers to develop a healthy relationship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ith their education (student success solutions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program completion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reasing program completi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ing non-completers find a jo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students become successful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verage efforts to increase retention, graduation, and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92E-FBD0-46CD-892E-F3F6E5AFF0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Do Not Comple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storically, the majority of borrowers who default withdrew from school without completing their academic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different measures of success exis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n important indicator that students who fail to complete have a higher risk of loan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427D-2CA0-497E-ABB9-7B1B846BC2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orrowers Who Do Not Complet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d not achieve academic credent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have reduced earning power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benefit from school job 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one or more loans to re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receive exit couns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not respond to communication attempts by their loan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lose part or all of their grace period if they fail to notify the financial aid office and NSLDS is not updated timely and accurat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D7A5-55AA-4702-B053-48DDD67C23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haracteristics: Students At Risk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84200" y="15238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es/n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ship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&amp; mental health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ent-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r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 difficul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510080" y="1562040"/>
            <a:ext cx="48006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tudy ha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-prepared,    basic skil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nguage b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 unwelcome, no “campus conn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generation: No      role models or famil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413160" y="5502240"/>
            <a:ext cx="5334120" cy="7038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  <a:ea typeface="Verdana"/>
              </a:rPr>
              <a:t>Schools may have unique factors which must be identified and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64B6-6D99-4395-947D-1FF6578249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59328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dentifying Students in Troub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387080"/>
            <a:ext cx="8991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your school have an “early warning” syste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atten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 mid-term grades which provide clues as to whether or not student will pers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erts from faculty members, student support staff: who has missed classes? failed tests? had adjustment challeng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allow academic or social problems to become default r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E64-F52D-409A-AB68-27E6F4FBBF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elping Students in Troub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h out immediat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elp them remain in schoo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f they’ve already left, help them to retur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ay involve help to overcome obstacles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f they will not return, help them to understand their repayment obligations – some think they don’t owe anything because they lef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earn what you can about their experiences and use this information to help other students stay in schoo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6D6E-9309-4484-A831-50A8B3FB21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ction 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argeted School Eng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nel Discu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4C9-6AA5-4F59-9ADE-FC16D3FFD07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560" y="1236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 engagement can help reduce risk 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stage of the borrowing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are my at-risk borrowe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 to identify risk fa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should I intervene, and how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ight time and the right strateg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FFF9-75B5-47B9-A211-A433389176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236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ing At-Risk Borr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, using available data, which students have defaulted in the p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what point are you most likely to be able to conta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nd influen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particular borrower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choo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ra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repayme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6E97-D651-4EB0-98CA-DBAF1F23D2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669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br>
              <a:rPr sz="3600"/>
            </a:br>
            <a:r>
              <a:rPr b="1" i="1" lang="en-US" sz="3600" spc="-1" strike="noStrike">
                <a:solidFill>
                  <a:srgbClr val="cc5407"/>
                </a:solidFill>
                <a:latin typeface="Verdana"/>
              </a:rPr>
              <a:t>Example: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While In 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Schoo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rget at-risk borrowers with early/extra exit loan counseling, financial literacy training, and collect additional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at-risk borrower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tudents on academic prob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tudents who express intention to withdr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Students currently enrolled in programs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ducing a disproportionate number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au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5381-0602-4D2D-878B-1BB2D67D86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 Are Released Twice A Yea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231920" y="1736640"/>
            <a:ext cx="4114800" cy="3476160"/>
            <a:chOff x="1231920" y="1736640"/>
            <a:chExt cx="4114800" cy="3476160"/>
          </a:xfrm>
        </p:grpSpPr>
        <p:sp>
          <p:nvSpPr>
            <p:cNvPr id="111" name="Rectangle 6"/>
            <p:cNvSpPr/>
            <p:nvPr/>
          </p:nvSpPr>
          <p:spPr>
            <a:xfrm>
              <a:off x="1231920" y="1949040"/>
              <a:ext cx="4114800" cy="32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February </a:t>
              </a:r>
              <a:r>
                <a:rPr b="0" lang="en-US" sz="4000" spc="-1" strike="noStrike">
                  <a:solidFill>
                    <a:srgbClr val="0070c0"/>
                  </a:solidFill>
                  <a:latin typeface="Times New Roman"/>
                </a:rPr>
                <a:t>(DRAFT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t publi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 sanc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o benef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Straight Connector 7"/>
            <p:cNvSpPr/>
            <p:nvPr/>
          </p:nvSpPr>
          <p:spPr>
            <a:xfrm>
              <a:off x="3170160" y="1736640"/>
              <a:ext cx="2133720" cy="0"/>
            </a:xfrm>
            <a:prstGeom prst="line">
              <a:avLst/>
            </a:prstGeom>
            <a:ln w="38160">
              <a:solidFill>
                <a:srgbClr val="329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4795920" y="1981080"/>
            <a:ext cx="41749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tember 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</a:rPr>
              <a:t>(OFFICIAL)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ctions a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nefits a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9"/>
          <p:cNvSpPr/>
          <p:nvPr/>
        </p:nvSpPr>
        <p:spPr>
          <a:xfrm>
            <a:off x="4221000" y="1752480"/>
            <a:ext cx="0" cy="3810240"/>
          </a:xfrm>
          <a:prstGeom prst="line">
            <a:avLst/>
          </a:prstGeom>
          <a:ln w="38160">
            <a:solidFill>
              <a:srgbClr val="329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4230-F135-4996-8637-CE0EE68E78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669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: While In 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Gra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s to tak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ate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nrollment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pare borrower for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employment counseling and search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b placement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5386-26BB-40D4-8556-6817BC2983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6696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ngaging At-Risk Borrowers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: While In </a:t>
            </a:r>
            <a:r>
              <a:rPr b="1" lang="en-US" sz="3600" spc="-1" strike="noStrike">
                <a:solidFill>
                  <a:srgbClr val="0099cc"/>
                </a:solidFill>
                <a:latin typeface="Verdana"/>
              </a:rPr>
              <a:t>Repaymen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0760" y="178236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h out to at-risk borrowers and facilita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ritical contact with the loan servicer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in repayment: Target borrowers who did not comple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 in repayment: Target borrowers who are 240+ days delinqu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9D23-A2E3-4543-9300-6AC1FB8DD0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560" y="502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neli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gela Johns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utive Director Enrollment Operations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Financial Assist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yahoga Community Colle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angela.johnson@tri-c.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16-987-42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pi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With At-Risk Borrowers Enroll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Developmental Studies Progra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CE7-1B40-40EF-963F-DCCEB369FC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502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neli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Linda Sig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e Director of Financial 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higan State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sigh@msu.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17-432-649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pi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With At-Risk Borrowers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cademic Prob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8FF2-8AED-4481-AB0A-C5C8A03C24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502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chool Panelis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Ricky Mitchel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ce President and Director of Financial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tchell’s Hair Styling Acade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ricky@mitchells.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19-851-096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pi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ing With At-Risk Borrowers in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1C39-C414-47A6-B173-5C923D3237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scuss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5328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35ED-1A4D-416B-9871-9337D4B882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fault Prevention Contac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46340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Mark Walsh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16-268-0412  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mark.walsh@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</a:rPr>
              <a:t>John Pierson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04-974-9315  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john.pierson@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Operations Performance Management Service Grou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CDR calculations and data challenge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in Line: 202-377-4258        Hotline: 202-377-4259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fsa.schools.default.management@ed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ifap.ed.gov/DefaultManagement/DefaultManagement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2EF7-067E-42C1-88E4-48B76786DC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 Release Dat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Y09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Dra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hort Defaul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be released on February 14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Y09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Offici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hort Default Ra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be released on September 12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46C-8322-4AA0-B232-DDF93CC770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: The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traight Connector 6"/>
          <p:cNvSpPr/>
          <p:nvPr/>
        </p:nvSpPr>
        <p:spPr>
          <a:xfrm>
            <a:off x="990720" y="3916440"/>
            <a:ext cx="2819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066680" y="25909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  <a:ea typeface="Verdana"/>
              </a:rPr>
              <a:t>Num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1036800" y="4525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Verdana"/>
                <a:ea typeface="Verdana"/>
              </a:rPr>
              <a:t>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4419720" y="1752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orrowers who entered repayment in one year, and defaulted in that year or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4495680" y="4038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orrowers who entered repayment during the one-year cohor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9468-BEB1-446A-8D44-34B483B308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DRs: Applying the Formul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Average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r more borrowers in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than 30 borrowers in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years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uggestion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tend Session #18 where CDRs will b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ussed in greater detail.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12T14:24:55Z</dcterms:modified>
  <cp:revision>1058</cp:revision>
  <dc:subject/>
  <dc:title>PowerPoint Presentation</dc:title>
</cp:coreProperties>
</file>