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2CFE-69AE-439C-8A26-67A842888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C719-1E19-49A8-A5DF-5017F194A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41EC-57CA-4016-A068-8B2A9CFA1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D04E4-BF3C-4A98-8ECD-662CEE921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360168C-0EA1-43DC-B0A9-4E57F960C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C84F647-E438-481A-A2A3-005E777AB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22CE2F3-4671-423C-9778-F296664352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4986B5F-72BD-4F84-A413-5BFC449F0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23CE3F1-1204-4F9A-AFF0-D539AB177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E1A0BB5-12F6-4900-8D51-94962113C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4DD5031-7963-485F-A744-4BD3AAAD8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A190EDF-08CF-4C10-B6C8-92DAAFDA2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E1D59CE-650C-456B-870D-BAB90CBE1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C4CCEBF-656E-484D-B71B-2C4383EB8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23404BA-6190-4606-8DDE-39EB5E13D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6D86-73EF-47DD-BF08-C55B61B42B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ules of Direct Loan Processing</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mela Mor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lie Aloisio</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FC49-77F4-405F-8517-F66AF33D35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ransfer Students With Overlapping Academic Years</a:t>
            </a:r>
            <a:endParaRPr b="1" lang="en-US" sz="2800" spc="-1" strike="noStrike">
              <a:solidFill>
                <a:srgbClr val="cc5407"/>
              </a:solidFill>
              <a:latin typeface="Verdana"/>
            </a:endParaRPr>
          </a:p>
        </p:txBody>
      </p:sp>
      <p:sp>
        <p:nvSpPr>
          <p:cNvPr id="8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term or nonstandard SE9W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itial origination for remaining balance of annual loan limit for any term within overlapping academic year</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ours without standard or SE9W terms or clock hours IF NO CREDIT OR CLOCK HOURS TRANSFERRED</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rigination for academic year for up to  remaining balance of annual loan limi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4AA5-2824-4E80-9D45-A8850303A9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E58B-4618-47C4-A67D-287077E30C4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ransfer Students With Overlapping Academic Years </a:t>
            </a:r>
            <a:endParaRPr b="1" lang="en-US" sz="2800" spc="-1" strike="noStrike">
              <a:solidFill>
                <a:srgbClr val="cc5407"/>
              </a:solidFill>
              <a:latin typeface="Verdana"/>
            </a:endParaRPr>
          </a:p>
        </p:txBody>
      </p:sp>
      <p:sp>
        <p:nvSpPr>
          <p:cNvPr id="88"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ours without standard or SE9W terms or clock hours IF CREDIT OR CLOCK HOURS ARE TRANSFERRED</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rigination for remaining portion of program or academic year for up to remaining balance of annual loan limit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Vol.3, CH 6, page 3-121 of 2009-10 FSA Handboo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6C3F-F62C-46D8-9DF6-973443F6387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D0FF-13B4-4D5D-81F5-6E67B1D97F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rogram Completion/New Program Within Same Academic Year</a:t>
            </a:r>
            <a:endParaRPr b="1" lang="en-US" sz="2800" spc="-1" strike="noStrike">
              <a:solidFill>
                <a:srgbClr val="cc5407"/>
              </a:solidFill>
              <a:latin typeface="Verdana"/>
            </a:endParaRPr>
          </a:p>
        </p:txBody>
      </p:sp>
      <p:sp>
        <p:nvSpPr>
          <p:cNvPr id="92"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ay originate loan for remainder of academic year up to remaining balance of annual loan limit of new program</a:t>
            </a:r>
            <a:endParaRPr b="0" lang="en-US" sz="2400" spc="-1" strike="noStrike">
              <a:solidFill>
                <a:srgbClr val="000000"/>
              </a:solidFill>
              <a:latin typeface="Verdana"/>
            </a:endParaRPr>
          </a:p>
        </p:txBody>
      </p:sp>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6331-8F66-40E3-AD62-38A74D938C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29A5-6803-486B-8918-20CA0FFBBD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9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becomes ineligible on date no longer enrolled at least half-time for loan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le for late disbursement if, BEFORE BORROWER BECOMES IN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R or ISIR with official EFC genera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originated (MPN may be signed later)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087F-C138-4819-8268-132142D8E3D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D78D-EDD4-4B9B-9089-340F576B1F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100" name=""/>
          <p:cNvSpPr txBox="1"/>
          <p:nvPr/>
        </p:nvSpPr>
        <p:spPr>
          <a:xfrm>
            <a:off x="304920" y="1523520"/>
            <a:ext cx="8534160" cy="43434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make late disbursement within 180 days from date borrower became in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late second/subsequent disbursement unless borrower graduates or completes loan perio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first-time, first-year borrowers, no late first disbursement unless borrower completes first 30 days of program</a:t>
            </a:r>
            <a:endParaRPr b="0" lang="en-US" sz="2400" spc="-1" strike="noStrike">
              <a:solidFill>
                <a:srgbClr val="000000"/>
              </a:solidFill>
              <a:latin typeface="Verdana"/>
            </a:endParaRPr>
          </a:p>
        </p:txBody>
      </p:sp>
      <p:sp>
        <p:nvSpPr>
          <p:cNvPr id="1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06F7-F36C-4DDF-A095-3C4C213E3C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30D8-E320-42F7-A939-1A145CD378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10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adjust original loan amount upward after end of loan period and make late disbursement</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pward  adjustment same as originating after end of loan period – not allowed under late disbursement rul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6F9C-768B-4055-A2FE-E142062167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5CF6-30EA-4A88-AEE6-973EF2E06B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Unsub</a:t>
            </a:r>
            <a:endParaRPr b="1" lang="en-US" sz="2800" spc="-1" strike="noStrike">
              <a:solidFill>
                <a:srgbClr val="cc5407"/>
              </a:solidFill>
              <a:latin typeface="Verdana"/>
            </a:endParaRPr>
          </a:p>
        </p:txBody>
      </p:sp>
      <p:sp>
        <p:nvSpPr>
          <p:cNvPr id="108"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s for chan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of financial ne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awa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dvertent overborrow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9D7C-5F82-461C-91F5-C90A5ECE0C1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9810-9C6A-4C38-9738-B47BF59B284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Unsub</a:t>
            </a:r>
            <a:endParaRPr b="1" lang="en-US" sz="2800" spc="-1" strike="noStrike">
              <a:solidFill>
                <a:srgbClr val="cc5407"/>
              </a:solidFill>
              <a:latin typeface="Verdana"/>
            </a:endParaRPr>
          </a:p>
        </p:txBody>
      </p:sp>
      <p:sp>
        <p:nvSpPr>
          <p:cNvPr id="112"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l eligibility must include loan type to avoid new loan origination unless error in initial origin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justment may take place after close of loan period if no new dollars involved</a:t>
            </a:r>
            <a:endParaRPr b="0" lang="en-US" sz="24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F98C-09F7-4BF6-A932-BEEBDF58C4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7044-3A38-4AA6-B191-A94E663BB6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articipation-Direct Loan Programs</a:t>
            </a:r>
            <a:endParaRPr b="1" lang="en-US" sz="2800" spc="-1" strike="noStrike">
              <a:solidFill>
                <a:srgbClr val="cc5407"/>
              </a:solidFill>
              <a:latin typeface="Verdana"/>
            </a:endParaRPr>
          </a:p>
        </p:txBody>
      </p:sp>
      <p:sp>
        <p:nvSpPr>
          <p:cNvPr id="11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Sub and Unsub are part of ONE program (Staffo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s shar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 requires borrower eligibility seque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ll, if applica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participation in only subsidized or unsubsidiz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limit unsub to “base” amount</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9725-11DA-45E2-AC6D-2203392038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E9AC-EF1A-4CDA-B527-7100215A8F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articipation – Direct Loan Programs</a:t>
            </a:r>
            <a:endParaRPr b="1" lang="en-US" sz="2800" spc="-1" strike="noStrike">
              <a:solidFill>
                <a:srgbClr val="cc5407"/>
              </a:solidFill>
              <a:latin typeface="Verdana"/>
            </a:endParaRPr>
          </a:p>
        </p:txBody>
      </p:sp>
      <p:sp>
        <p:nvSpPr>
          <p:cNvPr id="120" name=""/>
          <p:cNvSpPr txBox="1"/>
          <p:nvPr/>
        </p:nvSpPr>
        <p:spPr>
          <a:xfrm>
            <a:off x="304920" y="1523520"/>
            <a:ext cx="8534160" cy="4343400"/>
          </a:xfrm>
          <a:prstGeom prst="rect">
            <a:avLst/>
          </a:prstGeom>
          <a:noFill/>
          <a:ln w="0">
            <a:noFill/>
          </a:ln>
        </p:spPr>
        <p:txBody>
          <a:bodyPr anchor="t">
            <a:normAutofit fontScale="76000"/>
          </a:bodyPr>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PLUS is ONE program</a:t>
            </a:r>
            <a:endParaRPr b="0" lang="en-US" sz="2400" spc="-1" strike="noStrike">
              <a:solidFill>
                <a:srgbClr val="000000"/>
              </a:solidFill>
              <a:latin typeface="Verdana"/>
            </a:endParaRPr>
          </a:p>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participates in PLUS, must make available to both parent and grad/professional borrowers</a:t>
            </a:r>
            <a:endParaRPr b="0" lang="en-US" sz="2400" spc="-1" strike="noStrike">
              <a:solidFill>
                <a:srgbClr val="000000"/>
              </a:solidFill>
              <a:latin typeface="Verdana"/>
            </a:endParaRPr>
          </a:p>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has only grad/professional programs, may not limit participation to PLUS only:</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fore awarding PLUS, mus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Determine maximum Direct Sub/Unsub </a:t>
            </a:r>
            <a:r>
              <a:rPr b="0" lang="en-US" sz="2400" spc="-1" strike="noStrike">
                <a:solidFill>
                  <a:srgbClr val="000000"/>
                </a:solidFill>
                <a:latin typeface="Verdana"/>
              </a:rPr>
              <a:t>	</a:t>
            </a:r>
            <a:r>
              <a:rPr b="0" lang="en-US" sz="2400" spc="-1" strike="noStrike">
                <a:solidFill>
                  <a:srgbClr val="000000"/>
                </a:solidFill>
                <a:latin typeface="Verdana"/>
              </a:rPr>
              <a:t>eligibility</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Explain differences between PLUS and </a:t>
            </a:r>
            <a:r>
              <a:rPr b="0" lang="en-US" sz="2400" spc="-1" strike="noStrike">
                <a:solidFill>
                  <a:srgbClr val="000000"/>
                </a:solidFill>
                <a:latin typeface="Verdana"/>
              </a:rPr>
              <a:t>	</a:t>
            </a:r>
            <a:r>
              <a:rPr b="0" lang="en-US" sz="2400" spc="-1" strike="noStrike">
                <a:solidFill>
                  <a:srgbClr val="000000"/>
                </a:solidFill>
                <a:latin typeface="Verdana"/>
              </a:rPr>
              <a:t>Sub/Unsub</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Offer opportunity to request Sub/Unsub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8E75-2803-4A58-B03B-C1DD094B3E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FEED-D007-4785-A21F-388AB5AB4F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Legislation Affecting Loan Limits</a:t>
            </a:r>
            <a:endParaRPr b="1" lang="en-US" sz="3200" spc="-1" strike="noStrike">
              <a:solidFill>
                <a:srgbClr val="cc5407"/>
              </a:solidFill>
              <a:latin typeface="Verdana"/>
            </a:endParaRPr>
          </a:p>
        </p:txBody>
      </p:sp>
      <p:sp>
        <p:nvSpPr>
          <p:cNvPr id="53"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ing Continued Access to Student Loan Act of 2008 (ECASLA)(May 7, 2008 – Pub. L. 110-227)</a:t>
            </a:r>
            <a:endParaRPr b="0" lang="en-US" sz="2400" spc="-1" strike="noStrike">
              <a:solidFill>
                <a:srgbClr val="000000"/>
              </a:solidFill>
              <a:latin typeface="Verdana"/>
            </a:endParaRPr>
          </a:p>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CL GEN -8-08, June 19, 2008</a:t>
            </a:r>
            <a:endParaRPr b="0" lang="en-US" sz="2400" spc="-1" strike="noStrike">
              <a:solidFill>
                <a:srgbClr val="000000"/>
              </a:solidFill>
              <a:latin typeface="Verdana"/>
            </a:endParaRPr>
          </a:p>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CASLA:</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d undergraduate unsubsidized annual loan limits (no change to subsidized annual limits)</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d undergraduate sub/unsub aggregate limits (no change to subsidized aggregate)</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to graduate/professional annual/ aggregate limits</a:t>
            </a:r>
            <a:endParaRPr b="0" lang="en-US" sz="2400" spc="-1" strike="noStrike">
              <a:solidFill>
                <a:srgbClr val="000000"/>
              </a:solidFill>
              <a:latin typeface="Verdana"/>
            </a:endParaRPr>
          </a:p>
          <a:p>
            <a:pPr marL="335880" indent="-3358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to PLUS loan limits</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5F17-A9C0-4928-989F-07A4F4DFFF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C8B2-9AE4-43C8-8676-527CCA8A14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 eligibilit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pplicants: No adverse cred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applica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citizenship/residency requirements,  no default or overpay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enrolled at-least-half-time and meets all other eligibility requirement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DF37-9EC7-4AC7-B6D0-93FB181EEE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72DA-D4F7-479A-8A72-FF27AD2997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8458-15CA-4954-932C-EEA71A48DF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Student Applica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eets all student eligibility requirement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913D-384B-40CF-87C5-63729DFEB9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 Adverse Credit </a:t>
            </a:r>
            <a:endParaRPr b="1" lang="en-US" sz="2800" spc="-1" strike="noStrike">
              <a:solidFill>
                <a:srgbClr val="cc5407"/>
              </a:solidFill>
              <a:latin typeface="Verdana"/>
            </a:endParaRPr>
          </a:p>
        </p:txBody>
      </p:sp>
      <p:sp>
        <p:nvSpPr>
          <p:cNvPr id="132"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4CFR 685.200 defines adverse credit as:</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currently 90 days or more delinquent on any debt</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last 5 years, not subject to:</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ult determination</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nkruptcy discharge</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reclosure</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possession</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ax lien</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age garnishmen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write off of Title IV debt</a:t>
            </a:r>
            <a:endParaRPr b="0" lang="en-US" sz="2400" spc="-1" strike="noStrike">
              <a:solidFill>
                <a:srgbClr val="000000"/>
              </a:solidFill>
              <a:latin typeface="Verdana"/>
            </a:endParaRPr>
          </a:p>
        </p:txBody>
      </p:sp>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DC48-0F3D-4DC5-A10D-3553F146A2A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34A1-C707-4BB8-B458-305DF9A19D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a:t>
            </a:r>
            <a:endParaRPr b="1" lang="en-US" sz="2800" spc="-1" strike="noStrike">
              <a:solidFill>
                <a:srgbClr val="cc5407"/>
              </a:solidFill>
              <a:latin typeface="Verdana"/>
            </a:endParaRPr>
          </a:p>
        </p:txBody>
      </p:sp>
      <p:sp>
        <p:nvSpPr>
          <p:cNvPr id="13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credit chec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ence of credit history not evidence of adverse credi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L credit check looks for adverse credit ONLY, not creditworthin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FICO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income-to-debt ratio</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loan amount</a:t>
            </a:r>
            <a:endParaRPr b="0" lang="en-US" sz="24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61EA-AD4D-453E-9EAB-418FBBD48F6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6ED0-F5B4-4680-9470-87E0EFAFA06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4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determination good for one academic year * (See slide 25.)</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dverse credit, PLUS eligibility still poss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endorser with no adverse credit (not dependent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cessful appeal based on extenuating circumstanc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D600-E109-4E7A-92B9-2E1812F8097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a:t>
            </a:r>
            <a:endParaRPr b="1" lang="en-US" sz="2800" spc="-1" strike="noStrike">
              <a:solidFill>
                <a:srgbClr val="cc5407"/>
              </a:solidFill>
              <a:latin typeface="Verdana"/>
            </a:endParaRPr>
          </a:p>
        </p:txBody>
      </p:sp>
      <p:sp>
        <p:nvSpPr>
          <p:cNvPr id="14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t>
            </a:r>
            <a:r>
              <a:rPr b="0" lang="en-US" sz="2400" spc="-1" strike="noStrike">
                <a:solidFill>
                  <a:srgbClr val="000000"/>
                </a:solidFill>
                <a:latin typeface="Verdana"/>
              </a:rPr>
              <a:t>Applies to dependent eligibility for additional unsubsidized loans unless parent reapplies later in the academic year and is determined PLUS eligible. Applies to parent PLUS eligibility if PLUS loan is originated within 90 days of credit check approval and to any PLUS loan amount adjustments made (without new loan origination) within that academic year; DOES NOT apply if school originates or parent applies for new PLUS loan during same academic year, but more than 90 days after prior loan check –this triggers new credit check </a:t>
            </a:r>
            <a:endParaRPr b="0" lang="en-US" sz="2400" spc="-1" strike="noStrike">
              <a:solidFill>
                <a:srgbClr val="000000"/>
              </a:solidFill>
              <a:latin typeface="Verdana"/>
            </a:endParaRPr>
          </a:p>
        </p:txBody>
      </p:sp>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43A0-8F63-4F78-BB7F-75CB6C3078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530F-FE1F-40BF-8906-4C186D1FA75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4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extenuating circumstanc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information erroneous or not applicant’s inform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nt has brought debt current or addressed basis of adverse credit</a:t>
            </a:r>
            <a:endParaRPr b="0" lang="en-US" sz="2400" spc="-1" strike="noStrike">
              <a:solidFill>
                <a:srgbClr val="000000"/>
              </a:solidFill>
              <a:latin typeface="Verdana"/>
            </a:endParaRPr>
          </a:p>
        </p:txBody>
      </p:sp>
      <p:sp>
        <p:nvSpPr>
          <p:cNvPr id="14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4D58-3E6C-49AE-B3BE-FBF6070008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4496-183E-43E7-85F6-6C388F1ADE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60" y="60912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School Authority to Determine</a:t>
            </a:r>
            <a:br>
              <a:rPr sz="2800"/>
            </a:b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PLUS Eligibility</a:t>
            </a:r>
            <a:endParaRPr b="1" lang="en-US" sz="28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e as part of determining dependent eligibility for additional unsubsidized amount</a:t>
            </a:r>
            <a:endParaRPr b="0" lang="en-US" sz="2400" spc="-1" strike="noStrike">
              <a:solidFill>
                <a:srgbClr val="000000"/>
              </a:solidFill>
              <a:latin typeface="Verdana"/>
            </a:endParaRPr>
          </a:p>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OR after credit check, EVEN IF NO ADVERSE CREDIT AND APPLICANT APPROVED, school can document exceptional circumstances</a:t>
            </a:r>
            <a:endParaRPr b="0" lang="en-US" sz="2400" spc="-1" strike="noStrike">
              <a:solidFill>
                <a:srgbClr val="000000"/>
              </a:solidFill>
              <a:latin typeface="Verdana"/>
            </a:endParaRPr>
          </a:p>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8F3F-5FA6-4BB0-A4A5-72CFE15B213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F506-D6E0-44E0-8E1A-B862092795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Stafford</a:t>
            </a:r>
            <a:endParaRPr b="1" lang="en-US" sz="2800" spc="-1" strike="noStrike">
              <a:solidFill>
                <a:srgbClr val="cc5407"/>
              </a:solidFill>
              <a:latin typeface="Verdana"/>
            </a:endParaRPr>
          </a:p>
        </p:txBody>
      </p:sp>
      <p:sp>
        <p:nvSpPr>
          <p:cNvPr id="155"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al circumstances may includ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limited income of public assistance or disability benefits shows likely inability to repa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ed family financial information (income, expenses, and debts) shows likely inability to repa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is incarcera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whereabouts unknow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filed bankruptcy and court’s letter states no additional debt can be incurr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is not U.S. citizen or eligible non-citizen </a:t>
            </a:r>
            <a:endParaRPr b="0" lang="en-US" sz="2400" spc="-1" strike="noStrike">
              <a:solidFill>
                <a:srgbClr val="000000"/>
              </a:solidFill>
              <a:latin typeface="Verdana"/>
            </a:endParaRPr>
          </a:p>
        </p:txBody>
      </p:sp>
      <p:sp>
        <p:nvSpPr>
          <p:cNvPr id="1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027D-A660-4786-B99E-EA9697C916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95E7-5C7E-4EA3-9F85-F59DC75FAF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a:t>
            </a:r>
            <a:endParaRPr b="1" lang="en-US" sz="2800" spc="-1" strike="noStrike">
              <a:solidFill>
                <a:srgbClr val="cc5407"/>
              </a:solidFill>
              <a:latin typeface="Verdana"/>
            </a:endParaRPr>
          </a:p>
        </p:txBody>
      </p:sp>
      <p:sp>
        <p:nvSpPr>
          <p:cNvPr id="15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valid reason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unwillingness to borrow PLU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decision not to participate in PLUS </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O’s belief parent should not borrow (without documentation of limited exceptional circumstances)</a:t>
            </a:r>
            <a:endParaRPr b="0" lang="en-US" sz="2400" spc="-1" strike="noStrike">
              <a:solidFill>
                <a:srgbClr val="000000"/>
              </a:solidFill>
              <a:latin typeface="Verdana"/>
            </a:endParaRPr>
          </a:p>
        </p:txBody>
      </p:sp>
      <p:sp>
        <p:nvSpPr>
          <p:cNvPr id="1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FEB5-8D75-42AE-B1FB-114F5F0CCF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F94F-6E27-4191-B343-1A8292F66F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a:t>
            </a:r>
            <a:endParaRPr b="1" lang="en-US" sz="3200" spc="-1" strike="noStrike">
              <a:solidFill>
                <a:srgbClr val="cc5407"/>
              </a:solidFill>
              <a:latin typeface="Verdana"/>
            </a:endParaRPr>
          </a:p>
        </p:txBody>
      </p:sp>
      <p:sp>
        <p:nvSpPr>
          <p:cNvPr id="5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 additional unsubsidized annual loan amount for dependent undergraduat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additional unsubsidized annual loan limits for independent undergraduates and dependent undergraduates with no parent PLUS eligibility</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from $4,000 to $6,000 for first and second-year undergraduat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from $5,000 to $7,000 for third-year undergraduates and beyond  </a:t>
            </a:r>
            <a:endParaRPr b="0" lang="en-US" sz="2400" spc="-1" strike="noStrike">
              <a:solidFill>
                <a:srgbClr val="000000"/>
              </a:solidFill>
              <a:latin typeface="Verdana"/>
            </a:endParaRPr>
          </a:p>
        </p:txBody>
      </p:sp>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E853-1AAD-4FF2-B9D4-A7E5146C1F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E091-A3B8-4F32-8461-65DB1C4DBE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 </a:t>
            </a:r>
            <a:endParaRPr b="1" lang="en-US" sz="28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fontScale="96000"/>
          </a:bodyPr>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one parent must be denied or documented as likely unable to repay PLUS</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both parents apply and one is eligible, dependent ineligible for additional unsub </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O’s determination of dependent’s eligibility applies to one academic year </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may become eligible any time in academic year if change in parent’s PLUS eligibility</a:t>
            </a:r>
            <a:endParaRPr b="0" lang="en-US" sz="24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A651-4C02-43CE-B973-D9D2940C22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86AC-D143-4608-A7D7-687E8FBA20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a:t>
            </a:r>
            <a:endParaRPr b="1" lang="en-US" sz="2800" spc="-1" strike="noStrike">
              <a:solidFill>
                <a:srgbClr val="cc5407"/>
              </a:solidFill>
              <a:latin typeface="Verdana"/>
            </a:endParaRPr>
          </a:p>
        </p:txBody>
      </p:sp>
      <p:sp>
        <p:nvSpPr>
          <p:cNvPr id="16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eligible and then ineligible in same academic year</a:t>
            </a:r>
            <a:endParaRPr b="0" lang="en-US" sz="2800" spc="-1" strike="noStrike">
              <a:solidFill>
                <a:srgbClr val="000000"/>
              </a:solidFill>
              <a:latin typeface="Verdana"/>
            </a:endParaRPr>
          </a:p>
          <a:p>
            <a:pPr lvl="1"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dditional unsubsidized amount originated      with disbursed PLUS amount counted in EF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ineligible and then eligible in same academic yea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Disbursed additional unsubsidized amount counted as EFA in PLUS eligibility and remaining Unsub disbursements cancelled </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DA26-38C4-42C5-8F47-E8C0BFDB18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B3B4-FD61-45C9-B98E-B47D05F190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Loan Origination: Multiple Disbursement Requirements</a:t>
            </a:r>
            <a:endParaRPr b="1" lang="en-US" sz="3200" spc="-1" strike="noStrike">
              <a:solidFill>
                <a:srgbClr val="cc5407"/>
              </a:solidFill>
              <a:latin typeface="Verdana"/>
            </a:endParaRPr>
          </a:p>
        </p:txBody>
      </p:sp>
      <p:sp>
        <p:nvSpPr>
          <p:cNvPr id="171" name=""/>
          <p:cNvSpPr txBox="1"/>
          <p:nvPr/>
        </p:nvSpPr>
        <p:spPr>
          <a:xfrm>
            <a:off x="304920" y="1523520"/>
            <a:ext cx="8534160" cy="4343400"/>
          </a:xfrm>
          <a:prstGeom prst="rect">
            <a:avLst/>
          </a:prstGeom>
          <a:noFill/>
          <a:ln w="0">
            <a:noFill/>
          </a:ln>
        </p:spPr>
        <p:txBody>
          <a:bodyPr anchor="t">
            <a:normAutofit fontScale="92000"/>
          </a:bodyPr>
          <a:p>
            <a:pPr marL="315360" indent="-315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requires: </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Multiple disbursement of loan over    loan period unless CDR exempt</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Substantially equal installments</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Interval between disbursements not less than one-half the loan period unless required for next semester, quarter, or similar term (SE9W)</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41E6-AA93-43A4-BB30-07D74C17D0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181D-E018-4709-91BF-2394366A54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oan Origination/Disbursement Options</a:t>
            </a:r>
            <a:r>
              <a:rPr b="1" lang="en-US" sz="2400" spc="-1" strike="noStrike">
                <a:solidFill>
                  <a:srgbClr val="cc5407"/>
                </a:solidFill>
                <a:latin typeface="Verdana"/>
              </a:rPr>
              <a:t>: – Unequal Costs in Standard or SE9W Term-Based Program</a:t>
            </a:r>
            <a:endParaRPr b="1" lang="en-US" sz="2400" spc="-1" strike="noStrike">
              <a:solidFill>
                <a:srgbClr val="cc5407"/>
              </a:solidFill>
              <a:latin typeface="Verdana"/>
            </a:endParaRPr>
          </a:p>
        </p:txBody>
      </p:sp>
      <p:sp>
        <p:nvSpPr>
          <p:cNvPr id="17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term origination with at least two substantially equal disbursements (2</a:t>
            </a:r>
            <a:r>
              <a:rPr b="0" lang="en-US" sz="2800" spc="-1" strike="noStrike" baseline="30000">
                <a:solidFill>
                  <a:srgbClr val="000000"/>
                </a:solidFill>
                <a:latin typeface="Verdana"/>
              </a:rPr>
              <a:t>nd</a:t>
            </a:r>
            <a:r>
              <a:rPr b="0" lang="en-US" sz="2800" spc="-1" strike="noStrike">
                <a:solidFill>
                  <a:srgbClr val="000000"/>
                </a:solidFill>
                <a:latin typeface="Verdana"/>
              </a:rPr>
              <a:t> at term midpoint) unless CDR exemp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origination with student-authorized refund/cancellation or partial cancellation of second/subsequent disbursement</a:t>
            </a:r>
            <a:endParaRPr b="0" lang="en-US" sz="2800" spc="-1" strike="noStrike">
              <a:solidFill>
                <a:srgbClr val="000000"/>
              </a:solidFill>
              <a:latin typeface="Verdana"/>
            </a:endParaRPr>
          </a:p>
        </p:txBody>
      </p:sp>
      <p:sp>
        <p:nvSpPr>
          <p:cNvPr id="1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BC95-6C62-411E-ABF4-C2166532FC6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4393-BE3F-43CE-9C7C-72003C1759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loan limits based on grade leve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grade level changes mid term</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le for up to difference between new and prior loan limit</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reate a new award at the new grade level</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ncrease grade level in existing awar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702F-974F-4B5E-8166-4792C47D9A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anchor="t">
            <a:normAutofit/>
          </a:bodyPr>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reate a new award at the new grade level</a:t>
            </a:r>
            <a:endParaRPr b="0" lang="en-US" sz="24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Grade Level 1 Award $350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750 2/12/2011</a:t>
            </a:r>
            <a:endParaRPr b="0" lang="en-US" sz="2000" spc="-1" strike="noStrike">
              <a:solidFill>
                <a:srgbClr val="000000"/>
              </a:solidFill>
              <a:latin typeface="Verdana"/>
            </a:endParaRPr>
          </a:p>
          <a:p>
            <a:pPr lvl="3" marL="16002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Grade Level 2 Award $100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2/12/2011</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4/12/2011</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ademic year would be the same as the original award but the loan period would be specific to the new award.</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AB1D-A910-4BF9-A33D-62EF7F6EC8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anchor="t">
            <a:normAutofit/>
          </a:bodyPr>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ncrease grade level in existing award</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Grade Level 1 Award $35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750 2/12/2011</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Grade Level 2 </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a response</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updated award amount of $45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2750 2/12/2011</a:t>
            </a:r>
            <a:endParaRPr b="0" lang="en-US" sz="2000" spc="-1" strike="noStrike">
              <a:solidFill>
                <a:srgbClr val="000000"/>
              </a:solidFill>
              <a:latin typeface="Verdana"/>
            </a:endParaRPr>
          </a:p>
          <a:p>
            <a:pPr lvl="3" marL="16002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ce updates had to be made mid year to address changes in eligibility, this unequal disbursement is allowed.</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DC2F-927C-4006-969E-C93EB2E6EE6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oan Amounts in COD</a:t>
            </a:r>
            <a:endParaRPr b="1" lang="en-US" sz="28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year Certificate Progra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lways first-year undergraduate loan limit even if consecutive one-year program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0 = 1st year, no prior loans</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1 = 1st year, prior loans</a:t>
            </a:r>
            <a:endParaRPr b="0" lang="en-US" sz="20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year Associate Degree Progra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maximum second-year undergraduate loan limit unless approved program normally completed in more than two academic year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2 = 2nd year undergraduate/sophomore </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4FAF-1C95-444B-A021-59A729A4D4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 edits performed at both the award and disbursement level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d by the academic year, earliest disbursement date, grade level, and dependency statu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flags are used for Unsubsidized limit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Unsubsidized Indicator</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lth Professions (HPPA)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paratory Coursework for Admission to a Graduate/Professional program/Teacher Certification (PPCI) </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B67D-5E1F-4933-B06A-CD84F8E54C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omplete amount needs to be reallocated</a:t>
            </a:r>
            <a:endParaRPr b="0" lang="en-US" sz="20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correct award needs to be inactivated (reduced to zero) and then originated using the correct loan typ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rease disbursement to zero</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rease the award to zero</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the respons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iginate the correct award amount as the correct loan type with the same disbursement dates as the original award </a:t>
            </a:r>
            <a:endParaRPr b="0" lang="en-US" sz="1800" spc="-1" strike="noStrike">
              <a:solidFill>
                <a:srgbClr val="000000"/>
              </a:solidFill>
              <a:latin typeface="Verdana"/>
            </a:endParaRPr>
          </a:p>
          <a:p>
            <a:pPr lvl="2" marL="1143000" indent="0">
              <a:lnSpc>
                <a:spcPct val="90000"/>
              </a:lnSpc>
              <a:spcBef>
                <a:spcPts val="99"/>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rtant Note: This can be done even after the end of the loan period as long as you are only reallocating. Even if the borrower only had one type of award and you have to originate the other type of award.</a:t>
            </a:r>
            <a:endParaRPr b="0" lang="en-US" sz="1800" spc="-1" strike="noStrike">
              <a:solidFill>
                <a:srgbClr val="000000"/>
              </a:solidFill>
              <a:latin typeface="Verdana"/>
            </a:endParaRPr>
          </a:p>
          <a:p>
            <a:pPr marL="34308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9779-E6F1-4A60-8D25-E2EA05FDDAF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 (cont.)</a:t>
            </a:r>
            <a:endParaRPr b="1" lang="en-US" sz="32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unsubsidized annual loan limit for undergraduate preparatory coursework increased from $4,000 to $6,000</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for graduate/professional preparatory coursework</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for teacher certification coursewor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undergraduate student without parent PLUS not eligible for both $2,000 and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00/$7,000 – only additional $6,000/$7,000 (same as independent)</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7A32-ABB2-46CE-8BEE-638E9F0129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2473-4E17-455A-B962-4CD6B353CE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7"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 should have been unsubsidized loan</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subsidized award $200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1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1</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disbursements to $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the respons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award amount to $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respons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te unsubsidized loan for $2000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1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1</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ame loan period as the original Subsidized loa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A643-E767-4700-8A1E-CEF1577198A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0"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art of the award needs to be reallocated from one type to the other</a:t>
            </a:r>
            <a:endParaRPr b="0" lang="en-US" sz="2000" spc="-1" strike="noStrike">
              <a:solidFill>
                <a:srgbClr val="000000"/>
              </a:solidFill>
              <a:latin typeface="Verdana"/>
            </a:endParaRPr>
          </a:p>
          <a:p>
            <a:pPr lvl="3" marL="1600200" indent="-228600">
              <a:lnSpc>
                <a:spcPct val="90000"/>
              </a:lnSpc>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disbursements</a:t>
            </a:r>
            <a:r>
              <a:rPr b="0" lang="en-US" sz="2200" spc="-1" strike="noStrike">
                <a:solidFill>
                  <a:srgbClr val="000000"/>
                </a:solidFill>
                <a:latin typeface="Verdana"/>
              </a:rPr>
              <a:t> </a:t>
            </a:r>
            <a:endParaRPr b="0" lang="en-US" sz="22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award amount</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award amount </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disbursements</a:t>
            </a:r>
            <a:endParaRPr b="0" lang="en-US" sz="1800" spc="-1" strike="noStrike">
              <a:solidFill>
                <a:srgbClr val="000000"/>
              </a:solidFill>
              <a:latin typeface="Verdana"/>
            </a:endParaRPr>
          </a:p>
          <a:p>
            <a:pPr lvl="3" marL="1600200" indent="0">
              <a:lnSpc>
                <a:spcPct val="90000"/>
              </a:lnSpc>
              <a:spcBef>
                <a:spcPts val="113"/>
              </a:spcBef>
              <a:spcAft>
                <a:spcPts val="113"/>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rtant Note: This can be done even after the end of the loan period as long as you are only reallocating. The disbursement dates should remain the sam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2D17-E0A7-4279-8BBF-AF26E70E5C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3"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0</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ward for $1000 </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2/12/2010</a:t>
            </a:r>
            <a:endParaRPr b="0" lang="en-US" sz="2000" spc="-1" strike="noStrike">
              <a:solidFill>
                <a:srgbClr val="000000"/>
              </a:solidFill>
              <a:latin typeface="Verdana"/>
            </a:endParaRPr>
          </a:p>
          <a:p>
            <a:pPr lvl="2" marL="1143000" indent="0">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have been Subsidized award for $1000 and Unsubsidized award for $2000</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39C7-7D25-4427-B42C-36D0E40F5F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6"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idized award for $2000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disbursements</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award to $1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award to $2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disbursements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8" name=""/>
          <p:cNvSpPr txBox="1"/>
          <p:nvPr/>
        </p:nvSpPr>
        <p:spPr>
          <a:xfrm>
            <a:off x="304920" y="1523520"/>
            <a:ext cx="8534160" cy="4343400"/>
          </a:xfrm>
          <a:prstGeom prst="rect">
            <a:avLst/>
          </a:prstGeom>
          <a:noFill/>
          <a:ln w="0">
            <a:noFill/>
          </a:ln>
        </p:spPr>
        <p:txBody>
          <a:bodyPr anchor="t">
            <a:normAutofit/>
          </a:bodyPr>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Subsidized and Unsubsidized disbursed on different dates</a:t>
            </a:r>
            <a:endParaRPr b="0" lang="en-US" sz="2000" spc="-1" strike="noStrike">
              <a:solidFill>
                <a:srgbClr val="000000"/>
              </a:solidFill>
              <a:latin typeface="Verdana"/>
            </a:endParaRPr>
          </a:p>
          <a:p>
            <a:pPr lvl="1" marL="743040" indent="-28584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0</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ward for $1000 </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9/2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2/22/2010</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have been Subsidized award for $1000 and Unsubsidized award for $200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C416-EE5F-4FAF-ABDD-3AA0A0B8FED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11" name=""/>
          <p:cNvSpPr txBox="1"/>
          <p:nvPr/>
        </p:nvSpPr>
        <p:spPr>
          <a:xfrm>
            <a:off x="304920" y="1523520"/>
            <a:ext cx="8534160" cy="4343400"/>
          </a:xfrm>
          <a:prstGeom prst="rect">
            <a:avLst/>
          </a:prstGeom>
          <a:noFill/>
          <a:ln w="0">
            <a:noFill/>
          </a:ln>
        </p:spPr>
        <p:txBody>
          <a:bodyPr anchor="t">
            <a:normAutofit/>
          </a:bodyPr>
          <a:p>
            <a:pPr lvl="1" marL="743040" indent="-28584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idized award for $2000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disbursements</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award to $1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marL="343080" indent="-3430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7D9B-2422-499A-98C8-06B3785128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14" name=""/>
          <p:cNvSpPr txBox="1"/>
          <p:nvPr/>
        </p:nvSpPr>
        <p:spPr>
          <a:xfrm>
            <a:off x="304920" y="1523520"/>
            <a:ext cx="8534160" cy="4343400"/>
          </a:xfrm>
          <a:prstGeom prst="rect">
            <a:avLst/>
          </a:prstGeom>
          <a:noFill/>
          <a:ln w="0">
            <a:noFill/>
          </a:ln>
        </p:spPr>
        <p:txBody>
          <a:bodyPr anchor="t">
            <a:normAutofit/>
          </a:bodyPr>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award to $2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disbursements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3 $500 9/2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4 $500 2/22/2010</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ember that the original disbursement was for $1000 on 9/12 and 2/12 so we want to show the Subsidized award was disbursed on those dates, so of the $1000 the student received on that date, $500 of it should have been unsubsidized.</a:t>
            </a:r>
            <a:endParaRPr b="0" lang="en-US" sz="1800" spc="-1" strike="noStrike">
              <a:solidFill>
                <a:srgbClr val="000000"/>
              </a:solidFill>
              <a:latin typeface="Verdana"/>
            </a:endParaRPr>
          </a:p>
          <a:p>
            <a:pPr marL="343080" indent="-34308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AD5B-D573-4D08-B845-5CD6D66129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2D6D-ED75-4BEE-A758-E7EDEC1E8EA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Loan Processing in COD</a:t>
            </a:r>
            <a:endParaRPr b="1" lang="en-US" sz="2800" spc="-1" strike="noStrike">
              <a:solidFill>
                <a:srgbClr val="cc5407"/>
              </a:solidFill>
              <a:latin typeface="Verdana"/>
            </a:endParaRPr>
          </a:p>
        </p:txBody>
      </p:sp>
      <p:sp>
        <p:nvSpPr>
          <p:cNvPr id="21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LUS Request is informational for the school</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s are always accepted</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pted PLUS Request (PLUS App) does NOT equal accepted Credit</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status must be looked at to determine credit eligibilit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decision is not based on an amou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rrowers are eligible for amount school determines</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has separate confirmation process that process overrides the PLUS Request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6AF6-DAFC-4E2E-8F17-C4D28CE646C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F4FB-B1A5-4B57-B379-1CFA6E3389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2" name="Text Box 4"/>
          <p:cNvSpPr/>
          <p:nvPr/>
        </p:nvSpPr>
        <p:spPr>
          <a:xfrm>
            <a:off x="533520" y="1447920"/>
            <a:ext cx="716256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ppreciate your feedback and comments.  We can be reached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m Moran</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one: 202-502-7732</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mail: Pamela.Moran@ed.gov</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x: 202-502-7873</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lie Aloisio</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one: 202-377-3695</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mail: </a:t>
            </a:r>
            <a:r>
              <a:rPr b="0" lang="en-US" sz="1800" spc="-1" strike="noStrike" u="sng">
                <a:solidFill>
                  <a:srgbClr val="000099"/>
                </a:solidFill>
                <a:uFillTx/>
                <a:latin typeface="Verdana"/>
                <a:hlinkClick r:id="rId1"/>
              </a:rPr>
              <a:t>Julie.Aloisio@ed.go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76E3-A594-4323-A719-00BF9393C03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 (cont.)</a:t>
            </a:r>
            <a:endParaRPr b="1" lang="en-US" sz="3200" spc="-1" strike="noStrike">
              <a:solidFill>
                <a:srgbClr val="cc5407"/>
              </a:solidFill>
              <a:latin typeface="Verdana"/>
            </a:endParaRPr>
          </a:p>
        </p:txBody>
      </p:sp>
      <p:sp>
        <p:nvSpPr>
          <p:cNvPr id="65"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graduate aggregate limi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Dependent students (except those with no parent PLU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1,000 ($23,000 maximum subsidized)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dependent students (includes dependent students with no parent PLU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57,500 ($23,000 maximum subsidized) </a:t>
            </a:r>
            <a:endParaRPr b="0" lang="en-US" sz="2400" spc="-1" strike="noStrike">
              <a:solidFill>
                <a:srgbClr val="000000"/>
              </a:solidFill>
              <a:latin typeface="Verdana"/>
            </a:endParaRPr>
          </a:p>
        </p:txBody>
      </p:sp>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BEDA-5B97-4060-82A7-A0C902F1C0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07F5-77DE-4DFF-9C2E-7B7643743A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pecial Loan Limit Rules</a:t>
            </a:r>
            <a:endParaRPr b="1" lang="en-US" sz="2800" spc="-1" strike="noStrike">
              <a:solidFill>
                <a:srgbClr val="cc5407"/>
              </a:solidFill>
              <a:latin typeface="Verdana"/>
            </a:endParaRPr>
          </a:p>
        </p:txBody>
      </p:sp>
      <p:sp>
        <p:nvSpPr>
          <p:cNvPr id="6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year Certificate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lways first-year undergraduate loan limit even if consecutive one-year programs * (See slide 7.)</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year Associate Degree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maximum second-year undergraduate loan limit unless approved program normally requires more than two academic years to comple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ration of annual loan limit for undergraduates (not required for grad/professional student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program less than academic year (AY) in length or remaining balance of program less than AY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430E-67C8-40ED-9269-9697E846F6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pecial Loan Limit Rules</a:t>
            </a:r>
            <a:endParaRPr b="1" lang="en-US" sz="2800" spc="-1" strike="noStrike">
              <a:solidFill>
                <a:srgbClr val="cc5407"/>
              </a:solidFill>
              <a:latin typeface="Verdana"/>
            </a:endParaRPr>
          </a:p>
        </p:txBody>
      </p:sp>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F809-1E87-44B9-9A2E-E946725D4D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400" spc="-1" strike="noStrike">
                <a:solidFill>
                  <a:srgbClr val="000000"/>
                </a:solidFill>
                <a:latin typeface="Verdana"/>
              </a:rPr>
              <a:t>Does not apply to certificate programs for which an associate or baccalaureate degree is required for admission, post-baccalaureate teacher certification programs, or graduate/professional certificate programs. DOES apply to remaining balance of a one-year certificate program even if that period exceeds school’s defined title IV academic yea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A874-136B-4C95-96FF-D6364F652C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itional Unsubsidized Limits for Certain Health Profession Students  </a:t>
            </a:r>
            <a:endParaRPr b="1" lang="en-US" sz="2800" spc="-1" strike="noStrike">
              <a:solidFill>
                <a:srgbClr val="cc5407"/>
              </a:solidFill>
              <a:latin typeface="Verdana"/>
            </a:endParaRPr>
          </a:p>
        </p:txBody>
      </p:sp>
      <p:sp>
        <p:nvSpPr>
          <p:cNvPr id="7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hange in annual/aggregate increased  unsubsidized loan limits for certain health profession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Vol. 3, CH 6 page 3-100 to 3-102 of 2009-10 FSA Handbook and DCL GEN-08-04, April 2008</a:t>
            </a:r>
            <a:endParaRPr b="0" lang="en-US" sz="2400" spc="-1" strike="noStrike">
              <a:solidFill>
                <a:srgbClr val="000000"/>
              </a:solidFill>
              <a:latin typeface="Verdana"/>
            </a:endParaRPr>
          </a:p>
        </p:txBody>
      </p:sp>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F69B-70A1-4E0A-A42E-3A308D9E2C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561A-3BFC-4D9A-9C5E-8F0BB5301B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8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s apply to academic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loan limit based on grade level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nly applies to standard term program or nonstandard with substantially equal terms of at least 9 weeks (SE9W)</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based on new grade level</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ew loan limit applies to term in which grade level progression takes place</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eligibility for up to difference between new and prior loan limit</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1FEF-C943-4CD0-9B47-361A15E164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2-15T18:59:15Z</dcterms:modified>
  <cp:revision>301</cp:revision>
  <dc:subject/>
  <dc:title>PowerPoint Presentation</dc:title>
</cp:coreProperties>
</file>