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7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8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9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1699-8BF3-4BA5-9E6D-F64B1BFC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FC52-5230-4FE0-A233-0BFD4BE0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37E9-4C45-4BE5-99AE-457ABDFB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7D0-EADC-47F2-BA87-28FAFF63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B87-F475-452E-AB21-975BD547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F55-328C-4535-B51C-1CF8F2CD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BB2-5405-4F9B-977B-0A227AD87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32DD-0D44-4A6B-91C3-F712959B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A401-C4FC-4390-8768-B5D0702F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531-D653-45BF-8378-170EA1681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34DA-BE3B-4A9A-86DB-7A0657E32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288E-C0D3-4888-AAAC-F8637A64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48C7-3952-45A2-9A51-4DFC995E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1F58-3995-486E-AAA0-FA2ED878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D6EA-B141-4956-BA06-2A2D629A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D1C-D864-49F6-B188-3305CAA9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1707-1B52-44AF-BD58-A3A696FE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6C4A-94E4-433C-8654-23257AEC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D4BC-C79B-4AA2-BA5D-165BAF9E5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D914-8304-4122-92D8-22A702B79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4643-3F0A-4BE0-8BEA-78A1559169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01C6A-F9A8-43CB-9426-7406E45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DDC8A-DF1F-4272-B705-C4ABB4F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CCD2-92EC-4313-9ED6-764D8EB8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EE9B2-30B3-4ABA-8786-93B4C41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D26462-7DC1-46F3-953E-AE47899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C7818-3C5F-419E-B024-DA255F1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78538-29BA-46A1-9C1E-60D6797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76BE5-84A0-4177-831D-A85FCBA6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24AE0-D1FE-4092-B595-40ACDFE9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6C14E5-C160-49CB-B074-C1E65E0EA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89DF-3218-4C48-82A5-11B84DBDAB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A9ED3-5043-4D41-8BA8-B4251136E2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4173F-3DB9-43DF-8B82-8D53CC439A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0B17F-CF22-42F7-BD4C-DD5B281A70C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14A5EB-ACBE-441E-812F-1319C2AA78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25531-BCC0-41A2-A321-2D4B57A40E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86614-E0FB-4B46-82A3-BA18A2B798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02FE8-789D-4C6B-8AE3-0B46B73C87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3CBAD2-2AE5-4661-840C-CC76D1E858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1935A-2219-4A4B-A8C3-987E807C8C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7F1E8-5702-4CD6-988B-8F45E9093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7E36-63FA-4FC6-BD0D-DC5C1561F1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7ABF1-7B2B-4681-8F34-4B32241DFF5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47156-5996-4014-BED1-8F010538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267E-F1F7-4F24-9212-6D93C7B8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301CC-731E-4EB8-9999-C15AFC3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2991E-3B4B-4823-9CED-A23F64E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28EE7-8511-4752-B014-4719585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6972-E870-4EA7-AAD2-1A3C143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0A24D-575B-4E1F-AEA7-A2D134E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BF9B-5DBE-4A2D-A619-166CFE2DE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E012-3587-4555-8629-89D9D64D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05484-F51F-4F5B-8A12-EFCD0E2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4DA4F-FE3F-4D10-AC02-754C5DE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3FD1A-6C9B-421F-B93E-ECAB5F80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5B2CA-3674-41A5-9A72-5DD64BD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1403C-2C8F-4960-AF7D-75515E53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9BDA0-A001-4FCF-9CC8-3246C4A8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5A733-E216-4F1A-B6D9-A50EC33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95DE1-5584-4CCD-8D12-E91745D7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570A1-6CF6-44D1-8176-520842E9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6D95-0AD8-4A83-AC7C-CA4B2DC962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92F87-1974-40CB-AFD0-A7C609BC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0900B-6778-4345-BA1A-8282B017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0D745-85DF-4CE8-8AB2-B6C6466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33A8E-2254-4F77-8E6F-5A93FAE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6D443-F9A9-45B3-925C-D08E483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85A5B-99C7-40B4-998B-AAFCF984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D6CAF9-B35E-47F7-8DFB-8280EA5E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00D40-074F-40F3-96DB-35DC769B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D3E02-26A4-4AE4-B997-BBFDB27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4164E-119F-47E5-A1D9-3E4A684D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7F8C-B57C-458D-83D6-787AB0407F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D0617-94C1-4D04-8105-C6ACD166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15A0E-7ADA-485E-A6E8-E63251F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8B93C-4A87-49BD-94EF-707E24AE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D6BF5-03D3-4211-B74B-46DD073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D2F73-40CF-45BE-A282-2D74019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A5CB5-2508-4113-8B1F-145F1CE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3C1E0-B015-4E51-B9B7-06C3D00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36B62-BC70-4A59-822B-2056AC67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BF4D7-C812-4B92-9372-410D02DC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37E01-9F02-4928-9B45-5E146E50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CDBD-571E-41E6-BBDA-470734B51F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5B292-12DD-4FB8-B511-C027858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4597E-78B2-4A62-852F-AFD6FB9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4E4346-6BF9-4FAC-9D85-C9A7A36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2D9A9-5E34-42F0-B721-3C97C797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52AB85-128A-481C-A6BE-378F1D19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584668-6DE9-420E-8DF7-4955153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580359-2A06-4B97-80C1-B4A3EBE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644E9-D9A1-41A4-A053-26334D8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0D5EF8-B694-4DCF-9955-88228A2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D00F5-01B4-471C-9006-9085C2F3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C887-F880-4CF9-AC03-E61F07E24E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C345FA-78EE-49B9-B790-95099498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CFAFB-AA94-4EA7-950F-5D99CF07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E5FED0-0309-4024-851B-CD4A2943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04EC7-E844-4D83-BF04-8F5FF23F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636A4-DBD8-43A5-8D7E-3311DF1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82B084-9EA0-47E7-B19B-D04D4C9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C00FD0-FB7C-47D8-96D9-0928B21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67E6BD-C432-4BB5-A257-E4592DA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49E9A-145A-4AEF-BDC6-A1B0F0E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95B71-563E-467E-B19F-EF6EF240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BC86-A7A2-4523-A185-C37CB6EAE6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E5553-3956-461F-92C6-642115B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BB5C2-1E47-4E77-BE60-BF222A4B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D8355-728E-4600-B1D0-99368D45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D26B58-BE01-4F24-B6CA-26E28946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A07D1-3FB1-4F32-8D3A-F6BF28B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C4032-5635-42F6-A0DE-6E1DAFD7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B6C5D-539C-4F2A-BC77-0BD83CD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FF4AE4-84A8-4E0E-AE30-8B3D6B0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128BD-E033-4172-AA71-8DF6D25E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B47182-939D-40DB-A548-6FF2876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009A-9D9F-4B95-B79A-7CE8BB37C6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E1C77-9663-4EEA-BD25-20965C1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7E0FAA-BA6A-4F18-A374-8D59F4D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B5D82-8213-4D4F-AEAC-697305E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BA75F-582E-412A-9AA1-FBBDE216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66F58B-E6A7-4E1C-BA62-ACDAECD2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FFC8D-6265-4772-B8D6-9994FAE3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544656-BDBE-401E-9B8F-791B5AE0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1710DF-E59F-448C-8EE4-850A7A65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DBF448-9653-4046-AC7B-0E9BBA1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EEEFE-6917-49D6-B4E9-0D65F23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2627-D632-4785-9F47-83BD43242D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9FB3B-25A0-4CF6-887D-12CBD416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F1499-D0B8-4C5B-B7BD-AA1A012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E25CC-4646-4E37-AA50-7E57B83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7091C-7396-473A-9F49-7A192315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4D70C-015B-4095-8508-0C74426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436D2-03BD-4CD8-9EA6-F3D0298B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2F8031-4AE4-4E58-85F6-9177B832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45B29-B9FE-4BDB-805A-62B16FE9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B35C8-3177-4435-B56E-911673A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81BCD-7AB4-4C0A-8EBF-B13D79AF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9BA9-586D-4A84-853E-2F109A0ED2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30C1-9DCF-47E6-B2BB-7696A0D7D2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6E81-FB0D-47D8-A844-CAF5CEF4A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backdrop2007"/>
          <p:cNvPicPr/>
          <p:nvPr/>
        </p:nvPicPr>
        <p:blipFill>
          <a:blip r:embed="rId4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5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4-color R Logo"/>
          <p:cNvPicPr/>
          <p:nvPr/>
        </p:nvPicPr>
        <p:blipFill>
          <a:blip r:embed="rId6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ight Triangle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4" name="Freeform 18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Freeform 2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7" name="Freeform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Straight Connector 22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D00-FCAD-4193-86F4-840DEF2291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150" name="Chevron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hevron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87B-FBA2-4248-AE31-30E50714C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01E-EEAA-4597-9150-F199F8D836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32C-3E35-47A4-9977-3FF85F95D7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backdrop2007"/>
          <p:cNvPicPr/>
          <p:nvPr/>
        </p:nvPicPr>
        <p:blipFill>
          <a:blip r:embed="rId5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4-color R Logo"/>
          <p:cNvPicPr/>
          <p:nvPr/>
        </p:nvPicPr>
        <p:blipFill>
          <a:blip r:embed="rId7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955-DF0E-424B-B5AF-0834BCC79F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72D3-B834-49B6-B5F4-5C0016171E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reeform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Right Triangle 18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8" name="Right Triangle 18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Straight Connector 19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1" name="Chevron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Chevron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2296-2AC0-482E-BE9B-5CC79021A8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0880" y="2895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Jeff Baker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Barbara Mroz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avid Rhodes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nne Tuccillo, U.S. Department of Educ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AD93-3F15-4B3D-9F3B-D2212BC1B4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Title 3" descr=""/>
          <p:cNvPicPr/>
          <p:nvPr/>
        </p:nvPicPr>
        <p:blipFill>
          <a:blip r:embed="rId1"/>
          <a:stretch/>
        </p:blipFill>
        <p:spPr>
          <a:xfrm>
            <a:off x="115920" y="530280"/>
            <a:ext cx="88088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6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59C7-B29B-44D8-9F0A-3A290367B7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Content Placeholder 6" descr=""/>
          <p:cNvPicPr/>
          <p:nvPr/>
        </p:nvPicPr>
        <p:blipFill>
          <a:blip r:embed="rId2"/>
          <a:stretch/>
        </p:blipFill>
        <p:spPr>
          <a:xfrm>
            <a:off x="426960" y="1474920"/>
            <a:ext cx="8296200" cy="4535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3505320" y="2971800"/>
            <a:ext cx="2286000" cy="1676520"/>
          </a:xfrm>
          <a:prstGeom prst="rect">
            <a:avLst/>
          </a:prstGeom>
          <a:solidFill>
            <a:srgbClr val="92d05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Improve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Content Placeholder 5" descr=""/>
          <p:cNvPicPr/>
          <p:nvPr/>
        </p:nvPicPr>
        <p:blipFill>
          <a:blip r:embed="rId1"/>
          <a:stretch/>
        </p:blipFill>
        <p:spPr>
          <a:xfrm>
            <a:off x="530280" y="1292400"/>
            <a:ext cx="8394480" cy="453528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6CF-E54E-402A-A94C-DA7C12587F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Title 3" descr=""/>
          <p:cNvPicPr/>
          <p:nvPr/>
        </p:nvPicPr>
        <p:blipFill>
          <a:blip r:embed="rId2"/>
          <a:stretch/>
        </p:blipFill>
        <p:spPr>
          <a:xfrm>
            <a:off x="195120" y="29844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9835-F727-43AC-A11B-F7C5E22792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568" name="Diagram 7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1219320"/>
          <a:ext cx="8001000" cy="48466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ication exemptions 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bi-annual random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es but only 5 items (TBD by FS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IR Analysis Tool has 11 reports and an ad hoc 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IR Analysis Tool generates dashboard views, tailored to each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wide 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and provide ED most effective verification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570" name="Text Box 24"/>
          <p:cNvSpPr/>
          <p:nvPr/>
        </p:nvSpPr>
        <p:spPr>
          <a:xfrm>
            <a:off x="609480" y="6094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1600200" y="457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resen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chool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C29-EBC9-4124-B649-E0699895D8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Diagram 6" descr=""/>
          <p:cNvPicPr/>
          <p:nvPr/>
        </p:nvPicPr>
        <p:blipFill>
          <a:blip r:embed="rId1"/>
          <a:stretch/>
        </p:blipFill>
        <p:spPr>
          <a:xfrm>
            <a:off x="1427040" y="1639800"/>
            <a:ext cx="62485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Content Placeholder 5" descr="WFServlet.png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4724280"/>
          </a:xfrm>
          <a:prstGeom prst="rect">
            <a:avLst/>
          </a:prstGeom>
          <a:ln w="0">
            <a:noFill/>
          </a:ln>
        </p:spPr>
      </p:pic>
      <p:pic>
        <p:nvPicPr>
          <p:cNvPr id="576" name="Title 1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7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E922-8FBB-47C8-A0B0-605ED46B45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Content Placeholder 5" descr="ActiveReportsnapshot.png"/>
          <p:cNvPicPr/>
          <p:nvPr/>
        </p:nvPicPr>
        <p:blipFill>
          <a:blip r:embed="rId1"/>
          <a:stretch/>
        </p:blipFill>
        <p:spPr>
          <a:xfrm>
            <a:off x="457200" y="1531800"/>
            <a:ext cx="8229600" cy="4424400"/>
          </a:xfrm>
          <a:prstGeom prst="rect">
            <a:avLst/>
          </a:prstGeom>
          <a:ln w="0">
            <a:noFill/>
          </a:ln>
        </p:spPr>
      </p:pic>
      <p:pic>
        <p:nvPicPr>
          <p:cNvPr id="579" name="Title 1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645-E77F-41A8-8FBA-E139253010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46D-6C2D-470F-9282-BFDC1110A7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Title 7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583" name="Diagram 9" descr=""/>
          <p:cNvPicPr/>
          <p:nvPr/>
        </p:nvPicPr>
        <p:blipFill>
          <a:blip r:embed="rId2"/>
          <a:stretch/>
        </p:blipFill>
        <p:spPr>
          <a:xfrm>
            <a:off x="1517760" y="1365120"/>
            <a:ext cx="61084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isit our website at: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6287"/>
                </a:solidFill>
                <a:uFillTx/>
                <a:latin typeface="Verdana"/>
                <a:ea typeface="Verdana"/>
              </a:rPr>
              <a:t>QA Program Websi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- http://ifap.ed.gov/qualityassura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ant to apply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ederal Register published on 2/26/2008 by clicking on the following link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ttp://ifap.ed.gov/fregisters/FR022620081.htm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.  Watch for the new notice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F2A-466A-4234-9445-2E6228AB0C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B0F-16C7-4972-AF6E-0C85672A7B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533520" y="1447920"/>
            <a:ext cx="716256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28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Jeff B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: 202-377-4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Jeff.Baker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28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Barbara Mr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:202-377-43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Barbara.Mroz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28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David Rhodes</a:t>
            </a: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: 202-377-30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David.Rhodes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28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Anne Tuccillo</a:t>
            </a:r>
            <a:r>
              <a:rPr b="0" lang="en-US" sz="2000" spc="-1" strike="noStrike">
                <a:solidFill>
                  <a:srgbClr val="006287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:202-377-4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nne.Tuccillo@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hange to Verification is Coming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E8B-E9F9-480F-B0F5-C60E826B96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999-73F1-4728-9B3A-2D9077ED1C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Rectangle 1026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pic>
        <p:nvPicPr>
          <p:cNvPr id="533" name="Diagram 4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547120" cy="1311120"/>
          </a:xfrm>
          <a:prstGeom prst="rect">
            <a:avLst/>
          </a:prstGeom>
          <a:ln w="0">
            <a:noFill/>
          </a:ln>
        </p:spPr>
      </p:pic>
      <p:pic>
        <p:nvPicPr>
          <p:cNvPr id="534" name="Diagram 17" descr=""/>
          <p:cNvPicPr/>
          <p:nvPr/>
        </p:nvPicPr>
        <p:blipFill>
          <a:blip r:embed="rId3"/>
          <a:stretch/>
        </p:blipFill>
        <p:spPr>
          <a:xfrm>
            <a:off x="1189080" y="1390680"/>
            <a:ext cx="6589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Content Placeholder 5" descr=""/>
          <p:cNvPicPr/>
          <p:nvPr/>
        </p:nvPicPr>
        <p:blipFill>
          <a:blip r:embed="rId1"/>
          <a:stretch/>
        </p:blipFill>
        <p:spPr>
          <a:xfrm>
            <a:off x="396720" y="1474920"/>
            <a:ext cx="8326440" cy="4535280"/>
          </a:xfrm>
          <a:prstGeom prst="rect">
            <a:avLst/>
          </a:prstGeom>
          <a:ln w="0">
            <a:noFill/>
          </a:ln>
        </p:spPr>
      </p:pic>
      <p:pic>
        <p:nvPicPr>
          <p:cNvPr id="536" name="Title 2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56E8-0944-4245-81EF-E227C54DF9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72B-0014-4EF6-B5C9-4367679E81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44792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rdens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your work 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driv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icated analysis t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-based and intuitive 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am revi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exempt from revi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public universities over-repres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types of schools repres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540" name="Text Box 28"/>
          <p:cNvSpPr/>
          <p:nvPr/>
        </p:nvSpPr>
        <p:spPr>
          <a:xfrm>
            <a:off x="914400" y="762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Pas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le 4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27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 fontScale="8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Regul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04920" y="1444320"/>
            <a:ext cx="41925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668.53(a)(1)through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668.54(a)(1)(2)and(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668.56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668.5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668.60(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olicies and Proced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pplicants to be verifi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tems to be verifi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cceptable Docu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adlines for submitting documen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460-FFDB-4D3D-9982-2FA273A9A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erification Requiremen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040280" cy="792000"/>
          </a:xfrm>
          <a:prstGeom prst="rect">
            <a:avLst/>
          </a:prstGeom>
          <a:solidFill>
            <a:srgbClr val="3fc8ff"/>
          </a:solidFill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gulations  you MUST Comply Wi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041720" cy="762120"/>
          </a:xfrm>
          <a:prstGeom prst="rect">
            <a:avLst/>
          </a:prstGeom>
          <a:solidFill>
            <a:srgbClr val="3fc8ff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quired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0520" y="22093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68.53(a),(5)(b)(1)(2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8.54(a)(3) and (5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8.5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8.5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68.5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495320" y="1905120"/>
            <a:ext cx="404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and Proced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licting data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tion exemp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im disburs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quences of a change in applican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A4D-1DA4-4D9A-B451-0A64492836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will Verification Look Lik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4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C3C2-A87D-4CA8-9CBC-3A77F03DBF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33520" y="1447920"/>
          <a:ext cx="8305560" cy="448776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ity Assurance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7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100%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etermines who to verif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-2012 Verify all 5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etermines items to verif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ptable documentation as prescribed in regu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determines acceptable doc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d 100% corrections/changes thru 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d 100% corrections/changes thru 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 analyzes national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ine templates present school’s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 conducts program-wide analysis, identifies best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450720" y="1438200"/>
            <a:ext cx="8242560" cy="4602240"/>
          </a:xfrm>
          <a:prstGeom prst="rect">
            <a:avLst/>
          </a:prstGeom>
          <a:ln w="0">
            <a:noFill/>
          </a:ln>
        </p:spPr>
      </p:pic>
      <p:pic>
        <p:nvPicPr>
          <p:cNvPr id="557" name="Title 2" descr=""/>
          <p:cNvPicPr/>
          <p:nvPr/>
        </p:nvPicPr>
        <p:blipFill>
          <a:blip r:embed="rId2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55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963-99A9-462E-BAA5-6B9EA82FEF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2-07T16:07:29Z</dcterms:modified>
  <cp:revision>354</cp:revision>
  <dc:subject/>
  <dc:title>PowerPoint Presentation</dc:title>
</cp:coreProperties>
</file>