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1F07-B882-4AA7-B0CB-B7DCB1336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0036-A6C9-4047-A443-7EE409E28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AE44-D477-4357-8942-09C2FD065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7C44-90B9-43E9-8DB6-D2296EFF5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D79D-F15C-4D40-ADBE-723978E3E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73D5-7088-46B7-967F-2230820DAB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4964-0FBF-48B4-8F17-12BC3D9FFE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D227-375F-4876-9D54-462D6C75B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48D1-46CC-41EA-9B87-8F4EAAA4A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F2CE-DAD5-4614-BD9D-6FAE3CC33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1701-21DB-4911-9F88-91C872318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1DDA-9BCE-4380-9759-F7D82FCD0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CEE1-521D-4038-993B-4772861FC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C2EC-6EB7-4F8C-A613-90E7F7AB1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E9E7-1356-4106-85F6-1F3605F67BC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51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y Can’t We Be Friends: Students &amp; Social Med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san Tha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icole Calla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la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resources do you have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ent (text, vide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content strate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 traditional messaging &amp; rewrite for Web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sis management/handling negative sentiment &amp; mistak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66EB-0362-40C7-B20E-F7FD06E16A9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reat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just a duplication of your webs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 INTERACTIV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great conversation star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relevant keywords in “About Us” b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 button should include your key social s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 FAQs and Photo Tab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e-mail to announce your p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5334-A84F-42B4-B62E-9DBEE3B83D8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0731-491D-47A1-8783-F944ED572C1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amples from Schoo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12019" t="0" r="27563" b="0"/>
          <a:stretch/>
        </p:blipFill>
        <p:spPr>
          <a:xfrm>
            <a:off x="1523880" y="1371600"/>
            <a:ext cx="571500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EA7F-CEF4-4E91-B1B9-0EF7651401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amples from Schoo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rcRect l="11859" t="0" r="28048" b="0"/>
          <a:stretch/>
        </p:blipFill>
        <p:spPr>
          <a:xfrm>
            <a:off x="1447920" y="1371600"/>
            <a:ext cx="579096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9672-CAE3-44E1-859E-1865FF14C29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ways to use Facebook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us Up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, links, pho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et the customer where they 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"/>
              </a:spcBef>
              <a:spcAft>
                <a:spcPts val="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ebook Ev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mote Financial Aid Events/Dead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sy to sh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2"/>
              </a:spcBef>
              <a:spcAft>
                <a:spcPts val="62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cebook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&amp; keep track of common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 out Formspring as w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rten your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uture of Facebook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ebook founder declares e-mail is almost dead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ounces a new platform that will integrate all the following into one inbo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 phone tex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ebook mess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67BE-5DA2-4270-A348-DC7DB685296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7515-1231-4E30-915F-03C8C91CA18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amples from Schoo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rcRect l="11059" t="0" r="12340" b="0"/>
          <a:stretch/>
        </p:blipFill>
        <p:spPr>
          <a:xfrm>
            <a:off x="1295280" y="1371600"/>
            <a:ext cx="5943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C5D8-A218-4221-8B2B-29832DB450C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 ways to use Twitte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llow Pertinent F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, university departments, FinAid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"/>
              </a:spcBef>
              <a:spcAft>
                <a:spcPts val="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your students say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is just noise, but some feedback is constru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2"/>
              </a:spcBef>
              <a:spcAft>
                <a:spcPts val="62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followers your advoc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in respect through involv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be a rob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"/>
              </a:spcBef>
              <a:spcAft>
                <a:spcPts val="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eld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ther Tool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l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tional Blo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gspot, Wordp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umbl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ocial check-in s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ebook Pl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squ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wal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VNG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C6E2-92EC-400A-BDA3-1921BB73E39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omot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ebook and Twitter icons on your web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-promo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sts contests to gain foll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your website to push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students, faculty, alums your advoc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9F18-67A9-42E7-981F-B04186B994F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hifts in Communi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longer a one way str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lennials are the heaviest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by Boomers are the fastest growing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now spend more time on social networking sites than on e-ma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6727-4070-404F-B981-0180E4CBA2D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curity &amp; Privac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ally Identifiable Information (PI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vacy sett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urage students to use ca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edia is publ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BCB7-5F56-41AD-B604-3C830F7DFAB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tay in the Know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sh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Media To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Crun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xt W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Media Exami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scinating Social Media Facts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1 Creative Ways to Increase Your Facebook Fan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79A8-70CB-4CC3-B770-1F64B68FB9A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771A-A468-4057-8E64-E931C92CE69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3520" y="1447920"/>
            <a:ext cx="716256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san Th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hone: 202-377-43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E-mail: Susan.Thares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witter: @Thares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icole Calla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hone: 202-377-4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E-mail: Nicole.Callahan@ed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witter: @nac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2009 Social Media Survey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veyed financial aid administ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ebook, Texting, and YouTube were the most widely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were blocked from accessing social media sites at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social media more in their personal l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1660-2A87-4CEE-9AA0-B018548F807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acebook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ebook has over 500 million us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Facebook were a country it would be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arg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verage Facebook user spen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5 minutes a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.5 hours a 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2 days a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than 30 billion pieces of content shared each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7CF9-27EA-4260-BD10-B1D6B8C344B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YouTube &amp; Twitte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ouTu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eives over 2 billion viewers each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 hours of video uploaded every min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than half of YouTube users are under age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watch all the videos currently on YouTube, a person has to live for around 1,000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wi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0% of Twitter users use Twitter on mobile de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 50 million tweets in 20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 100 million current us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97AC-FB1A-4D5F-9242-426E7A6C72D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’s in it for You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eting students where they 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r reach with fewer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questio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rter 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s you a competi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you’re not out there, who i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FB97-F311-48F5-9060-E09939C0139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isten First!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important to know what is being said about you before you dive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word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forget misspell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gle Ale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M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otsu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DB2B-6B1B-44F8-ACDD-3E591CE826E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6F75-2993-4275-BFB6-0BCEFAE578A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istening Tools: Social Men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960" b="0"/>
          <a:stretch/>
        </p:blipFill>
        <p:spPr>
          <a:xfrm>
            <a:off x="304920" y="1523880"/>
            <a:ext cx="853416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Rectangle 5"/>
          <p:cNvSpPr/>
          <p:nvPr/>
        </p:nvSpPr>
        <p:spPr>
          <a:xfrm>
            <a:off x="380880" y="4267080"/>
            <a:ext cx="91440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828800" y="1752480"/>
            <a:ext cx="91440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57200" y="3657600"/>
            <a:ext cx="91440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3B58-7DD9-4267-AF27-E8F0AA73B61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istening Tools: Google Aler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rcRect l="0" t="0" r="32693" b="0"/>
          <a:stretch/>
        </p:blipFill>
        <p:spPr>
          <a:xfrm>
            <a:off x="1828800" y="1447920"/>
            <a:ext cx="4952880" cy="41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User</cp:lastModifiedBy>
  <dcterms:modified xsi:type="dcterms:W3CDTF">2010-11-30T19:34:47Z</dcterms:modified>
  <cp:revision>364</cp:revision>
  <dc:subject/>
  <dc:title>PowerPoint Presentation</dc:title>
</cp:coreProperties>
</file>