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wmf" ContentType="image/x-wmf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15.png" ContentType="image/png"/>
  <Override PartName="/ppt/media/image24.jpeg" ContentType="image/jpeg"/>
  <Override PartName="/ppt/media/image10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5EE9-0796-44BC-AE00-EA27E90DD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CB8D-3D1F-4D43-A699-CDAEF360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761D-B27C-4E9C-8AC3-EB907AE09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F78-9B39-497E-B5D7-C1C3295A7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056F-8ABD-4EF6-9CB1-C53D92D3E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7F03-BC82-489E-ABC2-9381DEB6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A375-461C-4AC5-B5E5-72FB5EAB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A61-188B-4ABB-9103-BAC154C8D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C1BD-38CF-4BD2-B10E-4A7CB991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0B8D-5F50-4E09-B5C2-113684983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4DA1-24F6-4748-B38D-EF2D57973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772B-C819-42BE-8321-424054ADC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19C-E9E1-418A-9FC8-E65C55660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F25F-D484-47F8-BCD4-210C2F18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C3AE-BE63-4905-B4B5-C2CFD119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95C3-B235-4049-9A21-C1C73106B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3D88-E0DA-4CFF-9D43-4943FA482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727C-448C-49C9-9939-CD412E9EE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44D-F7DA-44FA-B70F-12CA6125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93240" y="4441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2B96-2A12-433A-8AE2-2D4C95C3B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C4F4-320E-488F-87ED-AAFF7C5C5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E1DA-52BA-48A0-8C1B-A576EDC08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Notes Placeholder 4"/>
          <p:cNvSpPr/>
          <p:nvPr/>
        </p:nvSpPr>
        <p:spPr>
          <a:xfrm>
            <a:off x="934920" y="4416480"/>
            <a:ext cx="514044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9DA-CB14-4D26-B669-6C368A9C0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0FB4-A500-4364-8B32-F0C6CD80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39ED-DB5A-41FF-BE39-472F60FE7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91B2-B90C-4411-AD55-21C33B65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D87-EA15-4A26-986C-AADAAF6CD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3CA-92E0-468A-8793-775C61F5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699-535B-4A91-8937-508D4A35A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8975-DA5D-4A04-B1EA-6CE9E45F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C658-2E62-4953-B7F9-B922166C2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89BD-1A63-40C2-A4BB-33B583792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0177-9CCB-49C9-B210-90602EFB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3C91-6896-44EE-A1D3-72932AAFD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4E35-8A9C-4239-8973-62DB14AD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E064-5810-4104-AB5A-1DA9055E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35CE-8D89-4019-A90A-DEA9D5A4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C06C-E922-4040-AE90-871F191C2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2347-FC21-410F-BBBC-70DD2EAE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C3BC-98A9-4A58-B141-FA0B9B5B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1321-070A-410B-8B60-18FFF594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1471-EC7F-4D70-87CF-ACBCC47C4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4BCF-7402-4203-8D73-1559A4942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8D7D-0F75-406F-9813-D1BFDF5C1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DC0A-078C-4819-B8FC-40C09E885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22E6-D261-4FA8-A9E6-C4082A3FF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36E8C-A0EA-48EC-81D4-93B31D42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D1CDE-FCCD-41C5-95BC-9D566696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ED45D-E484-4438-8A9B-531F48E9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6D0C-65A0-44A1-B94B-3BB5D5F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A6D66-25A4-4A06-A930-1CEF2C0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C9C60-F7A3-41A6-A468-105F95D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B5941-A5FD-4781-AE98-44EE065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81D1-FAD7-4F3F-89B9-38FF255B5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FA82B-6B8C-4F9F-8A5C-E4F924D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F09A0-2F52-4950-8BEB-65BF50D4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4E46C-C35E-4A7E-8299-8D0836A7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D0DB2-E583-4838-811F-434E1CD9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5D37A-F8DB-484E-9A20-67C246A2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C88C-56E3-47E1-BD3A-AAC10BD44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1FA5-29F1-470D-8EB3-86BED00A3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AB20-DE38-4B51-8778-B05F82CB1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5DDA-42DC-4267-BE55-E41F2A0BA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949A-DA63-473E-9B0A-62DBD809F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6577-F99B-4CF3-917C-F2802451E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AAC3-4B2C-4EC1-A5D5-9506EB755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5D00-4EA7-4F17-8950-867BB8E0CD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595A-DC58-452C-9570-D5ADF35B48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fap.ed.gov/nsldsmaterials/attachments/NSLDSNewsletter27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3dlabz.com/images/3d-rendering-architectural/geir-landscape-design3-big.jpg&amp;imgrefurl=http://www.3dlabz.com/3d-landscape-design.htm&amp;usg=__QO6ZT4LHXCzjbGg2aUT0yfFm1vU=&amp;h=465&amp;w=778&amp;sz=203&amp;hl=en&amp;start=87&amp;zoom=1&amp;um=1&amp;itbs=1&amp;tbnid=QM6kejUS2BIItM:&amp;tbnh=85&amp;tbnw=142&amp;prev=/images%3Fq%3Dlandscape%2Bdesign%26start%3D80%26um%3D1%26hl%3Den%26sa%3DN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3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236232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ssentials of Feder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udent Loan Servi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ynthia Batt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62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NSLDS Delinquency Report</a:t>
            </a:r>
            <a:br>
              <a:rPr sz="4000"/>
            </a:b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50"/>
              </a:spcBef>
              <a:spcAft>
                <a:spcPts val="150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delinquency information by school for the four additional servic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50"/>
              </a:spcBef>
              <a:spcAft>
                <a:spcPts val="150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PUT and Direct Loans held by the four additional servi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50"/>
              </a:spcBef>
              <a:spcAft>
                <a:spcPts val="150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various data fil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50"/>
              </a:spcBef>
              <a:spcAft>
                <a:spcPts val="150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ailable on NSLDS Professional Access 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28600" y="5334120"/>
            <a:ext cx="8763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Verdana"/>
                <a:ea typeface="Verdana"/>
                <a:hlinkClick r:id="rId1"/>
              </a:rPr>
              <a:t>http://ifap.ed.gov/nsldsmaterials/attachments/NSLDSNewsletter27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75E0-9171-4C45-BFC1-5E89259E59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ervicer Report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greater level of deta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ers customization op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only loans serviced by that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C997-16D9-4C8A-9101-9653679B3F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D514-7AA1-4667-8086-CE1694C527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7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76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ervicing Landsc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799"/>
              </a:spcBef>
              <a:spcAft>
                <a:spcPts val="3600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onsistency vs. Compet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ervicer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Hot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" descr="http://t3.gstatic.com/images?q=tbn:ANd9GcS3SWiVv06gf22FLSBYIAfPi6-x6lAWq29FCDaXDyg5eJk5qZs&amp;t=1&amp;usg=__Tjh9aNPte2JChdtkCwFVFKEwJfk="/>
          <p:cNvPicPr/>
          <p:nvPr/>
        </p:nvPicPr>
        <p:blipFill>
          <a:blip r:embed="rId1"/>
          <a:srcRect l="0" t="0" r="0" b="20012"/>
          <a:stretch/>
        </p:blipFill>
        <p:spPr>
          <a:xfrm>
            <a:off x="6477120" y="1295280"/>
            <a:ext cx="2457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Documents and Settings\tuan.huynh\Local Settings\Temporary Internet Files\Content.IE5\SNBED30G\MCj04155740000[1].wmf"/>
          <p:cNvPicPr/>
          <p:nvPr/>
        </p:nvPicPr>
        <p:blipFill>
          <a:blip r:embed="rId1"/>
          <a:stretch/>
        </p:blipFill>
        <p:spPr>
          <a:xfrm>
            <a:off x="3048120" y="2666880"/>
            <a:ext cx="2881080" cy="2149560"/>
          </a:xfrm>
          <a:prstGeom prst="rect">
            <a:avLst/>
          </a:prstGeom>
          <a:ln w="0">
            <a:noFill/>
          </a:ln>
        </p:spPr>
      </p:pic>
      <p:pic>
        <p:nvPicPr>
          <p:cNvPr id="134" name="Diagram 5" descr=""/>
          <p:cNvPicPr/>
          <p:nvPr/>
        </p:nvPicPr>
        <p:blipFill>
          <a:blip r:embed="rId2"/>
          <a:stretch/>
        </p:blipFill>
        <p:spPr>
          <a:xfrm>
            <a:off x="268200" y="1371600"/>
            <a:ext cx="8875800" cy="5121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Direct Loan Processing Cycl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grpSp>
        <p:nvGrpSpPr>
          <p:cNvPr id="136" name="Left Arrow 6"/>
          <p:cNvGrpSpPr/>
          <p:nvPr/>
        </p:nvGrpSpPr>
        <p:grpSpPr>
          <a:xfrm>
            <a:off x="1816200" y="4029120"/>
            <a:ext cx="482400" cy="250920"/>
            <a:chOff x="1816200" y="4029120"/>
            <a:chExt cx="482400" cy="250920"/>
          </a:xfrm>
        </p:grpSpPr>
        <p:pic>
          <p:nvPicPr>
            <p:cNvPr id="137" name="Left Arrow 6" descr=""/>
            <p:cNvPicPr/>
            <p:nvPr/>
          </p:nvPicPr>
          <p:blipFill>
            <a:blip r:embed="rId3"/>
            <a:stretch/>
          </p:blipFill>
          <p:spPr>
            <a:xfrm>
              <a:off x="1816200" y="4029120"/>
              <a:ext cx="4824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 rot="10800000">
              <a:off x="1828440" y="4095720"/>
              <a:ext cx="3999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rvicers comply with legislative regulatory requirements and provide unique serv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ducate and inform borrowers as to the tools and options available to assist them in the management of their student loa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er multiple repayment options tailored to borrower preferences (i.e. Online payments, ACH, check, etc.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 self-service tools for borrowers and options for receiving bills and/or correspondence electronical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er dedicated services to schools to help                 manage cohort default rat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3808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ur Servic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1FEA-665D-425A-A75B-4420EB70CE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E326-B220-4937-AEC1-D2BC4D2270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Diagram 5" descr=""/>
          <p:cNvPicPr/>
          <p:nvPr/>
        </p:nvPicPr>
        <p:blipFill>
          <a:blip r:embed="rId1"/>
          <a:stretch/>
        </p:blipFill>
        <p:spPr>
          <a:xfrm>
            <a:off x="749160" y="1590840"/>
            <a:ext cx="7272360" cy="4170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Verdana"/>
              </a:rPr>
              <a:t>Consisten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vs. Competi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37D-6AFA-4764-B10D-49A12EF18A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0880" y="21337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5407"/>
                </a:solidFill>
                <a:latin typeface="Verdana"/>
              </a:rPr>
              <a:t>On-Boarding new Direct and PUT Lo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elcome” letters to borrowers as loans are load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r new school “Welcome Packet” and set-up/training pro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5407"/>
                </a:solidFill>
                <a:latin typeface="Verdana"/>
              </a:rPr>
              <a:t>Servic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pport all repayment plans, deferment/forbearance types and counsel and refer borrowers to Direct Loan Consolid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vide websites with online self-service tools for borrowers/schoo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itted to providing “Best Practices” in loan servic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SLDS updates are received and reported timely and are highly accur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04920" y="14479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Servicers must comply with all legislative and regulatory requirements and will provide unique best in busines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Verdana"/>
              </a:rPr>
              <a:t>Consisten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vs. Competi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1114-255A-431F-A12B-CA6B1CF14A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5407"/>
                </a:solidFill>
                <a:latin typeface="Verdana"/>
              </a:rPr>
              <a:t>Payment Process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ndate to use U.S. Department of Education’s lockbox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 late fees or NSF charges to borrow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5407"/>
                </a:solidFill>
                <a:latin typeface="Verdana"/>
              </a:rPr>
              <a:t>Resolving Split Borrow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andardized inter-servicer transfer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requent FSA mandated serial transfers that bring federally-owned loans for a borrower together at a single servic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5407"/>
                </a:solidFill>
                <a:latin typeface="Verdana"/>
              </a:rPr>
              <a:t>Delinquency &amp; Default Aver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form all required regulatory due diligence up to 360 days delinqu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vide schools reports and data to support school initiated COHORT activ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vide COHORT default rate challenge support services to schoo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Verdana"/>
              </a:rPr>
              <a:t>Consisten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vs. Competition</a:t>
            </a:r>
            <a:endParaRPr b="1" lang="en-US" sz="32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7B75-6F9F-4476-B786-924214B5A0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nsisten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vs. </a:t>
            </a:r>
            <a:r>
              <a:rPr b="1" lang="en-US" sz="3800" spc="-1" strike="noStrike">
                <a:solidFill>
                  <a:srgbClr val="0070c0"/>
                </a:solidFill>
                <a:latin typeface="Verdana"/>
              </a:rPr>
              <a:t>Competition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4" name="Diagram 4" descr=""/>
          <p:cNvPicPr/>
          <p:nvPr/>
        </p:nvPicPr>
        <p:blipFill>
          <a:blip r:embed="rId1"/>
          <a:stretch/>
        </p:blipFill>
        <p:spPr>
          <a:xfrm>
            <a:off x="927000" y="1590840"/>
            <a:ext cx="65534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CF1F-109D-4403-863B-2E5B81A84D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Consistenc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cc5407"/>
                </a:solidFill>
                <a:latin typeface="Verdana"/>
              </a:rPr>
              <a:t>vs. </a:t>
            </a:r>
            <a:r>
              <a:rPr b="1" lang="en-US" sz="3800" spc="-1" strike="noStrike">
                <a:solidFill>
                  <a:srgbClr val="0070c0"/>
                </a:solidFill>
                <a:latin typeface="Verdana"/>
              </a:rPr>
              <a:t>Competition</a:t>
            </a:r>
            <a:endParaRPr b="1" lang="en-US" sz="38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8088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Custom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Tools and Serv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ally improving website functionality with more self-service options and online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y outreach efforts to borr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ity and channels of communications (texting, e-mail, web chat, social network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elinquency and Default Aver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ategies that exceed due diligence requirements and are effective at preventing defa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d access to data and reporting to assist schools in COHORT rat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alized staff training for improved borrower communications and call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63F4-7702-4A51-881D-CE3786ED05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97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201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rvicing Landsc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176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Size and 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799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Consistency vs. Competi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ervicer Performa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urvey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Hot Topi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8" descr="http://t0.gstatic.com/images?q=tbn:QM6kejUS2BIItM:http://www.3dlabz.com/images/3d-rendering-architectural/geir-landscape-design3-big.jpg">
            <a:hlinkClick r:id="rId1"/>
          </p:cNvPr>
          <p:cNvPicPr/>
          <p:nvPr/>
        </p:nvPicPr>
        <p:blipFill>
          <a:blip r:embed="rId2"/>
          <a:srcRect l="0" t="0" r="5829" b="10093"/>
          <a:stretch/>
        </p:blipFill>
        <p:spPr>
          <a:xfrm>
            <a:off x="6400800" y="1447920"/>
            <a:ext cx="21337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9566-A2FF-460B-A54D-F8700C5C69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75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76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ervicing Landsc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Consistency vs. Com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799"/>
              </a:spcBef>
              <a:spcAft>
                <a:spcPts val="3600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rvicer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Hot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http://t2.gstatic.com/images?q=tbn:ANd9GcTOvkwU-ozjXVcCA2eRdiwNlZ63V4Z1hMVaaXLAXGny3gUpb3c&amp;t=1&amp;usg=__0X1JKliWBQAnur7F-K87O13eY2Y="/>
          <p:cNvPicPr/>
          <p:nvPr/>
        </p:nvPicPr>
        <p:blipFill>
          <a:blip r:embed="rId1"/>
          <a:stretch/>
        </p:blipFill>
        <p:spPr>
          <a:xfrm>
            <a:off x="6248520" y="2514600"/>
            <a:ext cx="2590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easuring Performance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457200" y="1371600"/>
            <a:ext cx="807732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5407"/>
                </a:solidFill>
                <a:uFillTx/>
                <a:latin typeface="Verdana"/>
              </a:rPr>
              <a:t>Performance Measureme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540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rrow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artment of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rrower Defa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540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–going program compliance re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03E3-256A-4F14-BC70-80F39A16C6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Diagram 5" descr=""/>
          <p:cNvPicPr/>
          <p:nvPr/>
        </p:nvPicPr>
        <p:blipFill>
          <a:blip r:embed="rId1"/>
          <a:stretch/>
        </p:blipFill>
        <p:spPr>
          <a:xfrm>
            <a:off x="152280" y="579600"/>
            <a:ext cx="8205840" cy="55162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F6F-CA10-4B08-84DA-A3AD27205E1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olume Allocation</a:t>
            </a:r>
            <a:br>
              <a:rPr sz="3200"/>
            </a:b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Based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68D-61B8-42E4-83BF-7CF7E533D9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llocation Methodolog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customer satisfaction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borrower default stat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176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to generate five ranked lists o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ditional servic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SA will combine the five rankings t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the percentage of fu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each servicer will rece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AE13-CCA6-4A85-8686-A6B6A6EC2E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Diagram 2" descr=""/>
          <p:cNvPicPr/>
          <p:nvPr/>
        </p:nvPicPr>
        <p:blipFill>
          <a:blip r:embed="rId1"/>
          <a:stretch/>
        </p:blipFill>
        <p:spPr>
          <a:xfrm>
            <a:off x="554040" y="1755720"/>
            <a:ext cx="8188200" cy="3803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380880" y="457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usiness Success</a:t>
            </a:r>
            <a:br>
              <a:rPr sz="3200"/>
            </a:br>
            <a:r>
              <a:rPr b="1" lang="en-US" sz="2800" spc="-1" strike="noStrike">
                <a:solidFill>
                  <a:srgbClr val="cc5407"/>
                </a:solidFill>
                <a:latin typeface="Verdana"/>
              </a:rPr>
              <a:t>Based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ABCD-F869-4DAE-81D7-08072E70A6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1"/>
              </a:spcBef>
              <a:spcAft>
                <a:spcPts val="201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Verdana"/>
              </a:rPr>
              <a:t>Servicing Landsc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Loan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Consistency vs. Com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799"/>
              </a:spcBef>
              <a:spcAft>
                <a:spcPts val="3600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201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Verdana"/>
              </a:rPr>
              <a:t>Hot Top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7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168120" y="-487440"/>
            <a:ext cx="1905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68120" y="-487440"/>
            <a:ext cx="1905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http://pinoyelections.com/wp-content/uploads/2010/03/survey.jpg"/>
          <p:cNvPicPr/>
          <p:nvPr/>
        </p:nvPicPr>
        <p:blipFill>
          <a:blip r:embed="rId1"/>
          <a:stretch/>
        </p:blipFill>
        <p:spPr>
          <a:xfrm rot="940200">
            <a:off x="4389120" y="4092120"/>
            <a:ext cx="22604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0520" y="2742840"/>
            <a:ext cx="6900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cc5407"/>
                </a:solidFill>
                <a:latin typeface="Verdana"/>
              </a:rPr>
              <a:t>Survey three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rro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cc54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SA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3526-6EED-4247-A657-6F7C296C44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ustomer Satisfaction Survey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572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  <a:ea typeface="Verdana"/>
              </a:rPr>
              <a:t>Conducted quarterly and designed to take ten minutes or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veys - Borrower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523880"/>
            <a:ext cx="866628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surveys of 1,000 respondents p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 – 250 per servic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ly selects by repayment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proportion of borrowers in school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ce and repayment within the samples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the servic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6926-25F6-43F6-A316-1707AA9197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veys - School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47920"/>
            <a:ext cx="91440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 interviews of random samples of 3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5 per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d by servicer and institution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proportions of institution types in 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 servicer’s samp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school personnel about only one servi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5E11-0A5E-4F23-83B9-F9CAB80450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urveys - Federal Personnel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3160" y="1371600"/>
            <a:ext cx="86659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~200 potential respon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ine surv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otential respondents surveyed e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ly assigned to a single servic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ing the first quarter, cycling through t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servicers in subsequent quar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F65C-94B3-40E2-B132-44BDDB5BCB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701D-6307-414C-86C2-ED66409A7F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1447920" y="6094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rtfolio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deral Loan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Diagram 5" descr=""/>
          <p:cNvPicPr/>
          <p:nvPr/>
        </p:nvPicPr>
        <p:blipFill>
          <a:blip r:embed="rId1"/>
          <a:stretch/>
        </p:blipFill>
        <p:spPr>
          <a:xfrm>
            <a:off x="1547640" y="1725480"/>
            <a:ext cx="6589800" cy="4065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5029200" y="601992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Totals as of month end September 20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Basic Plan for the Survey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1447560"/>
            <a:ext cx="877248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 enough people to support preci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spcAft>
                <a:spcPts val="162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ct real differences in the custom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tisfaction levels between the additiona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rs, using appropriate statistical metho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account for sampling var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spcAft>
                <a:spcPts val="162"/>
              </a:spcAft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eat statistically insignificant differences as 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cc540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 three ranked list of servicers, one f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type of custo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4A54-BBC6-4E55-BE80-1185026BFD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90920" y="10663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f the survey calls …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7360" y="2590560"/>
            <a:ext cx="8666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ease respo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responses on only your experiences with the servicing of federally held deb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cc540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ward the call to a colleague at your school, if your work does not involve such mat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BAD-C7CE-48F2-A09D-AA5FBD5570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http://t1.gstatic.com/images?q=tbn:ANd9GcSVdVW2KI7GARbH75cTmi0-_UrtEbVIcEQSYJy-Qf0tfI1vprk&amp;t=1&amp;usg=__pbw3s4uoLaWiTcXkDgyswN3RegM="/>
          <p:cNvPicPr/>
          <p:nvPr/>
        </p:nvPicPr>
        <p:blipFill>
          <a:blip r:embed="rId1"/>
          <a:srcRect l="0" t="0" r="0" b="24533"/>
          <a:stretch/>
        </p:blipFill>
        <p:spPr>
          <a:xfrm>
            <a:off x="762120" y="45720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B74-EB35-4B90-8706-740A775051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76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ervicing Landsc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Loan Dis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Consistency vs. Com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800"/>
              </a:spcBef>
              <a:spcAft>
                <a:spcPts val="176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Verdan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201"/>
              </a:spcBef>
              <a:spcAft>
                <a:spcPts val="201"/>
              </a:spcAft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Hot Top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68120" y="-617400"/>
            <a:ext cx="146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68120" y="-617400"/>
            <a:ext cx="146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68120" y="-617400"/>
            <a:ext cx="146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0" descr="http://nattc.org/images/hotTopics.gif"/>
          <p:cNvPicPr/>
          <p:nvPr/>
        </p:nvPicPr>
        <p:blipFill>
          <a:blip r:embed="rId1"/>
          <a:stretch/>
        </p:blipFill>
        <p:spPr>
          <a:xfrm>
            <a:off x="4038480" y="3886200"/>
            <a:ext cx="2133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6E7E-9C15-4CAA-8003-D4CF720DDE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http://www.northbellmorecivic.org/hottopics.gif"/>
          <p:cNvPicPr/>
          <p:nvPr/>
        </p:nvPicPr>
        <p:blipFill>
          <a:blip r:embed="rId1"/>
          <a:stretch/>
        </p:blipFill>
        <p:spPr>
          <a:xfrm rot="20437800">
            <a:off x="531360" y="2033280"/>
            <a:ext cx="4038840" cy="2975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://www.adventurecommunitychurch.com/images/hot%20topics.jpg"/>
          <p:cNvPicPr/>
          <p:nvPr/>
        </p:nvPicPr>
        <p:blipFill>
          <a:blip r:embed="rId2"/>
          <a:stretch/>
        </p:blipFill>
        <p:spPr>
          <a:xfrm>
            <a:off x="5867280" y="3505320"/>
            <a:ext cx="1866960" cy="2705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85d"/>
                </a:solidFill>
                <a:latin typeface="Verdana"/>
              </a:rPr>
              <a:t>HOT Topics </a:t>
            </a:r>
            <a:r>
              <a:rPr b="1" lang="en-US" sz="1800" spc="-1" strike="noStrike">
                <a:solidFill>
                  <a:srgbClr val="7f7f7f"/>
                </a:solidFill>
                <a:latin typeface="Verdana"/>
              </a:rPr>
              <a:t>and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Ques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3048120" y="2971800"/>
          <a:ext cx="5105160" cy="28954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74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Direct Loan Servicing Center (A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SLDS Servicer Code:  0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823a"/>
                    </a:solidFill>
                  </a:tcPr>
                </a:tc>
              </a:tr>
              <a:tr h="215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orrower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00-848-0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dl.ed.g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hool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88-877-76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dl.ed.gov/sch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Servicer Information Session 56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esday, Nov. 30, 4:45 p.m. – 6:00 p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1828800" cy="108900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22E-4A41-4042-8710-A3184CEA01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581280" y="3200400"/>
          <a:ext cx="5029200" cy="29732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69768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FedLoan Servicing (PHEA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SLDS Servicer Code:  700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75560">
                <a:tc>
                  <a:txBody>
                    <a:bodyPr lIns="90000" rIns="9000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orrower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00-699-29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myfedloan.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hool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00-655-3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ea typeface="ＭＳ Ｐゴシック"/>
                        </a:rPr>
                        <a:t>www.myfedloan.org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/</a:t>
                      </a:r>
                      <a:r>
                        <a:rPr b="0" lang="en-US" sz="1800" spc="-1" strike="noStrike" u="sng">
                          <a:solidFill>
                            <a:srgbClr val="2d2db9"/>
                          </a:solidFill>
                          <a:uFillTx/>
                          <a:latin typeface="Arial"/>
                          <a:ea typeface="ＭＳ Ｐゴシック"/>
                        </a:rPr>
                        <a:t>sch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12" descr="FLS_main_jpg"/>
          <p:cNvPicPr/>
          <p:nvPr/>
        </p:nvPicPr>
        <p:blipFill>
          <a:blip r:embed="rId1"/>
          <a:stretch/>
        </p:blipFill>
        <p:spPr>
          <a:xfrm>
            <a:off x="752400" y="2514600"/>
            <a:ext cx="2633760" cy="914400"/>
          </a:xfrm>
          <a:prstGeom prst="rect">
            <a:avLst/>
          </a:prstGeom>
          <a:ln w="0">
            <a:noFill/>
          </a:ln>
        </p:spPr>
      </p:pic>
      <p:sp>
        <p:nvSpPr>
          <p:cNvPr id="2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F6C-3C42-4B75-BF97-398520398E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Servicer Information Session 57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9729"/>
                </a:solidFill>
                <a:latin typeface="Verdana"/>
              </a:rPr>
              <a:t>Wednesday, Dec. 1, 7:30 a.m. – 8:45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5" descr="https://securemail.glhec.org/ime/GL_Logo_No_Tag_RGB.jpg?s=ac&amp;t=TW_TxnPickupFileUrl.tpl&amp;i=1766983026&amp;k=L54GLPXUTU&amp;sii=9691248&amp;sfi=8653253&amp;ext=.jpg"/>
          <p:cNvPicPr/>
          <p:nvPr/>
        </p:nvPicPr>
        <p:blipFill>
          <a:blip r:embed="rId1"/>
          <a:srcRect l="22226" t="23149" r="24448" b="25591"/>
          <a:stretch/>
        </p:blipFill>
        <p:spPr>
          <a:xfrm>
            <a:off x="304920" y="1981080"/>
            <a:ext cx="2971800" cy="19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3581280" y="2971800"/>
          <a:ext cx="5105520" cy="2971800"/>
        </p:xfrm>
        <a:graphic>
          <a:graphicData uri="http://schemas.openxmlformats.org/drawingml/2006/table">
            <a:tbl>
              <a:tblPr/>
              <a:tblGrid>
                <a:gridCol w="5105520"/>
              </a:tblGrid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Great Lakes Educational Loan Services, In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SLDS Servicer Code:  700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2f70"/>
                    </a:solidFill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orrower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00-236-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mygreatlakes.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hool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88-686-69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mygreatlakes.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3A42-1D81-4F2B-B769-287AC06209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Servicer Information Session 58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dnesday, Dec. 1, 4:45 p.m. – 6:00 p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048120" y="2971800"/>
          <a:ext cx="5257800" cy="304812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Nel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SLDS Servicer Code:  700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orrower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88-486-4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nelnet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hool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66-463-5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ea typeface="ＭＳ Ｐゴシック"/>
                        </a:rPr>
                        <a:t>www.nelnetloanservicing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12" descr=""/>
          <p:cNvPicPr/>
          <p:nvPr/>
        </p:nvPicPr>
        <p:blipFill>
          <a:blip r:embed="rId1"/>
          <a:srcRect l="0" t="0" r="2217" b="0"/>
          <a:stretch/>
        </p:blipFill>
        <p:spPr>
          <a:xfrm>
            <a:off x="533520" y="2438280"/>
            <a:ext cx="2133360" cy="8064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0222-ABDF-437B-AAF6-E11774C101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Servicer Information Session 59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9729"/>
                </a:solidFill>
                <a:latin typeface="Verdana"/>
              </a:rPr>
              <a:t>Thursday, Dec. 2, 7:30 a.m. – 8:45 a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581280" y="2971800"/>
          <a:ext cx="4953240" cy="3200400"/>
        </p:xfrm>
        <a:graphic>
          <a:graphicData uri="http://schemas.openxmlformats.org/drawingml/2006/table">
            <a:tbl>
              <a:tblPr/>
              <a:tblGrid>
                <a:gridCol w="4953240"/>
              </a:tblGrid>
              <a:tr h="85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Sallie M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SLDS Servicer Code:  7005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34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orrower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00-722-1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salliemae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hool Ph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888-272-4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ww.opennet.salliemae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Picture 12" descr="SM-DOE_blue"/>
          <p:cNvPicPr/>
          <p:nvPr/>
        </p:nvPicPr>
        <p:blipFill>
          <a:blip r:embed="rId1"/>
          <a:stretch/>
        </p:blipFill>
        <p:spPr>
          <a:xfrm>
            <a:off x="685800" y="2133720"/>
            <a:ext cx="7162920" cy="59184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9427-053D-4CBD-AC7F-FD60139955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5407"/>
                </a:solidFill>
                <a:latin typeface="Verdana"/>
              </a:rPr>
              <a:t>Servicer Information Session 60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Thursday, Dec. 2, 4:45 p.m. – 6:00 p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5"/>
          <p:cNvSpPr/>
          <p:nvPr/>
        </p:nvSpPr>
        <p:spPr>
          <a:xfrm>
            <a:off x="228600" y="1143000"/>
            <a:ext cx="891540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#5.  Best Practices in Default &amp; Delinquenc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esday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:00 a.m. – 12:15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dnesda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:00 a.m. – 12:15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rsday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:00 a.m. – 12:15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#10.  Loan Repayment &amp; Forgiveness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esday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5 p.m. – 3:0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dnesday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5 p.m. – 3:0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rsday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5 p.m. – 3:00 p.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#19.  Entrance and Exit Counse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es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5 p.m. – 3:0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dnes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:15 p.m. – 4:30 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id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:00 a.m. – 12:15 p.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itle 1"/>
          <p:cNvSpPr/>
          <p:nvPr/>
        </p:nvSpPr>
        <p:spPr>
          <a:xfrm>
            <a:off x="304920" y="533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Others Sessions of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03E7-E669-45CE-A338-B42C525AA6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304920" y="5335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rtfolio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deral Loan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29200" y="6324480"/>
            <a:ext cx="365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tatus totals as of month end September 20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hart 5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38188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5"/>
          <p:cNvSpPr/>
          <p:nvPr/>
        </p:nvSpPr>
        <p:spPr>
          <a:xfrm>
            <a:off x="228600" y="1676520"/>
            <a:ext cx="85345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Verdana"/>
              </a:rPr>
              <a:t>General Servicing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Announcement – Loan Servicing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http://www.ifap.ed.gov/eannouncements/032610LoanServicingInfoFedOwn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Verdana"/>
              </a:rPr>
              <a:t>Surve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Announcement – Service Performance Resul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http://ifap.ed.gov/eannouncements/091410LSIFirstYrCustServPerfSecondYrAllocation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Verdana"/>
              </a:rPr>
              <a:t>Delinquency and Default 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ic Announcement – Delinquency Prevention Activi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http://www.ifap.ed.gov/eannouncements/060310LoanServicingInfoDelinqPreventAct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itle 1"/>
          <p:cNvSpPr/>
          <p:nvPr/>
        </p:nvSpPr>
        <p:spPr>
          <a:xfrm>
            <a:off x="304920" y="533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http://www.persecutionblog.com/images/2007/07/30/thankyou.gif"/>
          <p:cNvPicPr/>
          <p:nvPr/>
        </p:nvPicPr>
        <p:blipFill>
          <a:blip r:embed="rId1"/>
          <a:stretch/>
        </p:blipFill>
        <p:spPr>
          <a:xfrm>
            <a:off x="2819520" y="1447920"/>
            <a:ext cx="3504960" cy="2666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6EF5-0DEA-4B93-A79D-D4D1ED6BFF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5800" y="365760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appreciate your feedback and com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Cynthia Ba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-377-32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 Cynthia.Battl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28600" y="1523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partment has five federal loan servic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r federal loan servicers a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Aft>
                <a:spcPts val="139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Direct Loan Servicing Center (</a:t>
            </a: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AC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Bef>
                <a:spcPts val="624"/>
              </a:spcBef>
              <a:spcAft>
                <a:spcPts val="150"/>
              </a:spcAft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FedLoan Servicing (PHEA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Bef>
                <a:spcPts val="624"/>
              </a:spcBef>
              <a:spcAft>
                <a:spcPts val="150"/>
              </a:spcAft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Great Lakes Educational Loan Services, In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Bef>
                <a:spcPts val="624"/>
              </a:spcBef>
              <a:spcAft>
                <a:spcPts val="150"/>
              </a:spcAft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Nel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360">
              <a:spcBef>
                <a:spcPts val="624"/>
              </a:spcBef>
              <a:spcAft>
                <a:spcPts val="150"/>
              </a:spcAft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allie Ma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38088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Federal Loan Serv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93B-A178-453D-9123-1F903FC747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does this mean for schools?    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523880"/>
            <a:ext cx="403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schools need to work with multiple servicer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a school choose a servicer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do schools find servicer assignment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schools provide feedback on servicer perform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41972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99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99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99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LD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99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– Quarte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er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ve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9C19-4C04-4F0D-8640-AC1276BE76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7200" y="838080"/>
            <a:ext cx="5257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We are listening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We have heard your servicing issues and concerns over the past y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http://karasmaticdesigns.files.wordpress.com/2008/07/listening-ear1.gif"/>
          <p:cNvPicPr/>
          <p:nvPr/>
        </p:nvPicPr>
        <p:blipFill>
          <a:blip r:embed="rId1"/>
          <a:stretch/>
        </p:blipFill>
        <p:spPr>
          <a:xfrm>
            <a:off x="5181480" y="2514600"/>
            <a:ext cx="2727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plit Servic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of a borrowers federally-owned loans will be maintained by a single servic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erally-owned and commercial loans may still be split among servicer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olidation sometimes viable  option, but not in all circumsta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362E-152E-4527-A263-71B68A3F92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ource of Centralized Loan Inform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cludes Commercial, PUT, DL loans and servicer assignment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pdates information if federally-owned loans reassigned to make borrower “whole” or if commercial loans change ownership/servic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ers an </a:t>
            </a:r>
            <a:r>
              <a:rPr b="1" lang="en-US" sz="2300" spc="-1" strike="noStrike">
                <a:solidFill>
                  <a:srgbClr val="0070c0"/>
                </a:solidFill>
                <a:latin typeface="Verdana"/>
              </a:rPr>
              <a:t>Exit Counseling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ssion that covers the FFEL and Direct Loan Progra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9"/>
              </a:spcBef>
              <a:spcAft>
                <a:spcPts val="13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s a </a:t>
            </a:r>
            <a:r>
              <a:rPr b="1" lang="en-US" sz="2300" spc="-1" strike="noStrike">
                <a:solidFill>
                  <a:srgbClr val="0070c0"/>
                </a:solidFill>
                <a:latin typeface="Verdana"/>
              </a:rPr>
              <a:t>centralized delinquency repor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0A3-C6AD-4FDE-9996-26B25CE02C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&amp;B</cp:lastModifiedBy>
  <dcterms:modified xsi:type="dcterms:W3CDTF">2010-11-04T19:37:47Z</dcterms:modified>
  <cp:revision>341</cp:revision>
  <dc:subject/>
  <dc:title>PowerPoint Presentation</dc:title>
</cp:coreProperties>
</file>