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B7A3-572F-494C-BF6F-58A4B1575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4A27-DB88-49EB-8E9C-24F03BE18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D8C0-3DA0-4FFA-AE29-63A03DB34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CBF4-F1B0-4408-9185-FB1E3C898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69FC-DE69-4F8B-81FF-11772F4A5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FAF4-2FDC-4B1E-9B95-3876BEE9C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2577-CC84-4329-ADA4-CBC90A3F7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95B6-AF40-4C01-99B3-7848BDFAE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E754-B3B0-4CDB-9E19-7C2226737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08DE-F398-4EAE-A657-74186EF74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939A-1B68-4A70-9F7B-D97956572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9D8E-B5E9-4EE6-824A-7F63AC671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3BBB-76FC-4481-B7B5-E29C16E64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C827-58AD-47E3-8DA4-AF5DD4FC1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7A27-37A2-44E8-BC7C-85884B3E3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51A8-2797-474E-B49E-E90FEB84A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3B18-2B3B-4BF1-AAF0-ECF4A5494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8719-1790-4D3E-A4A7-B54A8F5D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B3C2-A791-428F-9F24-BB8B5B1F5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07D-356A-4B97-A260-1E47151B7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8552-7921-4527-BF36-C8A57CD16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05C0-B4A5-4015-9055-86F9ED3D5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10E1-85F5-4925-BF83-6DB0B8394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8C69-C03B-4782-A696-52B6D941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8F32-B8F6-4E4A-BE89-B0067D323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52A3-8081-4771-BB2C-6A5E5345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C16-2EA1-4F2B-AA85-CDFC39473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F6BC-DB8F-4862-8EE4-437F93CE3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26C9-0101-484E-AAFC-A673714C3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907A-5BF2-4DE2-B27D-03F8E880E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57D3-3B0D-4986-BC50-DD1F14F81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3C3B-A8C4-4F4A-A0EF-5D6F4FB34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107D-951F-4899-8320-8DB120CCE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A4F4-207C-4001-99CB-24B404FB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9EA7-D6C9-4F20-A088-3CCCADC54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D565-9708-451C-A7F5-6E32EC2B6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DC04-0E1F-4AD5-AC3D-465F5461C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1EE3-9A99-4F87-93DA-D62128E6E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66A4-B022-4A89-BEFA-664C87847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203F-F4CD-4090-BDAC-6FEB4DB08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F134-F032-4DD4-822D-6692350A1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B222-6686-428E-A50E-CFEEE8CBE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A70B-BE0E-4731-A538-8E23A7D93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CC2B-512D-4426-8EBD-F87C60A26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ED0F-13AE-4E74-93F3-515097E1A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1ADD-F54E-4B33-B2AF-DBCC03214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F2A9-8C94-4D3F-B2A6-48443E862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F99C-28BA-4DB3-862E-C85FB4DD3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0CBE-57AE-4C76-9F59-21A6D9EA2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EEA7-C312-445E-87E1-D31DEEDDF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F19E-C53B-44F5-B56C-E437BBEB2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F3F1-5133-4A53-B7CE-F25115A46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2B66-4451-4C2B-8742-6A9CD9C1A1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tc.gov/sentine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tudentaid.ed.gov/lsa" TargetMode="External"/><Relationship Id="rId2" Type="http://schemas.openxmlformats.org/officeDocument/2006/relationships/hyperlink" Target="http://www.studentaid.ed.gov/pub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areeronestop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nces.ed.gov/" TargetMode="External"/><Relationship Id="rId2" Type="http://schemas.openxmlformats.org/officeDocument/2006/relationships/hyperlink" Target="http://nces.ed.gov/pubsearch/pubsinfo.asp?pubid=2010831re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fap.ed.gov/qahome/fsaassessmen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39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rtnering for Complianc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nd Consumer Prot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ulie Arthur, 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an Susman, 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4 C.F.R. Subpart F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22096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re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cha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ability of gradu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D567-26EF-4BD1-A3F1-9C9B88FBE11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me Awareness Requirements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did not contain all required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ribution of statistics and policies not adequ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report statistics on website or crimes reported in wrong categ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D632-0491-4B67-B685-20A97616B7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http://www.biztape.com/images/upload/Image/CAUTION-TAPE-PIC/crime-scene-tape-1.jpg"/>
          <p:cNvPicPr/>
          <p:nvPr/>
        </p:nvPicPr>
        <p:blipFill>
          <a:blip r:embed="rId1"/>
          <a:stretch/>
        </p:blipFill>
        <p:spPr>
          <a:xfrm>
            <a:off x="4724280" y="4848120"/>
            <a:ext cx="373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er Information Requirements Not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not develo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ies not provided to students (SAP, R2T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consumer information requirements pursuant to HEOA not implem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6866-1662-4D47-A17E-68C4B20F5C0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181480" y="50292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Review Find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repres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ation of false information and claims it could not substanti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rrect information about educational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ability of cre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59E3-7B88-4C43-BA79-36699E58765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1"/>
          <a:srcRect l="36100" t="25069" r="38143" b="40269"/>
          <a:stretch/>
        </p:blipFill>
        <p:spPr>
          <a:xfrm>
            <a:off x="6019920" y="3733920"/>
            <a:ext cx="2590560" cy="2792160"/>
          </a:xfrm>
          <a:prstGeom prst="rect">
            <a:avLst/>
          </a:prstGeom>
          <a:ln w="63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w Regu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entive compen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inful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uthorization as a component of institutional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6E28-E7F3-4115-9E47-1D54306DB5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w Regula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 of credit hour to determine program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of information included on student aid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school diploma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3D29-8AC5-4170-AF17-78F973665C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artment of Lab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 Bureau of Invest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urity and Exchange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rediting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aranty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9AE3-9237-4E4A-85CC-B11C5B2993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obama_duncan.jpg"/>
          <p:cNvPicPr/>
          <p:nvPr/>
        </p:nvPicPr>
        <p:blipFill>
          <a:blip r:embed="rId1"/>
          <a:stretch/>
        </p:blipFill>
        <p:spPr>
          <a:xfrm>
            <a:off x="4648320" y="3657600"/>
            <a:ext cx="43434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mer Sentinel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www.ftc.gov/sentinel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e online database of millions of consumer complaints available only to law enfor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 provides information on complaints to FT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92B8-B1C6-41C1-AA40-47B221E0A1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4475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Consumer Information references FTC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cholarship Scams 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studentaid.ed.gov/l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act Sheets  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studentaid.ed.gov/pu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Partnering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udent Loans: Avoiding Deceptive Off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a joint publication of the FTC and 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es and other pub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F4BC-70B1-4D54-9FC6-32B873A3AC6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partment of Lab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ionary of Occupational Tit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s a Recognized Occup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careeronestop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e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laries and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and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onal Economic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1D53-8B74-43C5-934C-53A9AF13884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artnering for Compliance and Consumer Protec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8284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tory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Consumer-Related Find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rnal and Internal Partnerships to Assist in Over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DDBF-9597-4B80-90E8-7E9977D369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5029200" y="3429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03B7-71B1-49A9-B068-BAE7FFFBE0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deral Bureau of Invest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artnership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pus Security Revie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Partner with the FB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dditional overs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make our campuses safe for students and employees today and tomorr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0B41-9D8D-4418-B1ED-861D4793D9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ocused Campus Security Review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97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BI selects certain states for a Quality Assessment Review (12+ per yea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BI then selects a school that has a sworn police depar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schedules a focused campus security review at that same school or another school in that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6C9A-88AB-4F28-8C24-E893712BAC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ocused Campus Security Review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BI reviews most recent reporting of Part I cri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reviews policies and most recent reported statistics to 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Part I and Part II crimes and disciplinary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lowchart: Magnetic Disk 7"/>
          <p:cNvSpPr/>
          <p:nvPr/>
        </p:nvSpPr>
        <p:spPr>
          <a:xfrm>
            <a:off x="4724280" y="914400"/>
            <a:ext cx="2743200" cy="2895480"/>
          </a:xfrm>
          <a:prstGeom prst="flowChartMagneticDisk">
            <a:avLst/>
          </a:prstGeom>
          <a:solidFill>
            <a:srgbClr val="89dd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lowchart: Magnetic Disk 8"/>
          <p:cNvSpPr/>
          <p:nvPr/>
        </p:nvSpPr>
        <p:spPr>
          <a:xfrm>
            <a:off x="4724280" y="3962520"/>
            <a:ext cx="2743200" cy="2666880"/>
          </a:xfrm>
          <a:prstGeom prst="flowChartMagneticDisk">
            <a:avLst/>
          </a:prstGeom>
          <a:solidFill>
            <a:srgbClr val="99ff33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533412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41008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4800600" y="1828800"/>
            <a:ext cx="2590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gravated Ass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cible R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bb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rg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tor Vehicle The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ceny-Theft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4952880" y="5105520"/>
            <a:ext cx="2819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Clery report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n-forcible sex off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apons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ug Law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cohol Law vio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7086600" y="35812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Larceny-Theft: Not Clery repor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ocused Campus Security Review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19810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BI and FSA shar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BI QAR report is attached to FSA’s program review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’s program review report references findings from the FBI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AD75-7285-4FCA-AAB2-56EB15A9B5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urity and Exchange Commiss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Publicly Traded School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data and information with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complaint referrals to and from the SEC Enforcement Di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SEC actions taken and reported to Lexis Ne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SEC Quarterly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F16A-7FA2-4852-B1B1-88D03E5288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Governmental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orney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stant US Attorn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5F2-E8CB-42D9-9A2D-A01E31BAFA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523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crediting Agenc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Regional or Nation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final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 and coordinate school clo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 regular accrediting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C17B-0F49-4D55-B361-2A597A46D3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560" y="15235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uaranty Ag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Reviews of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rals to OIG and Program Compli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E5F2-E833-4A41-944E-C39B7B1C412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2280" y="15235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usiness Operations Reporting 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, CPS, NSLDS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% Direct Loan Tran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ice of Postsecondary Education Reporting Conc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P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pus Security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5E20-526D-49B3-87D0-B535072DBC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ernal Partnershi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ice of Inspector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rals to and from (Investigations and Auditor QC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ution of OIG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fice of the General Coun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 T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ice and Agre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3215-C494-44A7-8BED-76E094004E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y is Compliance Important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funding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8-2009: $105.8 bill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-2010: $129.9 billion*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schools receiving Title IV fund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8-2009: 613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-2010: 62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*Preliminary Data—without FSEOG or F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FA3B-9B07-4E41-99F3-A7755BD3EB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 Re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FA30-13DB-42EC-B471-87EBED7F1B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ontent Placeholder 7" descr=""/>
          <p:cNvPicPr/>
          <p:nvPr/>
        </p:nvPicPr>
        <p:blipFill>
          <a:blip r:embed="rId1"/>
          <a:srcRect l="26119" t="15236" r="27252" b="7618"/>
          <a:stretch/>
        </p:blipFill>
        <p:spPr>
          <a:xfrm>
            <a:off x="380880" y="1600200"/>
            <a:ext cx="2286000" cy="28954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57" name="Picture 9" descr=""/>
          <p:cNvPicPr/>
          <p:nvPr/>
        </p:nvPicPr>
        <p:blipFill>
          <a:blip r:embed="rId2"/>
          <a:srcRect l="31733" t="17835" r="29970" b="22246"/>
          <a:stretch/>
        </p:blipFill>
        <p:spPr>
          <a:xfrm>
            <a:off x="2133720" y="2438280"/>
            <a:ext cx="2057400" cy="304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3"/>
          <a:srcRect l="10901" t="14828" r="12177" b="24051"/>
          <a:stretch/>
        </p:blipFill>
        <p:spPr>
          <a:xfrm>
            <a:off x="3429000" y="1523880"/>
            <a:ext cx="3276720" cy="1605240"/>
          </a:xfrm>
          <a:prstGeom prst="rect">
            <a:avLst/>
          </a:prstGeom>
          <a:ln w="34920">
            <a:solidFill>
              <a:srgbClr val="c00000"/>
            </a:solidFill>
            <a:miter/>
          </a:ln>
        </p:spPr>
      </p:pic>
      <p:pic>
        <p:nvPicPr>
          <p:cNvPr id="159" name="Picture 11" descr=""/>
          <p:cNvPicPr/>
          <p:nvPr/>
        </p:nvPicPr>
        <p:blipFill>
          <a:blip r:embed="rId4"/>
          <a:srcRect l="17468" t="14428" r="19072" b="58521"/>
          <a:stretch/>
        </p:blipFill>
        <p:spPr>
          <a:xfrm>
            <a:off x="3886200" y="4724280"/>
            <a:ext cx="4498920" cy="1533600"/>
          </a:xfrm>
          <a:prstGeom prst="rect">
            <a:avLst/>
          </a:prstGeom>
          <a:ln w="25560">
            <a:solidFill>
              <a:srgbClr val="0099cc"/>
            </a:solidFill>
            <a:miter/>
          </a:ln>
        </p:spPr>
      </p:pic>
      <p:pic>
        <p:nvPicPr>
          <p:cNvPr id="160" name="Picture 12" descr=""/>
          <p:cNvPicPr/>
          <p:nvPr/>
        </p:nvPicPr>
        <p:blipFill>
          <a:blip r:embed="rId5"/>
          <a:srcRect l="16668" t="14229" r="17468" b="16436"/>
          <a:stretch/>
        </p:blipFill>
        <p:spPr>
          <a:xfrm>
            <a:off x="6248520" y="914400"/>
            <a:ext cx="2643120" cy="2104920"/>
          </a:xfrm>
          <a:prstGeom prst="rect">
            <a:avLst/>
          </a:prstGeom>
          <a:ln w="25560">
            <a:solidFill>
              <a:srgbClr val="0099cc"/>
            </a:solidFill>
            <a:miter/>
          </a:ln>
        </p:spPr>
      </p:pic>
      <p:pic>
        <p:nvPicPr>
          <p:cNvPr id="161" name="Picture 14" descr=""/>
          <p:cNvPicPr/>
          <p:nvPr/>
        </p:nvPicPr>
        <p:blipFill>
          <a:blip r:embed="rId6"/>
          <a:srcRect l="19712" t="13826" r="20031" b="57919"/>
          <a:stretch/>
        </p:blipFill>
        <p:spPr>
          <a:xfrm>
            <a:off x="4343400" y="3276720"/>
            <a:ext cx="4305240" cy="13190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162" name="Picture 15" descr=""/>
          <p:cNvPicPr/>
          <p:nvPr/>
        </p:nvPicPr>
        <p:blipFill>
          <a:blip r:embed="rId7"/>
          <a:srcRect l="36100" t="25069" r="38143" b="40269"/>
          <a:stretch/>
        </p:blipFill>
        <p:spPr>
          <a:xfrm>
            <a:off x="533520" y="3962520"/>
            <a:ext cx="1962000" cy="2114280"/>
          </a:xfrm>
          <a:prstGeom prst="rect">
            <a:avLst/>
          </a:prstGeom>
          <a:ln w="3168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Student Aid Handbook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me 2: School Eligibility and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6: Providing Consumer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s requirements for consumer information a school must provide to students, the Department, and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a summary of the effects of misrepresentation of school information on the school’s participation in Federal Student A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047A-2E31-4A80-9583-869836B6E1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sour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Information Required to b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isclosed Under the Hig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Education Act of 19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nces.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http://nces.ed.gov/pubsearch/pubsinfo.asp?pubid=2010831re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A62F-F92F-40CB-9585-192BB6D406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3"/>
          <a:srcRect l="37822" t="9828" r="15546" b="9828"/>
          <a:stretch/>
        </p:blipFill>
        <p:spPr>
          <a:xfrm>
            <a:off x="6361200" y="457200"/>
            <a:ext cx="265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source (Example)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04920" y="1523880"/>
          <a:ext cx="8534160" cy="448632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ject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ment Applies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Dis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2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und Policy, Requirements for Withdrawal and Return of Title IV Financial 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f38a"/>
                        </a:gs>
                        <a:gs pos="100000">
                          <a:srgbClr val="edfad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Institutions Participating in Title IV, HEA Student Financial Aid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f38a"/>
                        </a:gs>
                        <a:gs pos="100000">
                          <a:srgbClr val="edfad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 Sec. 485(a)(1)-(2), (20 U.S.C. 1092(a)(1)-(2)). Not changed by HEOA. 34 CFR 668.41(a)-(d), 34 CFR 668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f38a"/>
                        </a:gs>
                        <a:gs pos="100000">
                          <a:srgbClr val="edfad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de available through appropriate publications, mailings, or electronic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f38a"/>
                        </a:gs>
                        <a:gs pos="100000">
                          <a:srgbClr val="edfadd"/>
                        </a:gs>
                      </a:gsLst>
                      <a:lin ang="2700000"/>
                    </a:gradFill>
                  </a:tcPr>
                </a:tc>
              </a:tr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ch institution must make available to prospective and enrolled students information about the institution’s refund policy; requirements and procedures for official withdrawal; and requirements for return of Title IV, HEA grant or loan ai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f38a"/>
                        </a:gs>
                        <a:gs pos="100000">
                          <a:srgbClr val="edfadd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5B52-D6F1-41F8-9CA7-F7E545C85E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11"/>
          <p:cNvSpPr/>
          <p:nvPr/>
        </p:nvSpPr>
        <p:spPr>
          <a:xfrm>
            <a:off x="6172200" y="4419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13"/>
          <p:cNvSpPr/>
          <p:nvPr/>
        </p:nvSpPr>
        <p:spPr>
          <a:xfrm flipH="1">
            <a:off x="609480" y="4648320"/>
            <a:ext cx="556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Straight Arrow Connector 15"/>
          <p:cNvCxnSpPr/>
          <p:nvPr/>
        </p:nvCxnSpPr>
        <p:spPr>
          <a:xfrm flipH="1">
            <a:off x="607320" y="4649400"/>
            <a:ext cx="396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 Assessmen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752120"/>
            <a:ext cx="8534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f-assessment tool designed to assist schools in evaluating financial aid policies, process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ssessment modules on students, schools, managing funds, and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ifap.ed.gov/qahome/fsaassessment.htm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70DA-D532-45C0-BE60-F9FFBCEBF9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B238-26B3-4408-8EAF-2A06DB68E8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0" r="0" b="1057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  <p:cxnSp>
        <p:nvCxnSpPr>
          <p:cNvPr id="181" name="Straight Arrow Connector 6"/>
          <p:cNvCxnSpPr/>
          <p:nvPr/>
        </p:nvCxnSpPr>
        <p:spPr>
          <a:xfrm flipH="1" flipV="1">
            <a:off x="5485680" y="3809880"/>
            <a:ext cx="2134440" cy="76680"/>
          </a:xfrm>
          <a:prstGeom prst="straightConnector1">
            <a:avLst/>
          </a:prstGeom>
          <a:ln w="38160">
            <a:solidFill>
              <a:srgbClr val="0099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A5B3-95D3-43EE-9CF9-4C7125C8D9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rcRect l="0" t="0" r="0" b="9375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dditional Sess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320" y="17521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ssion #27: Consumer Information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lo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ssion #32: Student Loan Consumer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ssion #38: Top Ten Audit and Program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Find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9F2B-0A10-4243-9C8B-52C3BF7473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 – School Tea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04920" y="1066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Compli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bin Minor, Chief Compliance Offic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02) 377-435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the appropriate School Participation Team for information and guidance on audit resolution, financial analysis, program reviews, school and program eligibility/recertification and school closure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0" y="2666880"/>
            <a:ext cx="3200400" cy="4309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chool Participation Teams – Northe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va Leon, Director – Wash D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02) 377-3173  geneva.leon@ed.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ew York/Bost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Connecticut, Maine, Massachusetts, New Hampshire, Rhode Island, Vermont, New Jersey, New York, Puerto Rico, Virgin Islan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tty Coughlin–New York (646) 428-37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semary Torpey - Boston (617) 289-013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ristopher Curry—New York (646) 428-3738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trice Fleming - Wash DC (202) 377-4209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hiladelphi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DC, Delaware, Maryland, Pennsylvania, Virginia, West Virginia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ncy Gifford - Philadelphia (215) 656-64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reng – Philadelphia (215) 656-64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chael Frola - Wash DC (202) 377-3364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eig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rbara Hemelt - Wash DC (202) 377-316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mpus Secu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fton Knight – Wash DC (202) 377-424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124080" y="2871720"/>
            <a:ext cx="3124440" cy="3944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chool Participation Teams-South Cent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rolyn White, Director – Wash D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02) 377-3173  carolyn.white@ed.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tlan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Alabama, Florida, Georgia, Mississippi, North Carolina, South Carolina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Engstrom - Atlanta  (404) 974-9290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ristopher Miller – Atlanta (404) 974-92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rbara Murray—DC (202) 377-42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lla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Arkansas, Louisiana, New Mexico, Oklahoma, Texas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Engstrom - Atlanta  (404) 974-92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net Dragoo - Dallas (214) 661-9481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Kansas Cit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Iowa, Kansas, Kentucky, Missouri, Nebraska, Tennessee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lph LoBosco-Kansas City (816) 268-0410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vak Corwin – Kansas City (816) 268-04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illip Brumback-Wash DC (202) 377-346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6105600" y="2514600"/>
            <a:ext cx="3038400" cy="4343400"/>
          </a:xfrm>
          <a:prstGeom prst="rect">
            <a:avLst/>
          </a:prstGeom>
          <a:solidFill>
            <a:srgbClr val="89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chool Participation Teams - Northw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t Dickerson, Director – Wash D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02) 377-3173 patricia.dickerson@ed.g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hicag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Illinois, Indiana, Minnesota, Ohio, Wisconsin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uglas Parrott - Chicago (312) 730-15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vid Heath – Chicago (312) 730-1522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l Flurkey – Chicago (312) 730-15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nve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Colorado, Michigan, Montana, North Dakota, South Dakota, Utah, Wyoming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rry Shriver - Denver (303) 844-41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an Francisco/Seattl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American Samoa, Arizona, California, Guam, Hawaii, Nevada, Palau, Marshall Islands, N. Marianas , Federated States of Micronesia, Alaska, Idaho, Oregon, Washington)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tina Fernandez-Rosario (415) 486-56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ayle Palumbo (415) 486-56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yon Toney - Wash DC (202) 377-363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8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69BF-2D64-4CFE-9B39-216808586A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5A34-B993-4313-BBE4-FCD559C48F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990720"/>
            <a:ext cx="83822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Julie Arth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(206) 615-22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  julie.arthur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(206) 615-25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ran Sus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(303) 844-36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  fran.susma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(303) 844-46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231840" y="1450800"/>
            <a:ext cx="5406840" cy="3194280"/>
          </a:xfrm>
          <a:prstGeom prst="rect">
            <a:avLst/>
          </a:prstGeom>
          <a:ln w="0">
            <a:noFill/>
          </a:ln>
        </p:spPr>
      </p:pic>
      <p:pic>
        <p:nvPicPr>
          <p:cNvPr id="59" name="Chart 4" descr=""/>
          <p:cNvPicPr/>
          <p:nvPr/>
        </p:nvPicPr>
        <p:blipFill>
          <a:blip r:embed="rId2"/>
          <a:stretch/>
        </p:blipFill>
        <p:spPr>
          <a:xfrm>
            <a:off x="4035600" y="3048120"/>
            <a:ext cx="510840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304920" y="380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s by Type 2008-2009 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7"/>
          <p:cNvSpPr/>
          <p:nvPr/>
        </p:nvSpPr>
        <p:spPr>
          <a:xfrm flipH="1">
            <a:off x="4902120" y="5562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124080" y="639612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National Student Loan Data System (NSLDS) and Campus-Bas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art 3" descr=""/>
          <p:cNvPicPr/>
          <p:nvPr/>
        </p:nvPicPr>
        <p:blipFill>
          <a:blip r:embed="rId1"/>
          <a:stretch/>
        </p:blipFill>
        <p:spPr>
          <a:xfrm>
            <a:off x="0" y="1596960"/>
            <a:ext cx="5638680" cy="34322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2"/>
          <a:stretch/>
        </p:blipFill>
        <p:spPr>
          <a:xfrm>
            <a:off x="4194000" y="2895480"/>
            <a:ext cx="495000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304920" y="380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s by Type 2009-2010 AY</a:t>
            </a: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04920" y="5029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*Funding data does not include FWS or FSE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334120" y="64008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National Student Loan Data System (NS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4 C.F.R. 668, Subpart 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1  Reporting and disclosure of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2  Financial assistance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3  Institutiona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4  Availability of employees for information dissemination purpo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5  Information on completion or graduation 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9E5C-EC79-418E-90FF-9EA822E7824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4 C.F.R. 668, Subpart 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6  Institutional security policies and crime stat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7  Report on athletic program participation rates and financial suppor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8 Report on completion or graduation rates for student athle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668.49  Institutional fire safety policies and fire stat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D56A-5CBF-47E3-801D-0FF3C95C7B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4 C.F.R. Part 86 and Part 99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 86 – Drug and Alcohol Abuse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§86.100  What must the IHE’s drug prevention program includ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7960" y="1752120"/>
            <a:ext cx="4190760" cy="43434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 99 – Family Educational Rights and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§99.7  What must an educational agency or institution include in its annual notific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51F3-A9A7-442F-B126-1372D1306E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sumer Information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4 C.F.R. 685.304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2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Couns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ance and exit couns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dl.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EB28-D6E9-4967-B74E-303D4E3A97E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J&amp;B</cp:lastModifiedBy>
  <dcterms:modified xsi:type="dcterms:W3CDTF">2010-11-07T15:17:40Z</dcterms:modified>
  <cp:revision>334</cp:revision>
  <dc:subject/>
  <dc:title>PowerPoint Presentation</dc:title>
</cp:coreProperties>
</file>