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662C-4A95-4CB7-BEEA-6E8651C5C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7484-5108-404A-AF87-6159212EF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A600-D050-46B5-BA8B-829AE1A79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F7C1-B2FD-424F-A463-469DCBFAB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CF51-C406-42DD-8C7B-B990FC627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3A34-A6DC-41E0-86AA-4D3BAF3E7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0298-C731-43A3-965E-DAE6BF433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03EA-0FBA-4CA7-BA7A-A895C56A8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EFD2-26C1-46C8-A051-50140A5D1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A3AE-CB19-4C29-8B3A-119220BE3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7743-A67E-4248-A992-27B9834C5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ABA7-AFB5-4897-80BE-4C7D53D41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CDA3-9CDC-4528-8F56-D6E46428A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E65D-0CA0-4FAD-BB37-A1B44120A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6305-426D-4487-92CD-A9CD1E2A5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51D0-6AF6-46D1-B621-3960014E6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9AF9-94ED-4377-816A-5FF0EB538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6B21-3F3A-4CB2-82E9-529FE95A2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43A6-2B31-4C18-880D-13D925EB4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1B8A-4D00-40AC-B9DA-C066E05FE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EE87-6F68-4A2D-AD50-6392A54F7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BBDA-1627-4539-8ED2-F01A2DA4C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0FF2-077C-4D83-B0FC-B1B389636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A509-0162-46B6-AD8B-59A065772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520F-B43E-40DB-BE20-757D3FED2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6D5E-FE98-49D7-9213-BDF16C7B7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DBB4-A334-4C89-AF15-76B00CC5E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E659-E211-492B-8528-577D938EA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84BB-A0D9-4E8F-8852-66B07D5FB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ED8B-F563-4333-8E4A-216C5004A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30E5-9DDF-4819-8ED7-4240443D9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944F-562D-4FBC-9D0C-B8CD9BB4C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3855-E206-4E23-AB84-F9D9F1BB9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0124-9D59-43DF-91F3-A3B3A8607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0B2E-D347-41E7-9DF4-E21B0DE11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DF5C-0572-4163-B70F-17CF84255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AAAA-7C9A-4A9F-9EF3-9FB4E0DF2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D1A0-6C1C-4F1C-8381-28A922274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A310-721E-448B-BC70-8CF315495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FE38-712E-4DEF-B7DC-CA55B4F1D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CDA0-03A8-403E-BD06-12D2AF2C2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A130-284B-4703-B14C-EBEA84835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89C6-E705-4178-AB50-4572F7376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25AD-60FE-464B-BA58-3BC641FD3C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35AA-F128-4FA6-BBE8-93928F450F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0E40-63E8-4A58-AF77-1C1CFA4D1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3047-488C-4DBE-A6CC-F5ADE83BF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3BC7-5C49-4696-ABE3-B88841B1F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16F8-5CAD-452C-B0DD-FA22E60BB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18D9-8855-4B90-8426-2D3EAD563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4816F-2537-4695-A6DB-EB5A32032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8353-B68C-44E2-8E0A-7342EFF4D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2D46-31BC-4FCD-BE80-9196DB09D24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ftc.gov/sentinel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tudentaid.ed.gov/lsa" TargetMode="External"/><Relationship Id="rId2" Type="http://schemas.openxmlformats.org/officeDocument/2006/relationships/hyperlink" Target="http://www.studentaid.ed.gov/pub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areeronestop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nces.ed.gov/" TargetMode="External"/><Relationship Id="rId2" Type="http://schemas.openxmlformats.org/officeDocument/2006/relationships/hyperlink" Target="http://nces.ed.gov/pubsearch/pubsinfo.asp?pubid=2010831rev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fap.ed.gov/qahome/fsaassessment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#39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artnering for Complianc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nd Consumer Prot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ulie Arthur, U.S. Department of Edu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an Susman, U.S. Department of Edu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34 C.F.R. Subpart F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220968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sre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al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char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loyability of gradu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5460-2855-4D1F-B436-AC33177C1EC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ogram Review Finding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me Awareness Requirements Not M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ies did not contain all required el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ribution of statistics and policies not adequ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ure to report statistics on website or crimes reported in wrong categ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B20A-CB61-4B9D-9B24-AA87193CCEB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http://www.biztape.com/images/upload/Image/CAUTION-TAPE-PIC/crime-scene-tape-1.jpg"/>
          <p:cNvPicPr/>
          <p:nvPr/>
        </p:nvPicPr>
        <p:blipFill>
          <a:blip r:embed="rId1"/>
          <a:stretch/>
        </p:blipFill>
        <p:spPr>
          <a:xfrm>
            <a:off x="4724280" y="4848120"/>
            <a:ext cx="37339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ogram Review Finding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mer Information Requirements Not M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ies not develo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ies not provided to students (SAP, R2T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consumer information requirements pursuant to HEOA not implemen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17C8-690A-42AB-965E-9462EF61524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5181480" y="50292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ogram Review Finding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srepresent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cation of false information and claims it could not substanti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rrect information about educational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ferability of cre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450A-ADF7-48AE-AB07-DA2EEC27EA6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5" descr=""/>
          <p:cNvPicPr/>
          <p:nvPr/>
        </p:nvPicPr>
        <p:blipFill>
          <a:blip r:embed="rId1"/>
          <a:srcRect l="36100" t="25069" r="38143" b="40269"/>
          <a:stretch/>
        </p:blipFill>
        <p:spPr>
          <a:xfrm>
            <a:off x="6019920" y="3733920"/>
            <a:ext cx="2590560" cy="2792160"/>
          </a:xfrm>
          <a:prstGeom prst="rect">
            <a:avLst/>
          </a:prstGeom>
          <a:ln w="633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ew Regula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entive compens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inful emplo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authorization as a component of institutional elig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1CEC-0D6E-4909-9D4A-929B9273997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ew Regula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tion of credit hour to determine program elig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 of information included on student aid appl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 school diploma defin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FB0F-E33E-44D9-A0F5-B5A85294062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Partnershi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artment of Lab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Bureau of Investig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urity and Exchange Com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rediting Ag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uaranty Ag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64E1-EAF8-4D89-8DFE-B31EB75F55C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" descr="obama_duncan.jpg"/>
          <p:cNvPicPr/>
          <p:nvPr/>
        </p:nvPicPr>
        <p:blipFill>
          <a:blip r:embed="rId1"/>
          <a:stretch/>
        </p:blipFill>
        <p:spPr>
          <a:xfrm>
            <a:off x="4648320" y="3657600"/>
            <a:ext cx="43434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Partnershi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mer Sentinel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://www.ftc.gov/sentinel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e online database of millions of consumer complaints available only to law enforc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 provides information on complaints to FT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1E2C-75AE-421C-A8E4-49E049CECBE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Partnershi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240" y="14475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A Consumer Information references FTC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cholarship Scams </a:t>
            </a:r>
            <a:r>
              <a:rPr b="0" i="1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www.studentaid.ed.gov/l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act Sheets  </a:t>
            </a:r>
            <a:r>
              <a:rPr b="0" i="1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www.studentaid.ed.gov/pub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Partnering Initia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udent Loans: Avoiding Deceptive Offe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—a joint publication of the FTC and 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ides and other pub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58F0-8605-4709-9C1F-927A6B8C5F3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Partnershi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partment of Lab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tionary of Occupational Tit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s a Recognized Occup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www.careeronestop.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e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laries and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 and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ional Economic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786D-2300-4CF8-9EA0-3E73778D83A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artnering for Compliance and Consumer Protec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8284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tory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on Consumer-Related Find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rnal and Internal Partnerships to Assist in Overs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FDF2-3183-42C2-9333-775F63A1DA3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5029200" y="342900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6C2E-702D-4F5F-8474-1EC032DA4A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Partnershi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ederal Bureau of Investig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Partnership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pus Security Revie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Partner with the FB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dditional overs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make our campuses safe for students and employees today and tomorr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0064-45B4-4AB6-9E23-0334D9E1F15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ocused Campus Security Reviews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975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BI selects certain states for a Quality Assessment Review (12+ per yea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BI then selects a school that has a sworn police depart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A schedules a focused campus security review at that same school or another school in that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59F1-F095-4557-A122-40B989B7BA4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ocused Campus Security Review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BI reviews most recent reporting of Part I cri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A reviews policies and most recent reported statistics to 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s Part I and Part II crimes and disciplinary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Flowchart: Magnetic Disk 7"/>
          <p:cNvSpPr/>
          <p:nvPr/>
        </p:nvSpPr>
        <p:spPr>
          <a:xfrm>
            <a:off x="4724280" y="914400"/>
            <a:ext cx="2743200" cy="2895480"/>
          </a:xfrm>
          <a:prstGeom prst="flowChartMagneticDisk">
            <a:avLst/>
          </a:prstGeom>
          <a:solidFill>
            <a:srgbClr val="89dd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lowchart: Magnetic Disk 8"/>
          <p:cNvSpPr/>
          <p:nvPr/>
        </p:nvSpPr>
        <p:spPr>
          <a:xfrm>
            <a:off x="4724280" y="3962520"/>
            <a:ext cx="2743200" cy="2666880"/>
          </a:xfrm>
          <a:prstGeom prst="flowChartMagneticDisk">
            <a:avLst/>
          </a:prstGeom>
          <a:solidFill>
            <a:srgbClr val="99ff33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533412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41008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4800600" y="1828800"/>
            <a:ext cx="2590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gravated Assa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cible R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bb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rg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tor Vehicle The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rceny-Theft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4952880" y="5105520"/>
            <a:ext cx="2819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Clery report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n-forcible sex offe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apons vio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ug Law vio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cohol Law vio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7086600" y="35812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Larceny-Theft: Not Clery repor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ocused Campus Security Review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240" y="198108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BI and FSA share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BI QAR report is attached to FSA’s program review re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A’s program review report references findings from the FBI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0EAE-0510-4031-A4EF-FCAD88F1698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Partnershi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urity and Exchange Commiss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Publicly Traded School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re data and information with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complaint referrals to and from the SEC Enforcement Div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SEC actions taken and reported to Lexis Nex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SEC Quarterly Stat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60C9-2F42-4F0D-A6D0-825CD835DF1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Partnershi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240" y="15998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Governmental Off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orney 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stant US Attorne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er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918E-67FE-4547-BE1C-BB867AD5E87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5562720" y="42670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Partnershi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1523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crediting Agenci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Regional or Nation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re final outco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 and coordinate school clo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 regular accrediting upd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336D-29AC-40E7-B664-13D28D2EA7C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Partnershi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560" y="15235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uaranty Ag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 Reviews of Sch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rals to OIG and Program Compli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8D4C-12BB-4A7C-B2AC-9B2EF92CD5C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ternal Partnershi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2280" y="15235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usiness Operations Reporting Conc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, CPS, NSLDS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0% Direct Loan Trans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fice of Postsecondary Education Reporting Conc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P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pus Security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BB19-1536-4D81-8924-CDA538E2253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ternal Partnershi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fice of Inspector 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rals to and from (Investigations and Auditor QC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ution of OIG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fice of the General Couns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 T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ice and Agre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8C93-7EA1-45A9-8B46-31963AE68A3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y is Compliance Important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tle IV funding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8-2009: $105.8 bill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9-2010: $129.9 billion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schools receiving Title IV fund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8-2009: 613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9-2010: 621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*Preliminary Data—without FSEOG or F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C1A8-D68B-472C-9120-F8EEDB08A69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 Resour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D61F-9185-451E-9A1C-D592785B22A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Content Placeholder 7" descr=""/>
          <p:cNvPicPr/>
          <p:nvPr/>
        </p:nvPicPr>
        <p:blipFill>
          <a:blip r:embed="rId1"/>
          <a:srcRect l="26119" t="15236" r="27252" b="7618"/>
          <a:stretch/>
        </p:blipFill>
        <p:spPr>
          <a:xfrm>
            <a:off x="380880" y="1600200"/>
            <a:ext cx="2286000" cy="28954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157" name="Picture 9" descr=""/>
          <p:cNvPicPr/>
          <p:nvPr/>
        </p:nvPicPr>
        <p:blipFill>
          <a:blip r:embed="rId2"/>
          <a:srcRect l="31733" t="17835" r="29970" b="22246"/>
          <a:stretch/>
        </p:blipFill>
        <p:spPr>
          <a:xfrm>
            <a:off x="2133720" y="2438280"/>
            <a:ext cx="2057400" cy="3048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3"/>
          <a:srcRect l="10901" t="14828" r="12177" b="24051"/>
          <a:stretch/>
        </p:blipFill>
        <p:spPr>
          <a:xfrm>
            <a:off x="3429000" y="1523880"/>
            <a:ext cx="3276720" cy="1605240"/>
          </a:xfrm>
          <a:prstGeom prst="rect">
            <a:avLst/>
          </a:prstGeom>
          <a:ln w="34920">
            <a:solidFill>
              <a:srgbClr val="c00000"/>
            </a:solidFill>
            <a:miter/>
          </a:ln>
        </p:spPr>
      </p:pic>
      <p:pic>
        <p:nvPicPr>
          <p:cNvPr id="159" name="Picture 11" descr=""/>
          <p:cNvPicPr/>
          <p:nvPr/>
        </p:nvPicPr>
        <p:blipFill>
          <a:blip r:embed="rId4"/>
          <a:srcRect l="17468" t="14428" r="19072" b="58521"/>
          <a:stretch/>
        </p:blipFill>
        <p:spPr>
          <a:xfrm>
            <a:off x="3886200" y="4724280"/>
            <a:ext cx="4498920" cy="1533600"/>
          </a:xfrm>
          <a:prstGeom prst="rect">
            <a:avLst/>
          </a:prstGeom>
          <a:ln w="25560">
            <a:solidFill>
              <a:srgbClr val="0099cc"/>
            </a:solidFill>
            <a:miter/>
          </a:ln>
        </p:spPr>
      </p:pic>
      <p:pic>
        <p:nvPicPr>
          <p:cNvPr id="160" name="Picture 12" descr=""/>
          <p:cNvPicPr/>
          <p:nvPr/>
        </p:nvPicPr>
        <p:blipFill>
          <a:blip r:embed="rId5"/>
          <a:srcRect l="16668" t="14229" r="17468" b="16436"/>
          <a:stretch/>
        </p:blipFill>
        <p:spPr>
          <a:xfrm>
            <a:off x="6248520" y="914400"/>
            <a:ext cx="2643120" cy="2104920"/>
          </a:xfrm>
          <a:prstGeom prst="rect">
            <a:avLst/>
          </a:prstGeom>
          <a:ln w="25560">
            <a:solidFill>
              <a:srgbClr val="0099cc"/>
            </a:solidFill>
            <a:miter/>
          </a:ln>
        </p:spPr>
      </p:pic>
      <p:pic>
        <p:nvPicPr>
          <p:cNvPr id="161" name="Picture 14" descr=""/>
          <p:cNvPicPr/>
          <p:nvPr/>
        </p:nvPicPr>
        <p:blipFill>
          <a:blip r:embed="rId6"/>
          <a:srcRect l="19712" t="13826" r="20031" b="57919"/>
          <a:stretch/>
        </p:blipFill>
        <p:spPr>
          <a:xfrm>
            <a:off x="4343400" y="3276720"/>
            <a:ext cx="4305240" cy="13190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pic>
        <p:nvPicPr>
          <p:cNvPr id="162" name="Picture 15" descr=""/>
          <p:cNvPicPr/>
          <p:nvPr/>
        </p:nvPicPr>
        <p:blipFill>
          <a:blip r:embed="rId7"/>
          <a:srcRect l="36100" t="25069" r="38143" b="40269"/>
          <a:stretch/>
        </p:blipFill>
        <p:spPr>
          <a:xfrm>
            <a:off x="533520" y="3962520"/>
            <a:ext cx="1962000" cy="2114280"/>
          </a:xfrm>
          <a:prstGeom prst="rect">
            <a:avLst/>
          </a:prstGeom>
          <a:ln w="3168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ederal Student Aid Handbook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88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me 2: School Eligibility and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6: Providing Consumer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s requirements for consumer information a school must provide to students, the Department, and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ins a summary of the effects of misrepresentation of school information on the school’s participation in Federal Student A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E89A-2A75-4550-9231-5496AA168A9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sourc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Information Required to b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Disclosed Under the Hig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Education Act of 196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://nces.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http://nces.ed.gov/pubsearch/pubsinfo.asp?pubid=2010831re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D35B-E919-437F-A823-18E01F9F572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3"/>
          <a:srcRect l="37822" t="9828" r="15546" b="9828"/>
          <a:stretch/>
        </p:blipFill>
        <p:spPr>
          <a:xfrm>
            <a:off x="6361200" y="457200"/>
            <a:ext cx="2654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source (Example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04920" y="1523880"/>
          <a:ext cx="8534160" cy="448632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rement Applies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Discl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28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und Policy, Requirements for Withdrawal and Return of Title IV Financial 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7f38a"/>
                        </a:gs>
                        <a:gs pos="100000">
                          <a:srgbClr val="edfadd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Institutions Participating in Title IV, HEA Student Financial Aid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7f38a"/>
                        </a:gs>
                        <a:gs pos="100000">
                          <a:srgbClr val="edfadd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A Sec. 485(a)(1)-(2), (20 U.S.C. 1092(a)(1)-(2)). Not changed by HEOA. 34 CFR 668.41(a)-(d), 34 CFR 668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7f38a"/>
                        </a:gs>
                        <a:gs pos="100000">
                          <a:srgbClr val="edfadd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de available through appropriate publications, mailings, or electronic 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7f38a"/>
                        </a:gs>
                        <a:gs pos="100000">
                          <a:srgbClr val="edfadd"/>
                        </a:gs>
                      </a:gsLst>
                      <a:lin ang="2700000"/>
                    </a:gradFill>
                  </a:tcPr>
                </a:tc>
              </a:tr>
              <a:tr h="37152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ch institution must make available to prospective and enrolled students information about the institution’s refund policy; requirements and procedures for official withdrawal; and requirements for return of Title IV, HEA grant or loan ai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7f38a"/>
                        </a:gs>
                        <a:gs pos="100000">
                          <a:srgbClr val="edfadd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2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A3F7-6C6C-4EE7-A9D4-71540B238DF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traight Connector 11"/>
          <p:cNvSpPr/>
          <p:nvPr/>
        </p:nvSpPr>
        <p:spPr>
          <a:xfrm>
            <a:off x="6172200" y="4419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traight Connector 13"/>
          <p:cNvSpPr/>
          <p:nvPr/>
        </p:nvSpPr>
        <p:spPr>
          <a:xfrm flipH="1">
            <a:off x="609480" y="4648320"/>
            <a:ext cx="556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Straight Arrow Connector 15"/>
          <p:cNvCxnSpPr/>
          <p:nvPr/>
        </p:nvCxnSpPr>
        <p:spPr>
          <a:xfrm flipH="1">
            <a:off x="607320" y="4649400"/>
            <a:ext cx="396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SA Assess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752120"/>
            <a:ext cx="85341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f-assessment tool designed to assist schools in evaluating financial aid policies, process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assessment modules on students, schools, managing funds, and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://ifap.ed.gov/qahome/fsaassessment.htm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0C41-52A7-4A96-AC99-1A5B5D7FE50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54E4-855F-43C2-A0EB-1066FCA9594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0" t="0" r="0" b="10571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  <p:cxnSp>
        <p:nvCxnSpPr>
          <p:cNvPr id="181" name="Straight Arrow Connector 6"/>
          <p:cNvCxnSpPr/>
          <p:nvPr/>
        </p:nvCxnSpPr>
        <p:spPr>
          <a:xfrm flipH="1" flipV="1">
            <a:off x="5485680" y="3809880"/>
            <a:ext cx="2134440" cy="76680"/>
          </a:xfrm>
          <a:prstGeom prst="straightConnector1">
            <a:avLst/>
          </a:prstGeom>
          <a:ln w="38160">
            <a:solidFill>
              <a:srgbClr val="0099c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7FD1-FABE-4C02-B48D-1EF560A5732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rcRect l="0" t="0" r="0" b="9375"/>
          <a:stretch/>
        </p:blipFill>
        <p:spPr>
          <a:xfrm>
            <a:off x="0" y="3808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dditional Sess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320" y="17521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ssion #27: Consumer Information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lo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ssion #32: Student Loan Consumer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ssion #38: Top Ten Audit and Program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Find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DF8D-719F-4A12-9F66-0F9EDE5F9DB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 – School Team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304920" y="1066680"/>
            <a:ext cx="83818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Compli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bin Minor, Chief Compliance Office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02) 377-435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the appropriate School Participation Team for information and guidance on audit resolution, financial analysis, program reviews, school and program eligibility/recertification and school closure inform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0" y="2666880"/>
            <a:ext cx="3200400" cy="4309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chool Participation Teams – Northea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va Leon, Director – Wash D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202) 377-3173  geneva.leon@ed.go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ew York/Bost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Connecticut, Maine, Massachusetts, New Hampshire, Rhode Island, Vermont, New Jersey, New York, Puerto Rico, Virgin Islan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tty Coughlin–New York (646) 428-37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osemary Torpey - Boston (617) 289-013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ristopher Curry—New York (646) 428-3738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trice Fleming - Wash DC (202) 377-4209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hiladelphi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DC, Delaware, Maryland, Pennsylvania, Virginia, West Virginia)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ncy Gifford - Philadelphia (215) 656-644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hn Loreng – Philadelphia (215) 656-64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chael Frola - Wash DC (202) 377-3364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eig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rbara Hemelt - Wash DC (202) 377-316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ampus Secur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fton Knight – Wash DC (202) 377-424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124080" y="2871720"/>
            <a:ext cx="3124440" cy="3944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chool Participation Teams-South Cent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rolyn White, Director – Wash DC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202) 377-3173  carolyn.white@ed.go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tlan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Alabama, Florida, Georgia, Mississippi, North Carolina, South Carolina)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Engstrom - Atlanta  (404) 974-9290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ristopher Miller – Atlanta (404) 974-929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rbara Murray—DC (202) 377-42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lla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Arkansas, Louisiana, New Mexico, Oklahoma, Texas)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Engstrom - Atlanta  (404) 974-92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net Dragoo - Dallas (214) 661-9481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Kansas Cit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Iowa, Kansas, Kentucky, Missouri, Nebraska, Tennessee)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alph LoBosco-Kansas City (816) 268-0410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vak Corwin – Kansas City (816) 268-04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illip Brumback-Wash DC (202) 377-346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6105600" y="2514600"/>
            <a:ext cx="3038400" cy="4343400"/>
          </a:xfrm>
          <a:prstGeom prst="rect">
            <a:avLst/>
          </a:prstGeom>
          <a:solidFill>
            <a:srgbClr val="89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chool Participation Teams - Northw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t Dickerson, Director – Wash DC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202) 377-3173 patricia.dickerson@ed.go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hicago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Illinois, Indiana, Minnesota, Ohio, Wisconsin)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ouglas Parrott - Chicago (312) 730-153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vid Heath – Chicago (312) 730-1522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l Flurkey – Chicago (312) 730-15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nve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Colorado, Michigan, Montana, North Dakota, South Dakota, Utah, Wyoming)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arry Shriver - Denver (303) 844-41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an Francisco/Seattl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American Samoa, Arizona, California, Guam, Hawaii, Nevada, Palau, Marshall Islands, N. Marianas , Federated States of Micronesia, Alaska, Idaho, Oregon, Washington)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tina Fernandez-Rosario (415) 486-56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ayle Palumbo (415) 486-56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yon Toney - Wash DC (202) 377-363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8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FDF2-D072-43C0-80DA-D6452786739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25C5-D524-4335-8473-333240D62A5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80880" y="990720"/>
            <a:ext cx="838224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Julie Arth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 (206) 615-22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-mail:  julie.arthur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:  (206) 615-25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ran Sus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 (303) 844-36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-mail:  fran.susman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:  (303) 844-46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3" descr=""/>
          <p:cNvPicPr/>
          <p:nvPr/>
        </p:nvPicPr>
        <p:blipFill>
          <a:blip r:embed="rId1"/>
          <a:stretch/>
        </p:blipFill>
        <p:spPr>
          <a:xfrm>
            <a:off x="231840" y="1450800"/>
            <a:ext cx="5406840" cy="3194280"/>
          </a:xfrm>
          <a:prstGeom prst="rect">
            <a:avLst/>
          </a:prstGeom>
          <a:ln w="0">
            <a:noFill/>
          </a:ln>
        </p:spPr>
      </p:pic>
      <p:pic>
        <p:nvPicPr>
          <p:cNvPr id="59" name="Chart 4" descr=""/>
          <p:cNvPicPr/>
          <p:nvPr/>
        </p:nvPicPr>
        <p:blipFill>
          <a:blip r:embed="rId2"/>
          <a:stretch/>
        </p:blipFill>
        <p:spPr>
          <a:xfrm>
            <a:off x="4035600" y="3048120"/>
            <a:ext cx="5108400" cy="3657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304920" y="3808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s by Type 2008-2009 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7"/>
          <p:cNvSpPr/>
          <p:nvPr/>
        </p:nvSpPr>
        <p:spPr>
          <a:xfrm flipH="1">
            <a:off x="4902120" y="5562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3124080" y="639612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National Student Loan Data System (NSLDS) and Campus-Bas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hart 3" descr=""/>
          <p:cNvPicPr/>
          <p:nvPr/>
        </p:nvPicPr>
        <p:blipFill>
          <a:blip r:embed="rId1"/>
          <a:stretch/>
        </p:blipFill>
        <p:spPr>
          <a:xfrm>
            <a:off x="0" y="1596960"/>
            <a:ext cx="5638680" cy="343224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4" descr=""/>
          <p:cNvPicPr/>
          <p:nvPr/>
        </p:nvPicPr>
        <p:blipFill>
          <a:blip r:embed="rId2"/>
          <a:stretch/>
        </p:blipFill>
        <p:spPr>
          <a:xfrm>
            <a:off x="4194000" y="2895480"/>
            <a:ext cx="4950000" cy="365760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304920" y="3808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s by Type 2009-2010 AY</a:t>
            </a:r>
            <a:r>
              <a:rPr b="1" lang="en-US" sz="2400" spc="-1" strike="noStrike">
                <a:solidFill>
                  <a:srgbClr val="cc5407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04920" y="50292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*Funding data does not include FWS or FSE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5334120" y="640080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National Student Loan Data System (NSL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34 C.F.R. 668, Subpart 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§668.41  Reporting and disclosure of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§668.42  Financial assistance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§668.43  Institutional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§668.44  Availability of employees for information dissemination purpo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§668.45  Information on completion or graduation r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16CD-D9D4-4FBC-AC4E-5FF4BB79A02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34 C.F.R. 668, Subpart 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§668.46  Institutional security policies and crime stat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§668.47  Report on athletic program participation rates and financial support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§668.48 Report on completion or graduation rates for student athle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§668.49  Institutional fire safety policies and fire stat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BD08-E969-43A2-A1DF-34B202B4B23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34 C.F.R. Part 86 and Part 99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560" y="1752120"/>
            <a:ext cx="4190760" cy="43434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 86 – Drug and Alcohol Abuse Preven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§86.100  What must the IHE’s drug prevention program includ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7960" y="1752120"/>
            <a:ext cx="4190760" cy="43434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 99 – Family Educational Rights and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§99.7  What must an educational agency or institution include in its annual notific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FD3F-F567-488B-956A-9F0F3788573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34 C.F.R. 685.304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24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 Couns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rance and exit couns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.dl.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8210-E39A-43D2-BBA0-62188651E83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J&amp;B</cp:lastModifiedBy>
  <dcterms:modified xsi:type="dcterms:W3CDTF">2010-11-07T15:17:40Z</dcterms:modified>
  <cp:revision>334</cp:revision>
  <dc:subject/>
  <dc:title>PowerPoint Presentation</dc:title>
</cp:coreProperties>
</file>