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BE62-1B5C-40C1-901E-BAD2028C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8FC-B9BD-4BB7-9ABB-8C8A3B0AB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B530-FAEE-4E05-8037-C6EA10B06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64A9-C9C8-4276-91C3-C1A351EBE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1F05-7D1E-44A2-B101-F58A86A60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973F-9ED4-41EF-BA78-60545F323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6C40-E3EE-449E-919E-5F3A674DE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3179-ECBB-4F7D-B5FE-A6181C0AC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06FF-3A6F-49A0-A0F7-34F1C9B97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82EE-7CC5-4460-B88E-B41DF44A9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AEF7-9A28-4DEF-AE86-803815F7D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3775-1FAF-49E6-BB03-55E0B1929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4BE9-4A36-40A9-93CB-9C3CCFB34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7A84-C166-4A81-A603-C46BB014D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E6A-2DAF-4F18-962C-A94C90FDAE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 37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unity College Initia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n Madzelan, U.S. Department of E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fforts to Support the Goa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ills for America’s Fu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ite House Summ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PSE Comprehensive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ittee on Student Succ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45D-4508-4B31-A531-DE02C0DC47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2B9-5B3C-4BC6-82B2-47B4B10C45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144792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.madzela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-502-78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-502-78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C84-CB14-47C9-AD0B-54679A5360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merican Graduation Initiativ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 cannot lead in th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entury unless we have the best educated, most competitive workforce in the worl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President Barack Obama on Higher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ril 24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ompetitive World Econom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rica’s economic strength depends upon the education and skills of its wor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s requiring at least an associate degree are projected to grow twice as fast as those requiring no college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the next decade, nearly eight in ten new jobs will require higher education and workforce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t, sixty percent of Americans have no postsecondary credentials at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6DB3-B49B-49FF-A638-E603164466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EE5B-E5A5-4DCB-B2CA-1EC4B79635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President’s Goa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duce a higher percentage of college graduates than any other country in the world by 20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our rate of degree holders from 40% to 60%. This includes both four-year colleges and two-year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reach that goal, we need 3 million graduates of 4-year colleges and 5 million from community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2355-F959-482D-B3AA-8B0FFDF70D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Challeng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, 27 percent of young people drop out of high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year, 1.2 million teenagers leave school for the str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-school graduates from the wealthiest families are virtually certain to continue on to higher education; while just over half in the poorest bottom quarter atte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halle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out 75 million adults between the ages of 18 to 64 have no postsecondary education and are not enrolled in a course of education.  Of tho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 million older youth and adults (age 18-64) lack a high school diploma or G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3 million (age 18-64) are high school graduates with no college education;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 million older youth and adults (age 18-64) completed some college but did not receive a degre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han 60% of all students enrolled in community colleges are in need of at least one remedial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FB2B-D387-430A-9C75-08F487297B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The Challeng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 colleges enroll more than 6 million students and are growing rapid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than three in ten full-time students pursuing a two-year degree graduate in three years - and part-time students graduate at even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than half of community college students who enroll with the intention of getting a degree or transferring to a four-year school reach this goal in six yea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C957-6B8C-40E8-A6CB-7A6699B206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he Challeng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graphics of community college students are chang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han twice as likely to be enrolled part-time and it is estimated that over 70 percent of two-year college students are employed an average of 30 hours per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far less likely to be of traditional college-going age (18 to 24) than four-year college students,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enroll more than 50% of all African-American students and more than two-thirds of all Latino students. And 39% are the first in their families to attend colle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BB5A-4514-48CD-95D2-45D16BC0B8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forts to Support the Goal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erican Recovery and Reinvestment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in P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ition Tax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 Fiscal Stabilization F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and Education Reconciliation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A – Community College Train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tion to D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046-5A08-43D9-ABE5-39DB3FDA97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#Administrator</cp:lastModifiedBy>
  <dcterms:modified xsi:type="dcterms:W3CDTF">2010-11-12T17:35:36Z</dcterms:modified>
  <cp:revision>392</cp:revision>
  <dc:subject/>
  <dc:title>PowerPoint Presentation</dc:title>
</cp:coreProperties>
</file>