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2703-7CCF-48DD-8CC1-743F29457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E810-6135-4527-93BF-6076FDF47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8F3F-DC12-4EC9-ABFA-5DE49FADB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5B43-9763-40C1-B8FD-DDAB19536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5D9A66AB-C4F4-49B9-B365-AF4FD3FC5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ffice of Management and Budget requires all Federal statistical agencies that collect data on occupations to collect and report the data using the SOC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43EB-8DC8-4C06-817D-79AB1ED1F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DA2F-DBA2-438D-AD8A-21337889B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9EBA-EC61-4522-B9EF-EF997C1D2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529D-9633-46DA-BEE5-1F8071598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C9D2A90-9B76-480C-8AA4-8A42D7AB0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6B20-6173-4A9A-B2D5-E4458AF90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18B2-F350-43EC-8C03-73ED5A18F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59A3-6493-4620-843D-37CCCD356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D99C-EC26-4ABC-9BA5-2428D73D2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6849-CCD4-428C-B0AF-523AA61E4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D31F-086C-482C-B850-6F5C5ADA2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*NET 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employment proj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2008-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dated every 2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2009 release 2008-2018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Employment Statistics wag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Ma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dated annu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to corresponding data by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6F67-D868-47C2-AD88-5423DDFAE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inaid.org/calculators/undergradadvisor.p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bt-to-income ratio is a standard tool for assessing whether a borrower will have difficulty meeting his or her repayment obligation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banks will refuse to issue a loan if the total of an individual’s monthly debt payments (i.e., mortgages, credit cards, auto loans, educational loans, etc.) exceeds 37% of income. It is recommended that educational loan payments represent no more than 10% to 15% of incom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recommended rule of thumb is that the manageable debt load is about the same as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al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1974-D451-4C5E-8665-B8ED511C6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7446FB5-422D-4208-9BF6-54ABEAC68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40C5-5365-493B-A0E8-740AA294C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CA75-2403-4D74-80D3-E52A065E7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EB95-B40A-4898-A64C-B14566459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BFF9-3134-4B0C-93C7-AFB624C3D0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96268-0790-4CA1-8DA1-04E42F809A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6658-273A-4CAD-9C73-779BE10B8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3501C-E33E-4A66-8F6F-1CE222C7C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74D0-5311-432A-9D97-D50AFB88D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BD56-D20D-47B7-8AD3-0176AF819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AF09-1E2F-4254-99FB-4796B5777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F10CE-BEAE-4EB1-BB5E-7E71799B0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A8E1-B156-4861-BFAE-1B58C45C8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CA9E-350C-433C-B2EF-715BCD32069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876312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ssion 35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ne Stop Career Centers</a:t>
            </a:r>
            <a:br>
              <a:rPr sz="4000"/>
            </a:b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Bricks and Mortar and Virtual</a:t>
            </a: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m Frugol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.S. Department of Lab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loyment and Training Adminis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ww.CareerOneStop.org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ep Lear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ion earns more mon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ai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olar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rt-term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r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entice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ty colle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s at colle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training provi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5407"/>
                </a:solidFill>
                <a:latin typeface="Verdana"/>
              </a:rPr>
              <a:t>Financial Aid Links</a:t>
            </a:r>
            <a:endParaRPr b="1" lang="en-US" sz="3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28126" t="26776" r="34376" b="7294"/>
          <a:stretch/>
        </p:blipFill>
        <p:spPr>
          <a:xfrm>
            <a:off x="4038480" y="762120"/>
            <a:ext cx="46227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ccupational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 are available on occupational employment, wages, and demographics for th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tropolitan statistical are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ther Online Dat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899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.CareerOneStop.or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arch 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stest growing occup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pations with the most open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pations with the largest emplo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pations with declining dem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la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centage growth 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nings quarti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8614080" y="6248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rcRect l="3127" t="8333" r="6250" b="18753"/>
          <a:stretch/>
        </p:blipFill>
        <p:spPr>
          <a:xfrm>
            <a:off x="152280" y="685800"/>
            <a:ext cx="8839440" cy="5334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8614080" y="6248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1"/>
          <a:srcRect l="28830" t="14351" r="5086" b="0"/>
          <a:stretch/>
        </p:blipFill>
        <p:spPr>
          <a:xfrm>
            <a:off x="2286000" y="444600"/>
            <a:ext cx="6248520" cy="587988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8614080" y="6248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rcRect l="783" t="40626" r="7811" b="9376"/>
          <a:stretch/>
        </p:blipFill>
        <p:spPr>
          <a:xfrm>
            <a:off x="152280" y="1219320"/>
            <a:ext cx="8915400" cy="36576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8614080" y="6324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ploring Careers: Occupations and Job Titl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ob title versus occup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ols available to relate the tw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ccupational classifi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 on occupational employment and wa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US Occupational Classification System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 Occupational Classification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40 detailed occup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pational Information Network (O*N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65 detailed occup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ies new and emerging special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ociated job titles (lay titl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8613360" y="624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OC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by Federal agencies that collect data on occup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reau of Labor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nual wage and salary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nual employment estim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ed employment for ten years out (updated every two year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sus Bur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mograph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tate and local network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and local Workforce Investment Bo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l One-Stop Career Cente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-person ser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urce rooms with computer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have specially trained staff to assist    veterans and persons with disabi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ss to related supportive ser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O*NET System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2000 SOC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will move to 2010 SOC when published employment and wage data become available 2011-201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s additional requirements and characteristic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nowledge, skills, ab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contex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8613360" y="624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*NET occupational information on the Interne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on the web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arch by keywor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ttp://online.onetcenter.org O*NET OnLi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ww.ONETCodeConnector.org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rcRect l="3127" t="6251" r="4688" b="6251"/>
          <a:stretch/>
        </p:blipFill>
        <p:spPr>
          <a:xfrm>
            <a:off x="76320" y="304920"/>
            <a:ext cx="8991360" cy="6400800"/>
          </a:xfrm>
          <a:prstGeom prst="rect">
            <a:avLst/>
          </a:prstGeom>
          <a:ln w="0">
            <a:noFill/>
          </a:ln>
        </p:spPr>
      </p:pic>
      <p:sp>
        <p:nvSpPr>
          <p:cNvPr id="98" name="Oval 5"/>
          <p:cNvSpPr/>
          <p:nvPr/>
        </p:nvSpPr>
        <p:spPr>
          <a:xfrm>
            <a:off x="6477120" y="533520"/>
            <a:ext cx="266688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8689680" y="632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5407"/>
                </a:solidFill>
                <a:latin typeface="Verdana"/>
              </a:rPr>
              <a:t>Job Titles Related to Occupations:</a:t>
            </a:r>
            <a:br>
              <a:rPr sz="3400"/>
            </a:br>
            <a:r>
              <a:rPr b="1" lang="en-US" sz="3400" spc="-1" strike="noStrike">
                <a:solidFill>
                  <a:srgbClr val="cc5407"/>
                </a:solidFill>
                <a:latin typeface="Verdana"/>
              </a:rPr>
              <a:t>“Game Developer”</a:t>
            </a:r>
            <a:endParaRPr b="1" lang="en-US" sz="34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rcRect l="3127" t="17709" r="6250" b="28124"/>
          <a:stretch/>
        </p:blipFill>
        <p:spPr>
          <a:xfrm>
            <a:off x="228600" y="1752480"/>
            <a:ext cx="8839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at Occupations are Related to my Education or Training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8534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archable by education program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ing Classification of Instructional Programs (CIP) to O*NET-SOC crosswal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y title or co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rcRect l="3127" t="10420" r="5467" b="7294"/>
          <a:stretch/>
        </p:blipFill>
        <p:spPr>
          <a:xfrm>
            <a:off x="76320" y="609480"/>
            <a:ext cx="8915400" cy="6019920"/>
          </a:xfrm>
          <a:prstGeom prst="rect">
            <a:avLst/>
          </a:prstGeom>
          <a:ln w="0">
            <a:noFill/>
          </a:ln>
        </p:spPr>
      </p:pic>
      <p:sp>
        <p:nvSpPr>
          <p:cNvPr id="106" name="Oval 5"/>
          <p:cNvSpPr/>
          <p:nvPr/>
        </p:nvSpPr>
        <p:spPr>
          <a:xfrm>
            <a:off x="4419720" y="4419720"/>
            <a:ext cx="2286000" cy="228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rcRect l="3127" t="13540" r="28126" b="7294"/>
          <a:stretch/>
        </p:blipFill>
        <p:spPr>
          <a:xfrm>
            <a:off x="1066680" y="609480"/>
            <a:ext cx="6705720" cy="57913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8613360" y="624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rcRect l="3127" t="10420" r="5467" b="7294"/>
          <a:stretch/>
        </p:blipFill>
        <p:spPr>
          <a:xfrm>
            <a:off x="76320" y="533520"/>
            <a:ext cx="8915400" cy="6019560"/>
          </a:xfrm>
          <a:prstGeom prst="rect">
            <a:avLst/>
          </a:prstGeom>
          <a:ln w="0">
            <a:noFill/>
          </a:ln>
        </p:spPr>
      </p:pic>
      <p:sp>
        <p:nvSpPr>
          <p:cNvPr id="110" name="Oval 5"/>
          <p:cNvSpPr/>
          <p:nvPr/>
        </p:nvSpPr>
        <p:spPr>
          <a:xfrm>
            <a:off x="76320" y="1066680"/>
            <a:ext cx="8380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8613360" y="624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5407"/>
                </a:solidFill>
                <a:latin typeface="Verdana"/>
              </a:rPr>
              <a:t>Job Titles Related to Occupations:</a:t>
            </a:r>
            <a:br>
              <a:rPr sz="3400"/>
            </a:br>
            <a:r>
              <a:rPr b="1" lang="en-US" sz="3400" spc="-1" strike="noStrike">
                <a:solidFill>
                  <a:srgbClr val="cc5407"/>
                </a:solidFill>
                <a:latin typeface="Verdana"/>
              </a:rPr>
              <a:t>“Quality Assurance”</a:t>
            </a:r>
            <a:endParaRPr b="1" lang="en-US" sz="34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rcRect l="3127" t="18753" r="5467" b="6251"/>
          <a:stretch/>
        </p:blipFill>
        <p:spPr>
          <a:xfrm>
            <a:off x="304920" y="1641600"/>
            <a:ext cx="82296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5407"/>
                </a:solidFill>
                <a:latin typeface="Verdana"/>
              </a:rPr>
              <a:t>Links to Employment and Wages</a:t>
            </a:r>
            <a:endParaRPr b="1" lang="en-US" sz="34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nked to current employment and wage data from the Bureau of Labor Statistics and stat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kelihood of finding employ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imated starting sal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rvices at a One Stop Career Center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ake and initial assess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nsive servic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in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mphasis on preparation for careers and employ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rcRect l="3127" t="10420" r="4688" b="17709"/>
          <a:stretch/>
        </p:blipFill>
        <p:spPr>
          <a:xfrm>
            <a:off x="76320" y="838080"/>
            <a:ext cx="8991360" cy="5257800"/>
          </a:xfrm>
          <a:prstGeom prst="rect">
            <a:avLst/>
          </a:prstGeom>
          <a:ln w="0">
            <a:noFill/>
          </a:ln>
        </p:spPr>
      </p:pic>
      <p:sp>
        <p:nvSpPr>
          <p:cNvPr id="118" name="Oval 9"/>
          <p:cNvSpPr/>
          <p:nvPr/>
        </p:nvSpPr>
        <p:spPr>
          <a:xfrm>
            <a:off x="76320" y="3733920"/>
            <a:ext cx="83808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8458200" y="3657600"/>
            <a:ext cx="6094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1"/>
          <a:srcRect l="3127" t="14584" r="30470" b="50002"/>
          <a:stretch/>
        </p:blipFill>
        <p:spPr>
          <a:xfrm>
            <a:off x="76320" y="1752480"/>
            <a:ext cx="8610480" cy="3444840"/>
          </a:xfrm>
          <a:prstGeom prst="rect">
            <a:avLst/>
          </a:prstGeom>
          <a:ln w="0">
            <a:noFill/>
          </a:ln>
        </p:spPr>
      </p:pic>
      <p:sp>
        <p:nvSpPr>
          <p:cNvPr id="121" name="Oval 5"/>
          <p:cNvSpPr/>
          <p:nvPr/>
        </p:nvSpPr>
        <p:spPr>
          <a:xfrm>
            <a:off x="228600" y="1600200"/>
            <a:ext cx="7620120" cy="4114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Link to State Employment &amp; Wag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rcRect l="3127" t="0" r="37502" b="34375"/>
          <a:stretch/>
        </p:blipFill>
        <p:spPr>
          <a:xfrm>
            <a:off x="1219320" y="1371600"/>
            <a:ext cx="5790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2009 Wage Data for Paralegals—US and Missouri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1523880"/>
          <a:ext cx="8534160" cy="43434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  <a:gridCol w="1219320"/>
                <a:gridCol w="12189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-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r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r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.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Oval 51"/>
          <p:cNvSpPr/>
          <p:nvPr/>
        </p:nvSpPr>
        <p:spPr>
          <a:xfrm>
            <a:off x="2133720" y="1295280"/>
            <a:ext cx="2209680" cy="4876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562" t="17709" r="5467" b="6251"/>
          <a:stretch/>
        </p:blipFill>
        <p:spPr>
          <a:xfrm>
            <a:off x="76320" y="457200"/>
            <a:ext cx="9067680" cy="5562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429000" y="60958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bls.gov/oes/current/oes_nat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Is it Worth it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ules of thumb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nthly debt no more tha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/3 of inco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otal debt no more than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nnual sala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age data helps individual   evalu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"/>
          <p:cNvPicPr/>
          <p:nvPr/>
        </p:nvPicPr>
        <p:blipFill>
          <a:blip r:embed="rId1"/>
          <a:srcRect l="5467" t="11458" r="3127" b="10420"/>
          <a:stretch/>
        </p:blipFill>
        <p:spPr>
          <a:xfrm>
            <a:off x="228600" y="457200"/>
            <a:ext cx="8915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"/>
          <p:cNvPicPr/>
          <p:nvPr/>
        </p:nvPicPr>
        <p:blipFill>
          <a:blip r:embed="rId1"/>
          <a:srcRect l="3127" t="12502" r="3127" b="8333"/>
          <a:stretch/>
        </p:blipFill>
        <p:spPr>
          <a:xfrm>
            <a:off x="0" y="3808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33" name="Oval 5"/>
          <p:cNvSpPr/>
          <p:nvPr/>
        </p:nvSpPr>
        <p:spPr>
          <a:xfrm>
            <a:off x="0" y="4114800"/>
            <a:ext cx="25909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7238880" y="4191120"/>
            <a:ext cx="190512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3809880" y="4191120"/>
            <a:ext cx="190512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rcRect l="3127" t="9376" r="3127" b="9376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38" name="Oval 5"/>
          <p:cNvSpPr/>
          <p:nvPr/>
        </p:nvSpPr>
        <p:spPr>
          <a:xfrm>
            <a:off x="0" y="3048120"/>
            <a:ext cx="4648320" cy="1218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rcRect l="5467" t="11458" r="3127" b="13540"/>
          <a:stretch/>
        </p:blipFill>
        <p:spPr>
          <a:xfrm>
            <a:off x="228600" y="60948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ne-Stop Custom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dul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tera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lder Work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grant and Seasonal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armwork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Yout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16 to 24, including out of schoo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slocated Work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DC71-A666-403E-A0F7-9F82C0A8858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33520" y="1447920"/>
            <a:ext cx="71625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m Frug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*NET/Competency Assessment Team Lea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 Department of Labor, Employment and Training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-693-36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-mail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ugoli.pam@dol.go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inding A One Stop www.servicelocator.org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rcRect l="3127" t="15627" r="4688" b="21878"/>
          <a:stretch/>
        </p:blipFill>
        <p:spPr>
          <a:xfrm>
            <a:off x="76320" y="1523880"/>
            <a:ext cx="8991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Issues and Relevant Workforce Informa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this training what kind of work do I qualify fo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p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n company n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jobs availabl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can I expect to ear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ry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kely wage or salary range by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dgeting for loan repa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irtual Career Information Sourc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reerOneSto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ww.CareerOneStop.org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*NET OnLi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ttp://online.onetcenter.org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ySkills myFutu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ww.mySkillsmyFuture.org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COS Information on Education and Training</a:t>
            </a:r>
            <a:endParaRPr b="1" lang="en-US" sz="2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Oval 6"/>
          <p:cNvSpPr/>
          <p:nvPr/>
        </p:nvSpPr>
        <p:spPr>
          <a:xfrm>
            <a:off x="2209680" y="1905120"/>
            <a:ext cx="1676520" cy="533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rcRect l="3127" t="10420" r="5467" b="17709"/>
          <a:stretch/>
        </p:blipFill>
        <p:spPr>
          <a:xfrm>
            <a:off x="76320" y="914400"/>
            <a:ext cx="8915400" cy="5257800"/>
          </a:xfrm>
          <a:prstGeom prst="rect">
            <a:avLst/>
          </a:prstGeom>
          <a:ln w="0">
            <a:noFill/>
          </a:ln>
        </p:spPr>
      </p:pic>
      <p:sp>
        <p:nvSpPr>
          <p:cNvPr id="66" name="Oval 9"/>
          <p:cNvSpPr/>
          <p:nvPr/>
        </p:nvSpPr>
        <p:spPr>
          <a:xfrm>
            <a:off x="2133720" y="1905120"/>
            <a:ext cx="205740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3127" t="11458" r="5467" b="9376"/>
          <a:stretch/>
        </p:blipFill>
        <p:spPr>
          <a:xfrm>
            <a:off x="0" y="380880"/>
            <a:ext cx="891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6:07:20Z</dcterms:created>
  <dc:creator>frugoli.pam</dc:creator>
  <dc:description/>
  <dc:language>en-US</dc:language>
  <cp:lastModifiedBy>J&amp;B</cp:lastModifiedBy>
  <dcterms:modified xsi:type="dcterms:W3CDTF">2010-11-06T18:03:24Z</dcterms:modified>
  <cp:revision>17</cp:revision>
  <dc:subject/>
  <dc:title>Slide 1</dc:title>
</cp:coreProperties>
</file>