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418C-3D65-45D4-B8B0-330DB9F47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903F-25A6-4380-B504-31A525FD9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385A-DDA5-4748-9748-D7EC4911C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EFEC-28FF-4B0B-8797-32ADC7B14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3DC5-B6BE-44D0-8DBC-C9719E81D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C930-B1D5-42F8-866F-950B88F53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2490-ADB1-4B66-926F-22E400276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EB66-F326-4447-82C9-9AC045CFD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B769-0117-4B57-829F-A65C0F7AD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B4FB-0500-4423-B7B8-C14A00AE1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161B-66E5-423F-A738-47A8438E1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F6E1-1A1A-4FB0-8F2F-BF4687550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8D7-36A2-4B0A-AA02-A393D0376C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839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anced Direct Loan Processing in the Common Origination and Disbursement System for FA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rick Kennedy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ia Marella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029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30101"/>
                </a:solidFill>
                <a:latin typeface="Times New Roman"/>
                <a:ea typeface="Arial"/>
              </a:rPr>
              <a:t>This PPT file is removed, and please see PDF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ohn.webbon.admin</cp:lastModifiedBy>
  <dcterms:modified xsi:type="dcterms:W3CDTF">2010-12-20T18:51:12Z</dcterms:modified>
  <cp:revision>475</cp:revision>
  <dc:subject/>
  <dc:title>PowerPoint Presentation</dc:title>
</cp:coreProperties>
</file>