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39B1-D783-45C4-9C42-639851306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A99D-3154-45C1-8061-C85814F81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BB26-E0D6-43A2-AB9B-D893939CD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56C7-4D0C-4D40-8E92-BBD92DD803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857F-5495-49AC-A058-2842291393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A3C1-D7FD-48FA-A11E-6251D861F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FEC6-E24B-407D-9113-330FB5DBE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B41A-897B-409A-8153-397252923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E56A-49A8-4FF2-BB71-2656593E8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BA38-092D-4DCD-A941-3AEEE100D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953E-6C37-45F8-9E2A-38A568D31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A08E-9B58-4D3C-BFCA-79F61F58F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0768-6DF7-4119-92EA-CA2503B1D31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1905120"/>
            <a:ext cx="88394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dvanced Direct Loan Processing in the Common Origination and Disbursement System for FAA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trick Kennedy, 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ia Marella, 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029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30101"/>
                </a:solidFill>
                <a:latin typeface="Times New Roman"/>
                <a:ea typeface="Arial"/>
              </a:rPr>
              <a:t>This PPT file is removed, and please see PDF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john.webbon.admin</cp:lastModifiedBy>
  <dcterms:modified xsi:type="dcterms:W3CDTF">2010-12-20T18:51:12Z</dcterms:modified>
  <cp:revision>475</cp:revision>
  <dc:subject/>
  <dc:title>PowerPoint Presentation</dc:title>
</cp:coreProperties>
</file>