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93138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313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278320" y="-360"/>
            <a:ext cx="40356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941560" y="514440"/>
            <a:ext cx="34308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40920" y="3257640"/>
            <a:ext cx="68310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515280"/>
            <a:ext cx="4035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278320" y="6515280"/>
            <a:ext cx="4035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F4C8-601A-4B0C-B6AA-B8962E0A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278320" y="6515280"/>
            <a:ext cx="4035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3EF2-2D56-4097-B26E-21827CBEB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4156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40920" y="3257640"/>
            <a:ext cx="68310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BC72-EC8D-4F9A-A765-C656B71D1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834C-C2F0-4780-AE99-F21F872F0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0AC4-67C8-484C-AD1A-8AB46465B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EA49-9801-4CF3-A76C-6B980A78F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F868-976B-42CF-878C-44492095A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142D-1FF4-4980-A959-D671DF79D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E04B-F189-4B40-B6C4-C8550D2CC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D007-6C7D-4D50-BD30-3748402EB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A3E6-47DF-4664-AAC9-56D017B77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2A47-193B-4FD7-952E-958A8E9B7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08B0-AA91-4A33-B167-C39796A1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9F4F-85F2-4FB7-BEE8-AB34704BD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F327-3356-41B6-93E0-99F13572B4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mailto:Carney.McCullough@ed.gov" TargetMode="External"/><Relationship Id="rId2" Type="http://schemas.openxmlformats.org/officeDocument/2006/relationships/hyperlink" Target="mailto:Marty.Guthrie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26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neral Provisions and Non-Loan Program Issues -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rney McCullou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ty Guth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with the 2011-12 FAFSA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d collection via FOTW for first time fil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 HS name and city/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from drop-down list or write-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pulated by NCES lis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799-7391-4D1F-9C02-AEC0D88536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high school does not appear on NCES lists, documentation may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S diploma,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transcript showing the courses the student comple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ertification is not su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ppeal process in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s to HS diplo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5C5D-295E-4A56-B6CF-2D1BFF73F6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analysis to refine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dance through FSA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7B9-13D7-4161-9C29-9FFE572408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Ability to Benefi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68.32(e) an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part J of Part 66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revise ATB regul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implement the HEOA provision in Section 484(d)(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isfactory completion of 6 credit hours toward a degree or certific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ddress recommendations in the 8/17/09 GA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0E5-6494-4D40-8C42-122BD7BB95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ATB o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ing hours applicable to an eligible degree or certificate offered by the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semester, trimester, or quarter hours OR 225 clock hou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DE08-37EA-44CB-AA6D-3B0E96B04B9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ay after completion of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pay like a transfer stu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 back to the beginning of th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out” does not satisfy completion of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9AB-23D4-4E48-BCD0-B3299E84C2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chool admits students with recognized equivalent of HS diploma OR under an ATB option, it cannot fail to accept the satisfactory completion of 6 credit hours or equivalent coursework that is applicable toward a degree or certificate at that in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8EE-ECC3-45A8-B6DB-411F5D919E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changes in Subpart 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ly address GAO-identified defici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2A2E-9C86-45AB-8C05-BE31C48709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and revised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 cente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 test administrato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 with a disabilit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dministrato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publisher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268-29C9-4395-8E73-ECFD4A4EBC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5A27-30DE-4D9B-B3AD-89678F6DAC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Negotiated Rulemaking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rings in Denver, Little Rock, and Philadelphia—June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deral Regis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tice—September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teams—Program Integrity and Foreign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bility to Benefit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lidated approval processes for test publishers an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for handling test score irregular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s to accommodate individuals with dis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sions to test approv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6809-7B91-4B48-BBAC-30EA8252DB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Verification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bpart E of Part 66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revise the verification regul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comprehensive look in 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 years of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nalysis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S data retrie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al impr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8B46-8151-4F1B-9190-EC8DBDDB33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date delayed until July 1,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12-13 award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ay need time to make changes to their institutional process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486F-163E-4635-82C0-1EAFD0961E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eneral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s references to individual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“subsidized student financial assistance programs” and “unsubsidized student financial assistanc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4A7-580F-4A95-96FF-B4D13935B1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sidized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igibility uses EF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ication appl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ll, FSEOG, FWS, Perkins, Subsidized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bsidized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igibility does not use EF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ication does not app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62"/>
              </a:spcBef>
              <a:spcAft>
                <a:spcPts val="162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ACH Grant, Unsubsidized Loan, PLUS Lo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94A-D4F1-436D-8713-4BBE1D4814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“FAFSA information” instead of “applicatio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“specified year” as base year or year prior to base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for option of using income data from a different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E9A-C723-4D95-B5F3-EEF1013FA8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complete verification prior to exercising professional jud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fies long-standing policy in re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7C7-1698-4454-92F3-3EA41DAC24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minates 30% lim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targeting error-prone items to select applications to ver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 verify all applicants we s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d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gis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tice will list data elements that may be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3FD-1AEC-4D6F-8D24-5E420E83AC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election (mor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must continue to verify information they believe is inaccu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keep flexibility to select additional information or application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7B35-6274-48C1-93FF-575365AB0D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445-DC5C-40E6-A10C-7F483341F9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Integrity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meetings—November and December 2009 and January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ac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s certain exclu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tructures to clarify provisions applicable to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s of dependent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uses of independent applic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295-76F0-400D-9D71-7810036EAE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lusions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s specific situations when parent’s or spouse’s information is not subject to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035D-3789-42FC-8BAE-A2010745E9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pd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nt required to update all changes in dependency status throughout the award yea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anges resulting from a change in the applicant’s marital stat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nt’s responsibility, not institution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BCC-1BB6-4D5D-BFEE-5970CCC9EB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pdating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A may require applicant to update marital status to address inequity or to reflect more accurately the applicant’s ability to p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5AF-4713-4BB7-A7FB-820A39EB02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tems to ver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d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gis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to ver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ly, will include the current five data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B33-7DCE-4333-B052-FFCD35FBEC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ed as acceptable in annu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d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gis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ained current documentation requirements with technical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ed option to retrieve electronic data from 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D99-184F-42A5-B54F-4D1EA418EC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cumentation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pplicants with tax filing exten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quire completed tax return when fi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verify AGI and taxes paid, when/if the tax return is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89CC-DB0A-4F77-BAAF-5F559B6372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cumentation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return not signed by the tax f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signed or stamped by the tax preparer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in the preparer’s SSN, EIN or PT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8BF-3FB0-4AB2-975E-4F3141BC39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terim disburs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and conforming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make a disbursement after completing verification but prior to receiving a corrected ISIR if the changes would not change the amount of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void liability, must ensure all corrections are submitted to 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158A-56F7-413A-A098-7FA470ECA9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ad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 institutions to follow cash management procedures for Direct Lo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d the requirement to pay Pell Grant on the higher EF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6179-FAE2-4AC0-989E-BB6ACA006A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ogram Integrit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of Proposed Rulemaking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18,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nt period ended—August 2,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arly 1,200 comments recei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egulations—October 29, 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date—July 1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regulations effective July 1, 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D556-D021-4A79-AE16-80C19B5E47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covery of fu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 institution to reimburse program account if disbursement made without receiving corrected SAR or IS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4FD-2091-421B-A671-9176755D20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hanges in FAFSA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d $400 tole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 all corrections over $25 to be submit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C4A-0865-47E1-86F7-B4C0877565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Verification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asked abou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ing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d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gis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S Data Retrieval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act on QA sch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223E-6BB3-4E69-BF7E-2768843A3E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Satisfactory Academic Progress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§668.16(e), 668.32(f), and 668.3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tisfactory Academic Progr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revise the satisfactory academic progress regul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comprehensive look in 198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onsistent terminology used by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d, sequential use of probationary peri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ructured, comprehensive, and consisten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394-87A5-4083-A19C-4703944FDB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iously, SAP requirements and references were included in 3 regulatory sec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istrative capability §668.16(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eligibility §668.32(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isfactory progress §668.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all requirements are in §668.34 with cross references in §§668.16(e) and 668.32(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EFC-81EC-4E0F-BF4C-CF85C39DBC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regulations provide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ed flexibility for institutions in establishing their SAP poli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flexibility for institutions that monitor SAP more often than ann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itions for “warning” and “probatio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 student who is not making SAP is no longer eligible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9CDB-B5BE-40F3-8B65-0D175946A0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P policy require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ed in §668.34 and include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ment of student’s progress at each evaluation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take place each payment period, annually, or less often than each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occur at the end of a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520-1060-4160-9398-EB031AF7FD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P policy requirements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A that a student must achieve at each evaluation (qualitative standa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of progression to ensure completion within the maximum time frame (quantitative standa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is measured at each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0DD-8108-45B4-8318-4C45B76400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P policy requirements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student’s GPA and pace are affected by incompletes, withdrawals, repetitions, or transfers of cre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s to count transfer hours accepted toward completion of the student’s program as both hours attempted and hours comple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B90D-CEDA-4C46-8AB1-E4F8DE8543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day’s Agend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School Diploma (§668.16(p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Benefit (§668.32(e) and Subpart J of Part 668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cation (Subpart E of Part 668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isfactory Academic Progress (§§668.16(e), 668.32(f), and 668.3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aking Coursework (§668.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5C4E-F945-4787-B9B1-BF91D6F249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P policy requirements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on of and conditions surrounding “warning” and “probation” statuses, if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ecific elements and process required for app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a student can reestablish elig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D35-38BC-43B5-8673-C0FEA5457D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inancial Aid W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s assigned to a student who fails to make SAP at an institu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at evaluates SAP at the end of each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ay continue to receive Title IV aid for one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ppeal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03B-E17C-4474-A730-6CC04BB0B7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inancial Aid Prob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us assigned by an institution to a student who fails to make SAP and who has appealed and has had eligibility for Title IV aid reinst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may impose conditions for student’s continued eligibility to rece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AED-6D5A-4BA8-8A19-331CAF3FAA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pp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by which a student who is not meeting an institution’s SAP policy petitions the institution for reconsideration of the student’s eligibility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specify the conditions under which a student may app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08F-C65C-4ED9-B9DF-EE20114F68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ppeal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udent’s appeal must include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the student failed to make SAP; 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has changed that will allow the student to make SAP at the next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BA2-423D-433E-811C-F73D2CC2EF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stitutions that evaluate SAP each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ses eligibility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ay be placed on Financial Aid Warning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ust make SAP or may be placed on Financial Aid Probation after an app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C7D-CAC2-40B7-A42F-B6BBE1196E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stitutions that evaluate SAP each payment period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Financial Aid Probation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udent must be making SAP, 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be successfully following an academic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38F-0D53-4C89-B11F-BB40165819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stitutions that evaluate SAP less often than each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loses eligibility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may be placed on Financial Aid Probation after an appe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Financial Aid Probation, the student must be making SAP or successfully following an academic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9588-7A5A-44FA-827A-56D80B07495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itution must notify student of results of SAP review that impacts the student’s eligibility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institution has an appeal process, must describe the specific elements required to appeal S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862-132B-4295-AF0B-41BBCDD180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ifications (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institution does not have an appeal process, must describe how a student who has failed SAP reestablishes eligibility for Title IV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C59-F643-4410-892B-C3FADA1077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High School Diploma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68.16(p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AP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asked abou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different rates of assessment for different classes of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ng one factor at end of each payment period and another ann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ing SAP for the 2011 summer crossover paymen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finition of an academic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850-24C4-4411-80E6-A834297DDF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Retaking Coursework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§668.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aking Coursework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are these revisions need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eviate burden on institutions to track students who retake cour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help students who need a specific grade (or GPA) to be admitted to, or continue in, a particula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955-14AE-4795-8FF3-02558C458E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aking Coursework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s programs at term-based instit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nds full-time student defini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s courses included in determining enrollment status for Title IV, HEA program purpo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4D1-AF21-4885-A249-8C3E4089E37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aking Coursework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:  pay for unlimited retakes of failed classes on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PRM:  pay for any coursework previously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ule:  pay for one retake of any previously passed course (except not if due to the student failing previous cours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D00-B4B4-46EE-A354-F043784E1F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Retaking Coursework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l 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expansive than current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trictive than NP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d due to additional information about some institutional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7EF-F963-48F8-9D62-1179826DB4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2819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Questions?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B87-5BEC-4F4D-8958-57F3BB37AB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A684-117D-43FE-9F3F-193DF53CFF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33520" y="1447920"/>
            <a:ext cx="716256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/502-76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arney.McCullough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202/219-70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Marty.Guthrie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x:  202/502-78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add this high school diploma requireme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sure that students who receive Title IV, HEA program funds have valid high school dipl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ddress recommendations in the 8/17/09 GAO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17C1-1908-42DC-967C-549BCF770F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requirement for institutions to develop and follow procedures to evaluate a student’s high school completion if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stitu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Secretary has reason to believe the high school diploma was not obtained from an entity that provides secondary school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A21-A279-4254-9267-F46204C53F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igh School Diploma (cont’d)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comments revealed some conf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requirement to collect HS diplo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ED master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apply to home-schooled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3024-1CE9-46CA-B451-F63BF3A74D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12T15:07:24Z</dcterms:modified>
  <cp:revision>394</cp:revision>
  <dc:subject/>
  <dc:title>PowerPoint Presentation</dc:title>
</cp:coreProperties>
</file>