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1.xml.rels" ContentType="application/vnd.openxmlformats-package.relationships+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6626-995E-4384-8A13-CE8384A8F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B538-E86C-431E-AA06-90527D51B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857680" y="514440"/>
            <a:ext cx="3429000" cy="2571840"/>
          </a:xfrm>
          <a:prstGeom prst="rect">
            <a:avLst/>
          </a:prstGeom>
          <a:ln w="0">
            <a:noFill/>
          </a:ln>
        </p:spPr>
      </p:sp>
      <p:sp>
        <p:nvSpPr>
          <p:cNvPr id="3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2A253-8D73-4EBE-90F2-E0F84C0A3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99AC2A2-F2C2-4B2A-A32A-B3F937392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F63B2D2E-A2A4-45DB-B002-5B8ADCBEA1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B5EF15D9-0517-46B4-99B6-6AAC8A630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5506D28-A2DE-40BD-BE36-BC94E0B05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5BBA13A-E0D8-4D83-81AC-37DA4D240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55284D9-B037-45EF-BC19-A7D6755982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E370AC4-4E5F-474E-ABA6-3D8A04118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FB9EAD71-D114-4F59-82D3-97AE49B3F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EB0C13A-08F2-4C2C-8C18-B45E83FE0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B5A8954-50E0-472F-9A4C-199E775CFC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CEFBB19-C964-4B7C-B6A9-AB2318961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43F6-2296-4814-9197-9C7DBE1D703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2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ral Provisions and Non-Loan Program Issues - Institutional</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rney McCullough</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requirements based on whether the institution i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by name as an educational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to conduct busin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zed to operate as a nonprofit charitable organiz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deral, tribal, and religious institutions are exempt from these requirement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DCCE-44F7-4E70-9C99-74691080A98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established as an educational institution by a St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mply with any applicable State approval or licen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may exempt the institution from State approval or licensure requirements based on—</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s accreditation 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itution being in operation for at least 20 year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167C-96C6-46F8-AB26-60055700D3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established on the basis of an authorization to conduct business in the State or to operate as a nonprofit charitable organ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mply with the State approval or licens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approved or licensed by na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not be exempted from State approval or licensure based on accreditation, years in operation, or a comparable exemp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8976-8F20-47C3-8D90-A0FFDC52B1E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must have a process, applicable to all institutions except tribal and Federal institutions, to review and address complaints directly or through referral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tribal college, provides that the tribal government has a process to review and appropriately act on complai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F93A-AB62-4BDA-AE2F-81BC391855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s religious institution as an institution that is owned, controlled, operated, and maintained by a religious organization and awards only religious degrees or certificat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mpts religious institutions that are exempt from State authorization under State law or under a State’s co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E66E-7EC2-4EC8-A076-B79A61E33B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f an institution offers education through distance or correspondence education to students in a State in which is it is not physically located or in which it is otherwise subject to State jurisdiction, it must meet State requirements to be legally offering postsecondary distance or correspondence education in the State.  It must be able to document the State’s approval, upon reque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3C3B-D64D-4501-B286-C128C9A96A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 howev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ay request a one-year extension to July 1, 2012 and, if necessary, an additional one-year extension to July 1, 2013 if the State is unable to provide appropriate State authoriz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6896-9487-4DF8-885F-C9103F2230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9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ceive the extension, an institution must obtain from the State an explanation of how a one-year extension will permit the State to modify its procedures to compl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2591-F702-49C7-9BFE-CDB405AC9A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redit Hour</a:t>
            </a:r>
            <a:endParaRPr b="1" lang="en-US" sz="4000" spc="-1" strike="noStrike">
              <a:solidFill>
                <a:srgbClr val="cc5407"/>
              </a:solidFill>
              <a:latin typeface="Verdan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2, 602.24, 603.24, and 668.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a:t>
            </a:r>
            <a:endParaRPr b="1" lang="en-US" sz="3600" spc="-1" strike="noStrike">
              <a:solidFill>
                <a:srgbClr val="cc5407"/>
              </a:solidFill>
              <a:latin typeface="Verdana"/>
            </a:endParaRPr>
          </a:p>
        </p:txBody>
      </p:sp>
      <p:sp>
        <p:nvSpPr>
          <p:cNvPr id="10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evelop a credit hour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urrent definition for programs funded under the HE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stablish consistent measure of eligibility for Federal fun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8ACE-BEAC-48D3-9240-DCC81E9216E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F8FD-D3DE-4921-B882-2AC63C246E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gotiated Rulemaking</a:t>
            </a:r>
            <a:endParaRPr b="1" lang="en-US" sz="36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rings in Denver, Little Rock, and Philadelphia—June 2009</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Federal Register</a:t>
            </a:r>
            <a:r>
              <a:rPr b="0" lang="en-US" sz="2800" spc="-1" strike="noStrike">
                <a:solidFill>
                  <a:srgbClr val="000000"/>
                </a:solidFill>
                <a:latin typeface="Verdana"/>
              </a:rPr>
              <a:t> Notice—September 2009</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eams—Program Integrity and Foreign Schoo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0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s definition solely for Federal program purpose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that a credit hour is an institutionally established equivalency of amount of work that reasonably approximates not less than the measures in the defini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D4EB-96A6-41A8-9D71-0E9C8BF018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0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s intended learning outcomes &amp; evidence of student achievement that approximates not less th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hour classroom/two hours out of class student work,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valent work for other academic activities as established by the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55DD-63FD-4341-933A-9DB2AB9A2A1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procedures that accrediting agencies must use to determine if an institution’s assignment of a credit hour is acceptabl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90D5-DEBB-4F22-B231-9E458A8412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ifies provisions on when an institution must use clock or credit hours and standards for credit-to-clock-hour conver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D801-2FAB-4240-825C-67C600A7E0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graduate nondegree credit hour programs must use clock-to-credit hour conversion unless  each course in the program is fully acceptable to a degree program at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must be able to demonstrate that students enroll in and graduate from that degree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B0F0-10D0-4E38-B19C-27F30E1811C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1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nversion ratio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emester or trimester credit hour is equal to at least 37.5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quarter credit hour is equal to at least 25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26AE-F228-4361-AE32-0CAD7B7029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ception for institutions that demonstrate that the credit hours meet new definition and there are no deficiencies identified by accreditor or State for assigning credits; however, must meet these minimu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emester or trimester credit hour is equal to 30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quarter credit hour is equal to 20 clock hou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B85E-1044-43A2-9B63-48DFAFB95B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tudents enrolled in programs subject to the conversion as of July 1, 2011, the institution may—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current regulations until the students complete the program;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y new regulations for all students enrolled in payment periods assigned to the 2011-12 award yea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872F-E3D6-4B75-92F6-90DFB330EFD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redit Hour (cont’d)</a:t>
            </a:r>
            <a:endParaRPr b="1" lang="en-US" sz="3600" spc="-1" strike="noStrike">
              <a:solidFill>
                <a:srgbClr val="cc5407"/>
              </a:solidFill>
              <a:latin typeface="Verdana"/>
            </a:endParaRPr>
          </a:p>
        </p:txBody>
      </p:sp>
      <p:sp>
        <p:nvSpPr>
          <p:cNvPr id="12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r students who enroll or reenroll on or after July 1, 2011, the institution must use the new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6F26-A9DC-466E-81E8-6E9C66D24C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inful Employment</a:t>
            </a:r>
            <a:endParaRPr b="1" lang="en-US" sz="4000" spc="-1" strike="noStrike">
              <a:solidFill>
                <a:srgbClr val="cc5407"/>
              </a:solidFill>
              <a:latin typeface="Verdan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2, 600.4, 600.5, 600.6, 668.6, and 668.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42BC-13DB-4968-B1A9-BD3ACAE8A2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Integrity</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5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4 issu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meetings—November and December 2009 and January 2010</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nsus </a:t>
            </a:r>
            <a:r>
              <a:rPr b="0" lang="en-US" sz="2800" spc="-1" strike="noStrike" u="sng">
                <a:solidFill>
                  <a:srgbClr val="000000"/>
                </a:solidFill>
                <a:uFillTx/>
                <a:latin typeface="Verdana"/>
              </a:rPr>
              <a:t>not</a:t>
            </a:r>
            <a:r>
              <a:rPr b="0" lang="en-US" sz="2800" spc="-1" strike="noStrike">
                <a:solidFill>
                  <a:srgbClr val="000000"/>
                </a:solidFill>
                <a:latin typeface="Verdana"/>
              </a:rPr>
              <a:t> reach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a:t>
            </a:r>
            <a:endParaRPr b="1" lang="en-US" sz="3600" spc="-1" strike="noStrike">
              <a:solidFill>
                <a:srgbClr val="cc5407"/>
              </a:solidFill>
              <a:latin typeface="Verdana"/>
            </a:endParaRPr>
          </a:p>
        </p:txBody>
      </p:sp>
      <p:sp>
        <p:nvSpPr>
          <p:cNvPr id="133" name=""/>
          <p:cNvSpPr txBox="1"/>
          <p:nvPr/>
        </p:nvSpPr>
        <p:spPr>
          <a:xfrm>
            <a:off x="228240" y="1523520"/>
            <a:ext cx="89154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make these gainful employment change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ovide students and families with better information about programs that lead to gainful employment</a:t>
            </a:r>
            <a:endParaRPr b="0" lang="en-US" sz="2800" spc="-1" strike="noStrike">
              <a:solidFill>
                <a:srgbClr val="000000"/>
              </a:solidFill>
              <a:latin typeface="Verdana"/>
            </a:endParaRPr>
          </a:p>
        </p:txBody>
      </p:sp>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C4DC-6199-4382-BE92-675F4CF2EA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3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   </a:t>
            </a:r>
            <a:r>
              <a:rPr b="0" lang="en-US" sz="2800" spc="-1" strike="noStrike">
                <a:solidFill>
                  <a:srgbClr val="000000"/>
                </a:solidFill>
                <a:latin typeface="Verdana"/>
                <a:ea typeface="Verdana"/>
              </a:rPr>
              <a:t>Applies to certain programs that are Title IV eligible because they lead to “gainful employment in a recognized occup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A651-63A5-4FE8-B86B-9DD17658DDC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3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ll programs at for-profit schools except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Program leading to baccalaureate degree in liberal arts  (proprietary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ny program at a public or not-for-profit school that is no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 program leading to degre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 transfer program of at least two yea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A5B8-2561-4880-A0BA-4282C0B2B9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2" name=""/>
          <p:cNvSpPr txBox="1"/>
          <p:nvPr/>
        </p:nvSpPr>
        <p:spPr>
          <a:xfrm>
            <a:off x="304920" y="1523520"/>
            <a:ext cx="8534160" cy="4343400"/>
          </a:xfrm>
          <a:prstGeom prst="rect">
            <a:avLst/>
          </a:prstGeom>
          <a:noFill/>
          <a:ln w="0">
            <a:noFill/>
          </a:ln>
        </p:spPr>
        <p:txBody>
          <a:bodyPr anchor="t">
            <a:normAutofit/>
          </a:bodyPr>
          <a:p>
            <a:pPr marL="343080" indent="-343080">
              <a:lnSpc>
                <a:spcPct val="12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Recognized occupation is redefined as—</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ne identified by a Standard Occupational Classification (SOC) code established by OMB, or</a:t>
            </a:r>
            <a:endParaRPr b="0" lang="en-US" sz="2800" spc="-1" strike="noStrike">
              <a:solidFill>
                <a:srgbClr val="000000"/>
              </a:solidFill>
              <a:latin typeface="Verdana"/>
            </a:endParaRPr>
          </a:p>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ne identified by an Occupational Network O*NET-SOC code established by DOL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6CD3-7AF4-4D83-85CB-F13E23EC5D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5" name=""/>
          <p:cNvSpPr txBox="1"/>
          <p:nvPr/>
        </p:nvSpPr>
        <p:spPr>
          <a:xfrm>
            <a:off x="304920" y="1523520"/>
            <a:ext cx="8534160" cy="4343400"/>
          </a:xfrm>
          <a:prstGeom prst="rect">
            <a:avLst/>
          </a:prstGeom>
          <a:noFill/>
          <a:ln w="0">
            <a:noFill/>
          </a:ln>
        </p:spPr>
        <p:txBody>
          <a:bodyPr anchor="t">
            <a:normAutofit/>
          </a:bodyPr>
          <a:p>
            <a:pPr marL="343080" indent="-343080">
              <a:lnSpc>
                <a:spcPct val="12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Outdated reference to the </a:t>
            </a:r>
            <a:r>
              <a:rPr b="0" lang="en-US" sz="2800" spc="-1" strike="noStrike" u="sng">
                <a:solidFill>
                  <a:srgbClr val="000000"/>
                </a:solidFill>
                <a:uFillTx/>
                <a:latin typeface="Verdana"/>
                <a:ea typeface="Verdana"/>
              </a:rPr>
              <a:t>Dictionary of Occupational Titles</a:t>
            </a:r>
            <a:r>
              <a:rPr b="0" lang="en-US" sz="2800" spc="-1" strike="noStrike">
                <a:solidFill>
                  <a:srgbClr val="000000"/>
                </a:solidFill>
                <a:latin typeface="Verdana"/>
                <a:ea typeface="Verdana"/>
              </a:rPr>
              <a:t> is replaced with current references to SOC codes established by OMB and DOL</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768D-7931-4A46-97E8-0DF6B61197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4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Institution must annually submit information on </a:t>
            </a:r>
            <a:r>
              <a:rPr b="0" i="1" lang="en-US" sz="2800" spc="-1" strike="noStrike">
                <a:solidFill>
                  <a:srgbClr val="000000"/>
                </a:solidFill>
                <a:latin typeface="Verdana"/>
                <a:ea typeface="Verdana"/>
              </a:rPr>
              <a:t>students who complete a program</a:t>
            </a:r>
            <a:r>
              <a:rPr b="0" lang="en-US" sz="2800" spc="-1" strike="noStrike">
                <a:solidFill>
                  <a:srgbClr val="000000"/>
                </a:solidFill>
                <a:latin typeface="Verdana"/>
                <a:ea typeface="Verdana"/>
              </a:rPr>
              <a:t> leading to gainful employment in a recognized occupation inclu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Student and program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Amount from private loans or finance pl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Matriculation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Verdana"/>
              </a:rPr>
              <a:t>End of year enrollment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5A8F-CD85-4B14-8A9E-F1F190D994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porting by October 1, 2011</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2006-2007 award year information (if avail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2007-2008, 2008-2009, 2009-2010 award year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Reporting for 2010-2011 and beyo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No earlier than September 30 but no later than the date established by the Secretary in a </a:t>
            </a:r>
            <a:r>
              <a:rPr b="0" lang="en-US" sz="2800" spc="-1" strike="noStrike" u="sng">
                <a:solidFill>
                  <a:srgbClr val="000000"/>
                </a:solidFill>
                <a:uFillTx/>
                <a:latin typeface="Verdana"/>
                <a:ea typeface="Times New Roman"/>
              </a:rPr>
              <a:t>Federal</a:t>
            </a:r>
            <a:r>
              <a:rPr b="0" lang="en-US" sz="2800" spc="-1" strike="noStrike">
                <a:solidFill>
                  <a:srgbClr val="000000"/>
                </a:solidFill>
                <a:latin typeface="Verdana"/>
                <a:ea typeface="Times New Roman"/>
              </a:rPr>
              <a:t> </a:t>
            </a:r>
            <a:r>
              <a:rPr b="0" lang="en-US" sz="2800" spc="-1" strike="noStrike" u="sng">
                <a:solidFill>
                  <a:srgbClr val="000000"/>
                </a:solidFill>
                <a:uFillTx/>
                <a:latin typeface="Verdana"/>
                <a:ea typeface="Times New Roman"/>
              </a:rPr>
              <a:t>Regist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FA52-1E0F-40D0-A956-DCC62B79864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disclosures in promotional material for prospective students and on Web site to inclu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s’ occup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r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cement r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an loan debt</a:t>
            </a:r>
            <a:endParaRPr b="0" lang="en-US" sz="2800" spc="-1" strike="noStrike">
              <a:solidFill>
                <a:srgbClr val="000000"/>
              </a:solidFill>
              <a:latin typeface="Verdana"/>
            </a:endParaRPr>
          </a:p>
        </p:txBody>
      </p:sp>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A935-5F39-406A-97C8-C0DC523F77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5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s” Notification</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must notify ED </a:t>
            </a:r>
            <a:r>
              <a:rPr b="0" i="1" lang="en-US" sz="2800" spc="-1" strike="noStrike">
                <a:solidFill>
                  <a:srgbClr val="000000"/>
                </a:solidFill>
                <a:latin typeface="Verdana"/>
              </a:rPr>
              <a:t>at least 90 days before the first day of class </a:t>
            </a:r>
            <a:r>
              <a:rPr b="0" lang="en-US" sz="2800" spc="-1" strike="noStrike">
                <a:solidFill>
                  <a:srgbClr val="000000"/>
                </a:solidFill>
                <a:latin typeface="Verdana"/>
              </a:rPr>
              <a:t>when it intends to offer a new educational program that leads to gainful employment in a recognized occup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a:t>
            </a:r>
            <a:endParaRPr b="0" lang="en-US" sz="2800" spc="-1" strike="noStrike">
              <a:solidFill>
                <a:srgbClr val="000000"/>
              </a:solidFill>
              <a:latin typeface="Verdana"/>
            </a:endParaRPr>
          </a:p>
        </p:txBody>
      </p:sp>
      <p:sp>
        <p:nvSpPr>
          <p:cNvPr id="1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5349-72F7-43F4-8654-2A0316ECAF4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 Notification includes</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and for program, including needs of various marke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ge analysis inform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review/approval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e approval through school accredi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day of cla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F976-3F76-45A3-8562-76262B7DF8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gram Integrity</a:t>
            </a:r>
            <a:endParaRPr b="1" lang="en-US" sz="3600" spc="-1" strike="noStrike">
              <a:solidFill>
                <a:srgbClr val="cc5407"/>
              </a:solidFill>
              <a:latin typeface="Verdana"/>
            </a:endParaRPr>
          </a:p>
        </p:txBody>
      </p:sp>
      <p:sp>
        <p:nvSpPr>
          <p:cNvPr id="5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June 18,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period ended—August 2,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arly 1,200 comments receiv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October 29,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July 1, 201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4279-5ADE-4E23-A29C-D73232D468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a:t>
            </a:r>
            <a:r>
              <a:rPr b="0" lang="en-US" sz="2800" spc="-1" strike="noStrike" u="sng">
                <a:solidFill>
                  <a:srgbClr val="000000"/>
                </a:solidFill>
                <a:uFillTx/>
                <a:latin typeface="Verdana"/>
              </a:rPr>
              <a:t>New Program” Approval Process</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less ED requires approval for new programs, school is not required to get ED approval after notification is submit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tification is not timely, school must obtain ED approv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ED needs to approve the program, an alert notice will be sent to the school at least 30 days before first day of clas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1621-F1A7-46D9-89C0-1919BE02E4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Department’s “New Program” Revi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es financial and administrative capa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s whether program replaces or expands existing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s at how program fits with historic offerings, growth, and oper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s whether process and determination to offer program is sufficient</a:t>
            </a:r>
            <a:endParaRPr b="0" lang="en-US" sz="2800" spc="-1" strike="noStrike">
              <a:solidFill>
                <a:srgbClr val="000000"/>
              </a:solidFill>
              <a:latin typeface="Verdana"/>
            </a:endParaRPr>
          </a:p>
        </p:txBody>
      </p:sp>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42AE-0AFD-4810-9655-7D14DF57E4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ainful Employment (cont’d)</a:t>
            </a:r>
            <a:endParaRPr b="1" lang="en-US" sz="3600" spc="-1" strike="noStrike">
              <a:solidFill>
                <a:srgbClr val="cc5407"/>
              </a:solidFill>
              <a:latin typeface="Verdana"/>
            </a:endParaRPr>
          </a:p>
        </p:txBody>
      </p:sp>
      <p:sp>
        <p:nvSpPr>
          <p:cNvPr id="1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New Program” denials, ED wil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 how program fail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opportunity for school respons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ay request reconsider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9DF6-379B-40B4-A636-E470FFF711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srepresentation</a:t>
            </a:r>
            <a:endParaRPr b="1" lang="en-US" sz="4000" spc="-1" strike="noStrike">
              <a:solidFill>
                <a:srgbClr val="cc5407"/>
              </a:solidFill>
              <a:latin typeface="Verdan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bpart F of Part 668</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609120"/>
            <a:ext cx="861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a:t>
            </a:r>
            <a:endParaRPr b="1" lang="en-US" sz="3600" spc="-1" strike="noStrike">
              <a:solidFill>
                <a:srgbClr val="cc5407"/>
              </a:solidFill>
              <a:latin typeface="Verdana"/>
            </a:endParaRPr>
          </a:p>
        </p:txBody>
      </p:sp>
      <p:sp>
        <p:nvSpPr>
          <p:cNvPr id="174" name=""/>
          <p:cNvSpPr txBox="1"/>
          <p:nvPr/>
        </p:nvSpPr>
        <p:spPr>
          <a:xfrm>
            <a:off x="0" y="1523520"/>
            <a:ext cx="914400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provisions on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last revised over 20 years ago</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aints from students who allege they were victims of false promis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O undercover audi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ngthen ED’s regulatory enforcement authority</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D8E0-66B5-4865-9B3E-9D436A19D5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7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general, the misrepresentation regulations describ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ctions ED may take if it determines that an institution has engaged in substantial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ypes of activities that constitute substantial misrepres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AED9-D881-47C4-9A60-8D7652BA36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ddition, the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hat an eligible institution is deemed to engage in substantial misrepresentation if the institution, one of its representatives, or an entity under contract to the institution for providing educational programs or marketing, advertising, recruiting, or admissions activities makes a substantial misrepresentation regarding the eligible institu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3CE1-32C1-4121-8C3D-2E951BBD676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ly, the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substantial misrepresentation is prohibited in all form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9826-55A6-43CB-8E16-DB4E6AEDD1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isrepresent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false, erroneous, or misleading statement made by the institution directly or indirectly to a student, prospective student, member of the public, accrediting agency, state agency, or to 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B0F1-B9C1-4B6B-8F6E-D2B07A627C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8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Misleading stat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s any statement that has the likelihood or tendency to deceive or confuse.  Statement is any communication made in writing, visually, orally, or through other means.  Includes student testimonials given under duress or because such testimonial was required to participate in a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FA48-6338-447F-BB21-CAA7CC455F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Agenda</a:t>
            </a:r>
            <a:endParaRPr b="1" lang="en-US" sz="36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uthorization (§§600.4(a)(3), 600.5(a)(4), 600.6(a)(3), 600.9, and 668.43(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dit Hour (§§600.2, 602.24, 603.24, and 668.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nful Employment (§§600.2, 600.4, 600.5, 600.6, 668.6, and 668.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representation (Subpart F of Part 66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Arrangements (§§668.5 and 668.4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1B4B-CFE2-48AB-8515-7BC1FEEFBF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Substantial misrepresentation</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misrepresentation on which the person to whom it was made could reasonable be expected to rely, or has reasonably relied, to that person’s detrime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63AB-7D3E-4DE9-B423-6125B30F10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s misrepresentation with respect to—</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e of the educational program (668.7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ure of financial charges (668.7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ability of graduates (668.7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ationship with the Department of Education (668.7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8AEE-60AF-4FA8-8040-6CC42F6416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isrepresentation (cont’d)</a:t>
            </a:r>
            <a:endParaRPr b="1" lang="en-US" sz="3600" spc="-1" strike="noStrike">
              <a:solidFill>
                <a:srgbClr val="cc5407"/>
              </a:solidFill>
              <a:latin typeface="Verdana"/>
            </a:endParaRPr>
          </a:p>
        </p:txBody>
      </p:sp>
      <p:sp>
        <p:nvSpPr>
          <p:cNvPr id="19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Not</a:t>
            </a:r>
            <a:r>
              <a:rPr b="0" lang="en-US" sz="2800" spc="-1" strike="noStrike">
                <a:solidFill>
                  <a:srgbClr val="000000"/>
                </a:solidFill>
                <a:latin typeface="Verdana"/>
              </a:rPr>
              <a:t> covered under the misrepresentation regula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a:t>
            </a:r>
            <a:r>
              <a:rPr b="1" lang="en-US" sz="2800" spc="-1" strike="noStrike">
                <a:solidFill>
                  <a:srgbClr val="000000"/>
                </a:solidFill>
                <a:latin typeface="Verdana"/>
              </a:rPr>
              <a:t>not</a:t>
            </a:r>
            <a:r>
              <a:rPr b="0" lang="en-US" sz="2800" spc="-1" strike="noStrike">
                <a:solidFill>
                  <a:srgbClr val="000000"/>
                </a:solidFill>
                <a:latin typeface="Verdana"/>
              </a:rPr>
              <a:t> provide an additional avenue for litigation for students, employees, and other members of the public</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a:t>
            </a:r>
            <a:r>
              <a:rPr b="1" lang="en-US" sz="2800" spc="-1" strike="noStrike">
                <a:solidFill>
                  <a:srgbClr val="000000"/>
                </a:solidFill>
                <a:latin typeface="Verdana"/>
              </a:rPr>
              <a:t>not</a:t>
            </a:r>
            <a:r>
              <a:rPr b="0" lang="en-US" sz="2800" spc="-1" strike="noStrike">
                <a:solidFill>
                  <a:srgbClr val="000000"/>
                </a:solidFill>
                <a:latin typeface="Verdana"/>
              </a:rPr>
              <a:t> create a new Federal private right of a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E398-7D80-49E3-9530-9EBB795819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ritten Arrangements</a:t>
            </a:r>
            <a:endParaRPr b="1" lang="en-US" sz="4000" spc="-1" strike="noStrike">
              <a:solidFill>
                <a:srgbClr val="cc5407"/>
              </a:solidFill>
              <a:latin typeface="Verdana"/>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5 and 668.43</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a:t>
            </a:r>
            <a:endParaRPr b="1" lang="en-US" sz="3600" spc="-1" strike="noStrike">
              <a:solidFill>
                <a:srgbClr val="cc5407"/>
              </a:solidFill>
              <a:latin typeface="Verdana"/>
            </a:endParaRPr>
          </a:p>
        </p:txBody>
      </p:sp>
      <p:sp>
        <p:nvSpPr>
          <p:cNvPr id="20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se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ress arrangements between institutions under common ownership</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trict arrangements with ineligible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 with definition of an educational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and student notification requirements related to written arrangement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6574-9801-4D87-9FE9-1D8D2C9F01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0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another institution may provide part—not all—of an educational program under a written arrang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 that degree-granting institution has all necessary approvals to offer the educational program in the format in which it is being provided (i.e., distance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C6DE-14D1-4126-BAC1-5952845E84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0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written arrangements between two eligible for-profit institutions under common ownership, requires that the degree-granting institution provide more than 50% of the educational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38F3-AECC-471B-A331-E586DC8F3D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to the list of conditions under which a written arrangement between an eligible institution and an ineligible institution or entity is not permissible if the ineligible institution or ent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certification to participate revok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application for recertification deni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d its application for certification deni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7659-2E43-42AB-BB47-C56F719CA00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institutions to make information available to students ab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tion of the educational program provided by the nondegree-granting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location of the nondegree-granting institution/organiz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additional costs to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deliver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6BCC-746B-4481-8BF9-9B39390D77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ritten Arrangements (cont’d)</a:t>
            </a:r>
            <a:endParaRPr b="1" lang="en-US" sz="3600" spc="-1" strike="noStrike">
              <a:solidFill>
                <a:srgbClr val="cc5407"/>
              </a:solidFill>
              <a:latin typeface="Verdana"/>
            </a:endParaRPr>
          </a:p>
        </p:txBody>
      </p:sp>
      <p:sp>
        <p:nvSpPr>
          <p:cNvPr id="21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blanket, programmatic arrangements but not to individual, student-initiated arrang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7362-D4E3-42C4-9569-B1DCB8FD9B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day’s Agenda (cont’d)</a:t>
            </a:r>
            <a:endParaRPr b="1" lang="en-US" sz="3600" spc="-1" strike="noStrike">
              <a:solidFill>
                <a:srgbClr val="cc5407"/>
              </a:solidFill>
              <a:latin typeface="Verdana"/>
            </a:endParaRPr>
          </a:p>
        </p:txBody>
      </p:sp>
      <p:sp>
        <p:nvSpPr>
          <p:cNvPr id="6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entive Compensation (§668.14(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bursement (§§668.164(i), 685.102(b), 685.301(e), 686.2(b), and 686.37(b))</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of Title IV Funds (§§668.22(a), 668.22(b), 668.22(f), and 668.22(l))</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566D-4D4B-49D7-A1DC-923B4F8A0F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Incentive Compensation</a:t>
            </a:r>
            <a:endParaRPr b="1" lang="en-US" sz="4000" spc="-1" strike="noStrike">
              <a:solidFill>
                <a:srgbClr val="cc5407"/>
              </a:solidFill>
              <a:latin typeface="Verdana"/>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14(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ncentive Compensation</a:t>
            </a:r>
            <a:endParaRPr b="1" lang="en-US" sz="3600" spc="-1" strike="noStrike">
              <a:solidFill>
                <a:srgbClr val="cc5407"/>
              </a:solidFill>
              <a:latin typeface="Verdana"/>
            </a:endParaRPr>
          </a:p>
        </p:txBody>
      </p:sp>
      <p:sp>
        <p:nvSpPr>
          <p:cNvPr id="22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incentive compensation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aints from consumers about aggressive sales techniqu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 compliance</a:t>
            </a:r>
            <a:endParaRPr b="0" lang="en-US" sz="2800" spc="-1" strike="noStrike">
              <a:solidFill>
                <a:srgbClr val="000000"/>
              </a:solidFill>
              <a:latin typeface="Verdana"/>
            </a:endParaRPr>
          </a:p>
        </p:txBody>
      </p:sp>
      <p:sp>
        <p:nvSpPr>
          <p:cNvPr id="2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86F0-1505-41B2-8220-A938E41913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2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requir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will not provide a commission/bonus or other incentive payment based, </a:t>
            </a:r>
            <a:r>
              <a:rPr b="0" i="1" lang="en-US" sz="2800" spc="-1" strike="noStrike" u="sng">
                <a:solidFill>
                  <a:srgbClr val="000000"/>
                </a:solidFill>
                <a:uFillTx/>
                <a:latin typeface="Verdana"/>
              </a:rPr>
              <a:t>in any part</a:t>
            </a:r>
            <a:r>
              <a:rPr b="0" lang="en-US" sz="2800" spc="-1" strike="noStrike">
                <a:solidFill>
                  <a:srgbClr val="000000"/>
                </a:solidFill>
                <a:latin typeface="Verdana"/>
              </a:rPr>
              <a:t> directly or indirectly, on success in securing enrollments or financial aid to any person or entity engaged in any student recruiting or admission activities or in making decisions regarding awarding Title IV funds</a:t>
            </a:r>
            <a:endParaRPr b="0" lang="en-US" sz="2800" spc="-1" strike="noStrike">
              <a:solidFill>
                <a:srgbClr val="000000"/>
              </a:solidFill>
              <a:latin typeface="Verdana"/>
            </a:endParaRPr>
          </a:p>
        </p:txBody>
      </p:sp>
      <p:sp>
        <p:nvSpPr>
          <p:cNvPr id="2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F5F0-A48B-4861-8138-E09F05E303E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2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apply to recruitment of foreign students who reside in foreign countries and who are not eligible for Title IV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D8F0-7308-4804-ADF5-3BBAA6C0C1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oved safe harbo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ed definitions to clarify who, how, and what is affec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questions to evaluate employee bonus or incentive pay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D456-F007-4876-A5F0-5E3FF4B7A7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wo-part test </a:t>
            </a:r>
            <a:r>
              <a:rPr b="0" lang="en-US" sz="2800" spc="-1" strike="noStrike">
                <a:solidFill>
                  <a:srgbClr val="000000"/>
                </a:solidFill>
                <a:latin typeface="Verdana"/>
              </a:rPr>
              <a:t>to evaluate if a payment is incentive compens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Whether the payment is a commission, bonus, or other incentive payment, defined as an award of a sum of money or something of value paid to or given to a person or entity for services rendered; and</a:t>
            </a:r>
            <a:endParaRPr b="0" lang="en-US" sz="2800" spc="-1" strike="noStrike">
              <a:solidFill>
                <a:srgbClr val="000000"/>
              </a:solidFill>
              <a:latin typeface="Verdana"/>
            </a:endParaRPr>
          </a:p>
        </p:txBody>
      </p:sp>
      <p:sp>
        <p:nvSpPr>
          <p:cNvPr id="23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B005-0BB2-49B1-9C13-3582F369E9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5407"/>
                </a:solidFill>
                <a:latin typeface="Verdana"/>
              </a:rPr>
              <a:t>Incentive Compensation (cont’d)</a:t>
            </a:r>
            <a:endParaRPr b="1" lang="en-US" sz="3500" spc="-1" strike="noStrike">
              <a:solidFill>
                <a:srgbClr val="cc5407"/>
              </a:solidFill>
              <a:latin typeface="Verdana"/>
            </a:endParaRPr>
          </a:p>
        </p:txBody>
      </p:sp>
      <p:sp>
        <p:nvSpPr>
          <p:cNvPr id="23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Whether the commission, bonus, or other incentive payment is provided to any person based, in any part directly or indirectly, upon success in securing enrollments or the award of financial ai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nswer to each question is “yes,” the payment would be prohibited.</a:t>
            </a:r>
            <a:endParaRPr b="0" lang="en-US" sz="2800" spc="-1" strike="noStrike">
              <a:solidFill>
                <a:srgbClr val="000000"/>
              </a:solidFill>
              <a:latin typeface="Verdana"/>
            </a:endParaRPr>
          </a:p>
        </p:txBody>
      </p:sp>
      <p:sp>
        <p:nvSpPr>
          <p:cNvPr id="23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8608-B16E-427A-B191-22CC10F942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isbursement</a:t>
            </a:r>
            <a:endParaRPr b="1" lang="en-US" sz="4000" spc="-1" strike="noStrike">
              <a:solidFill>
                <a:srgbClr val="cc5407"/>
              </a:solidFill>
              <a:latin typeface="Verdana"/>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164(i), 685.102(b), 685.301(e), 686.2(b), and 686.37(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a:t>
            </a:r>
            <a:endParaRPr b="1" lang="en-US" sz="3600" spc="-1" strike="noStrike">
              <a:solidFill>
                <a:srgbClr val="cc5407"/>
              </a:solidFill>
              <a:latin typeface="Verdana"/>
            </a:endParaRPr>
          </a:p>
        </p:txBody>
      </p:sp>
      <p:sp>
        <p:nvSpPr>
          <p:cNvPr id="243" name=""/>
          <p:cNvSpPr txBox="1"/>
          <p:nvPr/>
        </p:nvSpPr>
        <p:spPr>
          <a:xfrm>
            <a:off x="228240" y="1523520"/>
            <a:ext cx="853452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se disbursement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prevent student withdrawals due to lack of fu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uce disbursement delays and promote timely disburs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nsure that students have timely access to books and supplies</a:t>
            </a:r>
            <a:endParaRPr b="0" lang="en-US" sz="2800" spc="-1" strike="noStrike">
              <a:solidFill>
                <a:srgbClr val="000000"/>
              </a:solidFill>
              <a:latin typeface="Verdana"/>
            </a:endParaRPr>
          </a:p>
        </p:txBody>
      </p:sp>
      <p:sp>
        <p:nvSpPr>
          <p:cNvPr id="2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DD5A-FDBC-4AF6-A964-0D64D6BCF5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4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ell Grant eligibl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ers a way to purchase required books and suppl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nstitution could disburse 10 days before payment period and credit balance would resul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provide by 7</a:t>
            </a:r>
            <a:r>
              <a:rPr b="0" lang="en-US" sz="2800" spc="-1" strike="noStrike" baseline="30000">
                <a:solidFill>
                  <a:srgbClr val="000000"/>
                </a:solidFill>
                <a:latin typeface="Verdana"/>
              </a:rPr>
              <a:t>th</a:t>
            </a:r>
            <a:r>
              <a:rPr b="0" lang="en-US" sz="2800" spc="-1" strike="noStrike">
                <a:solidFill>
                  <a:srgbClr val="000000"/>
                </a:solidFill>
                <a:latin typeface="Verdana"/>
              </a:rPr>
              <a:t> day of pay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0E66-D1DF-4465-A494-514027935B9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ate Authorization</a:t>
            </a:r>
            <a:endParaRPr b="1" lang="en-US" sz="4000" spc="-1" strike="noStrike">
              <a:solidFill>
                <a:srgbClr val="cc5407"/>
              </a:solidFill>
              <a:latin typeface="Verdana"/>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00.4(a)(3), 600.5(a)(4), 600.6(a)(3), 600.9, and 668.43(b)</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4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provides lesser o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umed credit balance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ount needed by student, as determined by the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us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ual costs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ance in CO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200B-AC2B-4041-B5FD-29DC89622E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must be able to buy books and supplies by 7</a:t>
            </a:r>
            <a:r>
              <a:rPr b="0" lang="en-US" sz="2800" spc="-1" strike="noStrike" baseline="30000">
                <a:solidFill>
                  <a:srgbClr val="000000"/>
                </a:solidFill>
                <a:latin typeface="Verdana"/>
              </a:rPr>
              <a:t>th</a:t>
            </a:r>
            <a:r>
              <a:rPr b="0" lang="en-US" sz="2800" spc="-1" strike="noStrike">
                <a:solidFill>
                  <a:srgbClr val="000000"/>
                </a:solidFill>
                <a:latin typeface="Verdana"/>
              </a:rPr>
              <a:t> day of payment period </a:t>
            </a:r>
            <a:r>
              <a:rPr b="0" lang="en-US" sz="2800" spc="-1" strike="noStrike" u="sng">
                <a:solidFill>
                  <a:srgbClr val="000000"/>
                </a:solidFill>
                <a:uFillTx/>
                <a:latin typeface="Verdana"/>
              </a:rPr>
              <a:t>unless</a:t>
            </a:r>
            <a:r>
              <a:rPr b="0" lang="en-US" sz="2800" spc="-1" strike="noStrike">
                <a:solidFill>
                  <a:srgbClr val="000000"/>
                </a:solidFill>
                <a:latin typeface="Verdana"/>
              </a:rPr>
              <a:t> the institution knows the student isn’t atten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use stored value card, prepaid debit card, or book store voucher</a:t>
            </a:r>
            <a:endParaRPr b="0" lang="en-US" sz="2800" spc="-1" strike="noStrike">
              <a:solidFill>
                <a:srgbClr val="000000"/>
              </a:solidFill>
              <a:latin typeface="Verdana"/>
            </a:endParaRPr>
          </a:p>
        </p:txBody>
      </p:sp>
      <p:sp>
        <p:nvSpPr>
          <p:cNvPr id="2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5F73-63AC-4E5E-BC95-A932B7416F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5" name=""/>
          <p:cNvSpPr txBox="1"/>
          <p:nvPr/>
        </p:nvSpPr>
        <p:spPr>
          <a:xfrm>
            <a:off x="304920" y="1523520"/>
            <a:ext cx="8534160" cy="4343400"/>
          </a:xfrm>
          <a:prstGeom prst="rect">
            <a:avLst/>
          </a:prstGeom>
          <a:noFill/>
          <a:ln w="0">
            <a:noFill/>
          </a:ln>
        </p:spPr>
        <p:txBody>
          <a:bodyPr anchor="t">
            <a:normAutofit fontScale="99000"/>
          </a:bodyPr>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No change in R2T4 treatment </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If funds have been credited and student  doesn’t begin attendance, institution must return funds according to §668.21</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If funds have been credited and student  withdraws, institution must return funds according to R2T4</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unseling required under §668.16(h)</a:t>
            </a:r>
            <a:endParaRPr b="0" lang="en-US" sz="2700" spc="-1" strike="noStrike">
              <a:solidFill>
                <a:srgbClr val="000000"/>
              </a:solidFill>
              <a:latin typeface="Verdana"/>
            </a:endParaRPr>
          </a:p>
          <a:p>
            <a:pPr marL="339480" indent="-33948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closures required under §§668.42 and 668.165(a)(1)</a:t>
            </a:r>
            <a:endParaRPr b="0" lang="en-US" sz="27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1B7F-7812-47A2-8DEC-E7E1E5F328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isbursement (cont’d)</a:t>
            </a:r>
            <a:endParaRPr b="1" lang="en-US" sz="3600" spc="-1" strike="noStrike">
              <a:solidFill>
                <a:srgbClr val="cc5407"/>
              </a:solidFill>
              <a:latin typeface="Verdana"/>
            </a:endParaRPr>
          </a:p>
        </p:txBody>
      </p:sp>
      <p:sp>
        <p:nvSpPr>
          <p:cNvPr id="25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licy required under §668.164(i) must specif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a Pell-eligible student can opt ou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no written authorization required if a student purchases books using the institution’s system </a:t>
            </a:r>
            <a:endParaRPr b="0" lang="en-US" sz="2800" spc="-1" strike="noStrike">
              <a:solidFill>
                <a:srgbClr val="000000"/>
              </a:solidFill>
              <a:latin typeface="Verdana"/>
            </a:endParaRPr>
          </a:p>
        </p:txBody>
      </p:sp>
      <p:sp>
        <p:nvSpPr>
          <p:cNvPr id="2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A492-86A8-4049-B2C3-2718F06EAA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turn of Title IV Funds</a:t>
            </a:r>
            <a:endParaRPr b="1" lang="en-US" sz="4000" spc="-1" strike="noStrike">
              <a:solidFill>
                <a:srgbClr val="cc5407"/>
              </a:solidFill>
              <a:latin typeface="Verdana"/>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668.22(a), 668.22(b), 668.22(f), and 668.22(l)</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a:t>
            </a:r>
            <a:endParaRPr b="1" lang="en-US" sz="3600" spc="-1" strike="noStrike">
              <a:solidFill>
                <a:srgbClr val="cc5407"/>
              </a:solidFill>
              <a:latin typeface="Verdana"/>
            </a:endParaRPr>
          </a:p>
        </p:txBody>
      </p:sp>
      <p:sp>
        <p:nvSpPr>
          <p:cNvPr id="2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R2T4 approach to module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ensure equitable treatment for students who withdraw from credit hour programs, regardless of whether the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an the length of the term,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ompressed courses and those offered in modul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4465-9D4A-417D-9111-D00A6AD2FA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a:t>
            </a:r>
            <a:endParaRPr b="1" lang="en-US" sz="3600" spc="-1" strike="noStrike">
              <a:solidFill>
                <a:srgbClr val="cc5407"/>
              </a:solidFill>
              <a:latin typeface="Verdana"/>
            </a:endParaRPr>
          </a:p>
        </p:txBody>
      </p:sp>
      <p:sp>
        <p:nvSpPr>
          <p:cNvPr id="26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Offered in modules” defined 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se or courses in a program that do not span the entire length of payment/enrollment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449D-20FF-420B-A0DF-D89BF5CE7F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credit hour or clock hour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drawn if doesn’t complete all days in payment/enrollment period scheduled to complete prior to withdraw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D196-AF66-4564-8D92-741EC608E9C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calculate percentage of payment period/enrollment period completed for credit hour program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calendar days scheduled to be completed regardless of whether any course was completed that is less than the length of the term</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ludes scheduled breaks of at least 5 consecutive day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52A5-29BE-463C-AA96-979F7217EC6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who ceases attending a module but who confirms that he/she will attend a module beginning later in the same payment/enrollment period is not considered a withdrawal</a:t>
            </a:r>
            <a:endParaRPr b="0" lang="en-US" sz="2800" spc="-1" strike="noStrike">
              <a:solidFill>
                <a:srgbClr val="000000"/>
              </a:solidFill>
              <a:latin typeface="Verdana"/>
            </a:endParaRPr>
          </a:p>
        </p:txBody>
      </p:sp>
      <p:sp>
        <p:nvSpPr>
          <p:cNvPr id="2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4E96-2DF4-4953-8D16-5B2569A103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a:t>
            </a:r>
            <a:endParaRPr b="1" lang="en-US" sz="3600" spc="-1" strike="noStrike">
              <a:solidFill>
                <a:srgbClr val="cc5407"/>
              </a:solidFill>
              <a:latin typeface="Verdana"/>
            </a:endParaRPr>
          </a:p>
        </p:txBody>
      </p:sp>
      <p:sp>
        <p:nvSpPr>
          <p:cNvPr id="6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state authorization provis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strengthen State role in approving and monitoring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clarify what is required for an institution to be considered legally authorized by a State for purposes of Federal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DDCC-D89A-4C06-8723-D7BB5A916C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7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get confirmation when ceases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nonterm and nonstandard-term programs, must attend module no later than 45 days after ceasing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ED18-FAD8-4747-95DE-3136ED88E90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determine if a student in a progrm with modules has withdrawn, ask 3 ques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id the student cease to attend or fail to begin attendance in a course scheduled to attend? (If yes, go to question 2.)</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B92F-FEFB-4A33-B0A7-1ADAE0C91B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When ceased to attend or failed to begin attendance in a scheduled course, was the student attending other courses?  (If no, go to question 3.) </a:t>
            </a:r>
            <a:endParaRPr b="0" lang="en-US" sz="2800" spc="-1" strike="noStrike">
              <a:solidFill>
                <a:srgbClr val="000000"/>
              </a:solidFill>
              <a:latin typeface="Verdana"/>
            </a:endParaRPr>
          </a:p>
        </p:txBody>
      </p:sp>
      <p:sp>
        <p:nvSpPr>
          <p:cNvPr id="2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FE34-4094-44AB-91E8-0F05BF4C45B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Modules (cont’d)</a:t>
            </a:r>
            <a:endParaRPr b="1" lang="en-US" sz="3600" spc="-1" strike="noStrike">
              <a:solidFill>
                <a:srgbClr val="cc5407"/>
              </a:solidFill>
              <a:latin typeface="Verdana"/>
            </a:endParaRPr>
          </a:p>
        </p:txBody>
      </p:sp>
      <p:sp>
        <p:nvSpPr>
          <p:cNvPr id="2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Did the student confirm attendance in a later module in the payment/enrollment period (45 day rule, if applicabl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 student is a withdraw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ot a withdrawal, Pell recalculations may apply.</a:t>
            </a:r>
            <a:endParaRPr b="0" lang="en-US" sz="2800" spc="-1" strike="noStrike">
              <a:solidFill>
                <a:srgbClr val="000000"/>
              </a:solidFill>
              <a:latin typeface="Verdana"/>
            </a:endParaRPr>
          </a:p>
        </p:txBody>
      </p:sp>
      <p:sp>
        <p:nvSpPr>
          <p:cNvPr id="2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AC56-10D2-44FD-B3F3-12A3D56257D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turn of Title IV Funds </a:t>
            </a:r>
            <a:endParaRPr b="1" lang="en-US" sz="3600" spc="-1" strike="noStrike">
              <a:solidFill>
                <a:srgbClr val="cc5407"/>
              </a:solidFill>
              <a:latin typeface="Verdana"/>
            </a:endParaRPr>
          </a:p>
        </p:txBody>
      </p:sp>
      <p:sp>
        <p:nvSpPr>
          <p:cNvPr id="29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vise the R2T4 position on taking attendanc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e that best information is us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accurate determination of how much Title IV aid is earned by a student who withdraws</a:t>
            </a:r>
            <a:endParaRPr b="0" lang="en-US" sz="2800" spc="-1" strike="noStrike">
              <a:solidFill>
                <a:srgbClr val="000000"/>
              </a:solidFill>
              <a:latin typeface="Verdana"/>
            </a:endParaRPr>
          </a:p>
        </p:txBody>
      </p:sp>
      <p:sp>
        <p:nvSpPr>
          <p:cNvPr id="2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C34C-B70F-4E2B-A630-3741817EEF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a:t>
            </a:r>
            <a:endParaRPr b="1" lang="en-US" sz="3600" spc="-1" strike="noStrike">
              <a:solidFill>
                <a:srgbClr val="cc5407"/>
              </a:solidFill>
              <a:latin typeface="Verdana"/>
            </a:endParaRPr>
          </a:p>
        </p:txBody>
      </p:sp>
      <p:sp>
        <p:nvSpPr>
          <p:cNvPr id="29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is required to take attendance if an outside entity or the institution itself—</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instructors to take attendance,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a requirement that can only be met by taking attendance or a comparable proc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E9B0-6357-43FE-8C1A-F728F4D656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29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required to take attendanc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ome students—use attendance records for those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limited period of time—use attendance records for withdrawals during that limited period of tim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a specific date—NOT considered to be required to take attendance</a:t>
            </a:r>
            <a:endParaRPr b="0" lang="en-US" sz="2800" spc="-1" strike="noStrike">
              <a:solidFill>
                <a:srgbClr val="000000"/>
              </a:solidFill>
              <a:latin typeface="Verdana"/>
            </a:endParaRPr>
          </a:p>
        </p:txBody>
      </p:sp>
      <p:sp>
        <p:nvSpPr>
          <p:cNvPr id="2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43B3-A528-4EDC-8730-7E731662B8A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29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must be “academic attendance” or “attendance at an academically-related activity” includ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ysically attending cla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ting academic assign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ing exam, interactive tutorial or computer-based instru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ing school assigned study group, o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5346-34A0-45E8-8C46-4728A6CC95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30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ting in online discussions about academic matters and/or initiating contact with faculty to ask questions about subject matt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B632-F75A-4194-8124-2D362E7323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2T4 – Attendance (cont’d)</a:t>
            </a:r>
            <a:endParaRPr b="1" lang="en-US" sz="3600" spc="-1" strike="noStrike">
              <a:solidFill>
                <a:srgbClr val="cc5407"/>
              </a:solidFill>
              <a:latin typeface="Verdana"/>
            </a:endParaRPr>
          </a:p>
        </p:txBody>
      </p:sp>
      <p:sp>
        <p:nvSpPr>
          <p:cNvPr id="30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does NOT includ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ving in institutional hou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meal pla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ging into an online course without active particip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counseling</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certification of attendance without school documentation is not acceptable.</a:t>
            </a:r>
            <a:endParaRPr b="0" lang="en-US" sz="2800" spc="-1" strike="noStrike">
              <a:solidFill>
                <a:srgbClr val="000000"/>
              </a:solidFill>
              <a:latin typeface="Verdana"/>
            </a:endParaRPr>
          </a:p>
        </p:txBody>
      </p:sp>
      <p:sp>
        <p:nvSpPr>
          <p:cNvPr id="3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243F-9582-4681-9C21-FD2A3CE13D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ate Authorization (cont’d)</a:t>
            </a:r>
            <a:endParaRPr b="1" lang="en-US" sz="3600" spc="-1" strike="noStrike">
              <a:solidFill>
                <a:srgbClr val="cc5407"/>
              </a:solidFill>
              <a:latin typeface="Verdana"/>
            </a:endParaRPr>
          </a:p>
        </p:txBody>
      </p:sp>
      <p:sp>
        <p:nvSpPr>
          <p:cNvPr id="7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rder for an institution to be eligible to participate in the Title IV, HEA programs, it must be legally authorized to provide postsecondary education by the State in which it is locat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9AFD-8D46-4A77-80F6-496DF316688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2971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308" name="Slide Number Placeholder 2"/>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534A-103B-429B-ADDF-1FF09E23BB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293C-C49A-4236-977C-0726BFE992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11" name="Text Box 4"/>
          <p:cNvSpPr/>
          <p:nvPr/>
        </p:nvSpPr>
        <p:spPr>
          <a:xfrm>
            <a:off x="533520" y="1447920"/>
            <a:ext cx="7162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ppreciate your feedback and comments.  I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502-7639</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Carney.McCullough@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24T13:01:26Z</dcterms:modified>
  <cp:revision>477</cp:revision>
  <dc:subject/>
  <dc:title>PowerPoint Presentation</dc:title>
</cp:coreProperties>
</file>