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wmf" ContentType="image/x-wmf"/>
  <Override PartName="/ppt/media/image13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5B05-8FEA-4CC8-8F87-895ED093F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D119-49D0-4575-9B2F-D5323207D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5F90-D18C-4A2B-8483-912F9ABD1C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16F-79F9-4B42-8010-B466C832B7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3350-A121-4B74-9C7A-B68AE10633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B3CF-511A-4521-B296-CDA374DDE4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34C-D548-4186-B184-58F733339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FCA7-820F-4A80-94D3-9C89374FC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3744-C9CA-4F53-9BB7-A2EE61D41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EFF3-49B9-4C43-800F-3D14CE2912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E099-4603-4337-954A-3FB24AA4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401D-3085-4580-BFF3-4CFD714BB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41B4-D61E-42A9-8BA1-5DF6B95F9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1758-1AAE-4499-9E9D-CD45D696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0E1A-3151-4007-B596-5F710B91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37EE-354C-44DD-A7CA-D2FE3C28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96B7-E0F6-4A82-87A0-811B1181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2F7A-CB3E-413D-B22B-9D3263AA4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BAD-226E-43FB-A01D-D10D5420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385C-ED3B-49CF-B916-AAB23D552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5ECB-9289-4B5F-8A73-68C246C9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6D08-5B79-47B8-8F0D-DB7C752C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DEB7-C21F-486E-8F79-E4D292155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720-7233-4E65-9FD8-E34B2EE7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914C-2E79-4632-9264-38065D8F4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33EF-74CC-4950-8CF1-5B073D3D2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4924-5509-495D-83F6-2F02CF610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AFDE-764F-4C52-9CB8-BB64B116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89CE-ABFD-4309-97C8-31A367D99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AEB-AED9-469F-B11E-3C64E3453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6BC2-3B65-469F-85A0-F22A8BA1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F953-EC91-4221-8176-2644E6CA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E9A8-405B-4261-929E-DB0A5BBC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8446-9C54-443D-BD63-CCFC183F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E11E-95DA-4898-8F09-A558B06E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E314-F686-45F4-BA2E-0A5097521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9F82-4CFD-4FD8-8149-35E3696956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5F05-ED9B-4A3A-A047-38401A712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15C4-2C33-4773-9425-1738DB7B1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1CF5-F358-43A4-AD0A-82CA1F11B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FBA3-A686-4A52-BF39-44191B66D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FE05-DAC5-4C23-ADD5-E0527AC8B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2CC1-C407-4DB8-B91F-CFCC1E578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F2F8-A8AC-4B45-B387-D3AF34B5B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F5CA-BCC2-4C6F-B794-979B8B421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72CD-7D0A-40EA-BBB4-C6A0F6263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E7FF-954C-4C39-8AA4-B17FAAC83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9B58-286F-4DE6-A36E-4029AC50E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F240-DD35-4A4B-9637-E399AC349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BAF-774A-4981-A219-897796D69CF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trevor.summers@ed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2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ed Analysis:  The EFC Formula Beyond 2010-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vor Summers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ependent Student Defini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meless definitions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mel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ing fixed, regular and adequate hou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 risk of being homel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ing may cease to be fixed, regular, and adequ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student is being evicted and has bee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unable to find fixed, regular, and adequat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ousing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Slide Number Placeholder 7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A69-7547-442E-98DD-6E15E0961A1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ependent Student Defini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meless 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f-sup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pays for his own living expenses, including fixed, regular, and adequate hous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ccompan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is not living in the physical custody of a parent or guard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who is 21 years old or younger o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ill enrolled in high school as of date he signs FAF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Slide Number Placeholder 9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7F2-9463-46E6-A7FF-BAEC241106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ependent Student Defini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s of Homeless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time after July 1, 2009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has been verified as an unaccompanied youth who is a homeless child or youth, 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hool or school district homeless liaison, 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or, or designee, of an emergency shelter program funded by HUD, 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or, or designee, of a homeless youth basic center or transitional living program, 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ancial aid administra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 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B401-589D-420F-BBCB-C3F2595917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ependent Student Defini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s of Homeless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udent has been verified as an unaccompanied youth who is at risk of homelessness and self-supporting 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, or designee, of a homeless youth basic center or transitional living program, 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aid administ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5458-26EE-4457-88E0-806AC78E61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AA Determination of Homelessnes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 Case by Case but Is Not P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t be documen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no official documentation can be obtained, documented interview of the student will suff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FSA does not ask student if FAA is making determination, asks only if homelessness professionals mentioned on previous slides are making deter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ation, however, is NOT a dependency override or PJ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845820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304D-F303-457D-A6C2-08694E455C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FAA Determination of Homelessnes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meless (or at-risk) students who are over  21 and less than 24 years old may not be children or you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A may initiate a dependency overr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determination is a dependency overr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1B5-3907-4E81-BE6F-24C82771E1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marianna.deeken\AppData\Local\Microsoft\Windows\Temporary Internet Files\Content.IE5\NHVHOOVJ\MPj03998860000[1].jpg"/>
          <p:cNvPicPr/>
          <p:nvPr/>
        </p:nvPicPr>
        <p:blipFill>
          <a:blip r:embed="rId1"/>
          <a:stretch/>
        </p:blipFill>
        <p:spPr>
          <a:xfrm>
            <a:off x="4648320" y="40384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cent Changes</a:t>
            </a:r>
            <a:br>
              <a:rPr sz="3600"/>
            </a:b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efini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560" y="16761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480 of H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dable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income from work under a cooperative education program offered by an institution of higher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Financial Assi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ludes VA educational benef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2C10-CD30-4F88-B81B-05D394C10B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C:\Users\marianna.deeken\AppData\Local\Microsoft\Windows\Temporary Internet Files\Content.IE5\XRDQ4ZAC\MPj04422350000[1].jpg"/>
          <p:cNvPicPr/>
          <p:nvPr/>
        </p:nvPicPr>
        <p:blipFill>
          <a:blip r:embed="rId1"/>
          <a:stretch/>
        </p:blipFill>
        <p:spPr>
          <a:xfrm>
            <a:off x="5114880" y="16765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reatment of Federal Veterans’ Educational Benefits for 2010-11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counted in calculation of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counted as Estimated Financial Assistance (EF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es to all recip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u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2" descr="C:\Users\marianna.deeken\AppData\Local\Microsoft\Windows\Temporary Internet Files\Content.IE5\SQRYHANV\MCj04360330000[1].wmf"/>
          <p:cNvPicPr/>
          <p:nvPr/>
        </p:nvPicPr>
        <p:blipFill>
          <a:blip r:embed="rId1"/>
          <a:stretch/>
        </p:blipFill>
        <p:spPr>
          <a:xfrm>
            <a:off x="6629400" y="3241800"/>
            <a:ext cx="1663560" cy="204444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9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5891-4F58-477F-B3DF-9501107DB3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VA Educational Benefits Change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idance on Federal Veterans’ Education Benefits for Purposes Title IV Aid posted on August 13, 200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Q and A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of updated applicable programs inclu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B294-D45A-402F-AD58-E07BBC1E0F4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eyond 2010-11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ministration’s Plan for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year more than 16 million students &amp; their families complete the FAF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rrent process is complicated, burdensome and difficu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ministration is proposing taking 3 steps to make the application process easier and to make college more accessi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B0A-A56A-4CD4-B3D9-B3ACC053AD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676160"/>
            <a:ext cx="85341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’s the EFC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’s fai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’s reasonab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writes the EFC formul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es this affect you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es this affect your studen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13CC-5CD7-4CA3-AA06-AE4B53A20D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trevor.summers\AppData\Local\Microsoft\Windows\Temporary Internet Files\Content.IE5\J77E7FR1\MC900441523[1].wmf"/>
          <p:cNvPicPr/>
          <p:nvPr/>
        </p:nvPicPr>
        <p:blipFill>
          <a:blip r:embed="rId1"/>
          <a:stretch/>
        </p:blipFill>
        <p:spPr>
          <a:xfrm>
            <a:off x="6553080" y="4952880"/>
            <a:ext cx="1873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3 Step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nline application is being streamlined using a shorter, simplified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January 2010, some students and parents were able to electronically retrieve their tax information from the IRS and transfer it to the online FAFSA (FOT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 considered the Administration’s proposal to simplify the eligibility formula but took no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E40B-E263-44CC-809A-35EB97D484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Simplified FAFS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Information used for EFC calculation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general, only information that can be obtained from an IRS Tax Return will be collec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her income-related questions would be dropp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ets Dropped (except for asset cap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C866-38EE-467F-A820-E3A7B014E3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come Items Included on IRS Tax Retur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7960" y="16761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s Provided by 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x form f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ome Tax P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ed Gross Inc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 Tax Cred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RS Deductions and Payments to retirement pl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x-Exempt 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axed IRA Distrib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axed Portions of P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m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1EC6-E348-4599-8C67-4A3CB61F68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marianna.deeken\AppData\Local\Microsoft\Windows\Temporary Internet Files\Content.IE5\XRDQ4ZAC\MPj03826830000[1].jpg"/>
          <p:cNvPicPr/>
          <p:nvPr/>
        </p:nvPicPr>
        <p:blipFill>
          <a:blip r:embed="rId1"/>
          <a:stretch/>
        </p:blipFill>
        <p:spPr>
          <a:xfrm>
            <a:off x="304920" y="2351160"/>
            <a:ext cx="41907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tems to be Removed from EFC Calcul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6761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ther’s income from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ther’s income from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’s income from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ouse’s income from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xable earnings from need-based employ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h, savings and checking am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stments and real e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 worth of businesses and investment fa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7960" y="16761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at p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ving allowances paid to members of military, clergy &amp;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untaxed income – e.g. workers’ com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ld support received/p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yments to tax-deferred pensions &amp; savings pl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nts &amp; scholarship aid included in AG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teran’s non-educational benef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money received or paid on your behalf (students on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1E9A-C0EB-4375-85C7-B0E465ED7B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posed Changes - Asse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orting assets discourages savings, is not verifiable, and leads to mis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rrent FAFSA asks multiple questions about ass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eral Pell Grant eligible students generally have low levels of savings and almost no other invest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2007-2008, only 4% of applicants had assets that exceeded $150,00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7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0BB1-AB5D-4A25-A4C3-6D194012F1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Proposed Changes - Assets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Cap is a bright line test that replaces an asset contribution in the calculation of the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imple check-off question asking whether the student (and parents) have more than “X” in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inclu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cipal place of res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 owned and operated fa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bus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C416-D7C0-4AC3-B21E-79C4902B0F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Proposed Changes - Assets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dependent student – if student’s and parent’s combined net assets equal or are greater than $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n independent student – if the student’s and spouse’s combined net assets equal or are greater than $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3E4-3F6A-4ABD-BCF3-B74AB0CD35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he Asset Threshold Check-Off Box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applicant responds “YES” to the Asset question, then applicant is only eligible for non-need based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bsidized Stafford Lo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S Lo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7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51E3-E195-4771-AA45-23EDABE8A6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The Asset Threshold Check-Off Box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applicant responds “NO” to the Asset question, eligible for consideration of all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92FB-0AE1-442D-9D10-2B35FA289BB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6095880" y="41911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Simplified FAFS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Asset Threshold Ques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Dependent students 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you and your parents have assets (savings and investments) totaling “X” or mo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– continue to complete and submit FAF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– sign certification statement below and submit your FAFSA for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Slide Number Placeholder 7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7B11-7CCD-418B-B209-5F33CF0864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Diagram 4" descr=""/>
          <p:cNvPicPr/>
          <p:nvPr/>
        </p:nvPicPr>
        <p:blipFill>
          <a:blip r:embed="rId1"/>
          <a:stretch/>
        </p:blipFill>
        <p:spPr>
          <a:xfrm>
            <a:off x="444600" y="3859200"/>
            <a:ext cx="793800" cy="420840"/>
          </a:xfrm>
          <a:prstGeom prst="rect">
            <a:avLst/>
          </a:prstGeom>
          <a:ln w="0">
            <a:noFill/>
          </a:ln>
        </p:spPr>
      </p:pic>
      <p:sp>
        <p:nvSpPr>
          <p:cNvPr id="144" name="Right Arrow 6"/>
          <p:cNvSpPr/>
          <p:nvPr/>
        </p:nvSpPr>
        <p:spPr>
          <a:xfrm>
            <a:off x="457200" y="3429000"/>
            <a:ext cx="762120" cy="360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nt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d Chang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 &amp; Ans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44ED-2FB9-4B99-A0F5-2617BB987F7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Users\marianna.deeken\AppData\Local\Microsoft\Windows\Temporary Internet Files\Content.IE5\N5LFWDX3\MCj04347840000[1].png"/>
          <p:cNvPicPr/>
          <p:nvPr/>
        </p:nvPicPr>
        <p:blipFill>
          <a:blip r:embed="rId1"/>
          <a:stretch/>
        </p:blipFill>
        <p:spPr>
          <a:xfrm>
            <a:off x="5791320" y="37339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he Simplified FAFS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Asset Threshold Ques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Independent students 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you (and your spouse) have assets (savings and investments) totaling “X” or mo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– continue to complete and submit FAF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– sign certification statement below and submit your FAFSA for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7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6DB-DB28-4D45-AA06-A0B9FBFF9C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ight Arrow 4"/>
          <p:cNvSpPr/>
          <p:nvPr/>
        </p:nvSpPr>
        <p:spPr>
          <a:xfrm>
            <a:off x="457200" y="4876920"/>
            <a:ext cx="762120" cy="761760"/>
          </a:xfrm>
          <a:prstGeom prst="rightArrow">
            <a:avLst>
              <a:gd name="adj1" fmla="val 50000"/>
              <a:gd name="adj2" fmla="val 44308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ight Arrow 5"/>
          <p:cNvSpPr/>
          <p:nvPr/>
        </p:nvSpPr>
        <p:spPr>
          <a:xfrm flipV="1">
            <a:off x="380880" y="4037760"/>
            <a:ext cx="838440" cy="6858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4582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Proposed Changes – Untaxed Income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480 of H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moves from definitions of untaxed incom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ld support recei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man’s compen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teran’s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ing, food, and other allow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sh support paid on your beha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other untaxed income &amp;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866E-583E-4BE0-8B02-B93638D64C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Proposed Changes – Untaxed Incom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480 of H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taxed income is limited 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est on tax-free bo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axed portions of pen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s to IRAs &amp; Keogh accounts excluded from income for Federal income tax purpo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C:\Users\marianna.deeken\AppData\Local\Microsoft\Windows\Temporary Internet Files\Content.IE5\HUXVXBCU\MCj04413240000[1].png"/>
          <p:cNvPicPr/>
          <p:nvPr/>
        </p:nvPicPr>
        <p:blipFill>
          <a:blip r:embed="rId1"/>
          <a:stretch/>
        </p:blipFill>
        <p:spPr>
          <a:xfrm>
            <a:off x="586728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6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7609-AB69-4937-B2D2-8D89158A29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Proposed Changes – Excludable Income</a:t>
            </a:r>
            <a:br>
              <a:rPr sz="3200"/>
            </a:b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tion 480 of H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dable income is rem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ly that inclu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student financial assistance awarded based on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ome from work under a cooperative education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living allowance under the National &amp; Community Service 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ld support paid by the student or par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yments made under Part E of title IV of the Social Security 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Combat P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71B6-4C1B-4295-B065-04F1F2727F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EFC Formula Guide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280" y="159984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C Formula Gu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A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Pub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Processing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10-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nd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11-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568F-4846-44A9-8743-948F04ED86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419720" y="1362240"/>
            <a:ext cx="46288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inuing the Convers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, Concerns, Comments ??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E0ED-539E-46D1-8291-2125F6AE2C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C:\Users\trevor.summers\AppData\Local\Microsoft\Windows\Temporary Internet Files\Content.IE5\LQWV4IME\MC900048356[1].wmf"/>
          <p:cNvPicPr/>
          <p:nvPr/>
        </p:nvPicPr>
        <p:blipFill>
          <a:blip r:embed="rId1"/>
          <a:stretch/>
        </p:blipFill>
        <p:spPr>
          <a:xfrm>
            <a:off x="1889280" y="3271680"/>
            <a:ext cx="987120" cy="1827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:\Users\trevor.summers\AppData\Local\Microsoft\Windows\Temporary Internet Files\Content.IE5\KWRT3U20\MC900089048[1].wmf"/>
          <p:cNvPicPr/>
          <p:nvPr/>
        </p:nvPicPr>
        <p:blipFill>
          <a:blip r:embed="rId2"/>
          <a:stretch/>
        </p:blipFill>
        <p:spPr>
          <a:xfrm>
            <a:off x="3959280" y="3414600"/>
            <a:ext cx="1031760" cy="1816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:\Users\trevor.summers\AppData\Local\Microsoft\Windows\Temporary Internet Files\Content.IE5\I1HS7VQI\MC900441521[1].wmf"/>
          <p:cNvPicPr/>
          <p:nvPr/>
        </p:nvPicPr>
        <p:blipFill>
          <a:blip r:embed="rId3"/>
          <a:stretch/>
        </p:blipFill>
        <p:spPr>
          <a:xfrm>
            <a:off x="5954760" y="3308400"/>
            <a:ext cx="18064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0158-7A8E-4D89-8A44-35B9FA7185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47920"/>
            <a:ext cx="716256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214-661-946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trevor.summers@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214-661-9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cent Changes </a:t>
            </a:r>
            <a:br>
              <a:rPr sz="32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st of Attendance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472 of H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of Attendance will include an allowance to cover basic expenses incurred for board (NOT ROO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students living in housing provided on a military base, o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which a basic living allowance is provid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 July 1, 201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CA6F-1EEB-4DBE-A956-72FBCAE837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cent Changes</a:t>
            </a:r>
            <a:br>
              <a:rPr sz="3200"/>
            </a:b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Iraq and Afghanistan Service Grants</a:t>
            </a: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4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ny student whose parent or guardian was a member of the U.S. Armed Forces and died as a result of military service in Iraq or Afghanistan after September 11, 200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undergrad and Pell-eligible EFC, all Title IV aid awarded using zero EF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not Pell-eligible EFC, undergraduate student gets an “Iraq/Afghanistan Service Grant” award the amount of maximum Pell for enrollment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6840" indent="-3459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8510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other Title IV aid awarded using calculated EF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4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46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7EB8-6D37-41B8-92BF-9335BD385F4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cent Changes</a:t>
            </a:r>
            <a:br>
              <a:rPr sz="3200"/>
            </a:br>
            <a:r>
              <a:rPr b="1" lang="en-US" sz="3000" spc="-1" strike="noStrike">
                <a:solidFill>
                  <a:srgbClr val="cc5407"/>
                </a:solidFill>
                <a:latin typeface="Verdana"/>
              </a:rPr>
              <a:t>Simplified Need Test &amp; Auto-Zero EFC </a:t>
            </a:r>
            <a:br>
              <a:rPr sz="3200"/>
            </a:br>
            <a:endParaRPr b="1" lang="en-US" sz="3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479 of H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alternative to tax filing and means tested benef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 least one parent (for a dependent applicant), or the applicant or spouse (for an independent applicant), is a dislocated work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AVG 41-42 of 2010-2011 FSA Handbook for complete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us does not require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A1F6-CED4-4BFB-977D-58EB4029FAE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cent Changes</a:t>
            </a:r>
            <a:br>
              <a:rPr sz="32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Definitio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480 of H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for using “specified yea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tal inc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portion of VA educational benefits are to be considered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taxed inc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 of on-base military housing or off-base housing allowance is excluded from untaxed income (BA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 must still be inclu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3411-3011-4E78-906F-5A796D9E65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Recent Changes</a:t>
            </a:r>
            <a:br>
              <a:rPr sz="3200"/>
            </a:b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Definitions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 student definition chan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ph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th parents deceased when student 13 or ol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n if subsequently adop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ster Chil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foster child at any time since age of 1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n if status changed la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d of the Co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time since age of 1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n if status changed la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arceration is not ward of court for Title I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84D9-9965-46A5-95A0-2E37A05EE43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ndependent Student Defini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ncipated Min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time at or prior to 18 years of 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d by a court in student’s state of legal resid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Legal Guardia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time at or prior to 18 years of 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d by a court in student’s state of legal resid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F65A-8650-450F-B9FF-A7205354F8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5:42:01Z</dcterms:created>
  <dc:creator>Authorised User</dc:creator>
  <dc:description/>
  <dc:language>en-US</dc:language>
  <cp:lastModifiedBy>J&amp;B</cp:lastModifiedBy>
  <dcterms:modified xsi:type="dcterms:W3CDTF">2010-11-06T15:47:33Z</dcterms:modified>
  <cp:revision>143</cp:revision>
  <dc:subject/>
  <dc:title>Need Analysis: The EFC Formula Beyond 2010-11</dc:title>
</cp:coreProperties>
</file>