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2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2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2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4C1-F975-4A65-A15A-74F58781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D31-90CE-4D27-B76E-7B8752B0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582-FBAC-449B-9EA3-103C49076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7BC-275C-4AB3-95E1-FA028517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719-5DAC-470C-A6CF-C88CA0E6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3560-7E19-4FE7-A9FA-EB0B9DAF5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A36E-B48E-4219-BB8F-646F3CBED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22B-D9F1-4273-8955-A00E26087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4B2-4F69-4FA0-A128-C7D69DE97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9A60-E8F1-412A-8266-91C46DDB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7B6-9B15-4878-8430-6CD01085C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F108-B9F6-4CC7-A642-E9803577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C83F-7C63-40C7-AAD4-6D0D0B65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225A-E9A5-4222-AE74-4CA19D13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9895-4725-492B-9674-B1679F05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466F-3866-4D93-97B5-856BCF255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414C-44F4-4FCB-8BAD-BB21492B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A22-2BE3-46C0-9E56-BEEC4137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E20-E0ED-4396-B8CF-181D5B9E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81C-C8E8-4994-B94C-43025DC8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A97-6AEF-4F0F-82A6-DF2FD7D2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FA8F-869A-4D2B-8477-E472912E7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99AD-63E4-45FA-A1E5-C4CA8A74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8B9-3082-4B77-9B33-2957F222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7E2-1DAF-433F-B0A3-0F9A94EBA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E79-E075-4FD4-9B84-17B98A8E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41A7-F550-43F4-9CEF-20C2DD88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7426-6B6C-45B6-A662-6CBCA35C7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AAAA-B568-41AD-A6A1-3277BD54F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972-7814-4EA7-93C5-3BFD59C5E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70CB-89AF-4CB0-A5FD-8CAB41F7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2E42-DBA2-4F09-ABDD-3FCDCDF4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9974-0E60-4B27-BBE9-F0BD92F4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A2B5-D0F1-4E6B-8A87-0D0A62EE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7C3-033C-4B7B-8A64-D532C7455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F03F-A4F6-48F6-944A-77D8EDC8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B7E0-BFFB-48FC-A196-C937CCB9F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1579-510F-467E-A8A5-D4928765AD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744F1-33D0-4042-8B37-981F6BCF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22AFC-512F-459D-A48C-2323BEF9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5B525-7DB3-49CD-8666-A6F82C97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33C606-CF35-49CE-AA63-0436089C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0E5BF-68B9-4E45-AC9F-7DF70C4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EAF7B-6109-4A62-8349-8EA0572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11BF9-DB59-4328-A7AA-66AC1295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33C00-2367-40C1-91EE-2DF00336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9AA0F-7AE0-44EF-9059-A71432BC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7B6CF-52EA-47FF-A4AB-D58B1EF54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CB84-07F7-48B8-842B-A00DF0C7F6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9203F0-7855-44B4-9CE3-6628CEA7FA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AA9B9-AE61-4C49-B35B-4874461E55E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DF960-9A99-4CEC-94DE-4CCEF86013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CFC92-F30C-4ADE-A5F6-96AC2171A9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3FEB9-FB9A-42CE-93CC-A3FC3FB69B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AE233-F0FB-4279-86B9-514AAD94C99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742062-A33A-4017-ACF5-F790E005B9B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9033A8-236C-4DE0-9D62-B8602BB2DD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8C521-6FEB-486A-B785-F46FE83128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CE5502-3E45-4216-BA4E-35F68DC7F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1016-4BEB-4A45-95D4-90FE5B6745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5AD9B-520E-4E6B-B5B2-6E54A7930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2727F-488F-417B-960F-4CB84CB5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C1B6E-AD89-467B-9F63-68F216AE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2C0B-AF4B-4E6B-ACDD-7F85B2F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D1BD7-8495-4C9E-8A15-C62D6765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C4AD-E3F2-4FDC-9AAD-5587543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4EA0F-5267-4441-A55A-5F516E2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54861-BD43-4911-A88E-FDCD8BB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9010-72F7-4280-9C8B-D53B289A4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E6F9D-4686-4E94-B02D-B6ED6F4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246A4-C2C3-40C0-9B41-8935A8D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EF9A0-5A39-408D-A1B4-E6AF1F0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65D4B-5CE0-4D31-801C-AA18EA8E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FC860-3658-4B1E-940A-D9D39E8B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3830E-114F-4F72-A79D-B51050FE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ACBC3-6818-4864-93A8-1A522488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28B2C-BFF9-4C82-BB85-BB152DD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53BCE-61B2-44FB-9954-789BB02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F3D71-DCB2-409E-AEBC-7720ADC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C99C-1BA8-48AF-99F0-0985B2AFBF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523A4-3A2A-428B-9266-7F781938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2F974-E206-4727-B248-E17BBAA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AC44F-0DE9-4787-869A-4185707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88026-BDDE-4E23-A6D8-EEC9A2D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D3BDF-7510-4E6C-A3D9-840314D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3DDF5-A66E-4437-B287-BAEAAAF1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B1ECF-D11F-474D-A92B-251AA496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3982C-DA32-4AC5-AA47-2EB5108A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5B685-3C0D-4A32-980A-274FB993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5AFEE-F947-4733-8F25-4704FF1D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FA8A-51C0-43B1-AC72-A92DA988C9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F4A0A-8E75-462D-8456-6F7F7E65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4451C-1635-4196-8E0F-F2CEB18B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67523-2403-49D9-893C-1AB8E5B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CE0B7-E141-4007-AEB3-0D4F537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18B40-3DF5-4EFF-B5FE-2CC3C609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99783-CF38-4FED-9EAC-536FB3CD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E7529-EC3C-4AC4-8D02-F052A11C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75C89-545C-404E-ADDC-1DB98B52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80D32-0BFE-4AF5-9279-ED08D7EC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80ABD-04E7-444C-ACA0-259BFC0F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AB80-006D-4B85-BD7D-88B56B64BF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C1372-D9B4-405E-89C7-9E4C1078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C377F-4E7E-49DF-B662-1966E49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B584E-7E01-4DB2-B6D7-BD62606D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E0F16-7C88-4C03-96E0-3B7C669B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E12C7-A782-4E7B-A517-6CC70B1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0361B3-23F2-4024-82A8-7C946B4F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C7F3A2-4017-4B5E-A164-4BBDCE2C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6AAB3-BDE7-4830-8BF6-32CF664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671DDF-BA15-487C-8D2B-3DC9F967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472E5-E41F-41C2-B2B0-7C1321A0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FA2E-73E9-4F3A-8ABE-32E8B59B18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EAC69-019E-402F-BCED-93091F6B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AB42FB-D47D-4473-A806-A759F2CE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24C3A-301A-43AB-BD4B-10A52E8B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5A9A78-8305-4C69-87C6-DE943DAB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940F4-F627-40B6-9541-135AC5AA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501088-E285-4032-B006-317CA9C9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CF065-37EC-49D7-A9E0-FB2C18D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F4AAF-0CCE-4DA6-A890-6252B57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4F7DD9-5856-41C3-AF6D-1CBFB03B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C0614-31CA-4EED-9C7A-8727BEC8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DBB0-AE75-4C11-A2F7-39BF2C9C89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F5B8F-092B-4A2B-BACA-913ACE0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FEE8AE-DE3F-4F43-8F9F-877EEBBB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D48B19-DA5F-438B-9ED5-8EA80B94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48614C-665F-41D4-9399-C6625D20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6C62C1-D7E3-4A20-8AB0-B44CCEF0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6F7E4-6818-49D2-ABA0-5D9B847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EDB385-18A3-4A28-9363-BF0A1C1F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B41B7-07DD-4009-8962-F32202CC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02AA34-8009-4A96-BBD1-05F11C02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53BCA-9C63-40DF-960F-CBFBDA6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1A57-CAB3-4836-8230-BCEE63A770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E34464-CB12-4F49-BB99-789037FC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F1CCC-DB9C-45F9-9B5A-29AF505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1FCA8-F332-4009-9B73-4C9DAFF0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8D5EA6-041D-4489-A624-C7615038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69D87A-97FE-4E26-A29C-EB1DA036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60C21-8CDD-4038-BBEC-2489A667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DD872-356A-4ECB-9ADC-5BD3888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8E92DC-52C2-4D83-A745-0C436552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A36195-47F4-48D6-B5A2-23869DDB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DA04DF-81B7-4A2E-B7AD-D8B8FBEB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BAB9-6BA0-41E4-AE48-E459F59540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23BE54-801B-4D4E-A846-DCF8CC4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33EC9-8B23-4293-BBDE-451D487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48ED3-C22B-441E-ADB3-41054F9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943C03-EC47-44D6-B918-56C2A79B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9EC4E9-1A34-4776-ADCD-DD8DD7E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9D25A-7FAF-4F67-8EF2-1C75EA33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5D7978-D1C1-4E63-82A8-04721772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09301-8D6F-4B3F-9F72-E5AD8813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7221A-78FD-444F-9E03-F62B4FFC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68A99-529B-4E32-AEB0-F86A2A8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568-0809-42E7-B0B2-8005CD9303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37E-521C-4680-9009-EA4F621255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93DF-59E3-4DDA-80A1-92BA0A82F3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ight Triangle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4" name="Freeform 18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Freeform 2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7" name="Freeform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Straight Connector 22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6C04-C3EA-4880-B77E-DE10EA41E2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150" name="Chevron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hevron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CDFC-47D0-42E9-BDB6-F105F326E2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1509-FF30-4C01-9428-91373518DE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D40-40D2-4299-87F5-20BD32580A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58C9-15A2-451E-B12F-E50B9E83E9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AF48-7A14-4010-BD5F-34E5EDA73A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Right Triangle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8" name="Right Triangle 18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Straight Connector 19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81" name="Chevron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hevron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D35-4A8F-48F5-85D5-9006A6E1D8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fap.ed.gov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hyperlink" Target="mailto:Michael.Cagle@ed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33523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ichael Cagle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olly Langer-Evans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B8B4-B42F-4DD4-AA32-D7A360F5EF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Title 3" descr=""/>
          <p:cNvPicPr/>
          <p:nvPr/>
        </p:nvPicPr>
        <p:blipFill>
          <a:blip r:embed="rId1"/>
          <a:stretch/>
        </p:blipFill>
        <p:spPr>
          <a:xfrm>
            <a:off x="-103320" y="536400"/>
            <a:ext cx="89424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76720" y="601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Intermediate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0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AF4B-6C15-415B-907D-1B2F65F688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6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522" name="Right Arrow Callout 11"/>
          <p:cNvSpPr/>
          <p:nvPr/>
        </p:nvSpPr>
        <p:spPr>
          <a:xfrm>
            <a:off x="228600" y="2133720"/>
            <a:ext cx="1066680" cy="9144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22860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00400" y="601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SAP Template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C1D7-A220-43BD-ACB2-EE008A0858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08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licies &amp; Procedures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Advanc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gin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medi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87"/>
                </a:solidFill>
                <a:latin typeface="Lucida Sans Unicode"/>
              </a:rPr>
              <a:t>Advanc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049C-7CC4-4BF2-8544-338B4CC1FD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00400" y="6019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Advanced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3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3C7-7628-435B-8161-7878796DDF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360360" y="609480"/>
            <a:ext cx="8255160" cy="5562720"/>
          </a:xfrm>
          <a:prstGeom prst="rect">
            <a:avLst/>
          </a:prstGeom>
          <a:ln w="0">
            <a:noFill/>
          </a:ln>
        </p:spPr>
      </p:pic>
      <p:sp>
        <p:nvSpPr>
          <p:cNvPr id="535" name="Left Arrow 7"/>
          <p:cNvSpPr/>
          <p:nvPr/>
        </p:nvSpPr>
        <p:spPr>
          <a:xfrm>
            <a:off x="2666880" y="3352680"/>
            <a:ext cx="7621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8120" y="5943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Organizational Structure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7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9F1D-9485-4BA1-BFA1-F6FBBA3664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553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A043-4154-42FE-9A65-EFE02B6E4A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076800" cy="1076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7010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A56-360C-4ECF-B0D7-546B41D36A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124680" cy="5638680"/>
          </a:xfrm>
          <a:prstGeom prst="rect">
            <a:avLst/>
          </a:prstGeom>
          <a:ln w="0">
            <a:noFill/>
          </a:ln>
        </p:spPr>
      </p:pic>
      <p:sp>
        <p:nvSpPr>
          <p:cNvPr id="545" name="Right Arrow 3"/>
          <p:cNvSpPr/>
          <p:nvPr/>
        </p:nvSpPr>
        <p:spPr>
          <a:xfrm>
            <a:off x="838080" y="3429000"/>
            <a:ext cx="59688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99cc"/>
          </a:solidFill>
          <a:ln w="55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FF88-E7B7-4BB4-B426-2B17E75564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880920" y="1033560"/>
            <a:ext cx="7382160" cy="4790880"/>
          </a:xfrm>
          <a:prstGeom prst="rect">
            <a:avLst/>
          </a:prstGeom>
          <a:ln w="0">
            <a:noFill/>
          </a:ln>
        </p:spPr>
      </p:pic>
      <p:sp>
        <p:nvSpPr>
          <p:cNvPr id="548" name="Title 7"/>
          <p:cNvSpPr/>
          <p:nvPr/>
        </p:nvSpPr>
        <p:spPr>
          <a:xfrm>
            <a:off x="1523880" y="609480"/>
            <a:ext cx="5486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Verdana"/>
                <a:ea typeface="Verdana"/>
              </a:rPr>
              <a:t>Introduction and 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D49E-B391-447F-94B6-EAFDFA484E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itle 7"/>
          <p:cNvSpPr/>
          <p:nvPr/>
        </p:nvSpPr>
        <p:spPr>
          <a:xfrm>
            <a:off x="1523880" y="609480"/>
            <a:ext cx="5486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5407"/>
                </a:solidFill>
                <a:latin typeface="Verdana"/>
                <a:ea typeface="Verdana"/>
              </a:rPr>
              <a:t>Suggested 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553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CAE9-5D26-409E-8ED6-011668293D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622440" y="685800"/>
            <a:ext cx="78357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3F9-E932-4E4F-B5AD-012D5CC74A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Rectangle 1026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pic>
        <p:nvPicPr>
          <p:cNvPr id="484" name="Diagram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534160" cy="1298520"/>
          </a:xfrm>
          <a:prstGeom prst="rect">
            <a:avLst/>
          </a:prstGeom>
          <a:ln w="0">
            <a:noFill/>
          </a:ln>
        </p:spPr>
      </p:pic>
      <p:pic>
        <p:nvPicPr>
          <p:cNvPr id="485" name="Diagram 17" descr=""/>
          <p:cNvPicPr/>
          <p:nvPr/>
        </p:nvPicPr>
        <p:blipFill>
          <a:blip r:embed="rId3"/>
          <a:stretch/>
        </p:blipFill>
        <p:spPr>
          <a:xfrm>
            <a:off x="1500120" y="1395360"/>
            <a:ext cx="6284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C269-A58D-4EC0-ABE5-CD66BBD666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776160" y="457200"/>
            <a:ext cx="759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F1D3-A17A-4E6D-A51D-982F3C5F03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867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6BC6-9062-4984-A121-6F93956B12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73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5AB-E248-402D-8854-2F02523ED3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752400" y="457200"/>
            <a:ext cx="76392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BE6-F2B8-4564-BEAE-425EB53DFA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257480" y="533520"/>
            <a:ext cx="6629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89FB-5EC5-45FF-80B2-53F1243CCA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94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6456-7209-4E64-B676-94C8B47A35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471600" y="1371600"/>
            <a:ext cx="8269200" cy="4343400"/>
          </a:xfrm>
          <a:prstGeom prst="rect">
            <a:avLst/>
          </a:prstGeom>
          <a:ln w="0">
            <a:noFill/>
          </a:ln>
        </p:spPr>
      </p:pic>
      <p:sp>
        <p:nvSpPr>
          <p:cNvPr id="568" name="Right Arrow 3"/>
          <p:cNvSpPr/>
          <p:nvPr/>
        </p:nvSpPr>
        <p:spPr>
          <a:xfrm>
            <a:off x="228600" y="1600200"/>
            <a:ext cx="368280" cy="15228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99cc"/>
          </a:solidFill>
          <a:ln w="55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F64-CBDA-458C-8554-EBEBB07B1C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847800" y="857160"/>
            <a:ext cx="74484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44B-6EEB-49A7-B910-60BE364360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1181160" y="723960"/>
            <a:ext cx="6781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B4F8-F4AB-443E-A88C-D40915D437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336600" y="1143000"/>
            <a:ext cx="8307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 fontScale="91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From IFAP Select Tools For Schools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Select FSA Assess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0BC1-76A0-413E-A873-98F13F6139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295280"/>
            <a:ext cx="42670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Go to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ifap.ed.go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2906640" cy="3276720"/>
          </a:xfrm>
          <a:prstGeom prst="rect">
            <a:avLst/>
          </a:prstGeom>
          <a:ln w="0">
            <a:noFill/>
          </a:ln>
        </p:spPr>
      </p:pic>
      <p:pic>
        <p:nvPicPr>
          <p:cNvPr id="491" name="Title 6" descr=""/>
          <p:cNvPicPr/>
          <p:nvPr/>
        </p:nvPicPr>
        <p:blipFill>
          <a:blip r:embed="rId3"/>
          <a:stretch/>
        </p:blipFill>
        <p:spPr>
          <a:xfrm>
            <a:off x="49320" y="360360"/>
            <a:ext cx="8716680" cy="1157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4"/>
          <a:stretch/>
        </p:blipFill>
        <p:spPr>
          <a:xfrm>
            <a:off x="5486400" y="1295280"/>
            <a:ext cx="2819520" cy="3821400"/>
          </a:xfrm>
          <a:prstGeom prst="rect">
            <a:avLst/>
          </a:prstGeom>
          <a:ln w="0">
            <a:noFill/>
          </a:ln>
        </p:spPr>
      </p:pic>
      <p:sp>
        <p:nvSpPr>
          <p:cNvPr id="493" name="Right Arrow 8"/>
          <p:cNvSpPr/>
          <p:nvPr/>
        </p:nvSpPr>
        <p:spPr>
          <a:xfrm>
            <a:off x="4952880" y="4343400"/>
            <a:ext cx="825480" cy="1522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F4A5-D1D5-4A33-A581-23A6AC7E9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316080" y="1295280"/>
            <a:ext cx="8615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F227-4022-419F-AAE0-8FA4F30B43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776160" y="985680"/>
            <a:ext cx="75916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DAA-3FB5-41ED-BBAE-E71B211FDE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990720" y="824040"/>
            <a:ext cx="71625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FF5A-51A8-4895-AF95-62A2F4621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Title 7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55680"/>
          </a:xfrm>
          <a:prstGeom prst="rect">
            <a:avLst/>
          </a:prstGeom>
          <a:ln w="0">
            <a:noFill/>
          </a:ln>
        </p:spPr>
      </p:pic>
      <p:pic>
        <p:nvPicPr>
          <p:cNvPr id="583" name="Diagram 9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to locate the Assess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he Policies &amp; Procedures Templat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to use the Guide to Creating a Policies and Procedures Manual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value of having a Man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FE26-16D4-4089-84B6-C21832029C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CF70-AC48-4C4E-96CB-625E9B8F13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437680" cy="11761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457200" y="1295280"/>
            <a:ext cx="8381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87"/>
                </a:solidFill>
                <a:latin typeface="Verdana"/>
              </a:rPr>
              <a:t>Holly Langer-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617-289-0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Holly.Langer-Evans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: 617-289-016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87"/>
                </a:solidFill>
                <a:latin typeface="Verdana"/>
              </a:rPr>
              <a:t>Michael C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: 206-615-25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Verdana"/>
                <a:hlinkClick r:id="rId2"/>
              </a:rPr>
              <a:t>Michael.Cagle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: 206-615-36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225B-7EEB-452D-A830-7D9F5AEC68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4229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rcRect l="0" t="11457" r="9375" b="6250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97" name="Rounded Rectangle 9"/>
          <p:cNvSpPr/>
          <p:nvPr/>
        </p:nvSpPr>
        <p:spPr>
          <a:xfrm>
            <a:off x="4495680" y="4495680"/>
            <a:ext cx="3048120" cy="990720"/>
          </a:xfrm>
          <a:prstGeom prst="roundRect">
            <a:avLst>
              <a:gd name="adj" fmla="val 16667"/>
            </a:avLst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licies &amp; Procedures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Beginn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1523880"/>
            <a:ext cx="404028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87"/>
                </a:solidFill>
                <a:latin typeface="Lucida Sans Unicode"/>
              </a:rPr>
              <a:t>Beginn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medi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63AF-8459-4B41-AECE-59E3B3D6E8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9" descr=""/>
          <p:cNvPicPr/>
          <p:nvPr/>
        </p:nvPicPr>
        <p:blipFill>
          <a:blip r:embed="rId1"/>
          <a:stretch/>
        </p:blipFill>
        <p:spPr>
          <a:xfrm>
            <a:off x="2811600" y="334800"/>
            <a:ext cx="6103800" cy="50752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1"/>
          <p:cNvSpPr/>
          <p:nvPr/>
        </p:nvSpPr>
        <p:spPr>
          <a:xfrm>
            <a:off x="2666880" y="2438280"/>
            <a:ext cx="1828800" cy="304920"/>
          </a:xfrm>
          <a:prstGeom prst="rect">
            <a:avLst/>
          </a:prstGeom>
          <a:noFill/>
          <a:ln w="55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Beginners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86E4-DD4A-4197-AA84-A8C23398BB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12" descr=""/>
          <p:cNvPicPr/>
          <p:nvPr/>
        </p:nvPicPr>
        <p:blipFill>
          <a:blip r:embed="rId1"/>
          <a:srcRect l="377" t="0" r="377" b="0"/>
          <a:stretch/>
        </p:blipFill>
        <p:spPr>
          <a:xfrm>
            <a:off x="304920" y="838080"/>
            <a:ext cx="8610480" cy="4114800"/>
          </a:xfrm>
          <a:prstGeom prst="rect">
            <a:avLst/>
          </a:prstGeom>
          <a:ln w="0">
            <a:noFill/>
          </a:ln>
        </p:spPr>
      </p:pic>
      <p:sp>
        <p:nvSpPr>
          <p:cNvPr id="507" name="Rounded Rectangle 5"/>
          <p:cNvSpPr/>
          <p:nvPr/>
        </p:nvSpPr>
        <p:spPr>
          <a:xfrm>
            <a:off x="1600200" y="1371600"/>
            <a:ext cx="914400" cy="228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32C1-32B7-4441-A6BA-9F789E2CF1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5562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Hyperlink to 600.4(a)(2)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14520" y="604800"/>
            <a:ext cx="611496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A81-C9B2-4C1D-9A87-D460F684AD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55627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5407"/>
                </a:solidFill>
                <a:latin typeface="Verdana"/>
              </a:rPr>
              <a:t>Beginners</a:t>
            </a:r>
            <a:endParaRPr b="1" lang="en-US" sz="2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099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licies &amp; Procedures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gin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87"/>
                </a:solidFill>
                <a:latin typeface="Lucida Sans Unicode"/>
              </a:rPr>
              <a:t>Intermedi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656B-0711-429E-B4E2-0E9CC32367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3243240" y="533520"/>
            <a:ext cx="5699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&amp;B</cp:lastModifiedBy>
  <dcterms:modified xsi:type="dcterms:W3CDTF">2010-11-06T13:32:08Z</dcterms:modified>
  <cp:revision>308</cp:revision>
  <dc:subject/>
  <dc:title>PowerPoint Presentation</dc:title>
</cp:coreProperties>
</file>