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2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2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2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C5DD-97C6-45A0-B86C-603F2D24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EA35-23CA-4490-AF89-698899DF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E93F-49C2-4891-AC8D-FD31F54E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E76-29E5-4E09-920D-15EF9CBC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59F2-D4CD-43D5-A700-CBF8C5A5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C55C-D01C-4995-A702-445A2419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E20-7848-4CAC-A8A6-D95498E15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33D-59A6-41E1-BC62-D05885014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A4CE-2EC6-47AC-B4F4-B633B427C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572-8F2E-4A44-A33E-A3DB9B26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C6EB-857C-402D-BF4F-9A7FF677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771-E278-4DAB-B8EF-55D492DF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3E6-98C4-4701-AC7F-73396ED1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135-0FCC-4DA1-ABC8-008FFBBCD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7D8-4781-4F7C-A42C-2418957E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068-BE43-48DC-8B7A-9EC6BD84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E93-596C-40A6-99F4-736C3803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7CC-7A19-48A9-A04C-CDE526BA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7FF-D14D-470B-81A1-148F1C4B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D4F-DB66-452F-B88E-51017A879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27F-2B23-4ECF-8812-23211B6FF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435A-2204-4417-A16A-AEF3EDA7E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027B-3A05-491F-87D2-E3AF9E7B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75A2-FF00-4D76-B962-AB056D78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C4C7-61C2-4696-8FD1-ED98A04F1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3DD3-9928-4024-A402-A71DB415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A755-C7A7-42DC-B9D1-20848504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F06B-75E3-4BD7-A5DE-1B9BBDD0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EE5-DCC0-4FEC-8AD0-373CCF31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9BDB-9B1E-45A0-940B-DBC6979BD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5839-4BE4-4DB3-B286-FFB4B3C25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1B5-2F34-4965-B38A-FAE9D7CA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148-BD90-41AD-AAEF-FBDE35692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FB9F-B8A2-4A4A-9DAB-0E1B7435D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DEE-C645-438C-B519-2919B389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812-FD48-40CB-8325-45DD793F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4C80-13A9-4406-85B4-0D6200D32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C61C-CCEF-480E-85F0-32E798F440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22858-A4DA-44CD-A675-5DC46CB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37B02-A391-42BB-9A96-9BEC7CC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E563E-907C-40EF-B862-31CE851B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187DE-0CAE-4EFD-8132-613DC3A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D5B76-ACD8-454B-A350-9C7E2CB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1C06-B1EB-40B1-9952-229FC3A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17BA2-9937-4147-84B5-7A8B0CC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7C2C7-227F-4F04-8309-8E8CCCEA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0E630-D16D-4C63-902C-E02113E7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D9D68-D3C3-44E9-9B0D-6F7F253D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7B5F-3655-447E-999E-6D4CD7FCA5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7968FB-1805-4731-8D59-46308E2230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FA459-C5E1-46B8-BEC9-1ACEFEB402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0D5EF4-5F80-46AC-B06C-BAD4E4937A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A15A0-2492-44CB-969B-F1719BCBD7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638E5-E914-4370-AAE5-274DB83C5D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B2E6A6-E5E2-48B0-A457-7F0B8F8D40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1ECF4-0E66-4D4B-89E2-E2D28B12AB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6C437-952E-497D-95F0-E6DED4127A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3E845-EA16-4C16-B406-18749FC8A7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34F71-8F18-407F-81CC-FD49F08FF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43D2-C361-434E-84D0-E1BA0E3123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27189-980C-4EF1-8596-EEE3C73C0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C01A3-71C9-4FC0-9A41-09C8FA89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68B91-16A3-44B8-958E-7208108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DABCF-EBE1-470D-971C-5117FCC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F4C7F-1390-400A-9AFF-D916C09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55AF-A0BD-4EE7-B216-BA903EB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8C6AE-81D0-45FC-A076-0B0F8A48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5189F-4A67-4E1F-96EF-15C9411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1308-1005-46C4-9C42-44533A107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0FA07-1F17-4CF7-92B4-2CEE34D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14F2A-2C4F-475C-A86D-7831DE0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2A9A5-0322-430A-927F-844D98F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4DEB-5ED2-41E6-BA3C-19704077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CDED2-5A58-4891-8214-3E79A83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734F4-990C-4FA0-A0BA-330A1CAC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039C0-1209-4911-A305-9E8D80F0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97BA7-595D-425C-9A8C-49BED2C2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B06F0-0D83-439B-8E07-2EC2917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9FF70-9515-45E5-80C8-F862F4A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A97D-908C-44FD-AC36-D3F64220DE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8AE55-5E3F-427B-BD04-74DE19B4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E4357-259D-4D63-AAB0-FE72584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6032D-F386-4C2B-BDEE-7B3CEE2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458F7-E7B9-4728-AF25-0CD50E4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B9C50-06BE-4AB3-BEC1-F5978A46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23CDB-645D-4E21-8D2B-AA49BD56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ACD49-4C84-4E81-AA95-A7E4784B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8259C-9165-43E8-99C5-65323FC5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2AC44-00F4-4601-9558-C1ED66D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524DA-AB0E-4304-B20F-B3C4EAE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C960-4F96-4CC3-AFA9-97F7A3B690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90D31-35CE-401A-A9AE-77FD6BF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43F3D-9C45-481F-89B5-6993892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41786-F23C-4088-B063-8F44B2A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CCA72-BE7B-4142-96CE-E480975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979AF-582C-42BF-B98D-D3CD7F9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47A30-E86F-44F4-97AA-84C0E44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1A578-6CAB-4CF8-AB72-E8484C0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D0C76-D1FC-4BB4-A750-B14FCD7A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F0932-DCE1-4657-85E0-4A5CACEC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875B5-1DAA-4012-B897-02ADDA0C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D00B-9029-41E5-91A9-D3AE3D2BE8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F3350B-9BD3-4B43-9403-D3BA7D3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400B6-124F-4D1E-A28A-BA701BB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65A3F-3BE7-4C99-933F-DD27A725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FDB264-BC2D-44DF-8608-38B77E28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2332F-C777-46D8-867F-CCC94DD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6F32A-8E47-4BF0-A881-3DA08BE7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AC460-8EEC-4C20-9CA7-7A77560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586FE1-F3B0-4C20-A3AF-D7EEC4E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ECA2A-2719-4A7A-AF90-51D87A8E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1319B-8B52-4DC0-A122-6336C39D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FEE8-AFA9-43A2-B32A-F11B793B2B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5296D-DDA1-4698-A4B8-41172090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7B373-4E09-4D34-890E-B889A2E9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F90B19-A528-4350-84A0-93B447C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07C17D-9E58-4032-8402-009E392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03F80-1F66-4DDC-9DE9-0FA8510B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E56C2-234F-4075-9F06-4D2F1EE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F4570C-D035-4CA6-AA4E-9E758AC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1922C-9479-43A8-954F-396DDE5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9B09B-D7E4-442D-8F8A-049D261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EA201-1440-45AD-A523-93468D5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2921-564D-4805-8E00-5E51601FCC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02445-F02C-4EB5-BB2A-8775B08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2BFE0-DEA2-4F94-89FF-448BEAF0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C16EE-72B3-4525-BD41-98E73094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F3AD3-DE71-4899-BDDB-A8B4774E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849A6D-6A21-4831-8C87-03F2B54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9C192D-40AF-4E5A-B620-CD79C61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1B670-DE43-41F1-9A09-512FA08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6A16A-7F9F-47E7-8B87-8174379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185374-D003-44BE-9CA7-8F0B42F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6CEC68-B316-4CBC-8308-E49DDEC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81F4-1C35-4FFA-AABB-25A493F408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30E29-F310-4909-B3DC-62197A0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01B9C3-0C98-42CE-AA60-BECA375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B4B5B-1DE1-4290-BAAC-70739A2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E92D5-1EE0-4D47-A0A5-57EF2BC6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49CF49-D78D-43CE-ADAC-AE7AB085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98F24-E470-4947-98E6-8E5DB04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F13E2-0F2B-4C57-B7FD-525C329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576B0-A66E-4158-A636-83B606EA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16828D-F895-46BA-9617-6BBF50C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669D5-DEE7-4A5B-8948-D0D562E2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B937-A413-4897-9D7A-CAECDF66DD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3C55C-78BC-4B2C-BDBD-D6DCF60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CF7B7-9088-425B-B1F7-FCD3E96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482D1-5FC0-442B-880D-1A12346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4E479-FA1E-402D-87C6-B0334BA3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B355F-4344-4A81-9637-C1404C8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F2EE9-2E4D-43D6-B1C4-14DD1D2C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EC5DB2-0A48-4233-BB15-B4FAA790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EE1FC-4C82-4BBB-8C62-98E283DD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8912A-F8E0-4504-BC63-9D769FD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04F64-39E8-45E5-9EF7-5D23AA8F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6AF-CF6B-44BA-9288-58F5D2C545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CAA4-5B17-4107-A605-55722C8E8C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C98-BF2F-4410-961D-4459556C89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ight Triangle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4" name="Freeform 18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Freeform 2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7" name="Freeform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Straight Connector 22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6B8D-297A-4170-97D4-2FFF09DA24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150" name="Chevron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hevron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6EC-5E51-4A2A-9201-189E3E3151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9F9-D565-4330-91A8-22D7489E51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FDA-4A44-4E05-8F05-F17B9564AF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79E-C5D8-4478-A02C-34EBD2839E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6CB-C021-4FCB-8E1B-21B65534D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Right Triangle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8" name="Right Triangle 18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Straight Connector 19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81" name="Chevron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hevron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B25-C9A4-40C2-B04E-029F9F90DD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mailto:Michael.Cagle@ed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33523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ichael Cagle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olly Langer-Evans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582-1DF7-483E-A669-9D4DAB6E0A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Title 3" descr=""/>
          <p:cNvPicPr/>
          <p:nvPr/>
        </p:nvPicPr>
        <p:blipFill>
          <a:blip r:embed="rId1"/>
          <a:stretch/>
        </p:blipFill>
        <p:spPr>
          <a:xfrm>
            <a:off x="-103320" y="536400"/>
            <a:ext cx="89424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7672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Intermediat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9FF-8AA6-4E07-B9C5-D82D9DF620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6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22" name="Right Arrow Callout 11"/>
          <p:cNvSpPr/>
          <p:nvPr/>
        </p:nvSpPr>
        <p:spPr>
          <a:xfrm>
            <a:off x="228600" y="2133720"/>
            <a:ext cx="1066680" cy="9144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22860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SAP Templat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F2B3-F87E-4B7F-B23A-6F2B133BF0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08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E21-E48E-4421-B1ED-19A82FCE43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Advanced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3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CAA-34D1-41E1-A482-0F67C0FCD4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360360" y="609480"/>
            <a:ext cx="8255160" cy="5562720"/>
          </a:xfrm>
          <a:prstGeom prst="rect">
            <a:avLst/>
          </a:prstGeom>
          <a:ln w="0">
            <a:noFill/>
          </a:ln>
        </p:spPr>
      </p:pic>
      <p:sp>
        <p:nvSpPr>
          <p:cNvPr id="535" name="Left Arrow 7"/>
          <p:cNvSpPr/>
          <p:nvPr/>
        </p:nvSpPr>
        <p:spPr>
          <a:xfrm>
            <a:off x="2666880" y="33526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8120" y="5943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Organizational Structur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7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674-B647-44EE-BCF6-39E4791644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553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000-EFB6-4362-80B5-60681FE344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76800" cy="1076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010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120-A2E3-4948-BACB-555C6D0F56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124680" cy="5638680"/>
          </a:xfrm>
          <a:prstGeom prst="rect">
            <a:avLst/>
          </a:prstGeom>
          <a:ln w="0">
            <a:noFill/>
          </a:ln>
        </p:spPr>
      </p:pic>
      <p:sp>
        <p:nvSpPr>
          <p:cNvPr id="545" name="Right Arrow 3"/>
          <p:cNvSpPr/>
          <p:nvPr/>
        </p:nvSpPr>
        <p:spPr>
          <a:xfrm>
            <a:off x="838080" y="3429000"/>
            <a:ext cx="59688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99cc"/>
          </a:solidFill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4208-6A96-4EA5-9125-466818FDED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880920" y="1033560"/>
            <a:ext cx="7382160" cy="4790880"/>
          </a:xfrm>
          <a:prstGeom prst="rect">
            <a:avLst/>
          </a:prstGeom>
          <a:ln w="0">
            <a:noFill/>
          </a:ln>
        </p:spPr>
      </p:pic>
      <p:sp>
        <p:nvSpPr>
          <p:cNvPr id="548" name="Title 7"/>
          <p:cNvSpPr/>
          <p:nvPr/>
        </p:nvSpPr>
        <p:spPr>
          <a:xfrm>
            <a:off x="1523880" y="60948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Verdana"/>
                <a:ea typeface="Verdana"/>
              </a:rPr>
              <a:t>Introduction and 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CE6-3517-45D5-9899-8067628A2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itle 7"/>
          <p:cNvSpPr/>
          <p:nvPr/>
        </p:nvSpPr>
        <p:spPr>
          <a:xfrm>
            <a:off x="1523880" y="60948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Verdana"/>
                <a:ea typeface="Verdana"/>
              </a:rPr>
              <a:t>Suggested 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553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2FB-4DB7-43F0-AE25-A86609B69A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622440" y="685800"/>
            <a:ext cx="7835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23C-1F58-478A-AA08-621333E45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Rectangle 1026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pic>
        <p:nvPicPr>
          <p:cNvPr id="484" name="Diagram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1298520"/>
          </a:xfrm>
          <a:prstGeom prst="rect">
            <a:avLst/>
          </a:prstGeom>
          <a:ln w="0">
            <a:noFill/>
          </a:ln>
        </p:spPr>
      </p:pic>
      <p:pic>
        <p:nvPicPr>
          <p:cNvPr id="485" name="Diagram 17" descr=""/>
          <p:cNvPicPr/>
          <p:nvPr/>
        </p:nvPicPr>
        <p:blipFill>
          <a:blip r:embed="rId3"/>
          <a:stretch/>
        </p:blipFill>
        <p:spPr>
          <a:xfrm>
            <a:off x="1500120" y="1395360"/>
            <a:ext cx="6284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E959-E829-414E-8307-A6DE3BEA1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776160" y="457200"/>
            <a:ext cx="759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0C95-2362-437C-85B4-9468A07B7E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67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AF0-45DB-4E16-9E37-B8052691B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3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681F-C77E-452C-A3C7-C3564038AA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752400" y="457200"/>
            <a:ext cx="76392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A42-E5A2-4D80-9F88-18E149BB1F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257480" y="533520"/>
            <a:ext cx="6629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F02-1392-4BD9-B6E9-D3859BE0A2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94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49A-6EC9-4468-B0BF-4F01F1E3BF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471600" y="1371600"/>
            <a:ext cx="8269200" cy="4343400"/>
          </a:xfrm>
          <a:prstGeom prst="rect">
            <a:avLst/>
          </a:prstGeom>
          <a:ln w="0">
            <a:noFill/>
          </a:ln>
        </p:spPr>
      </p:pic>
      <p:sp>
        <p:nvSpPr>
          <p:cNvPr id="568" name="Right Arrow 3"/>
          <p:cNvSpPr/>
          <p:nvPr/>
        </p:nvSpPr>
        <p:spPr>
          <a:xfrm>
            <a:off x="228600" y="1600200"/>
            <a:ext cx="368280" cy="1522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99cc"/>
          </a:solidFill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1B1-B6F6-4D39-98EE-3664A1D72A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847800" y="857160"/>
            <a:ext cx="7448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15E-4880-45B1-9675-93A1FA600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181160" y="723960"/>
            <a:ext cx="6781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8208-AD65-48F9-A720-F106FDBA4C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336600" y="1143000"/>
            <a:ext cx="8307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 fontScale="91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From IFAP Select Tools For Schools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elect FSA Assess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B10-7966-4346-A62E-F5A596FF7F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295280"/>
            <a:ext cx="426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ifap.ed.go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2906640" cy="3276720"/>
          </a:xfrm>
          <a:prstGeom prst="rect">
            <a:avLst/>
          </a:prstGeom>
          <a:ln w="0">
            <a:noFill/>
          </a:ln>
        </p:spPr>
      </p:pic>
      <p:pic>
        <p:nvPicPr>
          <p:cNvPr id="491" name="Title 6" descr=""/>
          <p:cNvPicPr/>
          <p:nvPr/>
        </p:nvPicPr>
        <p:blipFill>
          <a:blip r:embed="rId3"/>
          <a:stretch/>
        </p:blipFill>
        <p:spPr>
          <a:xfrm>
            <a:off x="49320" y="360360"/>
            <a:ext cx="8716680" cy="1157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4"/>
          <a:stretch/>
        </p:blipFill>
        <p:spPr>
          <a:xfrm>
            <a:off x="5486400" y="1295280"/>
            <a:ext cx="2819520" cy="3821400"/>
          </a:xfrm>
          <a:prstGeom prst="rect">
            <a:avLst/>
          </a:prstGeom>
          <a:ln w="0">
            <a:noFill/>
          </a:ln>
        </p:spPr>
      </p:pic>
      <p:sp>
        <p:nvSpPr>
          <p:cNvPr id="493" name="Right Arrow 8"/>
          <p:cNvSpPr/>
          <p:nvPr/>
        </p:nvSpPr>
        <p:spPr>
          <a:xfrm>
            <a:off x="4952880" y="4343400"/>
            <a:ext cx="825480" cy="1522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F24-7382-4B1D-B465-568CA157E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316080" y="1295280"/>
            <a:ext cx="861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2A4-4272-4D0A-87B9-61CA0667BB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776160" y="985680"/>
            <a:ext cx="75916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FA3-FC18-4841-B651-9FE984D96E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990720" y="824040"/>
            <a:ext cx="71625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EDF7-08E4-48F1-8CC2-9FE0836C7A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Title 7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55680"/>
          </a:xfrm>
          <a:prstGeom prst="rect">
            <a:avLst/>
          </a:prstGeom>
          <a:ln w="0">
            <a:noFill/>
          </a:ln>
        </p:spPr>
      </p:pic>
      <p:pic>
        <p:nvPicPr>
          <p:cNvPr id="583" name="Diagram 9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to locate the Assess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he Policies &amp; Procedures Templat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he Guide to Creating a Policies and Procedures Manu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value of having a Man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4AE5-820F-4146-A43D-EA3EA6A60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3B6-E1FA-41C0-885D-2243AC8605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437680" cy="11761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457200" y="12952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87"/>
                </a:solidFill>
                <a:latin typeface="Verdana"/>
              </a:rPr>
              <a:t>Holly Langer-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617-289-0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olly.Langer-Evans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617-289-016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87"/>
                </a:solidFill>
                <a:latin typeface="Verdana"/>
              </a:rPr>
              <a:t>Michael C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6-615-25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Verdana"/>
                <a:hlinkClick r:id="rId2"/>
              </a:rPr>
              <a:t>Michael.Cagle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206-615-36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EE3-66D0-4E26-978A-F86A975E59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4229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rcRect l="0" t="11457" r="9375" b="6250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97" name="Rounded Rectangle 9"/>
          <p:cNvSpPr/>
          <p:nvPr/>
        </p:nvSpPr>
        <p:spPr>
          <a:xfrm>
            <a:off x="4495680" y="4495680"/>
            <a:ext cx="3048120" cy="99072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Beginn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1523880"/>
            <a:ext cx="404028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AA6-371C-4349-A614-DB946D7E82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1"/>
          <a:stretch/>
        </p:blipFill>
        <p:spPr>
          <a:xfrm>
            <a:off x="2811600" y="334800"/>
            <a:ext cx="6103800" cy="50752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1"/>
          <p:cNvSpPr/>
          <p:nvPr/>
        </p:nvSpPr>
        <p:spPr>
          <a:xfrm>
            <a:off x="2666880" y="2438280"/>
            <a:ext cx="1828800" cy="304920"/>
          </a:xfrm>
          <a:prstGeom prst="rect">
            <a:avLst/>
          </a:prstGeom>
          <a:noFill/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Beginners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76BF-5E58-40ED-BC8F-2EAA50B2A8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2" descr=""/>
          <p:cNvPicPr/>
          <p:nvPr/>
        </p:nvPicPr>
        <p:blipFill>
          <a:blip r:embed="rId1"/>
          <a:srcRect l="377" t="0" r="377" b="0"/>
          <a:stretch/>
        </p:blipFill>
        <p:spPr>
          <a:xfrm>
            <a:off x="304920" y="838080"/>
            <a:ext cx="8610480" cy="4114800"/>
          </a:xfrm>
          <a:prstGeom prst="rect">
            <a:avLst/>
          </a:prstGeom>
          <a:ln w="0">
            <a:noFill/>
          </a:ln>
        </p:spPr>
      </p:pic>
      <p:sp>
        <p:nvSpPr>
          <p:cNvPr id="507" name="Rounded Rectangle 5"/>
          <p:cNvSpPr/>
          <p:nvPr/>
        </p:nvSpPr>
        <p:spPr>
          <a:xfrm>
            <a:off x="1600200" y="1371600"/>
            <a:ext cx="914400" cy="22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8B8-B0D6-46B7-B7AE-4EFEE5042B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5562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Hyperlink to 600.4(a)(2)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14520" y="604800"/>
            <a:ext cx="61149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B23-0145-419C-959F-3AC6EE6549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5562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Beginners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099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A5C-3507-42B8-970A-A258C21CE4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3243240" y="533520"/>
            <a:ext cx="5699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6T13:32:08Z</dcterms:modified>
  <cp:revision>308</cp:revision>
  <dc:subject/>
  <dc:title>PowerPoint Presentation</dc:title>
</cp:coreProperties>
</file>