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96396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2040" y="440676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7C3240-2358-406D-9F86-ED5D10984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2040" y="440676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2040" y="440676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DC1C-D00C-4E1A-B939-CFD2B7F60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501F-FB37-4CB2-A6B1-E390D3BAB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FA7A1-2860-4E65-A231-C44B3521A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035A-60F2-4C4C-9C5F-80AA2764E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BB21-EF38-4FE4-B08D-7F80A832C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CDC1-0473-4A19-A5DA-B6473C274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13A8-B210-416C-B912-7B1F07134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DD25-86DB-40B9-83E2-E43E534E0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BC626-4C4B-4520-B81B-F38FFF5F9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CCD50-860B-41FA-BDEE-F5260EC67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EF2E-DE30-46FB-837C-8125CDA57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F920-96A9-4EBA-8BF5-E608B1BE9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ED17-8E0D-4CF3-907A-995EC9293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ed Analysis Concep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M measures discretionary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a portion available fo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53160" y="2039760"/>
            <a:ext cx="4092480" cy="36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5F2A1-1942-4522-88C9-B77EAEDF2A70}" type="slidenum">
              <a:t>10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reatment of Income in FM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In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year income from all taxable and untaxabl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xclusions (FAFSA Worksheet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Total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88620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438280" cy="20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F35F0-F058-4DB6-8629-F2F39502DA36}" type="slidenum">
              <a:t>11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reatment of Income in FM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of income remaining for discretionary spe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otal Allow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ailable Income (A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449568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0A88-301C-4661-9437-57935A266680}" type="slidenum">
              <a:t>1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otal Allowanc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ances for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 S. Income tax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of state and other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of res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total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53160" y="1828800"/>
            <a:ext cx="40924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ACB6-330D-4DA0-85B8-E767C5C78902}" type="slidenum">
              <a:t>13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otal Allowanc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Protection Allowance-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s amount needed for basic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BLS lower budget expenditures adjusted for C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with each household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 with each member in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1487-7A9C-47D5-B0DD-76629F23FD1A}" type="slidenum">
              <a:t>1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otal Allowances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ment expense allow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dditional costs when both parent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single parent working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3110040" cy="319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76520" y="2971800"/>
            <a:ext cx="333360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9B01-E3BD-4D0E-9D74-8ED8EA3D3854}" type="slidenum">
              <a:t>1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reatment of Assets in FM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, savings,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s and tru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estate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/farm equity (non-family farm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first 60% of equity up to $95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protection percentage after $95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A01E-1261-43A1-81E1-316F2F7047AE}" type="slidenum">
              <a:t>1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81480" y="5105520"/>
            <a:ext cx="3429000" cy="1574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543800" y="3200400"/>
            <a:ext cx="988920" cy="2305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reatment of Assets in FM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, savings,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Net worth of real estate and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djusted net worth of business/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Total Net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3581280"/>
            <a:ext cx="624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4F3A-2155-4EBD-B2A5-1BA0B8536FF2}" type="slidenum">
              <a:t>1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reatment of Assets in FM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Net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ducation Savings and Asset Protection Allow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Discretionary Net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053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40360" y="3505320"/>
            <a:ext cx="2303640" cy="24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3782-9710-4807-A02D-5EDC470C57AA}" type="slidenum">
              <a:t>1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reatment of Assets in FM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Savings and Asset Protection Allow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assets for retirement and future educ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&gt; age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with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ed for marit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tection for dependent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7470-D382-44AA-B53D-E6003306CCB7}" type="slidenum">
              <a:t>1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52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819520"/>
            <a:ext cx="83818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How EFCs are Calcul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D190-7E22-4CD9-A494-A359795A71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reatment of Assets in FM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onary Net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12% (asset conversion 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Contribution from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04812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438280" y="4724280"/>
            <a:ext cx="4343400" cy="16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E466C-39C3-4F04-BFF3-A6CDEBE75FCE}" type="slidenum">
              <a:t>20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justed Available Incom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Available Income (+ / 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arents’ Contribution from Assets (+/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Total Adjusted Available Income (+ / 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304812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39DD-E553-4410-B81E-EF04BF5105C9}" type="slidenum">
              <a:t>21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etermining Parents’ Contribu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ncome increases, amount needed for basic household expenses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ionary incom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available fo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ed Available Income (AA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AAI contribution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Total Parents’ Contribution from A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548640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0025B-FAF7-447F-95EA-0D887FFFB90A}" type="slidenum">
              <a:t>22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etermining Parents’ Contribu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ntribution from AAI is divided evenly among all household members in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C from A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9-month P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in Colle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41972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562720" y="4343400"/>
            <a:ext cx="327636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1894-8EA3-4E44-A1D1-1E9394331251}" type="slidenum">
              <a:t>23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etermining Student’s Contribu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of student taxed + untaxed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ate and federal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$2330 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llowance for parents’ negative A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vailable income (A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50% assessment of 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tudent contribution from 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41008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19112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3D906-09B1-4288-B5E7-ADA20E71DAF4}" type="slidenum">
              <a:t>24</a:t>
            </a:fld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etermining Student’s Contribu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, savings,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Net worth of real estate and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djusted net worth of business/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Total Net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Student contribution from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5812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8006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683D-2A79-47C3-B733-2AAF00AEE766}" type="slidenum">
              <a:t>2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etermining EFC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Student’s Contribution from 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Student’s Contribution from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9 month E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5812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38880" y="3581280"/>
            <a:ext cx="1551240" cy="2287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1206360" cy="12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C9FA-4518-42E4-89CE-79E9C502D5CA}" type="slidenum">
              <a:t>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implified Formul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091040" cy="41148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 not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’ AGI or earnings from work &lt; $50,00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parents nor student required to file IRS form 1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7B73-6092-4B87-97A8-83615661A774}" type="slidenum">
              <a:t>2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utomatic Zero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C is automatically zero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’ AGI or income earned from work is $13,000 or l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parents nor student required to file IRS form 1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39477-97EE-4D7A-846D-DF6520E704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dependent Studen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Students without Dependents other than a sp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single and married independent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lify for auto zero E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qualify for simplified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(and spouse) AGI or earnings from work &lt; $50,00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(and spouse) not required to file IRS form 1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9AD8-A483-4570-A87E-EF734A2433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is EFC Determined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Federal Methodology (FM)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student with dependents other than a sp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3AF7-2C9C-4AF4-8BAB-DF0D4BE61122}" type="slidenum">
              <a:t>3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dependent Students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Students with Dependents other than a Sp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looks much like that of parents of dependent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C automatically zero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’s (and spouse’s) AGI or income earned from work is $13,000 or les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(and spouse) not required to file IRS form 1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EFBD-9D23-4570-B7D0-1B33DFDA1D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dependent Students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qualify for simplified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(and spouse) AGI or earnings from work &lt; $50,000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(and spouse) not required to file IRS form 1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bd07205_" descr=""/>
          <p:cNvPicPr/>
          <p:nvPr/>
        </p:nvPicPr>
        <p:blipFill>
          <a:blip r:embed="rId1"/>
          <a:stretch/>
        </p:blipFill>
        <p:spPr>
          <a:xfrm>
            <a:off x="609480" y="2189160"/>
            <a:ext cx="4091040" cy="339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B500-1220-4012-B7EA-F4F38EF44E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ech Slid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anna De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 206-615-25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  206-615-25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 marianna.deeken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276B-1584-4F20-B48C-0BD92B7089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ech Slid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g Mar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 215-656-64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  215-656-64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 gregory.martin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DE4D-1242-4C03-8EBD-37A5B22CA5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is EFC Determined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09104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distinct FM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8F42C-2685-4DCE-A370-D5305F5F098C}" type="slidenum">
              <a:t>4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ctors that affect EFC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in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in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ed and Untaxed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 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of the older pa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wage 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CFD7-71B3-4F47-B88F-A75C074D1F57}" type="slidenum">
              <a:t>5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0360" y="3124080"/>
            <a:ext cx="2303640" cy="2880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rinciples of Need Analysi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has primary responsibility to pay for educationa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and parents are expected to contribute to the extent they are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2777-14B8-404C-8639-3CB0441D5F31}" type="slidenum">
              <a:t>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rinciples of Need Analysi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should be accepted in its present financi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es should be evaluated in an equitable and consistent man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2895480" cy="204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9EDFE-5784-4998-A74C-98A1C1A97597}" type="slidenum">
              <a:t>7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ed Analysis Concep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-based funds are available to assist with educational costs that exceed the family’s ability to p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M assesses strength at the time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resources are devoted first to basic sub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DE74-6D98-4E19-8C4D-FF3B7F94B008}" type="slidenum">
              <a:t>8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ed Analysis Concep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09104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yond basic needs, families can exercise dis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M allowances protect family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education related discretion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2-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2AA4-9DBE-4F58-AE3C-1EB68F70F2B5}" type="slidenum">
              <a:t>9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EPMROJT1</cp:lastModifiedBy>
  <cp:lastPrinted>2002-09-20T18:59:28Z</cp:lastPrinted>
  <dcterms:modified xsi:type="dcterms:W3CDTF">2003-01-06T16:15:11Z</dcterms:modified>
  <cp:revision>2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