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6396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1D7120-6817-4315-9C7F-1C5D0FC57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A07F00-01E7-4C04-B14C-62B62F778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6396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018B-609D-464C-9D91-BFA484D9B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436A-9E11-4945-8C45-C46AEFB37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0048-1038-49F9-91B1-49D46FF5A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9867-47F1-408E-AA61-F0956C024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F6D6-F039-4021-A9C1-6A9EB05EA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81A7-7000-46A4-B2A5-20273F6AF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D620-B207-4EC4-89D3-BE9B712CB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4FB2-B602-44B9-8BDE-DC4E781EB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C3B3-4F7C-45D1-9F8B-6BE56C8F9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9D29-0F8F-4B33-8C1F-A41C469B6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0BA0-37BB-470D-A0C7-73F58A0D2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8E0C-92E9-4CB0-9EBD-41B5EAB7E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459C-EEF0-49D1-9F0F-A77EE11C5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DN $ Volume Growt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57480" y="1828800"/>
            <a:ext cx="318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 growth of 40% to a projected $5.3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latform has doubled processing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14400" y="1905120"/>
          <a:ext cx="426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426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AE34-5663-4D3D-8122-49BE0FDB84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mendous growth in 2002 and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. 85-90% of all borrowers are available via ELMNet 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Approx. 12 million borrow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Both new loans and serviced loa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retrieved real-time from the true master files – lenders and serv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 integrate data from multip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FELP and private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Inqui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F960-B8E7-467A-B877-E3FE45613A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ae0dc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M Class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  Loan application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ae0dc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ational Disbursement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 for both FFELP &amp; Private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ae0dc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-Bo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 Mailbox system for batch data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ae0dc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MNet (Inquiry Phase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Global loan status inqui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ae0dc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LMNet (Processing Phase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The integration of most of the above services through real-time or near real-time data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304920"/>
            <a:ext cx="635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Evolution of EL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2417-6E5E-4421-9BF8-D4447A115D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2590920"/>
            <a:ext cx="833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ch transaction proc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real-time transac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line real-time loan inqui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LMNet web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school’s student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d and on-dem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04920"/>
            <a:ext cx="6354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aximum flex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4B93-23B3-4ED4-8BBD-91A3CAA3CF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– Real-tim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7878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628560">
              <a:spcBef>
                <a:spcPts val="601"/>
              </a:spcBef>
              <a:buClr>
                <a:srgbClr val="823c86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M loan application data (“Application Send” trans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628560">
              <a:spcBef>
                <a:spcPts val="601"/>
              </a:spcBef>
              <a:buClr>
                <a:srgbClr val="823c86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to loan data, including hold and release (“Change Send” trans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628560">
              <a:spcBef>
                <a:spcPts val="601"/>
              </a:spcBef>
              <a:buClr>
                <a:srgbClr val="823c86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es to loan applications and changes (”Response” trans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628560">
              <a:spcBef>
                <a:spcPts val="601"/>
              </a:spcBef>
              <a:buClr>
                <a:srgbClr val="823c86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borrower/student loan inqui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628560">
              <a:spcBef>
                <a:spcPts val="700"/>
              </a:spcBef>
              <a:buClr>
                <a:srgbClr val="823c86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quiry respon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447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al-ti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defined as immediately transmitting loan transactions, data requests and responses includ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2190-F8AA-4A85-AEBE-3E4098984E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057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hieve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8 seco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ing windo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952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 seco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-- XML message moves from ELMNet to the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481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 seco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- ELMNet receives the transaction, evaluates the data, reviews the destination profile, builds the outbound XML message, and places it in the outbound messaging mail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RT Desig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00617-FA5D-4307-AAD2-84AB0AB3CC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3276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 seco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an data provider send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e message back to ELM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19112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 seco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MNet processes the respon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, updates the central EL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, and builds 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 outbound messag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orig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3716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4 seco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-  loan data provider receive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idates, evaluates the XM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, performs the reques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, and build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04920"/>
            <a:ext cx="5821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RT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0CE4-6AB6-4C23-9EA9-78740D0CA0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19320" y="4572000"/>
            <a:ext cx="1523880" cy="1219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M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438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4419720"/>
            <a:ext cx="144792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472428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742840" y="54864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676520" y="24379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152388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3505320"/>
            <a:ext cx="1219320" cy="380880"/>
          </a:xfrm>
          <a:prstGeom prst="wedgeRoundRectCallout">
            <a:avLst>
              <a:gd name="adj1" fmla="val -2736"/>
              <a:gd name="adj2" fmla="val 17416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3657600"/>
            <a:ext cx="914400" cy="533520"/>
          </a:xfrm>
          <a:prstGeom prst="wedgeRoundRectCallout">
            <a:avLst>
              <a:gd name="adj1" fmla="val -43518"/>
              <a:gd name="adj2" fmla="val 155652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5791320"/>
            <a:ext cx="914400" cy="533160"/>
          </a:xfrm>
          <a:prstGeom prst="wedgeRoundRectCallout">
            <a:avLst>
              <a:gd name="adj1" fmla="val -64583"/>
              <a:gd name="adj2" fmla="val -10327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914400"/>
            <a:ext cx="317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M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-time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962520"/>
            <a:ext cx="914400" cy="533160"/>
          </a:xfrm>
          <a:prstGeom prst="wedgeRoundRectCallout">
            <a:avLst>
              <a:gd name="adj1" fmla="val -54166"/>
              <a:gd name="adj2" fmla="val 7351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943600"/>
            <a:ext cx="914400" cy="533520"/>
          </a:xfrm>
          <a:prstGeom prst="wedgeRoundRectCallout">
            <a:avLst>
              <a:gd name="adj1" fmla="val 100000"/>
              <a:gd name="adj2" fmla="val -72916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6E59-A9AD-48A9-B990-7C180010B0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&amp; SIS/FAM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0784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mless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must be on school service to schoo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MNet should be “invisible”; service comes from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MNet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n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can be batch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4BB8-1F37-4FC3-B9B3-E5F875E900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&amp; SIS/FAM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905120"/>
            <a:ext cx="833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MNet supports CL95, CL4, CL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MNet supports school proprietary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MNet will support Common Record for FF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M is working with both vendors and individual sch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MNet lets schools and vendors come up at their own development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4D61-588A-4443-91A0-D5A9352D4A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5400" spc="-1" strike="noStrike">
                <a:solidFill>
                  <a:srgbClr val="713474"/>
                </a:solidFill>
                <a:latin typeface="Arial"/>
              </a:rPr>
              <a:t>ELM  RESOURCES</a:t>
            </a:r>
            <a:endParaRPr b="1" i="1" lang="en-US" sz="5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68F4-2D90-4377-9544-A3DDDEE275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362320" y="457200"/>
            <a:ext cx="658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– Value to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905120"/>
            <a:ext cx="8335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loser to need – “Just in time”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r processing results in fewer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d customer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savings for sch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 minute changes handled real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s timely availability of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17CC-2EDE-493A-8104-7E1F5474AF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36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to real-time total repayment data for exit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ility to send FFELP and private loans in a singl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ility to select business partners based upon products, price, and service – not technical data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ility re-examine internal processes and flows due to improved external partner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457200"/>
            <a:ext cx="658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– Value to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3B65-AB0E-4227-BD7A-8A762E3C2E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62320" y="457200"/>
            <a:ext cx="658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Reports for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286000"/>
            <a:ext cx="8335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ly scheduled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Demand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Hoc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 – Reports from database of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9806-ABC3-4EDA-9C64-FC428F5C4D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 Resources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One School’s Perspectiv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3AD8-A074-4656-9B4F-7D21FEFEB2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University of Mississippi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E61E-6945-4EDF-AB1A-9EE3E8DB7D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7040" y="8377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University of Mississippi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22860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year Public Comprehensiv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Cam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,000 Students on the Oxford Camp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0,500 U/Gs &amp; 2,500 Grads/Pro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000 on Satellite Cam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80,000,000 in Financi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5,000,000 in FF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 2,500,000 in Alternative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0C40-3285-4C0C-A2C8-A8D760684B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228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Lender Partn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33720" y="1371600"/>
            <a:ext cx="3124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corp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lie M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ti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s Far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H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zos H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1371600"/>
            <a:ext cx="2514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88725-0503-4BB6-A4DB-67AA2EF744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efore ELM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8840" indent="-64440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zK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8840" indent="-64440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ac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8840" indent="-64440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8840" indent="-64440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ght Destinations for Loa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8840" indent="-64440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 Inbound EF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8840" indent="-64440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3 L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0B3F-ED69-4C8E-B822-3E33FF2D63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istory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3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—November/December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Live” ELM—January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Live” NDN—May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S Certifications—July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Certifications—January, 20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9D55-F2B5-477D-91DD-862EDEF317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enefi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3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—Technology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Source—In and Out (Consolidated Disbursements and Auto De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/7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ders/Servicers/Guarantors compete on basis of products and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B8ABD-CB87-4DE3-B38B-25EFA5FCAC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6854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ELM Resources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286000"/>
            <a:ext cx="8335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Benefit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venture, open to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ance of lenders, guarantors, and servi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-for-Profit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oint of Data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Services to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9F4F-9449-4CDE-ABDC-BF33809B9B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utur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Time” Inquiry an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 In Time” Model for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der partners focus on innovative  products and services rather than on creating and suppor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to act as an “Invisible Uti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D7D8-DB34-4F95-91EE-1E4B233AC4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/Com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. Dewey K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ant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Financi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versity of Mississi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7 Martindale Student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ty, MS 386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ne:  662-915-1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X:      662-915-11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dknight@olemiss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13AC-577A-475E-AC56-7C821F844D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1981080"/>
            <a:ext cx="635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10f6b"/>
                </a:solidFill>
                <a:uFillTx/>
                <a:latin typeface="Arial"/>
              </a:rPr>
              <a:t>Current Real-Time Le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304812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3124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ti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39625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id/Wacho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4876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s F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D8CC6-6798-4729-925F-89C634E561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can I be setup for real-time processing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the lenders who are processing real-time transactions with E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your ELM Client Services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your ELM Sales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the ELM Help Desk – 888-633-3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5E5D-D75A-4854-8745-617DC853E4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o I have to change my loan process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ly real time transaction processing is only available via the ELM website.  ELM is currently meeting and working with SIS vendors on a seamless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505320"/>
            <a:ext cx="9144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chool would not have to change how they use the ELM website.  A profile within the ELMNet system will be set up with an effective date to send all transactions done via the website to the RT lender in a real-time XML message.  Responses would come back to ELM in the same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A81D-F5D2-45E6-846D-A41E4B6597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will I see……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12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will see that the statuses on your students’ loans update much faster.  This can result in a faster delivery of loan fu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the transmission tab, you will see a message labeled “S00319300_RT_20020819_121146”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003193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code; RT = Re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081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created on 8/19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114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created at 12:11:46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intenance history, you will see a message labeled “L830005_RT020819121204”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8305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d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08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received on 8/19/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12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received at 12:12:04 pm (total of 1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s)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0503-8F8F-4CC9-98CF-472869D2D6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oan processing infrastructure in place  -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loan processing in production -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access to remote loan originations systems i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mm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access to remote systems for ELMNet reports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mm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/FAMS/Schools real-time interfaces -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Common Record for FFELP -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hen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Net Going Forward..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1B22-9296-47E6-A9DC-E0FB891659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anks for your interest!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4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lando Confer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wey Knight, University of Mississi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 Connor, ELM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s Vegas Confer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bara Hall-Bellows, University of Nevada –R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da King, ELM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0A7A-DF30-467D-8C62-86E8ED73DE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410f6b"/>
                </a:solidFill>
                <a:latin typeface="Arial"/>
              </a:rPr>
              <a:t>Promote an Open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Benefits: Control and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ver the loa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providers based upon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minate competition on data exchange to preserve competition on service, price and product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304920"/>
            <a:ext cx="6354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ELM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DC33-101D-4AFA-A6CB-4B3C14699A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M routes data; Members serve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r neutral and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icity of data exchange/access in a broad-based FFELP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app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y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609480"/>
            <a:ext cx="6354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ELM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4B52-B58D-41C0-BD0B-D25C32557B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304920"/>
            <a:ext cx="635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efore ELM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2514600"/>
            <a:ext cx="1143000" cy="3583800"/>
            <a:chOff x="533520" y="2514600"/>
            <a:chExt cx="1143000" cy="3583800"/>
          </a:xfrm>
        </p:grpSpPr>
        <p:sp>
          <p:nvSpPr>
            <p:cNvPr id="101" name=""/>
            <p:cNvSpPr/>
            <p:nvPr/>
          </p:nvSpPr>
          <p:spPr>
            <a:xfrm>
              <a:off x="533520" y="251460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520" y="329580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20" y="40766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563868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520" y="4857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81080" y="2133720"/>
            <a:ext cx="3200400" cy="4361040"/>
            <a:chOff x="1981080" y="2133720"/>
            <a:chExt cx="3200400" cy="4361040"/>
          </a:xfrm>
        </p:grpSpPr>
        <p:sp>
          <p:nvSpPr>
            <p:cNvPr id="107" name=""/>
            <p:cNvSpPr/>
            <p:nvPr/>
          </p:nvSpPr>
          <p:spPr>
            <a:xfrm>
              <a:off x="1981080" y="2133720"/>
              <a:ext cx="1447560" cy="398880"/>
            </a:xfrm>
            <a:prstGeom prst="rect">
              <a:avLst/>
            </a:prstGeom>
            <a:solidFill>
              <a:srgbClr val="efa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Guara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81080" y="6095880"/>
              <a:ext cx="1447560" cy="398880"/>
            </a:xfrm>
            <a:prstGeom prst="rect">
              <a:avLst/>
            </a:prstGeom>
            <a:solidFill>
              <a:srgbClr val="efa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10c7f"/>
                  </a:solidFill>
                  <a:latin typeface="Times New Roman"/>
                </a:rPr>
                <a:t>Guara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240" y="2133720"/>
              <a:ext cx="1447920" cy="398880"/>
            </a:xfrm>
            <a:prstGeom prst="rect">
              <a:avLst/>
            </a:prstGeom>
            <a:solidFill>
              <a:srgbClr val="efa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10c7f"/>
                  </a:solidFill>
                  <a:latin typeface="Times New Roman"/>
                </a:rPr>
                <a:t>Guara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33560" y="6095880"/>
              <a:ext cx="1447920" cy="398880"/>
            </a:xfrm>
            <a:prstGeom prst="rect">
              <a:avLst/>
            </a:prstGeom>
            <a:solidFill>
              <a:srgbClr val="efa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10c7f"/>
                  </a:solidFill>
                  <a:latin typeface="Times New Roman"/>
                </a:rPr>
                <a:t>Guara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162920" y="2438280"/>
            <a:ext cx="1295280" cy="3581640"/>
            <a:chOff x="7162920" y="2438280"/>
            <a:chExt cx="1295280" cy="3581640"/>
          </a:xfrm>
        </p:grpSpPr>
        <p:sp>
          <p:nvSpPr>
            <p:cNvPr id="112" name=""/>
            <p:cNvSpPr/>
            <p:nvPr/>
          </p:nvSpPr>
          <p:spPr>
            <a:xfrm>
              <a:off x="7391520" y="3886200"/>
              <a:ext cx="1066680" cy="459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549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62920" y="478152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62920" y="556272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243828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676160" y="2590560"/>
            <a:ext cx="5715360" cy="3429360"/>
            <a:chOff x="1676160" y="2590560"/>
            <a:chExt cx="5715360" cy="3429360"/>
          </a:xfrm>
        </p:grpSpPr>
        <p:sp>
          <p:nvSpPr>
            <p:cNvPr id="117" name=""/>
            <p:cNvSpPr/>
            <p:nvPr/>
          </p:nvSpPr>
          <p:spPr>
            <a:xfrm flipH="1" flipV="1">
              <a:off x="4266720" y="2590560"/>
              <a:ext cx="3124440" cy="14475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590560" y="2590560"/>
              <a:ext cx="4800600" cy="144756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1676160" y="3581280"/>
              <a:ext cx="5715000" cy="4572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76160" y="4038480"/>
              <a:ext cx="5638680" cy="2286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676160" y="4038480"/>
              <a:ext cx="5715000" cy="182880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743200" y="4038480"/>
              <a:ext cx="4648320" cy="19814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266720" y="4038480"/>
              <a:ext cx="3048120" cy="19814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676160" y="4038480"/>
              <a:ext cx="5638680" cy="1067040"/>
            </a:xfrm>
            <a:prstGeom prst="line">
              <a:avLst/>
            </a:prstGeom>
            <a:ln w="12600">
              <a:solidFill>
                <a:srgbClr val="99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48120" y="3733920"/>
            <a:ext cx="2819160" cy="825480"/>
          </a:xfrm>
          <a:prstGeom prst="rect">
            <a:avLst/>
          </a:prstGeom>
          <a:solidFill>
            <a:srgbClr val="6666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sted Infrastructur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31D0-F982-4AB8-8D66-A3CD4DC55C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0" y="304920"/>
            <a:ext cx="6324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ith ELM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11520" y="4055760"/>
            <a:ext cx="2864160" cy="576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2133720"/>
            <a:ext cx="8229600" cy="4361400"/>
            <a:chOff x="533520" y="2133720"/>
            <a:chExt cx="8229600" cy="4361400"/>
          </a:xfrm>
        </p:grpSpPr>
        <p:sp>
          <p:nvSpPr>
            <p:cNvPr id="129" name=""/>
            <p:cNvSpPr/>
            <p:nvPr/>
          </p:nvSpPr>
          <p:spPr>
            <a:xfrm>
              <a:off x="533520" y="251460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520" y="329580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2133720"/>
              <a:ext cx="14475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uara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520" y="407700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5120" y="6096240"/>
              <a:ext cx="14475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uara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080" y="4077000"/>
              <a:ext cx="1067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56390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520" y="4857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2133720"/>
              <a:ext cx="14479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uara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6096240"/>
              <a:ext cx="14479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uaran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676520" y="2590920"/>
            <a:ext cx="6019560" cy="3504960"/>
            <a:chOff x="1676520" y="2590920"/>
            <a:chExt cx="6019560" cy="3504960"/>
          </a:xfrm>
        </p:grpSpPr>
        <p:cxnSp>
          <p:nvCxnSpPr>
            <p:cNvPr id="140" name=""/>
            <p:cNvCxnSpPr/>
            <p:nvPr/>
          </p:nvCxnSpPr>
          <p:spPr>
            <a:xfrm>
              <a:off x="4305240" y="2590920"/>
              <a:ext cx="115200" cy="171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41" name=""/>
            <p:cNvCxnSpPr/>
            <p:nvPr/>
          </p:nvCxnSpPr>
          <p:spPr>
            <a:xfrm flipV="1">
              <a:off x="2629080" y="4304880"/>
              <a:ext cx="1791360" cy="179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42" name=""/>
            <p:cNvCxnSpPr/>
            <p:nvPr/>
          </p:nvCxnSpPr>
          <p:spPr>
            <a:xfrm flipV="1">
              <a:off x="4381560" y="4304880"/>
              <a:ext cx="38880" cy="179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43" name=""/>
            <p:cNvCxnSpPr/>
            <p:nvPr/>
          </p:nvCxnSpPr>
          <p:spPr>
            <a:xfrm>
              <a:off x="1676520" y="2742840"/>
              <a:ext cx="2743920" cy="1562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44" name=""/>
            <p:cNvCxnSpPr/>
            <p:nvPr/>
          </p:nvCxnSpPr>
          <p:spPr>
            <a:xfrm>
              <a:off x="1676520" y="3524040"/>
              <a:ext cx="2743920" cy="78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45" name=""/>
            <p:cNvCxnSpPr/>
            <p:nvPr/>
          </p:nvCxnSpPr>
          <p:spPr>
            <a:xfrm>
              <a:off x="1676520" y="4304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46" name=""/>
            <p:cNvCxnSpPr/>
            <p:nvPr/>
          </p:nvCxnSpPr>
          <p:spPr>
            <a:xfrm flipV="1">
              <a:off x="1676520" y="4304880"/>
              <a:ext cx="2743920" cy="781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47" name=""/>
            <p:cNvCxnSpPr/>
            <p:nvPr/>
          </p:nvCxnSpPr>
          <p:spPr>
            <a:xfrm flipV="1">
              <a:off x="1676520" y="4304520"/>
              <a:ext cx="2743920" cy="1562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48" name=""/>
            <p:cNvCxnSpPr/>
            <p:nvPr/>
          </p:nvCxnSpPr>
          <p:spPr>
            <a:xfrm>
              <a:off x="2629080" y="2590920"/>
              <a:ext cx="1791360" cy="171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49" name=""/>
            <p:cNvCxnSpPr/>
            <p:nvPr/>
          </p:nvCxnSpPr>
          <p:spPr>
            <a:xfrm flipH="1">
              <a:off x="7391160" y="4304880"/>
              <a:ext cx="305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150" name=""/>
          <p:cNvSpPr/>
          <p:nvPr/>
        </p:nvSpPr>
        <p:spPr>
          <a:xfrm>
            <a:off x="5334120" y="2666880"/>
            <a:ext cx="1981080" cy="838440"/>
          </a:xfrm>
          <a:prstGeom prst="wedgeRectCallout">
            <a:avLst>
              <a:gd name="adj1" fmla="val -59134"/>
              <a:gd name="adj2" fmla="val 114203"/>
            </a:avLst>
          </a:prstGeom>
          <a:solidFill>
            <a:srgbClr val="efa9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334120"/>
            <a:ext cx="2057400" cy="838080"/>
          </a:xfrm>
          <a:prstGeom prst="wedgeRectCallout">
            <a:avLst>
              <a:gd name="adj1" fmla="val -55171"/>
              <a:gd name="adj2" fmla="val -136930"/>
            </a:avLst>
          </a:prstGeom>
          <a:solidFill>
            <a:srgbClr val="efa9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FB52-B63F-493C-B52C-9F73A1ADA3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retains choice in loan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in loa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raffic in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or no programming or system change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ropri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competition with a standardize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04920"/>
            <a:ext cx="6324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The ELM Advanta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61DE-C042-4509-B8A0-1BF423221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LM Application Volum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5311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531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03720" y="1828800"/>
            <a:ext cx="294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% growth projected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4 FFEL apps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 -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E582-4B31-4505-BED7-744407FDF0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EPMROJT1</cp:lastModifiedBy>
  <cp:lastPrinted>2002-09-20T18:59:28Z</cp:lastPrinted>
  <dcterms:modified xsi:type="dcterms:W3CDTF">2003-01-06T16:53:53Z</dcterms:modified>
  <cp:revision>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