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4FC5B-FA18-4BBC-8352-BA193CEB78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9087F-3741-48CB-92B0-AD80C0FFC2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04363-65D0-4FD2-B639-2F1B6C3614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C7972-706A-421A-B28B-9FD1C074ED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99BEF-1A1D-4E67-A2C8-0C09DB3FA4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78AE7-D6EF-486F-BE29-20F8C30AA6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10C29-C157-4964-B1A2-9F9B71C81B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15E79-382B-4070-82D4-06D998AFAA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5A11D-6307-41AB-8B2E-304889E4AC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DC7D4-05A2-4A79-BA60-3942FD2770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4A9C0-0CC1-4D79-AD6D-657BEBCF6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B5147-9CBD-4230-97F7-89E8DE62A3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7FA5-1643-4BF0-894E-D5C53EBDF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explained Side of Resources: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paid Tuition Plans, Tuition Savings Plans, Scholarships, Fellowships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Assistantshi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n Madze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ffice of Postsecondary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thony J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ffice of Student Financial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705720" y="5141880"/>
          <a:ext cx="198108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5141880"/>
                    <a:ext cx="198108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Real 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x Credit Beneficiaries Are “Held Harmless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deral Need Analysis Excludes Amount(s) From the Calculation of “Total Income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orted on 2001-2002 FAFSA “Worksheet C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unt(s) Not Included as “Untaxed Income and Benefits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luded as a Resource/Estimated Financial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858000" y="5181480"/>
          <a:ext cx="198108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5181480"/>
                    <a:ext cx="1981080" cy="14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087A6-4E50-40B9-8422-61EFACF84D86}" type="slidenum">
              <a:t>10</a:t>
            </a:fld>
          </a:p>
        </p:txBody>
      </p:sp>
    </p:spTree>
  </p:cSld>
  <p:transition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Real Lif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ont’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: Income or Other Financial Assista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-based 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 need-based 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ducational benefit that is contingent upon enroll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llowships and assistant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larships with work/service compo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0" y="5181480"/>
          <a:ext cx="198108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5181480"/>
                    <a:ext cx="1981080" cy="14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ED264-7EF7-4973-A8DF-24EF3BA33E15}" type="slidenum">
              <a:t>11</a:t>
            </a:fld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Other Tax-Related Issues in 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Need 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-2 Rep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x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x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th IRA Conver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0" y="5181480"/>
          <a:ext cx="198108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5181480"/>
                    <a:ext cx="1981080" cy="14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88218-9465-409F-ACCF-770D3BF96C70}" type="slidenum">
              <a:t>12</a:t>
            </a:fld>
          </a:p>
        </p:txBody>
      </p:sp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In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conomic Growth and Tax Relief Reconciliation Act of 20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www.house.gov/rules/1836_sum.pd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5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 Revenue Servic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structions for Forms W-2 and W-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www.irs.gov/forms_pubs/form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5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S Publication 590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dividual Retirement Arrangements (IRA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www.irs.gov/forms_pubs/pub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0" y="5181480"/>
          <a:ext cx="198108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5181480"/>
                    <a:ext cx="1981080" cy="14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D4376-F53A-498F-B57B-15C06024742A}" type="slidenum">
              <a:t>13</a:t>
            </a:fld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utory Defini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justed Gross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axed income and benef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Financial As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nings from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 Revenu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858000" y="5065560"/>
          <a:ext cx="198108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5065560"/>
                    <a:ext cx="1981080" cy="14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7E2D7-33BD-4ADF-969B-7A2D982B79A3}" type="slidenum">
              <a:t>2</a:t>
            </a:fld>
          </a:p>
        </p:txBody>
      </p:sp>
    </p:spTree>
  </p:cSld>
  <p:transition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efore TRA 199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Qualified Scholarship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Exclusion for Series EE US Savings Bonds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Deduction for Education Expens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Income Exclusion for Employer-provided Assistanc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tudent Loan Forgivenes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Qualified State Tuition Program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0" y="5065560"/>
          <a:ext cx="198108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5065560"/>
                    <a:ext cx="1981080" cy="14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1FBAD-99A5-433D-B720-3FAFF96711E6}" type="slidenum">
              <a:t>3</a:t>
            </a:fld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olicy Develop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PE Scholarshi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$1,500 Refundable Tax Cred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rolled at Least Half-tim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rst Two Years of Colle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ain Drug-fre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intain a “B” Aver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x Dedu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rst $5,000 of Expenses ($10,000 in 200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y Postsecondary Education or Trai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781680" y="5105520"/>
          <a:ext cx="198144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105520"/>
                    <a:ext cx="198144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34E78-67CC-4ED7-9F28-E01209BCDDD5}" type="slidenum">
              <a:t>4</a:t>
            </a:fld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olicy Development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371600" y="1981080"/>
          <a:ext cx="6553080" cy="34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81080"/>
                    <a:ext cx="6553080" cy="34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7467480" y="5638680"/>
          <a:ext cx="1447920" cy="103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5638680"/>
                    <a:ext cx="144792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EE867-D7D5-4457-85EB-C0ED291D6207}" type="slidenum">
              <a:t>5</a:t>
            </a:fld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olicy Development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PE Tax Credi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,500 Tax Credit for Educational Expenses (100% of First $1,000, 50% of Second $1,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ifetime Learning Tax Cred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% of the First $5,000 ($10,000 in 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ederal Pell Gra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Maximum Award by 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and Eligibility for Independent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art F Need Analys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7010280" y="5218200"/>
          <a:ext cx="198144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5218200"/>
                    <a:ext cx="198144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96BD1-F68D-43AE-A0A2-60D55547522D}" type="slidenum">
              <a:t>6</a:t>
            </a:fld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conomic Growth and Tax Relief Reconciliation Act of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4" marL="199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eduction for Educational Expen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ove the lin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me limi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nual maximum -- $3,000/$4,000/$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tudent Loan Interest Dedu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iminates 60-month 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income phase-ou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interest pa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mployer-Provided Educational Assist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duate/professional edu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manent excl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010280" y="5294160"/>
          <a:ext cx="198144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5294160"/>
                    <a:ext cx="1981440" cy="14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C91C0-7EC7-4143-A682-12501FC1A246}" type="slidenum">
              <a:t>7</a:t>
            </a:fld>
          </a:p>
        </p:txBody>
      </p: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conomic Growth and Tax Relief Reconciliation Act of 200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PE/Lifetime Learning Tax Cre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inate with other tax benef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ucation IR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,000 annual contribution 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ibutions from employers/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-12 educational expe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income phase-o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inate other savings plans benef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010280" y="5218200"/>
          <a:ext cx="198144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5218200"/>
                    <a:ext cx="198144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1EE71-EFF9-4CC0-B51F-7FD05345C900}" type="slidenum">
              <a:t>8</a:t>
            </a:fld>
          </a:p>
        </p:txBody>
      </p:sp>
    </p:spTree>
  </p:cSld>
  <p:transition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conomic Growth and Tax Relief Reconciliation Act of 200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ont’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fied Tuition Programs – Section 52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x-fre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-paid plans developed by educational instit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anded eligible expen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flex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tible with HOPE/Lifetime Learning tax credi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7010280" y="5257800"/>
          <a:ext cx="198144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5257800"/>
                    <a:ext cx="198144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0F0B3-1612-4204-B9DF-778322879CB4}" type="slidenum">
              <a:t>9</a:t>
            </a:fld>
          </a:p>
        </p:txBody>
      </p:sp>
    </p:spTree>
  </p:cSld>
  <p:transition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3T19:23:56Z</dcterms:created>
  <dc:creator>ENLROMAN</dc:creator>
  <dc:description/>
  <dc:language>en-US</dc:language>
  <cp:lastModifiedBy>Anthony P. Jones</cp:lastModifiedBy>
  <cp:lastPrinted>2001-07-17T19:09:58Z</cp:lastPrinted>
  <dcterms:modified xsi:type="dcterms:W3CDTF">2001-07-30T15:46:16Z</dcterms:modified>
  <cp:revision>40</cp:revision>
  <dc:subject/>
  <dc:title>Unexplained side of the FASFA Credits, Inclusions and Exclusions</dc:title>
</cp:coreProperties>
</file>