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3940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E23A41-6068-461F-A4ED-D830FA4A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71240" y="4361040"/>
            <a:ext cx="5978520" cy="45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ptual models still being explo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ity between DL, Perkins and FF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or client invest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transaction costs for each look-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cu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 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ke a 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 SFA PIN use 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o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a level playing field between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source program authentication development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s flexible processes from all lenders in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ome functional by 6/30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sfablueprint.ed.gov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" name="doeseal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Georgia"/>
              </a:rPr>
              <a:t>Update on SFA’s Modernization Project</a:t>
            </a:r>
            <a:br>
              <a:rPr sz="4400"/>
            </a:br>
            <a:br>
              <a:rPr sz="20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teve Hawald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hief Information Office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tudent Financial Assistance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U.S. Department of Edu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5562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We Help Put America Through School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Verdana"/>
              </a:rPr>
              <a:t>August 9, 200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FA Enterprise Portal Strateg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urpose:</a:t>
            </a:r>
            <a:r>
              <a:rPr b="0" lang="en-US" sz="3200" spc="-1" strike="noStrike">
                <a:solidFill>
                  <a:srgbClr val="d2e4e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nd adopt a comprehensive strategy for portal and web development to avoid stove pipe web products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hase I  (Completed March 0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reated SFA Enterprise Portal Visio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mmended that SFA leverage existing infrastructure components to build a ‘standard’ foundation. 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(IBM WebSphere Application Server, Autonomy, and Interwoven, etc.)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2e4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e4e0"/>
                </a:solidFill>
                <a:latin typeface="Times New Roman"/>
              </a:rPr>
              <a:t>Phase II (Target completion Oct 01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 an enterprise repository of portal components, known as ‘portlets’, that will be tested with the  existing Schools Porta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egrate ‘portlets’ into CIO’s Reusable Common Services (RCS) repository so that other SFA business units can use them as future portal views are developed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tegrated Technical Architecture Rel2: Core Capabil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services, support, and engineering to maintain and enhance the Internet, EAI and Security architectures in ITA Release 2.0. It includes: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ongoing technical and functional support of the Integrated Technical Architecture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technical architecture detailed design of additional ITA services required to support post-Release 1 functionality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Provide post-Release 1 implementation analysis and review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Design, build, and test incremental component and ITA services integration with ITA Release 1, including security improvements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Support ITA infrastructure upgrades, including hardware and software product evaluation of new versions, patches, and upgrades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52440" indent="-352440">
              <a:spcBef>
                <a:spcPts val="575"/>
              </a:spcBef>
              <a:buClr>
                <a:srgbClr val="000082"/>
              </a:buClr>
              <a:buFont typeface="Times New Roman"/>
              <a:buChar char="•"/>
              <a:tabLst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2300" spc="-1" strike="noStrike">
                <a:solidFill>
                  <a:srgbClr val="000082"/>
                </a:solidFill>
                <a:latin typeface="Times New Roman"/>
              </a:rPr>
              <a:t>Define and enhance the development and test environments to support application development and testing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orking for Yo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809880"/>
            <a:ext cx="7705800" cy="457200"/>
          </a:xfrm>
          <a:prstGeom prst="rect">
            <a:avLst/>
          </a:prstGeom>
          <a:solidFill>
            <a:srgbClr val="d2e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EXTRANET.SFA.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600200"/>
            <a:ext cx="7705800" cy="457200"/>
          </a:xfrm>
          <a:prstGeom prst="rect">
            <a:avLst/>
          </a:prstGeom>
          <a:solidFill>
            <a:srgbClr val="d2e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SFADOWNLOAD.ED.GOV/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1320" y="2362320"/>
            <a:ext cx="58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tudent Financial Assistan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tudent Aid Internet Gateway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4572000"/>
            <a:ext cx="7162560" cy="1447200"/>
            <a:chOff x="1143000" y="4572000"/>
            <a:chExt cx="7162560" cy="1447200"/>
          </a:xfrm>
        </p:grpSpPr>
        <p:sp>
          <p:nvSpPr>
            <p:cNvPr id="112" name=""/>
            <p:cNvSpPr/>
            <p:nvPr/>
          </p:nvSpPr>
          <p:spPr>
            <a:xfrm>
              <a:off x="1143000" y="4572000"/>
              <a:ext cx="716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572000"/>
              <a:ext cx="716256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Access to Review Strategic Plans and Initiatives Currently in Progres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You Can Help Us…Now!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44400"/>
            <a:ext cx="8229600" cy="400932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2"/>
                </a:solidFill>
                <a:latin typeface="Verdana"/>
              </a:rPr>
              <a:t>TIV / WAN – Student Aid Internet Gatewa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379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82"/>
                </a:solidFill>
                <a:latin typeface="Tahoma"/>
              </a:rPr>
              <a:t>We Need Your Help Migrating From Modems and T1 Lines to the Internet As Well As Updating Procedures to Help Improve Service and Reduce Costs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5410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Be an Early Adop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act Keith Wi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ith.Wilson@ed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On Tap for Toda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CPS Application Update / ISIR Layou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TIV / WAN – Student Account Internet Gatewa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Direct Loan Tech Spec Upda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Direct Loan Tool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Quality Assuran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E-FISAP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IFAP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RF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NSLD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-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2361960"/>
            <a:ext cx="5562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Conveni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aves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ec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e4e0"/>
                </a:solidFill>
                <a:latin typeface="Tahoma"/>
              </a:rPr>
              <a:t>Saves Mone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075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ccessfully Partnered With FFELP Industry Partners, Implemented Master Promissory Note E-filing —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on Time, under Budge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emented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uly 2, 200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IN Authentication for eMP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5" idx="3"/>
          </p:cNvCxnSpPr>
          <p:nvPr/>
        </p:nvCxnSpPr>
        <p:spPr>
          <a:xfrm>
            <a:off x="5219640" y="3047760"/>
            <a:ext cx="1334160" cy="1080"/>
          </a:xfrm>
          <a:prstGeom prst="straightConnector1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981080" y="342900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FF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449568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Perk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286000"/>
            <a:ext cx="914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D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733920"/>
            <a:ext cx="838440" cy="38088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876920"/>
            <a:ext cx="838440" cy="38088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838440" cy="381240"/>
          </a:xfrm>
          <a:prstGeom prst="can">
            <a:avLst>
              <a:gd name="adj" fmla="val 25000"/>
            </a:avLst>
          </a:prstGeom>
          <a:solidFill>
            <a:srgbClr val="d2e4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2"/>
                </a:solidFill>
                <a:latin typeface="Times New Roman"/>
              </a:rPr>
              <a:t>Dig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0" idx="4"/>
            <a:endCxn id="57" idx="1"/>
          </p:cNvCxnSpPr>
          <p:nvPr/>
        </p:nvCxnSpPr>
        <p:spPr>
          <a:xfrm flipV="1">
            <a:off x="1904760" y="483804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3" name=""/>
          <p:cNvCxnSpPr>
            <a:stCxn id="59" idx="4"/>
            <a:endCxn id="56" idx="1"/>
          </p:cNvCxnSpPr>
          <p:nvPr/>
        </p:nvCxnSpPr>
        <p:spPr>
          <a:xfrm flipV="1">
            <a:off x="1904760" y="3771360"/>
            <a:ext cx="766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64" name=""/>
          <p:cNvCxnSpPr>
            <a:stCxn id="61" idx="4"/>
            <a:endCxn id="58" idx="1"/>
          </p:cNvCxnSpPr>
          <p:nvPr/>
        </p:nvCxnSpPr>
        <p:spPr>
          <a:xfrm flipV="1">
            <a:off x="1904760" y="262836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65" name=""/>
          <p:cNvGrpSpPr/>
          <p:nvPr/>
        </p:nvGrpSpPr>
        <p:grpSpPr>
          <a:xfrm>
            <a:off x="2895480" y="2629080"/>
            <a:ext cx="1410120" cy="2209680"/>
            <a:chOff x="2895480" y="2629080"/>
            <a:chExt cx="1410120" cy="2209680"/>
          </a:xfrm>
        </p:grpSpPr>
        <p:cxnSp>
          <p:nvCxnSpPr>
            <p:cNvPr id="66" name=""/>
            <p:cNvCxnSpPr>
              <a:stCxn id="58" idx="3"/>
              <a:endCxn id="55" idx="1"/>
            </p:cNvCxnSpPr>
            <p:nvPr/>
          </p:nvCxnSpPr>
          <p:spPr>
            <a:xfrm>
              <a:off x="2895480" y="2629080"/>
              <a:ext cx="1410480" cy="41976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56" idx="3"/>
              <a:endCxn id="55" idx="1"/>
            </p:cNvCxnSpPr>
            <p:nvPr/>
          </p:nvCxnSpPr>
          <p:spPr>
            <a:xfrm flipV="1">
              <a:off x="2895480" y="3047400"/>
              <a:ext cx="1410480" cy="72468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7" idx="3"/>
              <a:endCxn id="55" idx="1"/>
            </p:cNvCxnSpPr>
            <p:nvPr/>
          </p:nvCxnSpPr>
          <p:spPr>
            <a:xfrm flipV="1">
              <a:off x="2895480" y="3047760"/>
              <a:ext cx="1410480" cy="1791360"/>
            </a:xfrm>
            <a:prstGeom prst="straightConnector1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3429000" y="1981080"/>
            <a:ext cx="5639040" cy="3810240"/>
            <a:chOff x="3429000" y="1981080"/>
            <a:chExt cx="5639040" cy="3810240"/>
          </a:xfrm>
        </p:grpSpPr>
        <p:grpSp>
          <p:nvGrpSpPr>
            <p:cNvPr id="70" name=""/>
            <p:cNvGrpSpPr/>
            <p:nvPr/>
          </p:nvGrpSpPr>
          <p:grpSpPr>
            <a:xfrm>
              <a:off x="3429000" y="1981080"/>
              <a:ext cx="2666880" cy="3810240"/>
              <a:chOff x="3429000" y="1981080"/>
              <a:chExt cx="2666880" cy="381024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3657600" y="2590920"/>
                <a:ext cx="2209680" cy="3200400"/>
                <a:chOff x="3657600" y="2590920"/>
                <a:chExt cx="2209680" cy="32004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305240" y="2590920"/>
                  <a:ext cx="914400" cy="914400"/>
                </a:xfrm>
                <a:prstGeom prst="rect">
                  <a:avLst/>
                </a:prstGeom>
                <a:solidFill>
                  <a:srgbClr val="e4b9b8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prieta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IN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657600" y="3962520"/>
                  <a:ext cx="2209680" cy="1828800"/>
                </a:xfrm>
                <a:prstGeom prst="can">
                  <a:avLst>
                    <a:gd name="adj" fmla="val 25000"/>
                  </a:avLst>
                </a:prstGeom>
                <a:solidFill>
                  <a:srgbClr val="e4b9b8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udit histor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ll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ustomer sup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a storage/acc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3" name=""/>
                <p:cNvCxnSpPr>
                  <a:stCxn id="55" idx="2"/>
                  <a:endCxn id="72" idx="1"/>
                </p:cNvCxnSpPr>
                <p:nvPr/>
              </p:nvCxnSpPr>
              <p:spPr>
                <a:xfrm>
                  <a:off x="4762080" y="3505320"/>
                  <a:ext cx="1080" cy="457920"/>
                </a:xfrm>
                <a:prstGeom prst="straightConnector1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</p:cxnSp>
          </p:grpSp>
          <p:sp>
            <p:nvSpPr>
              <p:cNvPr id="74" name=""/>
              <p:cNvSpPr/>
              <p:nvPr/>
            </p:nvSpPr>
            <p:spPr>
              <a:xfrm>
                <a:off x="6095880" y="1981080"/>
                <a:ext cx="0" cy="342900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29000" y="1981080"/>
                <a:ext cx="0" cy="3429000"/>
              </a:xfrm>
              <a:prstGeom prst="line">
                <a:avLst/>
              </a:prstGeom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553080" y="2006640"/>
              <a:ext cx="2514960" cy="3327480"/>
              <a:chOff x="6553080" y="2006640"/>
              <a:chExt cx="2514960" cy="3327480"/>
            </a:xfrm>
          </p:grpSpPr>
          <p:sp>
            <p:nvSpPr>
              <p:cNvPr id="77" name=""/>
              <p:cNvSpPr/>
              <p:nvPr/>
            </p:nvSpPr>
            <p:spPr>
              <a:xfrm>
                <a:off x="7115040" y="200664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D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2400" y="2590920"/>
                <a:ext cx="1066680" cy="91440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FA P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it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848720" y="3733920"/>
                <a:ext cx="914400" cy="38088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LO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8720" y="4191120"/>
                <a:ext cx="914400" cy="30456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848720" y="4572000"/>
                <a:ext cx="914400" cy="38088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NSLD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1"/>
                <a:endCxn id="83" idx="4"/>
              </p:cNvCxnSpPr>
              <p:nvPr/>
            </p:nvCxnSpPr>
            <p:spPr>
              <a:xfrm flipH="1">
                <a:off x="7543080" y="3047760"/>
                <a:ext cx="229320" cy="1080"/>
              </a:xfrm>
              <a:prstGeom prst="straightConnector1">
                <a:avLst/>
              </a:prstGeom>
              <a:ln w="9360">
                <a:solidFill>
                  <a:srgbClr val="ffffcc"/>
                </a:solidFill>
                <a:miter/>
              </a:ln>
            </p:spPr>
          </p:cxnSp>
          <p:sp>
            <p:nvSpPr>
              <p:cNvPr id="84" name=""/>
              <p:cNvSpPr/>
              <p:nvPr/>
            </p:nvSpPr>
            <p:spPr>
              <a:xfrm>
                <a:off x="7848720" y="5029200"/>
                <a:ext cx="914400" cy="304920"/>
              </a:xfrm>
              <a:prstGeom prst="rect">
                <a:avLst/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FAFS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79" idx="3"/>
                <a:endCxn id="78" idx="3"/>
              </p:cNvCxnSpPr>
              <p:nvPr/>
            </p:nvCxnSpPr>
            <p:spPr>
              <a:xfrm flipV="1">
                <a:off x="8762760" y="3047760"/>
                <a:ext cx="76680" cy="87696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6" name=""/>
              <p:cNvCxnSpPr>
                <a:stCxn id="80" idx="3"/>
                <a:endCxn id="78" idx="3"/>
              </p:cNvCxnSpPr>
              <p:nvPr/>
            </p:nvCxnSpPr>
            <p:spPr>
              <a:xfrm flipV="1">
                <a:off x="8762760" y="3047760"/>
                <a:ext cx="76680" cy="129600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7" name=""/>
              <p:cNvCxnSpPr>
                <a:stCxn id="81" idx="3"/>
                <a:endCxn id="78" idx="3"/>
              </p:cNvCxnSpPr>
              <p:nvPr/>
            </p:nvCxnSpPr>
            <p:spPr>
              <a:xfrm flipV="1">
                <a:off x="8762760" y="3047760"/>
                <a:ext cx="76680" cy="171504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cxnSp>
            <p:nvCxnSpPr>
              <p:cNvPr id="88" name=""/>
              <p:cNvCxnSpPr>
                <a:stCxn id="84" idx="3"/>
                <a:endCxn id="78" idx="3"/>
              </p:cNvCxnSpPr>
              <p:nvPr/>
            </p:nvCxnSpPr>
            <p:spPr>
              <a:xfrm flipV="1">
                <a:off x="8762760" y="3047760"/>
                <a:ext cx="76680" cy="2134080"/>
              </a:xfrm>
              <a:prstGeom prst="bentConnector3">
                <a:avLst>
                  <a:gd name="adj1" fmla="val 400000"/>
                </a:avLst>
              </a:prstGeom>
              <a:ln w="9360">
                <a:solidFill>
                  <a:srgbClr val="ffffcc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6553080" y="2590920"/>
                <a:ext cx="990720" cy="914400"/>
              </a:xfrm>
              <a:prstGeom prst="can">
                <a:avLst>
                  <a:gd name="adj" fmla="val 25000"/>
                </a:avLst>
              </a:prstGeom>
              <a:solidFill>
                <a:srgbClr val="b9d2e5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SFA P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82"/>
                    </a:solidFill>
                    <a:latin typeface="Times New Roman"/>
                  </a:rPr>
                  <a:t>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rojects Moving Forwar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National Student Loan Data System Trans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mmon Identifier / Single Sign 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New-Style ‘Multi-Modal’ Call Cent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leph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ax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teractive C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Knowledge Datab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nail’ M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mmon Origination and Disbursement (COD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73080"/>
            <a:ext cx="7773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hat is SFA Doing to Assure  Section 508 Complianc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llaborating With ED/CIO on Latest REQ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Presenting Section 508 Seminars to SFA</a:t>
            </a:r>
            <a:r>
              <a:rPr b="0" lang="en-US" sz="2800" spc="-1" strike="noStrike">
                <a:solidFill>
                  <a:srgbClr val="d2e4e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Systems Own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Webmast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COTR’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Contracto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dentifying, and Making Compliant: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SFA Web Sites and LOE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Legacy Applications and LO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What is SFA Doing to Assure  Section 508 Compliancy?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ncorporating Section 508 Complian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Technology Standard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Software Life Cycl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Production Readiness Review (PRR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e4e0"/>
                </a:solidFill>
                <a:latin typeface="Tahoma"/>
              </a:rPr>
              <a:t>Business Cas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Incorporating Compliance to Modernization Applica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Collaborating with ED/CIO for Certification and Testing of all SFA EDNET Applica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e4e0"/>
                </a:solidFill>
                <a:latin typeface="Tahoma"/>
              </a:rPr>
              <a:t>Researching Exception Process (Waiver) for Retiring Legacy Syste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FA Benefits Associated with  508 Compli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508 Compliancy IS THE LA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Enforceable after June 21, 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Avoid Legal Complaints and Civil Actions against SF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2e4e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Accessibility of Disabled Employees, Users, and  Public to SFA’s Electronic and IT Application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DA Section 508 Inform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2960" y="2209680"/>
            <a:ext cx="770544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ACCESS-BOAR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8120"/>
            <a:ext cx="770580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ACCESS-BOARD.GOV/NEWS/508-FINAL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886200"/>
            <a:ext cx="7705800" cy="457200"/>
          </a:xfrm>
          <a:prstGeom prst="rect">
            <a:avLst/>
          </a:prstGeom>
          <a:solidFill>
            <a:srgbClr val="d2e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ahoma"/>
              </a:rPr>
              <a:t>SECTION508.GOV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echnology Moving Forwar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SOAP for Internet Data Tran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mmercial/Open Source Software Available, Suppor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commended by NCHELP’s Electronic Standards Committee “Commonlin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mplemented by the National Student Clearinghouse, JA-SI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e4e0"/>
                </a:solidFill>
                <a:latin typeface="Tahoma"/>
              </a:rPr>
              <a:t>UDDI – Universal Discovery, Description, and Integ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Directory services, possibly PE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13:45:58Z</dcterms:created>
  <dc:creator>EPGOBERLE</dc:creator>
  <dc:description/>
  <dc:language>en-US</dc:language>
  <cp:lastModifiedBy>Padma Parekh</cp:lastModifiedBy>
  <dcterms:modified xsi:type="dcterms:W3CDTF">2001-10-23T17:22:33Z</dcterms:modified>
  <cp:revision>21</cp:revision>
  <dc:subject/>
  <dc:title>Modernizing Federal Financial Aid Delivery  Steve Hawald  Chief Information Officer Student Financial Assistance U.S. Department of Education</dc:title>
</cp:coreProperties>
</file>