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EE96-74C5-4498-9379-53E69A986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8B4B-D4D5-4058-BE9A-FF4722B49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256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6D1E-B373-4BE7-9689-356AFF9C7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708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028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708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028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C766-3B63-49C6-86B8-EA29656EF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28B2-1910-4E7F-9C25-8BEFFF0E2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7DA4-3B97-4C77-95C1-6B7C47702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B949-0344-4117-8CB8-C6F654FF7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285E-B631-4A1A-BA62-583E11C1A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857E-3C3E-4AEB-94CF-958D3144E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78E5-B86D-4B66-A8A4-520650042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256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F675-CB5D-4879-A1E4-3F5B610BF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B05A-2198-4B80-A3FA-D75196ABD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72D-C6A6-4A47-8F80-82EBCFDA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63360" y="38160"/>
          <a:ext cx="1308240" cy="16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38160"/>
                    <a:ext cx="13082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219320" y="228600"/>
            <a:ext cx="792468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6248520"/>
            <a:ext cx="792468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47242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SFA to the Interne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419720" y="3505320"/>
          <a:ext cx="441936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05320"/>
                    <a:ext cx="4419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571680"/>
            <a:ext cx="7086600" cy="55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123C-5FEB-49F4-85A8-EAEB0A037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723924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DC7C-AC80-4165-B30A-6F29774CE7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B569-8F56-499E-A423-7D402F64E0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523880" y="4572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Easy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37160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users - EasyAccess will be integrated into the EDconnect Internet release v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C users will need to install the Easy Access product and update JCL or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st Communication Guide for Mainframe and Midrange Users is posted on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http://SFADownload.ed.g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yAccess Command Line Guide and Customization Guide are also posted on  SFA Download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039E-B0EC-468A-9244-D220BC53CABB}" type="slidenum">
              <a:t>13</a:t>
            </a:fld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upported Plat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981080"/>
            <a:ext cx="73152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connection that supports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T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2000 Profes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FB1B-4D6C-4EBE-B793-9507A48E23D6}" type="slidenum">
              <a:t>14</a:t>
            </a:fld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upported Plat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ainframe/Mid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S/390 MVS/ES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S/400 4.2+ (Compiler Level 3.7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IX 4.2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gital UNIX 4.0 (DEC UNIX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 Open VMS 7.1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PUX 10.01+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O UNIX 4.3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Solaris 2.6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A68C-1AB7-4A37-81EF-09EDE1142F7D}" type="slidenum">
              <a:t>15</a:t>
            </a:fld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523880" y="6858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curity of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tilizes Secure Sockets Layer (SSL 3.0) as encryption solution for securing privacy of  transmitted Title IV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ryption and data protection solution is used throughout the majority of eBusiness, eCommerce, and eGovernment applica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ID and password authentication will be required to gain access to your mailbo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8B64-CA89-40E0-A0B7-F6448D6A41CA}" type="slidenum">
              <a:t>16</a:t>
            </a:fld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828800" y="76212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ow do I prepar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600200"/>
            <a:ext cx="7696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your Internet Service Provider supp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P/IP (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TP (file transfer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ful connections to the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access - Download files from http://SFADownloa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your authentication identifiers are current on SAIG Enrollment web site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http://SFAWebEnroll.ed.g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 Security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her’s Maide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B886-6919-4CA1-B89A-B2A9D341A6A6}" type="slidenum">
              <a:t>17</a:t>
            </a:fld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219320" y="1676520"/>
            <a:ext cx="7467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ownload EDconnect Internet release version 5.0 or EasyAccess from SFADownload Web Site </a:t>
            </a:r>
            <a:r>
              <a:rPr b="0" lang="en-US" sz="2900" spc="-1" strike="noStrike">
                <a:solidFill>
                  <a:srgbClr val="008000"/>
                </a:solidFill>
                <a:latin typeface="Times New Roman"/>
              </a:rPr>
              <a:t>http://SFADownload.ed.gov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stall the softwa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erform software setup, indicating TG ID and Internet Service Provider information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ecute initial password change and transmission test.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inue testing until comfortable with transmission process.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6094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igration Step by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C492-9AFD-46A0-9C4A-FE4BB334208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219320" y="182880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Go to SAIG Enrollment web site. </a:t>
            </a:r>
            <a:r>
              <a:rPr b="0" lang="en-US" sz="2900" spc="-1" strike="noStrike">
                <a:solidFill>
                  <a:srgbClr val="008000"/>
                </a:solidFill>
                <a:latin typeface="Times New Roman"/>
              </a:rPr>
              <a:t>http://SFAWebEnroll.ed.gov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“Migrate to Student Aid Internet Gateway (SAIG)” icon.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imes New Roman"/>
              </a:rPr>
              <a:t>7.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view displayed text explaining the impending migration. Confirm your intent to migrate to SAIG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ceive on-screen confirmation message from SF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gin sending/receiving data via the Internet.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igration Step by Step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CF9A-2F40-4171-9E06-B90715DD3E4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676520" y="1219320"/>
            <a:ext cx="7315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tore and forwar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Open*Net (approximately 150 non-P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, including Title IV Appl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Enterprise (PC users, approximate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t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IS data center (Open*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DC data center (Enterpr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network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urr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6273-0382-4701-9966-8FDCBCC2C37B}" type="slidenum">
              <a:t>2</a:t>
            </a:fld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523880" y="7621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about NSLDS online custo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209680"/>
            <a:ext cx="701064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IF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you currently request reports from the NSLDS web site, your reports will be sent to your TIVWAN mailbox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THE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You will need to migrate that mailbox to the SAIG in order to receive those repor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E73E-692B-4626-A0A4-08DD4331BA22}" type="slidenum">
              <a:t>20</a:t>
            </a:fld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600200" y="762120"/>
            <a:ext cx="702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at about my current business proces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20968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rectory for EDconnect software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:\IAM\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remain unchanged in new Internet version of EDconn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to modify download path and specify any directory you cho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ity for automatically loading   exported files from EDExpress into EDconnect still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7198-E223-45B0-A4A2-96F59DFD61EE}" type="slidenum">
              <a:t>21</a:t>
            </a:fld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811160" y="609480"/>
            <a:ext cx="702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at about my old softw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198108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version of EDconnect will not be overwritten or automatically deleted when installing new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t least one more transmission to clean out old mail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old software in case you need to restore data or use onlin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old software after December 18, 2001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CCB1-29E5-4E99-9661-1CA33DA81BA7}" type="slidenum">
              <a:t>22</a:t>
            </a:fld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676520" y="137160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dentify “Early Adopters” who will migrate prior to the entire user communit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rget high-volume users to work through migration issues and increase savings for S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er service hours during the migration will be 7am – 7pm Central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s can arrange for off-hours support with migration speciali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808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Transitio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6418-13E6-4398-8BD7-294F5388F79C}" type="slidenum">
              <a:t>23</a:t>
            </a:fld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143000" y="182880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stination Points who will migrate early to the production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k with Customer Service to identify and resolve issues before large scale rollout to the users at la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volunteer as an early adopter, contact CPS/WAN Technical Support at (800) 330-5947, or via email at cpswan@ncs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335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o are Early Adop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B558-71C6-474D-A220-95376263443B}" type="slidenum">
              <a:t>24</a:t>
            </a:fld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71600" y="16765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16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Adopters begin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3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FA User Migration – ful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8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cipate 1,000 users migrated mil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ember 18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ion complete, TIV WAN cease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Note: Mailboxes that have not migrated by December 18, will be automatically converted over to the new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7621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igration Key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blink_anim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70" name="blink_anim" descr=""/>
          <p:cNvPicPr/>
          <p:nvPr/>
        </p:nvPicPr>
        <p:blipFill>
          <a:blip r:embed="rId4"/>
          <a:stretch/>
        </p:blipFill>
        <p:spPr>
          <a:xfrm>
            <a:off x="1523880" y="259092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171" name="blink_anim" descr=""/>
          <p:cNvPicPr/>
          <p:nvPr/>
        </p:nvPicPr>
        <p:blipFill>
          <a:blip r:embed="rId5"/>
          <a:stretch/>
        </p:blipFill>
        <p:spPr>
          <a:xfrm>
            <a:off x="15238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72" name="blink_anim" descr=""/>
          <p:cNvPicPr/>
          <p:nvPr/>
        </p:nvPicPr>
        <p:blipFill>
          <a:blip r:embed="rId6"/>
          <a:stretch/>
        </p:blipFill>
        <p:spPr>
          <a:xfrm>
            <a:off x="1523880" y="42670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E483-9F7D-40B9-8276-FF3794FD4EF0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3716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dernization Partners will award 3 trips to 2001 Electronic Access Conferenc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ne winner will be drawn after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ptember 15,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ptember 30, 2001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tober 15,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ze includes pre-paid flight from your regional airport to the next scheduled conference, 3-night accommodations at the conference hotel, and a per diem for 4 da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igrate early and better your chances to w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3808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Incentive to Mig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6DD0-1C6C-4E70-A62B-57936969A7B1}" type="slidenum">
              <a:t>26</a:t>
            </a:fld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676520" y="16765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FATech Web sit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ed.gov/offices/OSFAP/sfate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FAP Web site (www.ifap.ed.g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FA Portal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fa4schools.sfa.ed.g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ASFAA Web site (www.nasfaa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CHELP Web site (www.nchelp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-mails to SFATECH list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twork messages (P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ASFAA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lectronic Access Conferences (EACs)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7621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unication Veh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C5D1-04CA-419A-B7E2-436CD6ACED27}" type="slidenum">
              <a:t>27</a:t>
            </a:fld>
          </a:p>
        </p:txBody>
      </p: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Texas –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ost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lorado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w York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-Indianhead 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lymouth Stat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hemekata Community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Houston – Down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Michigan – Ann Ar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onzalez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nte Glesk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xas Souther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38088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Advisory Group 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88FE-282C-4650-9ED8-6D86B6AD71D5}" type="slidenum">
              <a:t>28</a:t>
            </a:fld>
          </a:p>
        </p:txBody>
      </p:sp>
    </p:spTree>
  </p:cSld>
  <p:transition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590920" y="2133720"/>
            <a:ext cx="378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73392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Keith.Wilson@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Brad_Burnett@n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laptop1arm_disgruntled_md_wht" descr=""/>
          <p:cNvPicPr/>
          <p:nvPr/>
        </p:nvPicPr>
        <p:blipFill>
          <a:blip r:embed="rId3"/>
          <a:stretch/>
        </p:blipFill>
        <p:spPr>
          <a:xfrm>
            <a:off x="6553080" y="1219320"/>
            <a:ext cx="137160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7C5E-F839-4436-AF11-F31E21DE5E91}" type="slidenum">
              <a:t>29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90720" y="1600200"/>
          <a:ext cx="655308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600200"/>
                    <a:ext cx="6553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352680" y="5181480"/>
            <a:ext cx="1508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= Open*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=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5334120"/>
            <a:ext cx="284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5638680"/>
            <a:ext cx="28404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762120"/>
            <a:ext cx="6553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urrent Stat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0AA1-7F94-46F2-9D52-AB8882AF90A2}" type="slidenum">
              <a:t>3</a:t>
            </a:fld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47920" y="2209680"/>
            <a:ext cx="7391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ing files via the Internet will eliminate proprietary transmiss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idates multiple store and forward systems into one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a COTS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914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y move to the Interne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ED5F-6A89-4A89-8B2F-407E8FE47910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388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ore and forward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frame, Midrange, and PC platforms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cure TCP/IP-based FTP file transfers o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upports current business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8380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What’s the Soluti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FA to the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868D-5B11-4FB4-9E9A-E8D3E3A5FA7D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781680" y="52578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2578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78520" y="2336760"/>
            <a:ext cx="955800" cy="75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200640" y="3755880"/>
            <a:ext cx="1371600" cy="7876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e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02120" y="442908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conn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4880" y="3114720"/>
            <a:ext cx="1428840" cy="114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syAccess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8680" y="3755880"/>
            <a:ext cx="304920" cy="7876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191120"/>
            <a:ext cx="13590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12000" y="2892600"/>
            <a:ext cx="1371600" cy="342720"/>
          </a:xfrm>
          <a:prstGeom prst="rect">
            <a:avLst/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Application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Easy Access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57880" y="4686480"/>
            <a:ext cx="142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4381560"/>
            <a:ext cx="111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752480"/>
            <a:ext cx="27432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FA Virtual Data Center (VD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97600" y="2511360"/>
            <a:ext cx="89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Bk Avenir Book"/>
              </a:rPr>
              <a:t>O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2209680"/>
            <a:ext cx="2743200" cy="304812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978680" y="3273120"/>
            <a:ext cx="0" cy="609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571880" y="3908520"/>
            <a:ext cx="412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1259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68800" y="350208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65880" y="3057480"/>
            <a:ext cx="0" cy="68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2781360"/>
            <a:ext cx="83844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68800" y="479736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3720" y="4797360"/>
            <a:ext cx="11808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24480" y="3743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124080" y="1146240"/>
            <a:ext cx="2129040" cy="159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0400" y="1523880"/>
            <a:ext cx="2057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16002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 Servic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65320" y="2514600"/>
            <a:ext cx="1044360" cy="730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36720" y="319932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165320" y="3619440"/>
            <a:ext cx="1120680" cy="78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57520" y="4418280"/>
            <a:ext cx="17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165320" y="4952880"/>
            <a:ext cx="1068120" cy="74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9000" y="568368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FA to the Internet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80060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09680" y="2971800"/>
          <a:ext cx="1143000" cy="2209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09680" y="2971800"/>
                    <a:ext cx="1143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89F1-3DFC-4AED-B090-DD6996A2ED9B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1.</a:t>
            </a: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 SecurePort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tore and forward mailboxing system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2. Online Secure Manager (OSM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- Administrative system for mailbox management and administrative du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3. EasyAccess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Client software used to send and receive data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EC8D-EA7E-481E-9461-3093BE6A1AA3}" type="slidenum">
              <a:t>7</a:t>
            </a:fld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ecurePo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905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boxing system located at the V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ill retain current TG identif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password will be set to PASSWORD (all upper case) and you will be asked to change it during your first transmission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3028-941D-4860-B1A0-800FF9F4878F}" type="slidenum">
              <a:t>8</a:t>
            </a:fld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Online Secur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981080"/>
            <a:ext cx="7315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ble via Internet Explo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s sent and received f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filter and sort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advanced search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can restore files that have been downloaded within the last ten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5663-F1D7-45F9-8068-27CD53A902D5}" type="slidenum">
              <a:t>9</a:t>
            </a:fld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32:45Z</dcterms:created>
  <dc:creator>Rhonda Brown</dc:creator>
  <dc:description/>
  <dc:language>en-US</dc:language>
  <cp:lastModifiedBy>Padma Parekh</cp:lastModifiedBy>
  <cp:lastPrinted>2001-07-06T20:30:05Z</cp:lastPrinted>
  <dcterms:modified xsi:type="dcterms:W3CDTF">2001-07-18T18:22:36Z</dcterms:modified>
  <cp:revision>171</cp:revision>
  <dc:subject/>
  <dc:title>SFA to the Internet Focus Group</dc:title>
</cp:coreProperties>
</file>