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1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E9D3-AA88-4149-9D11-74130A496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388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7011-FAC6-443B-8F25-1D87C383C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256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88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7256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5F9A8-6B66-42AB-A355-99C7A0E7A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708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028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388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708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028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33A0-3925-4766-8415-F2C57C3CAA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9A5C-5C1E-4C64-AF5F-A82F467379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8296-7120-4C3F-A4E7-50219B89C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256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30FB-5BF3-4A4A-A01C-3E2BE825D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F49A-EF3B-43F9-8489-610620B9A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0FF6-5FB4-4530-9651-79809A75B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256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388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3B0C-1CB9-4E8C-87C3-77F54E165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256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7256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B5D4-2EC2-42C7-8463-160D8300F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256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88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26D0-9D6B-46BB-92ED-A6DB76C73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62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A288-5BE7-4160-959A-F7E7A11F5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63360" y="38160"/>
          <a:ext cx="1308240" cy="163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360" y="38160"/>
                    <a:ext cx="13082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219320" y="228600"/>
            <a:ext cx="792468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19320" y="6248520"/>
            <a:ext cx="792468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472428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Times New Roman"/>
              </a:rPr>
              <a:t>SFA to the Interne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419720" y="3505320"/>
          <a:ext cx="4419360" cy="31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505320"/>
                    <a:ext cx="4419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52480" y="571680"/>
            <a:ext cx="7086600" cy="55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C80E-9BA7-4D6F-B15A-2D40EDA6E1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723924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A605-0A55-4AD5-BDC4-43E0A96BAF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8635-201D-4525-A206-EC60B84B38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523880" y="45720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Easy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37160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 users - EasyAccess will be integrated into the EDconnect Internet release v5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PC users will need to install the Easy Access product and update JCL or scri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ost Communication Guide for Mainframe and Midrange Users is posted on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http://SFADownload.ed.go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yAccess Command Line Guide and Customization Guide are also posted on  SFA Download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20F2-54C2-4338-8562-E8221BD7A081}" type="slidenum">
              <a:t>13</a:t>
            </a:fld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5238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Supported Plat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1981080"/>
            <a:ext cx="73152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connection that supports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ng Sys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NT 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2000 Profes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F714-D851-4469-926E-6DF289A3F22C}" type="slidenum">
              <a:t>14</a:t>
            </a:fld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5238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Supported Plat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Mainframe/Midr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828800"/>
            <a:ext cx="7315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S/390 MVS/ES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S/400 4.2+ (Compiler Level 3.7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IX 4.2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gital UNIX 4.0 (DEC UNIX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 Open VMS 7.1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PUX 10.01+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CO UNIX 4.3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n Solaris 2.6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BD3E-0973-476A-B143-9E30BBF82826}" type="slidenum">
              <a:t>15</a:t>
            </a:fld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523880" y="68580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curity of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17524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tilizes Secure Sockets Layer (SSL 3.0) as encryption solution for securing privacy of  transmitted Title IV 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cryption and data protection solution is used throughout the majority of eBusiness, eCommerce, and eGovernment application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rID and password authentication will be required to gain access to your mailbo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14ED-1001-4CD5-A44E-C4E94AB3FFBE}" type="slidenum">
              <a:t>16</a:t>
            </a:fld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828800" y="762120"/>
            <a:ext cx="6934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ow do I prepar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1600200"/>
            <a:ext cx="7696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y your Internet Service Provider suppo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P/IP (st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TP (file transfer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ccessful connections to the Inter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 access - Download files from http://SFADownload.ed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your authentication identifiers are current on SAIG Enrollment web site 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http://SFAWebEnroll.ed.go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cial Security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ther’s Maide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95C6-D24F-4EC1-B50F-D7AF1B03FFD5}" type="slidenum">
              <a:t>17</a:t>
            </a:fld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219320" y="1676520"/>
            <a:ext cx="7467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ownload EDconnect Internet release version 5.0 or EasyAccess from SFADownload Web Site </a:t>
            </a:r>
            <a:r>
              <a:rPr b="0" lang="en-US" sz="2900" spc="-1" strike="noStrike">
                <a:solidFill>
                  <a:srgbClr val="008000"/>
                </a:solidFill>
                <a:latin typeface="Times New Roman"/>
              </a:rPr>
              <a:t>http://SFADownload.ed.gov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stall the softwar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erform software setup, indicating TG ID and Internet Service Provider information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ecute initial password change and transmission test.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tinue testing until comfortable with transmission process.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60948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Migration Step by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95A0-3828-487A-90F6-98E967F63CC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219320" y="1828800"/>
            <a:ext cx="7619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8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Go to SAIG Enrollment web site. </a:t>
            </a:r>
            <a:r>
              <a:rPr b="0" lang="en-US" sz="2900" spc="-1" strike="noStrike">
                <a:solidFill>
                  <a:srgbClr val="008000"/>
                </a:solidFill>
                <a:latin typeface="Times New Roman"/>
              </a:rPr>
              <a:t>http://SFAWebEnroll.ed.gov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“Migrate to Student Aid Internet Gateway (SAIG)” icon.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imes New Roman"/>
              </a:rPr>
              <a:t>7.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eview displayed text explaining the impending migration. Confirm your intent to migrate to SAIG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eceive on-screen confirmation message from SF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gin sending/receiving data via the Internet.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Migration Step by Step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E9AC-0AD2-4840-AE85-BDF7AB0B175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676520" y="1219320"/>
            <a:ext cx="7315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tore and forwar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Open*Net (approximately 150 non-P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, including Title IV Applic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Enterprise (PC users, approximate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t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IS data center (Open*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DC data center (Enterpr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tary sol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tary network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45720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urr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4F43-2388-44BE-854A-D43371D35156}" type="slidenum">
              <a:t>2</a:t>
            </a:fld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523880" y="76212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hat about NSLDS online custom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2209680"/>
            <a:ext cx="701064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8000"/>
                </a:solidFill>
                <a:latin typeface="Times New Roman"/>
              </a:rPr>
              <a:t>IF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you currently request reports from the NSLDS web site, your reports will be sent to your TIVWAN mailbox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8000"/>
                </a:solidFill>
                <a:latin typeface="Times New Roman"/>
              </a:rPr>
              <a:t>THE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You will need to migrate that mailbox to the SAIG in order to receive those repor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789B-DBA9-4723-880D-B82AC6406EB8}" type="slidenum">
              <a:t>20</a:t>
            </a:fld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600200" y="762120"/>
            <a:ext cx="702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What about my current business proces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220968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rectory for EDconnect software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:\IAM\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ll remain unchanged in new Internet version of EDconn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to modify download path and specify any directory you cho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ity for automatically loading   exported files from EDExpress into EDconnect still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987C-3DE1-417F-9598-344FB2C540E8}" type="slidenum">
              <a:t>21</a:t>
            </a:fld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811160" y="609480"/>
            <a:ext cx="702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What about my old softw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1981080"/>
            <a:ext cx="7315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version of EDconnect will not be overwritten or automatically deleted when installing new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at least one more transmission to clean out old mail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old software in case you need to restore data or use online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old software after December 18, 2001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011E-1AC8-4487-9AB2-F0D3F3EF6CE2}" type="slidenum">
              <a:t>22</a:t>
            </a:fld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676520" y="1371600"/>
            <a:ext cx="7315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dentify “Early Adopters” who will migrate prior to the entire user communit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rget high-volume users to work through migration issues and increase savings for S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ustomer service hours during the migration will be 7am – 7pm Central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rs can arrange for off-hours support with migration speciali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3808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Transition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1BB0-FF51-409A-87A9-47D7691C97C1}" type="slidenum">
              <a:t>23</a:t>
            </a:fld>
          </a:p>
        </p:txBody>
      </p:sp>
    </p:spTree>
  </p:cSld>
  <p:transition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143000" y="1828800"/>
            <a:ext cx="7315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stination Points who will migrate early to the production enviro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ork with Customer Service to identify and resolve issues before large scale rollout to the users at lar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volunteer as an early adopter, contact CPS/WAN Technical Support at (800) 330-5947, or via email at cpswan@ncs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3352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Who are Early Adop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3419-5A13-44A9-8F4A-D49D45AB8039}" type="slidenum">
              <a:t>24</a:t>
            </a:fld>
          </a:p>
        </p:txBody>
      </p:sp>
    </p:spTree>
  </p:cSld>
  <p:transition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371600" y="1676520"/>
            <a:ext cx="7467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gust 16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Adopters begin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gust 31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FA User Migration – full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 28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cipate 1,000 users migrated mil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ember 18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ion complete, TIV WAN ceases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Note: Mailboxes that have not migrated by December 18, will be automatically converted over to the new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76212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Migration Key 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blink_anim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70" name="blink_anim" descr=""/>
          <p:cNvPicPr/>
          <p:nvPr/>
        </p:nvPicPr>
        <p:blipFill>
          <a:blip r:embed="rId4"/>
          <a:stretch/>
        </p:blipFill>
        <p:spPr>
          <a:xfrm>
            <a:off x="1523880" y="259092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171" name="blink_anim" descr=""/>
          <p:cNvPicPr/>
          <p:nvPr/>
        </p:nvPicPr>
        <p:blipFill>
          <a:blip r:embed="rId5"/>
          <a:stretch/>
        </p:blipFill>
        <p:spPr>
          <a:xfrm>
            <a:off x="15238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72" name="blink_anim" descr=""/>
          <p:cNvPicPr/>
          <p:nvPr/>
        </p:nvPicPr>
        <p:blipFill>
          <a:blip r:embed="rId6"/>
          <a:stretch/>
        </p:blipFill>
        <p:spPr>
          <a:xfrm>
            <a:off x="1523880" y="426708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1D46-F8CD-4E3E-A086-7C8E20C66491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3716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odernization Partners will award 3 trips to 2001 Electronic Access Conferenc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ne winner will be drawn after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ptember 15, 200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ptember 30, 2001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ctober 15, 200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ize includes pre-paid flight from your regional airport to the next scheduled conference, 3-night accommodations at the conference hotel, and a per diem for 4 day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igrate early and better your chances to w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38088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Incentive to Mig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AD2A-4460-49ED-A61C-55D2528D3122}" type="slidenum">
              <a:t>26</a:t>
            </a:fld>
          </a:p>
        </p:txBody>
      </p:sp>
    </p:spTree>
  </p:cSld>
  <p:transition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676520" y="1676520"/>
            <a:ext cx="7315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FATech Web site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ed.gov/offices/OSFAP/sfate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FAP Web site (www.ifap.ed.go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FA Portal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fa4schools.sfa.ed.go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ASFAA Web site (www.nasfaa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CHELP Web site (www.nchelp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-mails to SFATECH lists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etwork messages (Pmess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ASFAA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lectronic Access Conferences (EACs)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76212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unication Veh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0768-9401-4896-8BA8-69ABCB333005}" type="slidenum">
              <a:t>27</a:t>
            </a:fld>
          </a:p>
        </p:txBody>
      </p:sp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828800" y="1295280"/>
            <a:ext cx="6324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University of Texas – Au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ost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olorado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New York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I-Indianhead T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lymouth State 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hemekata Community 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University of Flo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University of Houston – Downt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University of Michigan – Ann Ar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Gonzalez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inte Gleska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exas Souther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38088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Advisory Group Thank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7DFB-BDD7-4301-8678-26084E1B142B}" type="slidenum">
              <a:t>28</a:t>
            </a:fld>
          </a:p>
        </p:txBody>
      </p:sp>
    </p:spTree>
  </p:cSld>
  <p:transition>
    <p:split dir="in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590920" y="2133720"/>
            <a:ext cx="378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373392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Keith.Wilson@ed.g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Brad_Burnett@nc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laptop1arm_disgruntled_md_wht" descr=""/>
          <p:cNvPicPr/>
          <p:nvPr/>
        </p:nvPicPr>
        <p:blipFill>
          <a:blip r:embed="rId3"/>
          <a:stretch/>
        </p:blipFill>
        <p:spPr>
          <a:xfrm>
            <a:off x="6553080" y="1219320"/>
            <a:ext cx="1371600" cy="108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A72F-7165-4EB0-B4DB-2029B7730795}" type="slidenum">
              <a:t>29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990720" y="1600200"/>
          <a:ext cx="655308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600200"/>
                    <a:ext cx="6553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352680" y="5181480"/>
            <a:ext cx="1508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= Open*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=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5334120"/>
            <a:ext cx="2840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5638680"/>
            <a:ext cx="28404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762120"/>
            <a:ext cx="6553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urrent Stat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22A5-B90C-4FB5-9864-8745CDB50805}" type="slidenum">
              <a:t>3</a:t>
            </a:fld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447920" y="2209680"/>
            <a:ext cx="73911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hanging files via the Internet will eliminate proprietary transmission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olidates multiple store and forward systems into one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a COTS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9144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Why move to the Interne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D059-E5FA-45C3-961E-756AFE16A68F}" type="slidenum">
              <a:t>4</a:t>
            </a:fld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52388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tore and forward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frame, Midrange, and PC platforms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ecure TCP/IP-based FTP file transfers o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upports current business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8380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What’s the Solutio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FA to the 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26C4-59B5-41C1-BC70-4656D6950FA2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781680" y="5257800"/>
          <a:ext cx="1673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257800"/>
                    <a:ext cx="1673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978520" y="2336760"/>
            <a:ext cx="955800" cy="757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200640" y="3755880"/>
            <a:ext cx="1371600" cy="78768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e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02120" y="4429080"/>
            <a:ext cx="1371600" cy="105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conn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4880" y="3114720"/>
            <a:ext cx="1428840" cy="114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frame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r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syAccess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8680" y="3755880"/>
            <a:ext cx="304920" cy="78768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k Avenir Book"/>
              </a:rPr>
              <a:t>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Bk Avenir Book"/>
              </a:rPr>
              <a:t>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Bk Avenir Book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191120"/>
            <a:ext cx="135900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12000" y="2892600"/>
            <a:ext cx="1371600" cy="342720"/>
          </a:xfrm>
          <a:prstGeom prst="rect">
            <a:avLst/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50021"/>
                </a:solidFill>
                <a:latin typeface="Arial"/>
              </a:rPr>
              <a:t>Application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50021"/>
                </a:solidFill>
                <a:latin typeface="Arial"/>
              </a:rPr>
              <a:t>Easy Access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57880" y="4686480"/>
            <a:ext cx="142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4381560"/>
            <a:ext cx="1117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752480"/>
            <a:ext cx="27432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FA Virtual Data Center (VD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97600" y="2511360"/>
            <a:ext cx="89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50021"/>
                </a:solidFill>
                <a:latin typeface="Bk Avenir Book"/>
              </a:rPr>
              <a:t>O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2209680"/>
            <a:ext cx="2743200" cy="3048120"/>
          </a:xfrm>
          <a:prstGeom prst="rect">
            <a:avLst/>
          </a:prstGeom>
          <a:noFill/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978680" y="3273120"/>
            <a:ext cx="0" cy="609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571880" y="3908520"/>
            <a:ext cx="412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412596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68800" y="350208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65880" y="3057480"/>
            <a:ext cx="0" cy="68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2781360"/>
            <a:ext cx="83844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68800" y="4797360"/>
            <a:ext cx="120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Bk Avenir Book"/>
              </a:rPr>
              <a:t>SSL 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3720" y="4797360"/>
            <a:ext cx="11808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24480" y="3743280"/>
            <a:ext cx="114300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124080" y="1146240"/>
            <a:ext cx="2129040" cy="1596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00400" y="1523880"/>
            <a:ext cx="2057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16002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 Servic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165320" y="2514600"/>
            <a:ext cx="1044360" cy="730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36720" y="3199320"/>
            <a:ext cx="150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second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165320" y="3619440"/>
            <a:ext cx="1120680" cy="784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57520" y="4418280"/>
            <a:ext cx="173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 Scholarship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aranty 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165320" y="4952880"/>
            <a:ext cx="1068120" cy="74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89000" y="5683680"/>
            <a:ext cx="118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rd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SFA to the Internet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4800600"/>
            <a:ext cx="1143000" cy="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09680" y="2971800"/>
          <a:ext cx="1143000" cy="22096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09680" y="2971800"/>
                    <a:ext cx="11430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EB56-CE11-47C6-AABD-6FECC62F57DB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5238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1981080"/>
            <a:ext cx="7315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Georgia"/>
              </a:rPr>
              <a:t>1.</a:t>
            </a:r>
            <a:r>
              <a:rPr b="1" i="1" lang="en-US" sz="3000" spc="-1" strike="noStrike">
                <a:solidFill>
                  <a:srgbClr val="000099"/>
                </a:solidFill>
                <a:latin typeface="Georgia"/>
              </a:rPr>
              <a:t>	</a:t>
            </a:r>
            <a:r>
              <a:rPr b="1" i="1" lang="en-US" sz="3000" spc="-1" strike="noStrike">
                <a:solidFill>
                  <a:srgbClr val="000099"/>
                </a:solidFill>
                <a:latin typeface="Georgia"/>
              </a:rPr>
              <a:t> SecurePort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Store and forward mailboxing system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Georgia"/>
              </a:rPr>
              <a:t>2. Online Secure Manager (OSM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- Administrative system for mailbox management and administrative du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Georgia"/>
              </a:rPr>
              <a:t>3. EasyAccess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Client software used to send and receive data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CA8F-1EC5-49AA-BDF1-351E8D6D59B9}" type="slidenum">
              <a:t>7</a:t>
            </a:fld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5238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SecurePor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905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boxing system located at the V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will retain current TG identifi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password will be set to PASSWORD (all upper case) and you will be asked to change it during your first transmission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CBBB-269A-4B4A-87D2-B52C27AB0BF2}" type="slidenum">
              <a:t>8</a:t>
            </a:fld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7162920" y="5410080"/>
          <a:ext cx="167328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410080"/>
                    <a:ext cx="16732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5238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Online Secure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1981080"/>
            <a:ext cx="7315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ble via Internet Explo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s sent and received fi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filter and sort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advanced search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can restore files that have been downloaded within the last ten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8DF0-FF3D-4CA9-9001-203133D947D9}" type="slidenum">
              <a:t>9</a:t>
            </a:fld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32:45Z</dcterms:created>
  <dc:creator>Rhonda Brown</dc:creator>
  <dc:description/>
  <dc:language>en-US</dc:language>
  <cp:lastModifiedBy>Padma Parekh</cp:lastModifiedBy>
  <cp:lastPrinted>2001-07-06T20:30:05Z</cp:lastPrinted>
  <dcterms:modified xsi:type="dcterms:W3CDTF">2001-07-18T18:22:36Z</dcterms:modified>
  <cp:revision>171</cp:revision>
  <dc:subject/>
  <dc:title>SFA to the Internet Focus Group</dc:title>
</cp:coreProperties>
</file>