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16C7-F148-48F0-BF84-3AF65558D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519A5-CD1D-4949-9F5D-FBC4118F0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E2FD-5364-42B5-B18D-C0E95EB22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5B11-684B-4551-ABEB-D7B2B295B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3488-05A4-4C3A-9144-47A50E385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AC71-DD52-45DC-B6CC-90A3EF799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2AD3-9BD0-4793-B83E-14E642CFB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6491-552C-4FC7-AB29-19B511A10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1E52-F2E4-40F1-A731-797435B73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42822-FCA5-4434-B0BA-0EEEB10FA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3876A-A7F0-4181-8AA9-2F06C66FE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3635F-1D3C-4A8D-B4AF-8181E70A6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E83E-8BDA-45D5-953E-2C8649DD1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67440" y="64771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2B0D-D687-4BB4-AFD2-BFEEA2A21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AQs-1" descr=""/>
          <p:cNvPicPr/>
          <p:nvPr/>
        </p:nvPicPr>
        <p:blipFill>
          <a:blip r:embed="rId1"/>
          <a:srcRect l="0" t="0" r="0" b="53987"/>
          <a:stretch/>
        </p:blipFill>
        <p:spPr>
          <a:xfrm>
            <a:off x="838080" y="685800"/>
            <a:ext cx="7400880" cy="528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26D7-92F2-4C1C-9528-7E0E30D36D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AQs%20and%20Answers-01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A913-B85F-4760-87F6-DB7CE73B81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Borrower%20Name%20History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7932-F957-4C4C-896E-975A3F8913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SN%20History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458E3-CE79-458D-A063-3B14798F8E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Loan%20History-top%20of%20page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69608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2851-642E-4F89-951F-03DE33705B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Loan%20History-bottom%20of%20page" descr=""/>
          <p:cNvPicPr/>
          <p:nvPr/>
        </p:nvPicPr>
        <p:blipFill>
          <a:blip r:embed="rId1"/>
          <a:stretch/>
        </p:blipFill>
        <p:spPr>
          <a:xfrm>
            <a:off x="954000" y="914400"/>
            <a:ext cx="765648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1D27-E0F6-4DF4-9E06-F7F181A677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Loan%20Detail-1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8487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D6F0-E719-4A15-A0BD-810150A60C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Loan%20Detail-2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84872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4CFE-E98A-425F-B184-AA68A81339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Loan%20Detail-3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8487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8452-A292-4CA0-8BE4-3EAD892FF7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verpayment%20History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77240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180F-7C68-4F7B-987E-52F7CA4B8B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ssion 51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514600"/>
            <a:ext cx="838188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a8"/>
                </a:solidFill>
                <a:latin typeface="Arial"/>
              </a:rPr>
              <a:t>NSL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a8"/>
                </a:solidFill>
                <a:latin typeface="Arial"/>
              </a:rPr>
              <a:t>Hands-on th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E8E8-3C32-4924-B38E-391C70DC2A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verpayment%20Update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55496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E0AD2-7252-44CF-90E0-E3F7F391B5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chool%20Overpayment%20Add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54380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7B94-3A2E-4678-A469-AB1BE638D4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ell%20Grant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957B-BB07-4564-A19F-CAFEEFA904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Enrollment%20Update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69608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191B-77AC-4749-B025-DD28B8C816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rganization%20Contact%20List" descr=""/>
          <p:cNvPicPr/>
          <p:nvPr/>
        </p:nvPicPr>
        <p:blipFill>
          <a:blip r:embed="rId1"/>
          <a:stretch/>
        </p:blipFill>
        <p:spPr>
          <a:xfrm>
            <a:off x="1003320" y="838080"/>
            <a:ext cx="760716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21BE-9149-4A71-8162-CAE2EDF163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rg%20Contact%20Detail" descr=""/>
          <p:cNvPicPr/>
          <p:nvPr/>
        </p:nvPicPr>
        <p:blipFill>
          <a:blip r:embed="rId1"/>
          <a:stretch/>
        </p:blipFill>
        <p:spPr>
          <a:xfrm>
            <a:off x="960480" y="838080"/>
            <a:ext cx="765000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E4C8-EEA7-41E0-BBD8-A177F197D3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rg%20Contact%20Add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77240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3DC0C-AAD6-4260-9F0F-F9C0321DBE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rg%20Contact%20Update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84872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2007-7E07-4E8E-B160-6F04859637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rganization%20Search-Results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61976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4835-B463-4762-9857-3025ED60CC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SSCR%20Cycle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8487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06129-1DBB-417C-A895-141E60D748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How to get to the NSLDS FAP Web Site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WW.NSLDSFAP.ED.GOV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D490-1CBA-46AE-8FE1-7B406BC68C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Data%20Provider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954920" cy="541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7E0F-95D3-4A55-85D1-F99AF02201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payment%20History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6201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1EDE-EFF8-48B1-89FC-6C3A3706D3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port%20List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92468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25B8-53E0-4D66-A173-038E510FAB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port%20Parameters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84836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2E0F-1E73-4B70-B1E8-7B8FF72B9E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port%20Log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69644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5FE6E-5B65-4349-99F4-9116FF6222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NSLDS Customer Service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1-800-999-8219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all between the hours of 8:00am and 8:00pm., ET any weekday other than Federal Holidays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-Mail Address                                                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- NSLDSCOE@RAYTHEON.COM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C9BB-9610-4C4C-8D45-D173FFE09C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How to get to the NSLDS Student Web Site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WW.NSLDS.ED.GOV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BED7-CF77-43E3-A09D-111B44A404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What Personal Information is Needed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ocial Security Numbe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rst 2 Letters of Last Nam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ate of Birth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I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5E43-5BF2-44E6-99D1-2D2647A71E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Who is Eligible to Receive a PIN?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le to File a Renewal FAFSA for the 1998-1999, 1999-2000 or 2000-2001 School Yea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Direct Loan Borrow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4C6DE-D22A-4C9F-9C75-2D4C0EEE89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How to Apply for a PI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336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ww.pin.ed.gov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1-800-801-0576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16309-FE83-4F1D-982D-EB58093952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Logon%20(updated)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62012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6450-D6FC-4923-8E75-E2B39B97C684}" type="slidenum">
              <a:t>4</a:t>
            </a:fld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Home Pag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29" name="SAHome" descr=""/>
          <p:cNvPicPr/>
          <p:nvPr/>
        </p:nvPicPr>
        <p:blipFill>
          <a:blip r:embed="rId1"/>
          <a:stretch/>
        </p:blipFill>
        <p:spPr>
          <a:xfrm>
            <a:off x="1295280" y="1438200"/>
            <a:ext cx="6096240" cy="43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6823-20CB-424F-8332-D7EE2EA8622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inancial Aid Review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31" name="SA_Loan%20Summary" descr=""/>
          <p:cNvPicPr/>
          <p:nvPr/>
        </p:nvPicPr>
        <p:blipFill>
          <a:blip r:embed="rId1"/>
          <a:srcRect l="0" t="2264" r="-1836" b="50809"/>
          <a:stretch/>
        </p:blipFill>
        <p:spPr>
          <a:xfrm>
            <a:off x="1066680" y="1368360"/>
            <a:ext cx="7467840" cy="457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8A2D-BDA8-40C0-9677-172ACED4145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Loan Summa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33" name="SA_Loan%20Summary" descr=""/>
          <p:cNvPicPr/>
          <p:nvPr/>
        </p:nvPicPr>
        <p:blipFill>
          <a:blip r:embed="rId1"/>
          <a:srcRect l="0" t="52408" r="0" b="32099"/>
          <a:stretch/>
        </p:blipFill>
        <p:spPr>
          <a:xfrm>
            <a:off x="1143000" y="1341360"/>
            <a:ext cx="7391520" cy="48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B970-69A7-481C-8D3A-448B5553807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Loan Detail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35" name="SA_Loan_01" descr=""/>
          <p:cNvPicPr/>
          <p:nvPr/>
        </p:nvPicPr>
        <p:blipFill>
          <a:blip r:embed="rId1"/>
          <a:srcRect l="0" t="0" r="0" b="54966"/>
          <a:stretch/>
        </p:blipFill>
        <p:spPr>
          <a:xfrm>
            <a:off x="1295280" y="1268280"/>
            <a:ext cx="7467840" cy="46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E03C-9E8F-4749-BBAB-57BAB37428E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ell Grant Informatio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37" name="SA_Loan%20Summary" descr=""/>
          <p:cNvPicPr/>
          <p:nvPr/>
        </p:nvPicPr>
        <p:blipFill>
          <a:blip r:embed="rId1"/>
          <a:srcRect l="0" t="67287" r="0" b="0"/>
          <a:stretch/>
        </p:blipFill>
        <p:spPr>
          <a:xfrm>
            <a:off x="1463760" y="1411200"/>
            <a:ext cx="729936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B8F9-CE0A-4EC0-9BCA-2E2380583BB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ustomer Suppor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78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1-800-4-FED-AI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(Monday - Friday, 8AM - 8PM EST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FAmail@ncs.ed.gov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786A-BB41-4FC3-928A-C6BA3CA43BB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38120" y="380880"/>
            <a:ext cx="4343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Question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9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42" name="NSLDS_Logo1b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4876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2F4E-BDFE-4D61-A732-1F08837D4CF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rivacy%20Act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A2DA-0424-4795-914B-C4CAB5CB74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Main_Menu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77240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C750-DF08-487F-A8F8-7F5DB2CAEB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hange%20password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447C-B4C2-4FD7-9620-8F23D2C020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ystem%20Requirements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23280" cy="513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31F0-C78E-43C0-826D-FBF1057695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essage%20Detail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29680" cy="5105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5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A961-D280-46BB-A2BE-D4A7D3C87A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2000-11-06T22:26:30Z</cp:lastPrinted>
  <dcterms:modified xsi:type="dcterms:W3CDTF">2001-02-06T12:17:32Z</dcterms:modified>
  <cp:revision>44</cp:revision>
  <dc:subject/>
  <dc:title>No Slide Title</dc:title>
</cp:coreProperties>
</file>