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53D07E-204A-48A6-8715-B6FE6FAF91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7836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38A101-F7CA-4D15-8C86-AC6CC20489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8124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DB7E7E-07C1-4B0F-90C7-C8D9E6B5C0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282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470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282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470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DE517D-FE3B-4D9F-B243-4C67916AFF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3123720" y="456840"/>
            <a:ext cx="5821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6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6C95C4-1D06-42F1-AF44-E512D606F0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88124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09480" y="397836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88124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4282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470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094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4282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470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8FEE2F-B534-4307-956F-A617EF0F25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F42E1C-151B-4E67-87DF-EC89C1FE51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F95992-9E9F-4044-AD3B-9A672B3BC8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23720" y="456840"/>
            <a:ext cx="5821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6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64D6B3-8A7E-43A6-80C0-DA6EFB9EAB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8AE1D6-AFB5-44AC-96FC-693CB03C01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8124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4CDF4-0055-4FA5-A6DB-9886178FF0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E40725-66E4-479F-BADC-9A1DEADE43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19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19a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06708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76760"/>
            <a:ext cx="1828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527A4-81BB-4A70-B72A-8290A6EF86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Slide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51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2000a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19a8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a8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19a8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19a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9a8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19a8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19a8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9a8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19a8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9a8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19a8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9a8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19a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067440" y="64771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315200" y="647712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30446-3356-4988-885F-BB45A1D487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Title" descr=""/>
          <p:cNvPicPr/>
          <p:nvPr/>
        </p:nvPicPr>
        <p:blipFill>
          <a:blip r:embed="rId1"/>
          <a:stretch/>
        </p:blipFill>
        <p:spPr>
          <a:xfrm>
            <a:off x="0" y="-33480"/>
            <a:ext cx="9144000" cy="65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FAQs-1" descr=""/>
          <p:cNvPicPr/>
          <p:nvPr/>
        </p:nvPicPr>
        <p:blipFill>
          <a:blip r:embed="rId1"/>
          <a:srcRect l="0" t="0" r="0" b="53987"/>
          <a:stretch/>
        </p:blipFill>
        <p:spPr>
          <a:xfrm>
            <a:off x="838080" y="685800"/>
            <a:ext cx="7400880" cy="5281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51-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FFE5FD-BE7C-498D-9846-3DF9EAF1F96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FAQs%20and%20Answers-01" descr=""/>
          <p:cNvPicPr/>
          <p:nvPr/>
        </p:nvPicPr>
        <p:blipFill>
          <a:blip r:embed="rId1"/>
          <a:stretch/>
        </p:blipFill>
        <p:spPr>
          <a:xfrm>
            <a:off x="1447920" y="762120"/>
            <a:ext cx="7162560" cy="5371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51-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2B6D40-8464-4229-B023-ADD191589F5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Borrower%20Name%20History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772400" cy="5257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51-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AC0798-E47A-4A83-BB9E-235FE29B62B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SSN%20History" descr=""/>
          <p:cNvPicPr/>
          <p:nvPr/>
        </p:nvPicPr>
        <p:blipFill>
          <a:blip r:embed="rId1"/>
          <a:stretch/>
        </p:blipFill>
        <p:spPr>
          <a:xfrm>
            <a:off x="914400" y="914400"/>
            <a:ext cx="7772400" cy="5181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51-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D0D054-2DE7-4B3E-BC95-8EDBA4C2C14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Loan%20History-top%20of%20page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7696080" cy="5334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51-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683E47-2F4F-451E-8381-438719E678E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Loan%20History-bottom%20of%20page" descr=""/>
          <p:cNvPicPr/>
          <p:nvPr/>
        </p:nvPicPr>
        <p:blipFill>
          <a:blip r:embed="rId1"/>
          <a:stretch/>
        </p:blipFill>
        <p:spPr>
          <a:xfrm>
            <a:off x="954000" y="914400"/>
            <a:ext cx="7656480" cy="5181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51-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331B7A-51F5-4592-AD0C-CB48EEAAA2E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Loan%20Detail-1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7848720" cy="5334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51-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D55FB-1A8D-43F3-B51D-55FDB981DE5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Loan%20Detail-2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7848720" cy="5181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51-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1666B0-7E36-43A1-B0BE-29BC4367BC2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Loan%20Detail-3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7848720" cy="5334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51-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B4ADB2-FD5B-4BEA-89E6-3E4722841E6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Overpayment%20History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7772400" cy="5334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51-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36D3A5-C1CB-4B9B-9F5A-256286875EB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Session 51</a:t>
            </a: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2514600"/>
            <a:ext cx="8381880" cy="158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27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19a8"/>
                </a:solidFill>
                <a:latin typeface="Arial"/>
              </a:rPr>
              <a:t>NSLD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27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19a8"/>
                </a:solidFill>
                <a:latin typeface="Arial"/>
              </a:rPr>
              <a:t>Hands-on the We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51-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212D47-DA59-481D-AD3D-E45987538E8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Overpayment%20Update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7554960" cy="5257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51-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3DE5C7-565B-4B6A-975E-E57D8F02260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School%20Overpayment%20Add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7543800" cy="5257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51-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0C6015-EF01-40DF-9BF8-53F73C662BD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ell%20Grant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7924680" cy="5257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51-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4ECD7F-9FD7-4597-86E5-E417E127983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Enrollment%20Update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696080" cy="5181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51-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3E8845-86E5-47F6-8E8E-6A805237B49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Organization%20Contact%20List" descr=""/>
          <p:cNvPicPr/>
          <p:nvPr/>
        </p:nvPicPr>
        <p:blipFill>
          <a:blip r:embed="rId1"/>
          <a:stretch/>
        </p:blipFill>
        <p:spPr>
          <a:xfrm>
            <a:off x="1003320" y="838080"/>
            <a:ext cx="7607160" cy="5334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51-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D61B5F-543B-4105-AB8F-B89CC2EE2B5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Org%20Contact%20Detail" descr=""/>
          <p:cNvPicPr/>
          <p:nvPr/>
        </p:nvPicPr>
        <p:blipFill>
          <a:blip r:embed="rId1"/>
          <a:stretch/>
        </p:blipFill>
        <p:spPr>
          <a:xfrm>
            <a:off x="960480" y="838080"/>
            <a:ext cx="7650000" cy="5334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51-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24F9B1-C0E4-4CE5-AB5D-0A984E5AADE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Org%20Contact%20Add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772400" cy="5334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51-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83DA73-6711-40C3-8EA3-5A71B8E3AB7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Org%20Contact%20Update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7848720" cy="5257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51-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DCCE90-F43B-4E60-A24D-4BC15968BDE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Organization%20Search-Results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619760" cy="5334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51-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0DD94C-1BCB-40BD-A21A-3F54DDFF99D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SSCR%20Cycle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7848720" cy="5334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51-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5C23BE-179C-4CA0-AAC1-E38509ADF54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971440" y="380520"/>
            <a:ext cx="6172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How to get to the NSLDS FAP Web Site </a:t>
            </a: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320" y="3047760"/>
            <a:ext cx="80773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WWW.NSLDSFAP.ED.GOV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51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686A0F-BF4A-4C97-AA4F-C38103B76AE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Data%20Provider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954920" cy="5410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51-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936B1B-5499-4651-97AF-EFC52317837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Repayment%20History" descr=""/>
          <p:cNvPicPr/>
          <p:nvPr/>
        </p:nvPicPr>
        <p:blipFill>
          <a:blip r:embed="rId1"/>
          <a:stretch/>
        </p:blipFill>
        <p:spPr>
          <a:xfrm>
            <a:off x="1143000" y="838080"/>
            <a:ext cx="7620120" cy="5334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51-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80F455-DFF0-4D36-BF1F-98919E2584A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Report%20List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924680" cy="5334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51-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5FD198-67FE-4F69-861C-9B7FBD70A65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Report%20Parameters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848360" cy="5334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51-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82C6B9-7431-4C90-B793-D8684C3C657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Report%20Log" descr=""/>
          <p:cNvPicPr/>
          <p:nvPr/>
        </p:nvPicPr>
        <p:blipFill>
          <a:blip r:embed="rId1"/>
          <a:stretch/>
        </p:blipFill>
        <p:spPr>
          <a:xfrm>
            <a:off x="1066680" y="914400"/>
            <a:ext cx="7696440" cy="5181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51-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7FCB21-0EC0-4B7F-B1C8-79EC0CF48FC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971440" y="380520"/>
            <a:ext cx="6172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NSLDS Customer Service </a:t>
            </a: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0773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1-800-999-8219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Call between the hours of 8:00am and 8:00pm., ET any weekday other than Federal Holidays.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E-Mail Address                                                 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- NSLDSCOE@RAYTHEON.COM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19a8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51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D0A7CD-E523-425D-9529-81773931662C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971440" y="380520"/>
            <a:ext cx="6172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How to get to the NSLDS Student Web Site </a:t>
            </a: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320" y="3047760"/>
            <a:ext cx="80773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WWW.NSLDS.ED.GOV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51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B868AE-4A71-464C-B06D-BEFDE26EA20C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What Personal Information is Needed </a:t>
            </a: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Social Security Number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First 2 Letters of Last Name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Date of Birth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PIN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51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912534-6471-4532-B9C8-80478AE9A969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Who is Eligible to Receive a PIN?</a:t>
            </a: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440" y="2285640"/>
            <a:ext cx="8001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igible to File a Renewal FAFSA for the 1998-1999, 1999-2000 or 2000-2001 School Year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deral Direct Loan Borrowe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51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3EAD16-B3D7-4DA3-9E40-88B559F3C724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How to Apply for a PIN</a:t>
            </a: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2133360"/>
            <a:ext cx="833616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www.pin.ed.gov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1-800-801-0576 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51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FE5863-91AA-4335-A1FA-D27F612552A4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Logon%20(updated)" descr=""/>
          <p:cNvPicPr/>
          <p:nvPr/>
        </p:nvPicPr>
        <p:blipFill>
          <a:blip r:embed="rId1"/>
          <a:stretch/>
        </p:blipFill>
        <p:spPr>
          <a:xfrm>
            <a:off x="1066680" y="914400"/>
            <a:ext cx="7620120" cy="5105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51-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C18E02-9193-459F-AAA6-97006F069859}" type="slidenum">
              <a:t>4</a:t>
            </a:fld>
          </a:p>
        </p:txBody>
      </p:sp>
    </p:spTree>
  </p:cSld>
  <p:transition>
    <p:blinds dir="ver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Home Page</a:t>
            </a: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pic>
        <p:nvPicPr>
          <p:cNvPr id="129" name="SAHome" descr=""/>
          <p:cNvPicPr/>
          <p:nvPr/>
        </p:nvPicPr>
        <p:blipFill>
          <a:blip r:embed="rId1"/>
          <a:stretch/>
        </p:blipFill>
        <p:spPr>
          <a:xfrm>
            <a:off x="1295280" y="1438200"/>
            <a:ext cx="6096240" cy="4302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51-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5F6701-8885-4EB2-997E-0651FC239C7E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Financial Aid Review</a:t>
            </a: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pic>
        <p:nvPicPr>
          <p:cNvPr id="131" name="SA_Loan%20Summary" descr=""/>
          <p:cNvPicPr/>
          <p:nvPr/>
        </p:nvPicPr>
        <p:blipFill>
          <a:blip r:embed="rId1"/>
          <a:srcRect l="0" t="2264" r="-1836" b="50809"/>
          <a:stretch/>
        </p:blipFill>
        <p:spPr>
          <a:xfrm>
            <a:off x="1066680" y="1368360"/>
            <a:ext cx="7467840" cy="4575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51-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B24E4C-8140-4273-81EE-AFE49B7F1E93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Loan Summary</a:t>
            </a: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pic>
        <p:nvPicPr>
          <p:cNvPr id="133" name="SA_Loan%20Summary" descr=""/>
          <p:cNvPicPr/>
          <p:nvPr/>
        </p:nvPicPr>
        <p:blipFill>
          <a:blip r:embed="rId1"/>
          <a:srcRect l="0" t="52408" r="0" b="32099"/>
          <a:stretch/>
        </p:blipFill>
        <p:spPr>
          <a:xfrm>
            <a:off x="1143000" y="1341360"/>
            <a:ext cx="7391520" cy="4811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51-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8F717D-EC7D-4E08-B108-415450588ABA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Loan Detail</a:t>
            </a: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pic>
        <p:nvPicPr>
          <p:cNvPr id="135" name="SA_Loan_01" descr=""/>
          <p:cNvPicPr/>
          <p:nvPr/>
        </p:nvPicPr>
        <p:blipFill>
          <a:blip r:embed="rId1"/>
          <a:srcRect l="0" t="0" r="0" b="54966"/>
          <a:stretch/>
        </p:blipFill>
        <p:spPr>
          <a:xfrm>
            <a:off x="1295280" y="1268280"/>
            <a:ext cx="7467840" cy="4675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51-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C4A109-4B41-4D5B-AE57-582AD38BF79D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Pell Grant Information</a:t>
            </a: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pic>
        <p:nvPicPr>
          <p:cNvPr id="137" name="SA_Loan%20Summary" descr=""/>
          <p:cNvPicPr/>
          <p:nvPr/>
        </p:nvPicPr>
        <p:blipFill>
          <a:blip r:embed="rId1"/>
          <a:srcRect l="0" t="67287" r="0" b="0"/>
          <a:stretch/>
        </p:blipFill>
        <p:spPr>
          <a:xfrm>
            <a:off x="1463760" y="1411200"/>
            <a:ext cx="7299360" cy="4532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51-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3C9E24-676B-44E7-BAB3-DF0ACA96B765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Customer Support</a:t>
            </a: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78789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1-800-4-FED-AID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(Monday - Friday, 8AM - 8PM EST)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SFAmail@ncs.ed.gov 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51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B25F57-609B-4042-9D84-516FF8DBC164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38120" y="380880"/>
            <a:ext cx="4343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     </a:t>
            </a: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Questions</a:t>
            </a: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47920" y="457200"/>
            <a:ext cx="8076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Times New Roman"/>
              </a:rPr>
              <a:t>                                         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pic>
        <p:nvPicPr>
          <p:cNvPr id="142" name="NSLDS_Logo1b" descr=""/>
          <p:cNvPicPr/>
          <p:nvPr/>
        </p:nvPicPr>
        <p:blipFill>
          <a:blip r:embed="rId1"/>
          <a:stretch/>
        </p:blipFill>
        <p:spPr>
          <a:xfrm>
            <a:off x="2971800" y="2819520"/>
            <a:ext cx="3487680" cy="1298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51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E5BE1F-A5A1-484B-87CB-FA305F594DF7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rivacy%20Act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7924680" cy="5257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51-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6B8414-0944-4684-B9E5-2E9B28DEE44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Main_Menu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772400" cy="5257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51-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8901D9-881C-4E95-A58C-D34963929AD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Change%20password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696080" cy="5257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51-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5664CD-6D4E-4932-B163-A2A230A8752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System%20Requirements" descr=""/>
          <p:cNvPicPr/>
          <p:nvPr/>
        </p:nvPicPr>
        <p:blipFill>
          <a:blip r:embed="rId1"/>
          <a:stretch/>
        </p:blipFill>
        <p:spPr>
          <a:xfrm>
            <a:off x="914400" y="914400"/>
            <a:ext cx="7523280" cy="5138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51-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CCFEA8-B00E-4079-BF69-8BC36ADCD83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Message%20Detail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7429680" cy="51055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51-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7D239C-FE0A-48EA-9469-08931086F70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08T20:32:24Z</dcterms:created>
  <dc:creator>Tim Weedlun</dc:creator>
  <dc:description/>
  <dc:language>en-US</dc:language>
  <cp:lastModifiedBy>I.R.G.</cp:lastModifiedBy>
  <cp:lastPrinted>2000-11-06T22:26:30Z</cp:lastPrinted>
  <dcterms:modified xsi:type="dcterms:W3CDTF">2001-02-06T12:17:32Z</dcterms:modified>
  <cp:revision>44</cp:revision>
  <dc:subject/>
  <dc:title>No Slide Title</dc:title>
</cp:coreProperties>
</file>