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3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C155-DD6A-42FF-B116-5289B0161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E869-F8A4-479F-87F0-4AC655B46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29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06668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CBC3-A1A0-4D94-ABF8-FE4ADC03F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8545-BBF4-42F1-8208-D6AE201B6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7BB2-39E9-48AF-B4F5-90F80DC43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EE2B-5F36-4CDA-9157-895A393AD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14240" y="4568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9EDB-80BB-4B2F-8621-3F3C94951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18C1-1984-4EC6-B53B-F4DC200B0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F689-7B65-4173-B58B-7048C17C2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2D66-CBF3-466C-A846-D0EC0F499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14240" y="45684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EBB9-74CE-4DC6-AFED-26A1DB8DE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E61C-8005-445C-B43A-BA6909C40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22FD-D6E9-41AB-865F-F814DA65C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4139-D6C4-490D-ACD1-59B65BC33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A13F-3034-40CC-A286-88F3FF877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DB1F-9CEB-442C-9C2B-DC38DFB14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stion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336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If you have technical questions, please send them to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los-lowebapp@eds.co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Use a subject line of “LO-Online Question”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lease include your name, organization, and a phone number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8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3AB0-156B-48F0-9B2B-C8A9C7C8538F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oan Origination Contac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-Mail Address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n_origination@mail.eds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 Relations at the LOC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-800-848-097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 Relations Fax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-800-557-739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 Relations at the Servicing Center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-888-877-765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8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E9E7-EBFC-446B-B6F6-00809D0C1955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38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819520"/>
            <a:ext cx="8381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Direct Loan Origination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8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5DBC-ED7D-49BB-AC41-7A84AEED4625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General Informa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signed so schools, CAMs and CSRs can view data in the same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s participated in the design of the site and 53 participated in the pilo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Implemented April 2000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8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BB97-FED7-4334-9417-EB27DA5740B6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Enhancements since Implementa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bility to change demographic informat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 single sign-on for accessing Direct Loan Origination and Servicing data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bility to view Entrance Counseling results for students onlin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8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3C44-1AC8-430A-86A2-E222E955D314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895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ture Enhancemen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8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C1B1-932C-4107-9217-D37231C16D8C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6091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2000a"/>
                </a:solidFill>
                <a:latin typeface="Arial"/>
              </a:rPr>
              <a:t>Data Changes over the Web</a:t>
            </a:r>
            <a:endParaRPr b="1" i="1" lang="en-US" sz="38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Loan Origination Record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data for all program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C will not send an acknowledgement back to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isbursement Record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ed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8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79BB-AEFD-4C05-9357-5D22B5EB41BA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2000a"/>
                </a:solidFill>
                <a:latin typeface="Arial"/>
              </a:rPr>
              <a:t>Data Changes over the Web</a:t>
            </a:r>
            <a:endParaRPr b="1" i="1" lang="en-US" sz="38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Knowing what has been changed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to query for changes and save them from the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nline historical view of data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8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536D-847A-46F3-846B-F3BED48F7ED2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Web Enhancemen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64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pendency statu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on the loan detail page instead of the person detai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-mail address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display e-mail address passed to the 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st Disbursemen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nclude the flag that indicates the first disbursement on the disbursement detai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8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9B75-B8C5-4D93-9831-F46360B88EF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Web Enhancemen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36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MPN on 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display there is an MPN on file and also includes the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will be able to indicate over the web if they no longer want a specific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 “Help File” will be available on the web site for common batch processing error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8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E9E0-86E8-49D9-B29C-1F96CD505DD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7:37:46Z</dcterms:created>
  <dc:creator>Renee Wade</dc:creator>
  <dc:description/>
  <dc:language>en-US</dc:language>
  <cp:lastModifiedBy>I.R.G.</cp:lastModifiedBy>
  <cp:lastPrinted>2000-12-19T17:31:49Z</cp:lastPrinted>
  <dcterms:modified xsi:type="dcterms:W3CDTF">2001-02-05T13:53:58Z</dcterms:modified>
  <cp:revision>27</cp:revision>
  <dc:subject/>
  <dc:title>Direct Loan Origination Web Site</dc:title>
</cp:coreProperties>
</file>