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71440" y="676080"/>
            <a:ext cx="4515120" cy="33843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move the slide</a:t>
            </a:r>
            <a:endParaRPr b="1" lang="en-US" sz="4000" spc="-1" strike="noStrike">
              <a:solidFill>
                <a:srgbClr val="c2000a"/>
              </a:solidFill>
              <a:latin typeface="Arial"/>
            </a:endParaRPr>
          </a:p>
        </p:txBody>
      </p:sp>
      <p:sp>
        <p:nvSpPr>
          <p:cNvPr id="83" name="PlaceHolder 4"/>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945B-3773-42AE-831E-EE75954F6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3240" y="676440"/>
            <a:ext cx="4511520" cy="3384360"/>
          </a:xfrm>
          <a:prstGeom prst="rect">
            <a:avLst/>
          </a:prstGeom>
          <a:ln w="0">
            <a:noFill/>
          </a:ln>
        </p:spPr>
      </p:sp>
      <p:sp>
        <p:nvSpPr>
          <p:cNvPr id="168"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Field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FFEL MPN Flag </a:t>
            </a:r>
            <a:r>
              <a:rPr b="0" lang="en-US" sz="1100" spc="-1" strike="noStrike">
                <a:solidFill>
                  <a:srgbClr val="000000"/>
                </a:solidFill>
                <a:latin typeface="Times New Roman"/>
              </a:rPr>
              <a:t>and </a:t>
            </a:r>
            <a:r>
              <a:rPr b="1" lang="en-US" sz="1100" spc="-1" strike="noStrike" u="sng">
                <a:solidFill>
                  <a:srgbClr val="000000"/>
                </a:solidFill>
                <a:uFillTx/>
                <a:latin typeface="Times New Roman"/>
              </a:rPr>
              <a:t>Lender Code</a:t>
            </a:r>
            <a:r>
              <a:rPr b="0" lang="en-US" sz="1100" spc="-1" strike="noStrike">
                <a:solidFill>
                  <a:srgbClr val="000000"/>
                </a:solidFill>
                <a:latin typeface="Times New Roman"/>
              </a:rPr>
              <a:t>- used to determine the status of the FFEL MPN and who the lender is.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MPN VFC:</a:t>
            </a:r>
            <a:r>
              <a:rPr b="1" i="1" lang="en-US" sz="1100" spc="-1" strike="noStrike">
                <a:solidFill>
                  <a:srgbClr val="000000"/>
                </a:solidFill>
                <a:latin typeface="Times New Roman"/>
              </a:rPr>
              <a:t>	</a:t>
            </a:r>
            <a:r>
              <a:rPr b="0" lang="en-US" sz="1100" spc="-1" strike="noStrike">
                <a:solidFill>
                  <a:srgbClr val="000000"/>
                </a:solidFill>
                <a:latin typeface="Times New Roman"/>
              </a:rPr>
              <a:t>A = 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 = In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 = Closed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 = No MPN on file</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r>
              <a:rPr b="0" lang="en-US" sz="1100" spc="-1" strike="noStrike">
                <a:solidFill>
                  <a:srgbClr val="000000"/>
                </a:solidFill>
                <a:latin typeface="Times New Roman"/>
              </a:rPr>
              <a:t>Lender Code VFC:</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Federal school code X00000-X99999</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Y = More than 1 lender</a:t>
            </a:r>
            <a:br>
              <a:rPr sz="1100"/>
            </a:b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N/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3240" y="676440"/>
            <a:ext cx="4511520" cy="3384360"/>
          </a:xfrm>
          <a:prstGeom prst="rect">
            <a:avLst/>
          </a:prstGeom>
          <a:ln w="0">
            <a:noFill/>
          </a:ln>
        </p:spPr>
      </p:sp>
      <p:sp>
        <p:nvSpPr>
          <p:cNvPr id="170"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irst Name</a:t>
            </a:r>
            <a:r>
              <a:rPr b="0" lang="en-US" sz="1200" spc="-1" strike="noStrike">
                <a:solidFill>
                  <a:srgbClr val="000000"/>
                </a:solidFill>
                <a:latin typeface="Times New Roman"/>
              </a:rPr>
              <a: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from 9 characters to 12 charac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o match the NSLD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ccommodate applicants with longer  names such as “Christo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ddress </a:t>
            </a:r>
            <a:r>
              <a:rPr b="0" lang="en-US" sz="1200" spc="-1" strike="noStrike">
                <a:solidFill>
                  <a:srgbClr val="000000"/>
                </a:solidFill>
                <a:latin typeface="Times New Roman"/>
              </a:rPr>
              <a:t>(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from 28 characters to 35 charac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o match the NSLD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ccommodate applicants with longer addresses, such as those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partment numbers or foreign addresses which are typically longer</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nrollment Status questions</a:t>
            </a:r>
            <a:r>
              <a:rPr b="0" lang="en-US" sz="1200" spc="-1" strike="noStrike">
                <a:solidFill>
                  <a:srgbClr val="000000"/>
                </a:solidFill>
                <a:latin typeface="Times New Roman"/>
              </a:rPr>
              <a:t> (17-21)- </a:t>
            </a:r>
            <a:br>
              <a:rPr sz="1200"/>
            </a:br>
            <a:r>
              <a:rPr b="0" lang="en-US" sz="1200" spc="-1" strike="noStrike">
                <a:solidFill>
                  <a:srgbClr val="000000"/>
                </a:solidFill>
                <a:latin typeface="Times New Roman"/>
              </a:rPr>
              <a:t>    *  “Not Sure” incorporated with “Full time” b/c it was confusing to applicants</a:t>
            </a:r>
            <a:br>
              <a:rPr sz="1200"/>
            </a:br>
            <a:r>
              <a:rPr b="0" lang="en-US" sz="1200" spc="-1" strike="noStrike">
                <a:solidFill>
                  <a:srgbClr val="000000"/>
                </a:solidFill>
                <a:latin typeface="Times New Roman"/>
              </a:rPr>
              <a:t>    *   Label for “Semester/Quarter” was deleted b/c it was confusing to applican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3240" y="676440"/>
            <a:ext cx="4511520" cy="3384360"/>
          </a:xfrm>
          <a:prstGeom prst="rect">
            <a:avLst/>
          </a:prstGeom>
          <a:ln w="0">
            <a:noFill/>
          </a:ln>
        </p:spPr>
      </p:sp>
      <p:sp>
        <p:nvSpPr>
          <p:cNvPr id="172"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a comment from the FAA Community to change the codes to make them more intuitive we chang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year undergraduate/never attended college to 0, and moved the rest of the years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kes more sense that a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year undergraduate/sophomore would be a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split “graduate/professional or bey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year graduate/professional is a “6”</a:t>
            </a:r>
            <a:br>
              <a:rPr sz="1200"/>
            </a:br>
            <a:r>
              <a:rPr b="0" lang="en-US" sz="1200" spc="-1" strike="noStrike">
                <a:solidFill>
                  <a:srgbClr val="000000"/>
                </a:solidFill>
                <a:latin typeface="Times New Roman"/>
              </a:rPr>
              <a:t>Continuing graduate/professional or beyond is a “7”</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30) values were modified and Graduate/professional was split.</a:t>
            </a:r>
            <a:br>
              <a:rPr sz="1200"/>
            </a:br>
            <a:r>
              <a:rPr b="0" lang="en-US" sz="1200" spc="-1" strike="noStrike">
                <a:solidFill>
                  <a:srgbClr val="000000"/>
                </a:solidFill>
                <a:latin typeface="Times New Roman"/>
              </a:rPr>
              <a:t>0 =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year undergraduate/never attended college</a:t>
            </a:r>
            <a:br>
              <a:rPr sz="1200"/>
            </a:br>
            <a:r>
              <a:rPr b="0" lang="en-US" sz="1200" spc="-1" strike="noStrike">
                <a:solidFill>
                  <a:srgbClr val="000000"/>
                </a:solidFill>
                <a:latin typeface="Times New Roman"/>
              </a:rPr>
              <a:t>1 =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year undergraduate/attended college before</a:t>
            </a:r>
            <a:br>
              <a:rPr sz="1200"/>
            </a:br>
            <a:r>
              <a:rPr b="0" lang="en-US" sz="1200" spc="-1" strike="noStrike">
                <a:solidFill>
                  <a:srgbClr val="000000"/>
                </a:solidFill>
                <a:latin typeface="Times New Roman"/>
              </a:rPr>
              <a:t>2 =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year undergraduate/sophomore</a:t>
            </a:r>
            <a:br>
              <a:rPr sz="1200"/>
            </a:br>
            <a:r>
              <a:rPr b="0" lang="en-US" sz="1200" spc="-1" strike="noStrike">
                <a:solidFill>
                  <a:srgbClr val="000000"/>
                </a:solidFill>
                <a:latin typeface="Times New Roman"/>
              </a:rPr>
              <a:t>3 =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year undergraduate/junior</a:t>
            </a:r>
            <a:br>
              <a:rPr sz="1200"/>
            </a:br>
            <a:r>
              <a:rPr b="0" lang="en-US" sz="1200" spc="-1" strike="noStrike">
                <a:solidFill>
                  <a:srgbClr val="000000"/>
                </a:solidFill>
                <a:latin typeface="Times New Roman"/>
              </a:rPr>
              <a:t>4 =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year undergraduate/senior</a:t>
            </a:r>
            <a:br>
              <a:rPr sz="1200"/>
            </a:br>
            <a:r>
              <a:rPr b="0" lang="en-US" sz="1200" spc="-1" strike="noStrike">
                <a:solidFill>
                  <a:srgbClr val="000000"/>
                </a:solidFill>
                <a:latin typeface="Times New Roman"/>
              </a:rPr>
              <a:t>5 = 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year/other undergraduate</a:t>
            </a:r>
            <a:br>
              <a:rPr sz="1200"/>
            </a:br>
            <a:r>
              <a:rPr b="0" lang="en-US" sz="1200" spc="-1" strike="noStrike">
                <a:solidFill>
                  <a:srgbClr val="000000"/>
                </a:solidFill>
                <a:latin typeface="Times New Roman"/>
              </a:rPr>
              <a:t>6 =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year graduate/professional</a:t>
            </a:r>
            <a:br>
              <a:rPr sz="1200"/>
            </a:br>
            <a:r>
              <a:rPr b="0" lang="en-US" sz="1200" spc="-1" strike="noStrike">
                <a:solidFill>
                  <a:srgbClr val="000000"/>
                </a:solidFill>
                <a:latin typeface="Times New Roman"/>
              </a:rPr>
              <a:t>7 = continuing graduate/professional or beyond</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3240" y="676440"/>
            <a:ext cx="4511520" cy="3384360"/>
          </a:xfrm>
          <a:prstGeom prst="rect">
            <a:avLst/>
          </a:prstGeom>
          <a:ln w="0">
            <a:noFill/>
          </a:ln>
        </p:spPr>
      </p:sp>
      <p:sp>
        <p:nvSpPr>
          <p:cNvPr id="174" name="PlaceHolder 2"/>
          <p:cNvSpPr>
            <a:spLocks noGrp="1"/>
          </p:cNvSpPr>
          <p:nvPr>
            <p:ph type="body"/>
          </p:nvPr>
        </p:nvSpPr>
        <p:spPr>
          <a:xfrm>
            <a:off x="293400" y="4284720"/>
            <a:ext cx="632772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rug Question </a:t>
            </a:r>
            <a:r>
              <a:rPr b="0" lang="en-US" sz="1200" spc="-1" strike="noStrike">
                <a:solidFill>
                  <a:srgbClr val="000000"/>
                </a:solidFill>
                <a:latin typeface="Times New Roman"/>
              </a:rPr>
              <a:t>(35)  </a:t>
            </a:r>
            <a:r>
              <a:rPr b="1" lang="en-US" sz="1200" spc="-1" strike="noStrike">
                <a:solidFill>
                  <a:srgbClr val="000000"/>
                </a:solidFill>
                <a:latin typeface="Times New Roman"/>
              </a:rPr>
              <a:t>Do not leave this question blank.  </a:t>
            </a:r>
            <a:r>
              <a:rPr b="0" lang="en-US" sz="1200" spc="-1" strike="noStrike">
                <a:solidFill>
                  <a:srgbClr val="000000"/>
                </a:solidFill>
                <a:latin typeface="Times New Roman"/>
              </a:rPr>
              <a:t>Have you ever been convicted of possessing or selling illegal drugs?  If you have, answer “Yes,” complete and submit this application, and we will send you a worksheet in the mail for you to determine if your conviction affects your eligibility for aid.</a:t>
            </a:r>
            <a:endParaRPr b="0" lang="en-US" sz="1200" spc="-1" strike="noStrike">
              <a:solidFill>
                <a:srgbClr val="000000"/>
              </a:solidFill>
              <a:latin typeface="Times New Roman"/>
            </a:endParaRPr>
          </a:p>
          <a:p>
            <a:pPr lvl="1" marL="4572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Conviction Affecting Eligibility?</a:t>
            </a:r>
            <a:endParaRPr b="0" lang="en-US" sz="1200" spc="-1" strike="noStrike">
              <a:solidFill>
                <a:srgbClr val="000000"/>
              </a:solidFill>
              <a:latin typeface="Times New Roman"/>
            </a:endParaRPr>
          </a:p>
          <a:p>
            <a:pPr lvl="1" marL="457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No</a:t>
            </a:r>
            <a:endParaRPr b="0" lang="en-US" sz="1200" spc="-1" strike="noStrike">
              <a:solidFill>
                <a:srgbClr val="000000"/>
              </a:solidFill>
              <a:latin typeface="Times New Roman"/>
            </a:endParaRPr>
          </a:p>
          <a:p>
            <a:pPr lvl="1" marL="457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 Yes (Part-Year)</a:t>
            </a:r>
            <a:endParaRPr b="0" lang="en-US" sz="1200" spc="-1" strike="noStrike">
              <a:solidFill>
                <a:srgbClr val="000000"/>
              </a:solidFill>
              <a:latin typeface="Times New Roman"/>
            </a:endParaRPr>
          </a:p>
          <a:p>
            <a:pPr lvl="1" marL="4572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Yes / Don’t Know</a:t>
            </a:r>
            <a:endParaRPr b="0" lang="en-US" sz="1200" spc="-1" strike="noStrike">
              <a:solidFill>
                <a:srgbClr val="000000"/>
              </a:solidFill>
              <a:latin typeface="Times New Roman"/>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enter “No” to question 35 on the FAFSA will receive a “1” on their ISIR.  Student who enter “Yes” will receive a “3” on their ISIRs, indicating that they “Don’t Know” whether or not their conviction(s) affect their eligibility.  These students will receive a drug worksheet with their SAR, and a special SAR comment directing them to use the worksheet to determine whether their conviction affects their eligibility and to use the SAR to make a correction if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FAP this fall for a Dear Partner letter that will discuss the drug question in more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x Return filing</a:t>
            </a:r>
            <a:r>
              <a:rPr b="0" lang="en-US" sz="1200" spc="-1" strike="noStrike">
                <a:solidFill>
                  <a:srgbClr val="000000"/>
                </a:solidFill>
                <a:latin typeface="Times New Roman"/>
              </a:rPr>
              <a:t> (36 and 70) FAAs requested this change b/c of confusion with the wording of the responses. The focus of the responses was on filing Vs. completing the application. This year the focus is on completing rather than filing with the IR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 I have </a:t>
            </a:r>
            <a:r>
              <a:rPr b="0" lang="en-US" sz="1200" spc="-1" strike="noStrike" u="sng">
                <a:solidFill>
                  <a:srgbClr val="000000"/>
                </a:solidFill>
                <a:uFillTx/>
                <a:latin typeface="Times New Roman"/>
              </a:rPr>
              <a:t>already completed</a:t>
            </a:r>
            <a:r>
              <a:rPr b="0" lang="en-US" sz="1200" spc="-1" strike="noStrike">
                <a:solidFill>
                  <a:srgbClr val="000000"/>
                </a:solidFill>
                <a:latin typeface="Times New Roman"/>
              </a:rPr>
              <a:t> my return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 I </a:t>
            </a:r>
            <a:r>
              <a:rPr b="0" lang="en-US" sz="1200" spc="-1" strike="noStrike" u="sng">
                <a:solidFill>
                  <a:srgbClr val="000000"/>
                </a:solidFill>
                <a:uFillTx/>
                <a:latin typeface="Times New Roman"/>
              </a:rPr>
              <a:t>will file</a:t>
            </a:r>
            <a:r>
              <a:rPr b="0" lang="en-US" sz="1200" spc="-1" strike="noStrike">
                <a:solidFill>
                  <a:srgbClr val="000000"/>
                </a:solidFill>
                <a:latin typeface="Times New Roman"/>
              </a:rPr>
              <a:t>, but I have </a:t>
            </a:r>
            <a:r>
              <a:rPr b="0" lang="en-US" sz="1200" spc="-1" strike="noStrike" u="sng">
                <a:solidFill>
                  <a:srgbClr val="000000"/>
                </a:solidFill>
                <a:uFillTx/>
                <a:latin typeface="Times New Roman"/>
              </a:rPr>
              <a:t>not yet completed</a:t>
            </a:r>
            <a:r>
              <a:rPr b="0" lang="en-US" sz="1200" spc="-1" strike="noStrike">
                <a:solidFill>
                  <a:srgbClr val="000000"/>
                </a:solidFill>
                <a:latin typeface="Times New Roman"/>
              </a:rPr>
              <a:t> my return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 I’m not going to file</a:t>
            </a:r>
            <a:br>
              <a:rPr sz="1200"/>
            </a:b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3240" y="676440"/>
            <a:ext cx="4511520" cy="3384360"/>
          </a:xfrm>
          <a:prstGeom prst="rect">
            <a:avLst/>
          </a:prstGeom>
          <a:ln w="0">
            <a:noFill/>
          </a:ln>
        </p:spPr>
      </p:sp>
      <p:sp>
        <p:nvSpPr>
          <p:cNvPr id="176"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to File 1040A or 1040EZ (38 and 72) FAA Suggestion; It was difficult for schools who follow up with their students to know why they answered the question the way they did. For schools who follow up with students can more easily define which students they need to contact about the possibility of qualifying for the simplified needs analysi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 Ye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 No</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 Don’t know</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Flags- will now distinguish between fields that were corrected on the current transaction or on a previous transaction. The financial aid administrators we spoke to expressed concern about the inability to determine when a correction was made. To help you determine if a change is associated with the current transaction or a previous transaction the following values will be used for Correction Flag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 = No Correction Mad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 Field Corrected on this transac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 Field Corrected on previous transaction</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3240" y="676440"/>
            <a:ext cx="4511520" cy="3384360"/>
          </a:xfrm>
          <a:prstGeom prst="rect">
            <a:avLst/>
          </a:prstGeom>
          <a:ln w="0">
            <a:noFill/>
          </a:ln>
        </p:spPr>
      </p:sp>
      <p:sp>
        <p:nvSpPr>
          <p:cNvPr id="178"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to File 1040A or 1040EZ (38 and 72) FAA Suggestion; It was difficult for schools who follow up with their students to know why they answered the question the way they did. For schools who follow up with students can more easily define which students they need to contact about the possibility of qualifying for the simplified needs analysi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 Ye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 No</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 Don’t know</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Flags- will now distinguish between fields that were corrected on the current transaction or on a previous transaction. The financial aid administrators we spoke to expressed concern about the inability to determine when a correction was made. To help you determine if a change is associated with the current transaction or a previous transaction the following values will be used for Correction Flag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 = No Correction Mad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 Field Corrected on this transac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 Field Corrected on previous transaction</a:t>
            </a: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3240" y="676440"/>
            <a:ext cx="4511520" cy="3384360"/>
          </a:xfrm>
          <a:prstGeom prst="rect">
            <a:avLst/>
          </a:prstGeom>
          <a:ln w="0">
            <a:noFill/>
          </a:ln>
        </p:spPr>
      </p:sp>
      <p:sp>
        <p:nvSpPr>
          <p:cNvPr id="180"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to File 1040A or 1040EZ (38 and 72) FAA Suggestion; It was difficult for schools who follow up with their students to know why they answered the question the way they did. For schools who follow up with students can more easily define which students they need to contact about the possibility of qualifying for the simplified needs analysi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 Ye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 No</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 Don’t know</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Flags- will now distinguish between fields that were corrected on the current transaction or on a previous transaction. The financial aid administrators we spoke to expressed concern about the inability to determine when a correction was made. To help you determine if a change is associated with the current transaction or a previous transaction the following values will be used for Correction Flag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 = No Correction Mad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 Field Corrected on this transac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 Field Corrected on previous transaction</a:t>
            </a: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3240" y="676440"/>
            <a:ext cx="4511520" cy="3384360"/>
          </a:xfrm>
          <a:prstGeom prst="rect">
            <a:avLst/>
          </a:prstGeom>
          <a:ln w="0">
            <a:noFill/>
          </a:ln>
        </p:spPr>
      </p:sp>
      <p:sp>
        <p:nvSpPr>
          <p:cNvPr id="182"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field lengths for Pell EFC, Scheduled Amount,, Award Amount, Amount paid and Remaining Amount Paid increased from 4 bytes to 6 bytes to agree with data sent from RFMS to NS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culated EFC’s from CPS still remains at 5 digits. The maximum value is 9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3240" y="676440"/>
            <a:ext cx="4511520" cy="3384360"/>
          </a:xfrm>
          <a:prstGeom prst="rect">
            <a:avLst/>
          </a:prstGeom>
          <a:ln w="0">
            <a:noFill/>
          </a:ln>
        </p:spPr>
      </p:sp>
      <p:sp>
        <p:nvSpPr>
          <p:cNvPr id="184"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field lengths for Pell EFC, Scheduled Amount,, Award Amount, Amount paid and Remaining Amount Paid increased from 4 bytes to 6 bytes to agree with data sent from RFMS to NS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culated EFC’s from CPS still remains at 5 digits. The maximum value is 9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3240" y="676440"/>
            <a:ext cx="4511520" cy="3384360"/>
          </a:xfrm>
          <a:prstGeom prst="rect">
            <a:avLst/>
          </a:prstGeom>
          <a:ln w="0">
            <a:noFill/>
          </a:ln>
        </p:spPr>
      </p:sp>
      <p:sp>
        <p:nvSpPr>
          <p:cNvPr id="186"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field lengths for Pell EFC, Scheduled Amount,, Award Amount, Amount paid and Remaining Amount Paid increased from 4 bytes to 6 bytes to agree with data sent from RFMS to NS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culated EFC’s from CPS still remains at 5 digits. The maximum value is 9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3240" y="676440"/>
            <a:ext cx="4511520" cy="3384360"/>
          </a:xfrm>
          <a:prstGeom prst="rect">
            <a:avLst/>
          </a:prstGeom>
          <a:ln w="0">
            <a:noFill/>
          </a:ln>
        </p:spPr>
      </p:sp>
      <p:sp>
        <p:nvSpPr>
          <p:cNvPr id="188"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field lengths for Pell EFC, Scheduled Amount,, Award Amount, Amount paid and Remaining Amount Paid increased from 4 bytes to 6 bytes to agree with data sent from RFMS to NS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culated EFC’s from CPS still remains at 5 digits. The maximum value is 9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3240" y="676440"/>
            <a:ext cx="4511520" cy="3384360"/>
          </a:xfrm>
          <a:prstGeom prst="rect">
            <a:avLst/>
          </a:prstGeom>
          <a:ln w="0">
            <a:noFill/>
          </a:ln>
        </p:spPr>
      </p:sp>
      <p:sp>
        <p:nvSpPr>
          <p:cNvPr id="190"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 Screening Reason Code- Added Reason 5 and 9 as a result of Master Promissory Note (MPN) changes. </a:t>
            </a:r>
            <a:br>
              <a:rPr sz="1200"/>
            </a:b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Student went into default on a loa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 Student owes a newly reported overpayme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Student is no longer in defaul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Student no longer owes an overpayme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 DL or FFEL MP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 Oth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3240" y="676440"/>
            <a:ext cx="4511520" cy="3384360"/>
          </a:xfrm>
          <a:prstGeom prst="rect">
            <a:avLst/>
          </a:prstGeom>
          <a:ln w="0">
            <a:noFill/>
          </a:ln>
        </p:spPr>
      </p:sp>
      <p:sp>
        <p:nvSpPr>
          <p:cNvPr id="192"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 Screening Reason Code- Added Reason 5 and 9 as a result of Master Promissory Note (MPN) changes. </a:t>
            </a:r>
            <a:br>
              <a:rPr sz="1200"/>
            </a:b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Student went into default on a loa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 Student owes a newly reported overpayme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Student is no longer in defaul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Student no longer owes an overpayme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 DL or FFEL MP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 Oth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3240" y="676440"/>
            <a:ext cx="4511520" cy="3384360"/>
          </a:xfrm>
          <a:prstGeom prst="rect">
            <a:avLst/>
          </a:prstGeom>
          <a:ln w="0">
            <a:noFill/>
          </a:ln>
        </p:spPr>
      </p:sp>
      <p:sp>
        <p:nvSpPr>
          <p:cNvPr id="194"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 Screening Reason Code- Added Reason 5 and 9 as a result of Master Promissory Note (MPN) changes. </a:t>
            </a:r>
            <a:br>
              <a:rPr sz="1200"/>
            </a:b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Student went into default on a loa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 Student owes a newly reported overpayme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Student is no longer in defaul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Student no longer owes an overpayme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 DL or FFEL MP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 Oth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3240" y="676440"/>
            <a:ext cx="4511520" cy="3384360"/>
          </a:xfrm>
          <a:prstGeom prst="rect">
            <a:avLst/>
          </a:prstGeom>
          <a:ln w="0">
            <a:noFill/>
          </a:ln>
        </p:spPr>
      </p:sp>
      <p:sp>
        <p:nvSpPr>
          <p:cNvPr id="196"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e Service Match and Registration Change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pplicant changes the response to “Are you Male” from ‘Yes’ to ‘No,’ </a:t>
            </a:r>
            <a:r>
              <a:rPr b="1" lang="en-US" sz="1200" spc="-1" strike="noStrike">
                <a:solidFill>
                  <a:srgbClr val="000000"/>
                </a:solidFill>
                <a:latin typeface="Times New Roman"/>
              </a:rPr>
              <a:t>Reset Match Flag to blank, and </a:t>
            </a:r>
            <a:r>
              <a:rPr b="0" lang="en-US" sz="1200" spc="-1" strike="noStrike">
                <a:solidFill>
                  <a:srgbClr val="000000"/>
                </a:solidFill>
                <a:latin typeface="Times New Roman"/>
              </a:rPr>
              <a:t> the record will not be sent to the SS for matching aga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pplicant changes SSN, First name, Last name or Date of Birth, from a previous transaction that has already been confirmed or exempted by SS, the transaction will be sent to the SS again with the corrected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e of Birth is blank, the transaction will not be sent to the SS for matching.</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3240" y="676440"/>
            <a:ext cx="4511520" cy="3384360"/>
          </a:xfrm>
          <a:prstGeom prst="rect">
            <a:avLst/>
          </a:prstGeom>
          <a:ln w="0">
            <a:noFill/>
          </a:ln>
        </p:spPr>
      </p:sp>
      <p:sp>
        <p:nvSpPr>
          <p:cNvPr id="198"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Prisoner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ch with SSA’s Prisoner File will be implemented as a postscreening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will conduct the prisoner match with SSA approximately every two weeks after applications and corrections have been processed and SARs/ISIRs have been 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record comes back from SSA with an unfavorable prisoner match result, CPS will generate another SAR/ISIR to report the match findings. The CPS system generated indicator will be ‘P’ to identify these record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3240" y="676440"/>
            <a:ext cx="4511520" cy="3384360"/>
          </a:xfrm>
          <a:prstGeom prst="rect">
            <a:avLst/>
          </a:prstGeom>
          <a:ln w="0">
            <a:noFill/>
          </a:ln>
        </p:spPr>
      </p:sp>
      <p:sp>
        <p:nvSpPr>
          <p:cNvPr id="200"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Prisoner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ch with SSA’s Prisoner File will be implemented as a postscreening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will conduct the prisoner match with SSA approximately every two weeks after applications and corrections have been processed and SARs/ISIRs have been 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record comes back from SSA with an unfavorable prisoner match result, CPS will generate another SAR/ISIR to report the match findings. The CPS system generated indicator will be ‘P’ to identify these recor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3240" y="676440"/>
            <a:ext cx="4511520" cy="3384360"/>
          </a:xfrm>
          <a:prstGeom prst="rect">
            <a:avLst/>
          </a:prstGeom>
          <a:ln w="0">
            <a:noFill/>
          </a:ln>
        </p:spPr>
      </p:sp>
      <p:sp>
        <p:nvSpPr>
          <p:cNvPr id="202"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Prisoner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ch with SSA’s Prisoner File will be implemented as a postscreening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will conduct the prisoner match with SSA approximately every two weeks after applications and corrections have been processed and SARs/ISIRs have been 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record comes back from SSA with an unfavorable prisoner match result, CPS will generate another SAR/ISIR to report the match findings. The CPS system generated indicator will be ‘P’ to identify these record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3240" y="676440"/>
            <a:ext cx="4511520" cy="3384360"/>
          </a:xfrm>
          <a:prstGeom prst="rect">
            <a:avLst/>
          </a:prstGeom>
          <a:ln w="0">
            <a:noFill/>
          </a:ln>
        </p:spPr>
      </p:sp>
      <p:sp>
        <p:nvSpPr>
          <p:cNvPr id="204"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Prisoner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ch with SSA’s Prisoner File will be implemented as a postscreening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will conduct the prisoner match with SSA approximately every two weeks after applications and corrections have been processed and SARs/ISIRs have been 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record comes back from SSA with an unfavorable prisoner match result, CPS will generate another SAR/ISIR to report the match findings. The CPS system generated indicator will be ‘P’ to identify these recor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3240" y="676440"/>
            <a:ext cx="4511520" cy="3384360"/>
          </a:xfrm>
          <a:prstGeom prst="rect">
            <a:avLst/>
          </a:prstGeom>
          <a:ln w="0">
            <a:noFill/>
          </a:ln>
        </p:spPr>
      </p:sp>
      <p:sp>
        <p:nvSpPr>
          <p:cNvPr id="206" name="PlaceHolder 2"/>
          <p:cNvSpPr>
            <a:spLocks noGrp="1"/>
          </p:cNvSpPr>
          <p:nvPr>
            <p:ph type="body"/>
          </p:nvPr>
        </p:nvSpPr>
        <p:spPr>
          <a:xfrm>
            <a:off x="456840" y="4191120"/>
            <a:ext cx="5791320" cy="441936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are working with INS to set-up an automatic Secondary Confirmation Match.  We will implement this new match as a pilot, but not until sometime after the 2001-2002 start-up.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nts who apply as eligible non-citizens and provide an alien registration numbers but are not verified by INS primary verification match, will automatically be processed at INS for secondary confirmation.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ay we plan for this match to work is, when we receive records back from INS from Primary Verification, we will determine which records have a match flag of  “N”, not an eligible non-citizen.  Then we will immediately send the INS another file of these records for their secondary confirmation process.  As soon as INS processes the results, they will send the record back to CPS, and we will create a system-generated ISIR and SAR to report the result to schools and students.</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matic secondary confirmation will take longer than the time it takes CPS to process the SARs/ISIRs. So, CPS  will proceed to process the SARs/ISIRs to report the primary verification match results as well as the results from the rest of regular processing. </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INS returns the transactions that they completed secondary confirmation for, CPS will generate another SAR/ISIR to add the results from secondary confirmation. As you know, all system-generated ISIRs are in a separate message class, SYSG02OP. The CPS system generated indicator will be set to “I” to identify these records.</a:t>
            </a:r>
            <a:endParaRPr b="0" lang="en-US" sz="11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3240" y="676440"/>
            <a:ext cx="4511520" cy="3384360"/>
          </a:xfrm>
          <a:prstGeom prst="rect">
            <a:avLst/>
          </a:prstGeom>
          <a:ln w="0">
            <a:noFill/>
          </a:ln>
        </p:spPr>
      </p:sp>
      <p:sp>
        <p:nvSpPr>
          <p:cNvPr id="208"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Prisoner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ch with SSA’s Prisoner File will be implemented as a postscreening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will conduct the prisoner match with SSA approximately every two weeks after applications and corrections have been processed and SARs/ISIRs have been 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record comes back from SSA with an unfavorable prisoner match result, CPS will generate another SAR/ISIR to report the match findings. The CPS system generated indicator will be ‘P’ to identify these record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3240" y="676440"/>
            <a:ext cx="4511520" cy="3384360"/>
          </a:xfrm>
          <a:prstGeom prst="rect">
            <a:avLst/>
          </a:prstGeom>
          <a:ln w="0">
            <a:noFill/>
          </a:ln>
        </p:spPr>
      </p:sp>
      <p:sp>
        <p:nvSpPr>
          <p:cNvPr id="210"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Prisoner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ch with SSA’s Prisoner File will be implemented as a postscreening mat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S will conduct the prisoner match with SSA approximately every two weeks after applications and corrections have been processed and SARs/ISIRs have been s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record comes back from SSA with an unfavorable prisoner match result, CPS will generate another SAR/ISIR to report the match findings. The CPS system generated indicator will be ‘P’ to identify these record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3240" y="676440"/>
            <a:ext cx="4511520" cy="3384360"/>
          </a:xfrm>
          <a:prstGeom prst="rect">
            <a:avLst/>
          </a:prstGeom>
          <a:ln w="0">
            <a:noFill/>
          </a:ln>
        </p:spPr>
      </p:sp>
      <p:sp>
        <p:nvSpPr>
          <p:cNvPr id="212"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further assistance after the session today you can go to the PC Lab in ____________________________________ (</a:t>
            </a:r>
            <a:r>
              <a:rPr b="0" lang="en-US" sz="900" spc="-1" strike="noStrike">
                <a:solidFill>
                  <a:srgbClr val="000000"/>
                </a:solidFill>
                <a:latin typeface="Times New Roman"/>
              </a:rPr>
              <a:t>state room name and give directio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tact CPS Customer Service by phone or email or you can contact SFAT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eciate your feedback and comments on your evaluations.  We use these for future sessions and planning of future conferences.  Please fill out evaluations before you leave.  Put them your evaluations  ____________________________________________(</a:t>
            </a:r>
            <a:r>
              <a:rPr b="0" lang="en-US" sz="900" spc="-1" strike="noStrike">
                <a:solidFill>
                  <a:srgbClr val="000000"/>
                </a:solidFill>
                <a:latin typeface="Times New Roman"/>
              </a:rPr>
              <a:t>tell them where to put the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3240" y="676440"/>
            <a:ext cx="4511520" cy="3384360"/>
          </a:xfrm>
          <a:prstGeom prst="rect">
            <a:avLst/>
          </a:prstGeom>
          <a:ln w="0">
            <a:noFill/>
          </a:ln>
        </p:spPr>
      </p:sp>
      <p:sp>
        <p:nvSpPr>
          <p:cNvPr id="214"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personally thank your for joining our session today.  I hope you enjoy the rest of the conference. We will now address any additional questions that you may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3240" y="676440"/>
            <a:ext cx="4511520" cy="3384360"/>
          </a:xfrm>
          <a:prstGeom prst="rect">
            <a:avLst/>
          </a:prstGeom>
          <a:ln w="0">
            <a:noFill/>
          </a:ln>
        </p:spPr>
      </p:sp>
      <p:sp>
        <p:nvSpPr>
          <p:cNvPr id="156"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the outline/Agenda of what we will be discussing tod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What is the Electronic Data Exchange (EDE) Technical Referen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What is it used fo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Who uses it?</a:t>
            </a: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Where can I get the EDE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SFAtech download si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IFAP web si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Structure of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We will discuss the 8 sections of the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 Data in each sec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 How data is us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At Your Request, we have made several changes-  In this section we will discuss changes that resulted in comments and suggestions from FAAs just like you.</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Data Element Changes- During this section we will talk about the changes to Data Elements on the ISIR.  You may have heard Jeanne speak of the changes that are specific to the FAFSA, but we will also discuss changes specific to the ISI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Delet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Add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  Modified</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Edit Changes- We will discuss some changes to edits performed on application data when it goes through processing at the CPS.</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3240" y="676440"/>
            <a:ext cx="4511520" cy="3384360"/>
          </a:xfrm>
          <a:prstGeom prst="rect">
            <a:avLst/>
          </a:prstGeom>
          <a:ln w="0">
            <a:noFill/>
          </a:ln>
        </p:spPr>
      </p:sp>
      <p:sp>
        <p:nvSpPr>
          <p:cNvPr id="158"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d fie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Driver’s License- Not used and to create space on the FASFSA.  We can deduce this answer by looking at the Driver’s License number and State..  If it is blank, the student does not have on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nd Parent’s Earned Income Credit- Removed from the FAFSA and added to Worksheet A  This was done to consolidate the ‘needy’ items on one worksheet (B)  with non-needy items on another worksheet (C).  This will help you more quickly identify the needies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nd Parent’s Business Net Worth and Student and Parent’s F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 Worth-Combined into on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istics for 1999-2000 show: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of students and 4.2.% of parents reported a value in Business Net Worth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of students and .5% of parents reported a value in Farm Net Worth</a:t>
            </a:r>
            <a:br>
              <a:rPr sz="1100"/>
            </a:b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3240" y="676440"/>
            <a:ext cx="4511520" cy="3384360"/>
          </a:xfrm>
          <a:prstGeom prst="rect">
            <a:avLst/>
          </a:prstGeom>
          <a:ln w="0">
            <a:noFill/>
          </a:ln>
        </p:spPr>
      </p:sp>
      <p:sp>
        <p:nvSpPr>
          <p:cNvPr id="160"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d fie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Driver’s License- Not used and to create space on the FASFSA.  We can deduce this answer by looking at the Driver’s License number and State..  If it is blank, the student does not have on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nd Parent’s Earned Income Credit- Removed from the FAFSA and added to Worksheet A  This was done to consolidate the ‘needy’ items on one worksheet (B)  with non-needy items on another worksheet (C).  This will help you more quickly identify the needies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nd Parent’s Business Net Worth and Student and Parent’s F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 Worth-Combined into on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istics for 1999-2000 show: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of students and 4.2.% of parents reported a value in Business Net Worth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of students and .5% of parents reported a value in Farm Net Worth</a:t>
            </a:r>
            <a:br>
              <a:rPr sz="1100"/>
            </a:b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3240" y="676440"/>
            <a:ext cx="4511520" cy="3384360"/>
          </a:xfrm>
          <a:prstGeom prst="rect">
            <a:avLst/>
          </a:prstGeom>
          <a:ln w="0">
            <a:noFill/>
          </a:ln>
        </p:spPr>
      </p:sp>
      <p:sp>
        <p:nvSpPr>
          <p:cNvPr id="162"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o you have Children </a:t>
            </a:r>
            <a:r>
              <a:rPr b="0" lang="en-US" sz="1200" spc="-1" strike="noStrike">
                <a:solidFill>
                  <a:srgbClr val="000000"/>
                </a:solidFill>
                <a:latin typeface="Times New Roman"/>
              </a:rPr>
              <a:t>(55) is a new field.  It was split out from Do you have Legal Dependants other than a Spouse making it easier for the applicant to und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tudent’s and Parents’ Income from Worksheet C</a:t>
            </a:r>
            <a:r>
              <a:rPr b="0" lang="en-US" sz="1200" spc="-1" strike="noStrike">
                <a:solidFill>
                  <a:srgbClr val="000000"/>
                </a:solidFill>
                <a:latin typeface="Times New Roman"/>
              </a:rPr>
              <a:t> (46 and 80)- FAAs requested a way to determine values for the welfare amounts because some schools offer certain aid based on these figures. To accommodate this request the Worksheet A was split into two worksheets moving the previous Worksheet B to Worksheet C. Worksheet B will have “Need based income” and Worksheet C  is “Non need based inc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tudent’s and Parents’ Business/ Farm Net Worth</a:t>
            </a:r>
            <a:r>
              <a:rPr b="0" lang="en-US" sz="1200" spc="-1" strike="noStrike">
                <a:solidFill>
                  <a:srgbClr val="000000"/>
                </a:solidFill>
                <a:latin typeface="Times New Roman"/>
              </a:rPr>
              <a:t> (48 and 82)- new field resulting in the combination of the two individual fields we discussed as being delet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tudent’s E-mail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50 byte field added to electronic apps….Web, FE, EDExpress, and PIC. This question is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on the paper FAFS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3240" y="676440"/>
            <a:ext cx="4511520" cy="3384360"/>
          </a:xfrm>
          <a:prstGeom prst="rect">
            <a:avLst/>
          </a:prstGeom>
          <a:ln w="0">
            <a:noFill/>
          </a:ln>
        </p:spPr>
      </p:sp>
      <p:sp>
        <p:nvSpPr>
          <p:cNvPr id="164" name="PlaceHolder 2"/>
          <p:cNvSpPr>
            <a:spLocks noGrp="1"/>
          </p:cNvSpPr>
          <p:nvPr>
            <p:ph type="body"/>
          </p:nvPr>
        </p:nvSpPr>
        <p:spPr>
          <a:xfrm>
            <a:off x="533520" y="4511520"/>
            <a:ext cx="5790960" cy="383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Duplicate SSN Flag-</a:t>
            </a:r>
            <a:r>
              <a:rPr b="0" lang="en-US" sz="1100" spc="-1" strike="noStrike">
                <a:solidFill>
                  <a:srgbClr val="000000"/>
                </a:solidFill>
                <a:latin typeface="Times New Roman"/>
              </a:rPr>
              <a:t> Indicates if another filer is using an original SSN that is the same as another original SSN already on file at the CPS. This field was added as an indicator for FAAs. There is a 'Y' in the field if another filer is using this original SSN.</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200" spc="-1" strike="noStrike">
                <a:solidFill>
                  <a:srgbClr val="000000"/>
                </a:solidFill>
                <a:latin typeface="Times New Roman"/>
              </a:rPr>
              <a:t>Y = Another filer also using this SS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ank = N/A</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ource Correction Flag</a:t>
            </a:r>
            <a:r>
              <a:rPr b="0" lang="en-US" sz="1100" spc="-1" strike="noStrike">
                <a:solidFill>
                  <a:srgbClr val="000000"/>
                </a:solidFill>
                <a:latin typeface="Times New Roman"/>
              </a:rPr>
              <a:t>-FAA Requested to inform schools who made corrections to a transaction.</a:t>
            </a: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 Applicant  (MDE, PIC or COTW)</a:t>
            </a:r>
            <a:br>
              <a:rPr sz="1100"/>
            </a:br>
            <a:r>
              <a:rPr b="0" lang="en-US" sz="1100" spc="-1" strike="noStrike">
                <a:solidFill>
                  <a:srgbClr val="000000"/>
                </a:solidFill>
                <a:latin typeface="Times New Roman"/>
              </a:rPr>
              <a:t>                      D = CPS (System Generated by ED b/c of hold release, postscreening or reprocess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 = School (electonic correction from school, via EDExpress or their own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3240" y="676440"/>
            <a:ext cx="4511520" cy="3384360"/>
          </a:xfrm>
          <a:prstGeom prst="rect">
            <a:avLst/>
          </a:prstGeom>
          <a:ln w="0">
            <a:noFill/>
          </a:ln>
        </p:spPr>
      </p:sp>
      <p:sp>
        <p:nvSpPr>
          <p:cNvPr id="166" name="PlaceHolder 2"/>
          <p:cNvSpPr>
            <a:spLocks noGrp="1"/>
          </p:cNvSpPr>
          <p:nvPr>
            <p:ph type="body"/>
          </p:nvPr>
        </p:nvSpPr>
        <p:spPr>
          <a:xfrm>
            <a:off x="914400" y="4284720"/>
            <a:ext cx="5029200" cy="4060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ded Fiel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EFC Change Flag-</a:t>
            </a:r>
            <a:r>
              <a:rPr b="0" lang="en-US" sz="1100" spc="-1" strike="noStrike">
                <a:solidFill>
                  <a:srgbClr val="000000"/>
                </a:solidFill>
                <a:latin typeface="Times New Roman"/>
              </a:rPr>
              <a:t> indicates if the EFC has increased or decreased from the transaction that was corrected.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 = EFC increased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2 = EFC decreased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lank = No change</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DL MPN Flag-</a:t>
            </a:r>
            <a:r>
              <a:rPr b="0" lang="en-US" sz="1100" spc="-1" strike="noStrike">
                <a:solidFill>
                  <a:srgbClr val="000000"/>
                </a:solidFill>
                <a:latin typeface="Times New Roman"/>
              </a:rPr>
              <a:t> used to determine the status of the Direct Loan MPN</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 = 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 = In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 = Closed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 = No MPN on file</a:t>
            </a:r>
            <a:br>
              <a:rPr sz="1100"/>
            </a:b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A7B89D-05B1-40C0-84B7-F5E9ED313F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A12926-2C67-42D1-9C89-52EEA01C2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97401E-22BD-40C6-BB5F-46E00E1B4B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6F968D-C53C-4481-A4F2-DF3AE172F7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032C32-72E2-4E47-A39A-08437EC4A3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BF36D-3878-4ED6-AF34-0A488834CA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D0792B-CC03-4DD2-AE52-A8539DECD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E599FB-17ED-488D-8090-56EEBE4389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3496E9-5AC2-4C4D-8C33-C2F5989A88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D19CBA-1AF5-41D3-8D4F-B52296191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A4CAC6-6500-4FF9-A1F2-8C43A8C6D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6A95FF-1977-4E43-8C7F-46860C0943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C449-C624-433C-AF92-89FCD253DC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7"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2E68-4E3F-4C96-A3C0-C740827685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9"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57200"/>
            <a:ext cx="635472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08" name="PlaceHolder 2"/>
          <p:cNvSpPr>
            <a:spLocks noGrp="1"/>
          </p:cNvSpPr>
          <p:nvPr>
            <p:ph/>
          </p:nvPr>
        </p:nvSpPr>
        <p:spPr>
          <a:xfrm>
            <a:off x="807840" y="1676520"/>
            <a:ext cx="83358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ISIR Fields (Cont.)</a:t>
            </a:r>
            <a:endParaRPr b="0" lang="en-US" sz="3200" spc="-1" strike="noStrike">
              <a:solidFill>
                <a:srgbClr val="0019a8"/>
              </a:solidFill>
              <a:latin typeface="Arial"/>
            </a:endParaRPr>
          </a:p>
          <a:p>
            <a:pPr lvl="1" marL="743040" indent="-285840">
              <a:lnSpc>
                <a:spcPct val="100000"/>
              </a:lnSpc>
              <a:spcBef>
                <a:spcPts val="700"/>
              </a:spcBef>
              <a:buClr>
                <a:srgbClr val="0019a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Tahoma"/>
              </a:rPr>
              <a:t>Duplicate SSN Indicator (269)</a:t>
            </a:r>
            <a:endParaRPr b="0" lang="en-US" sz="2800" spc="-1" strike="noStrike">
              <a:solidFill>
                <a:srgbClr val="0019a8"/>
              </a:solidFill>
              <a:latin typeface="Arial"/>
            </a:endParaRPr>
          </a:p>
          <a:p>
            <a:pPr lvl="2" marL="1143000" indent="-228600">
              <a:lnSpc>
                <a:spcPct val="100000"/>
              </a:lnSpc>
              <a:spcBef>
                <a:spcPts val="601"/>
              </a:spcBef>
              <a:buClr>
                <a:srgbClr val="0019a8"/>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Y = SSN equal to transaction already on file but Name ID does not match</a:t>
            </a:r>
            <a:r>
              <a:rPr b="0" lang="en-US" sz="2400" spc="-1" strike="noStrike">
                <a:solidFill>
                  <a:srgbClr val="0019a8"/>
                </a:solidFill>
                <a:latin typeface="Tahoma"/>
              </a:rPr>
              <a:t>	</a:t>
            </a:r>
            <a:r>
              <a:rPr b="0" lang="en-US" sz="2400" spc="-1" strike="noStrike">
                <a:solidFill>
                  <a:srgbClr val="0019a8"/>
                </a:solidFill>
                <a:latin typeface="Tahoma"/>
              </a:rPr>
              <a:t>	</a:t>
            </a:r>
            <a:r>
              <a:rPr b="0" lang="en-US" sz="2400" spc="-1" strike="noStrike">
                <a:solidFill>
                  <a:srgbClr val="0019a8"/>
                </a:solidFill>
                <a:latin typeface="Tahoma"/>
              </a:rPr>
              <a:t>	</a:t>
            </a:r>
            <a:r>
              <a:rPr b="0" lang="en-US" sz="2400" spc="-1" strike="noStrike">
                <a:solidFill>
                  <a:srgbClr val="0019a8"/>
                </a:solidFill>
                <a:latin typeface="Tahoma"/>
              </a:rPr>
              <a:t>	</a:t>
            </a:r>
            <a:r>
              <a:rPr b="0" lang="en-US" sz="2400" spc="-1" strike="noStrike">
                <a:solidFill>
                  <a:srgbClr val="0019a8"/>
                </a:solidFill>
                <a:latin typeface="Tahoma"/>
              </a:rPr>
              <a:t>      (If SSN and Name ID match, Subsequent Application Flag is set to Y)</a:t>
            </a:r>
            <a:endParaRPr b="0" lang="en-US" sz="2400" spc="-1" strike="noStrike">
              <a:solidFill>
                <a:srgbClr val="0019a8"/>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lvl="1" marL="743040" indent="-285840">
              <a:lnSpc>
                <a:spcPct val="100000"/>
              </a:lnSpc>
              <a:spcBef>
                <a:spcPts val="700"/>
              </a:spcBef>
              <a:buClr>
                <a:srgbClr val="0019a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Tahoma"/>
              </a:rPr>
              <a:t>Secondary INS Match Flag (150)</a:t>
            </a:r>
            <a:endParaRPr b="0" lang="en-US" sz="2800" spc="-1" strike="noStrike">
              <a:solidFill>
                <a:srgbClr val="0019a8"/>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36CEF577-D70A-4FB4-BFDA-AA9DA712C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666520" y="457200"/>
            <a:ext cx="627876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1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Fields</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atch Year: new value is 2</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rst Name: field length now 12</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ress: field length now 35</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rital Status: 2 = Married/</a:t>
            </a:r>
            <a:r>
              <a:rPr b="0" i="1" lang="en-US" sz="2800" spc="-1" strike="noStrike">
                <a:solidFill>
                  <a:srgbClr val="0019a8"/>
                </a:solidFill>
                <a:latin typeface="Arial"/>
              </a:rPr>
              <a:t>Remarried</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rital Status Date: 190001 to 200212</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nrollment Status: 1 = Full time/</a:t>
            </a:r>
            <a:r>
              <a:rPr b="0" i="1" lang="en-US" sz="2800" spc="-1" strike="noStrike">
                <a:solidFill>
                  <a:srgbClr val="0019a8"/>
                </a:solidFill>
                <a:latin typeface="Arial"/>
              </a:rPr>
              <a:t>Not Sure</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egal Residence Date: 190001 to 200212</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1E6198A0-1E5F-4C47-847A-A8200F55A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42840" y="456840"/>
            <a:ext cx="6202440" cy="12193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1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2000"/>
          </a:bodyPr>
          <a:p>
            <a:pPr marL="315360" indent="-31536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Fields (Cont.)</a:t>
            </a:r>
            <a:endParaRPr b="0" lang="en-US" sz="3200" spc="-1" strike="noStrike">
              <a:solidFill>
                <a:srgbClr val="0019a8"/>
              </a:solidFill>
              <a:latin typeface="Arial"/>
            </a:endParaRPr>
          </a:p>
          <a:p>
            <a:pPr lvl="1" marL="683280" indent="-2628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rade Level: values changed </a:t>
            </a:r>
            <a:endParaRPr b="0" lang="en-US" sz="2800" spc="-1" strike="noStrike">
              <a:solidFill>
                <a:srgbClr val="0019a8"/>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0 = 1</a:t>
            </a:r>
            <a:r>
              <a:rPr b="0" lang="en-US" sz="2400" spc="-1" strike="noStrike" baseline="30000">
                <a:solidFill>
                  <a:srgbClr val="0019a8"/>
                </a:solidFill>
                <a:latin typeface="Arial"/>
              </a:rPr>
              <a:t>st</a:t>
            </a:r>
            <a:r>
              <a:rPr b="0" lang="en-US" sz="2400" spc="-1" strike="noStrike">
                <a:solidFill>
                  <a:srgbClr val="0019a8"/>
                </a:solidFill>
                <a:latin typeface="Arial"/>
              </a:rPr>
              <a:t> year undergraduate/never attended college</a:t>
            </a:r>
            <a:br>
              <a:rPr sz="2400"/>
            </a:br>
            <a:r>
              <a:rPr b="0" lang="en-US" sz="2400" spc="-1" strike="noStrike">
                <a:solidFill>
                  <a:srgbClr val="0019a8"/>
                </a:solidFill>
                <a:latin typeface="Arial"/>
              </a:rPr>
              <a:t>1 = 1</a:t>
            </a:r>
            <a:r>
              <a:rPr b="0" lang="en-US" sz="2400" spc="-1" strike="noStrike" baseline="30000">
                <a:solidFill>
                  <a:srgbClr val="0019a8"/>
                </a:solidFill>
                <a:latin typeface="Arial"/>
              </a:rPr>
              <a:t>st</a:t>
            </a:r>
            <a:r>
              <a:rPr b="0" lang="en-US" sz="2400" spc="-1" strike="noStrike">
                <a:solidFill>
                  <a:srgbClr val="0019a8"/>
                </a:solidFill>
                <a:latin typeface="Arial"/>
              </a:rPr>
              <a:t> year undergraduate/attended college before</a:t>
            </a:r>
            <a:br>
              <a:rPr sz="2400"/>
            </a:br>
            <a:r>
              <a:rPr b="0" lang="en-US" sz="2400" spc="-1" strike="noStrike">
                <a:solidFill>
                  <a:srgbClr val="0019a8"/>
                </a:solidFill>
                <a:latin typeface="Arial"/>
              </a:rPr>
              <a:t>2 = 2</a:t>
            </a:r>
            <a:r>
              <a:rPr b="0" lang="en-US" sz="2400" spc="-1" strike="noStrike" baseline="30000">
                <a:solidFill>
                  <a:srgbClr val="0019a8"/>
                </a:solidFill>
                <a:latin typeface="Arial"/>
              </a:rPr>
              <a:t>nd</a:t>
            </a:r>
            <a:r>
              <a:rPr b="0" lang="en-US" sz="2400" spc="-1" strike="noStrike">
                <a:solidFill>
                  <a:srgbClr val="0019a8"/>
                </a:solidFill>
                <a:latin typeface="Arial"/>
              </a:rPr>
              <a:t> year undergraduate/sophomore</a:t>
            </a:r>
            <a:br>
              <a:rPr sz="2400"/>
            </a:br>
            <a:r>
              <a:rPr b="0" lang="en-US" sz="2400" spc="-1" strike="noStrike">
                <a:solidFill>
                  <a:srgbClr val="0019a8"/>
                </a:solidFill>
                <a:latin typeface="Arial"/>
              </a:rPr>
              <a:t>3 = 3</a:t>
            </a:r>
            <a:r>
              <a:rPr b="0" lang="en-US" sz="2400" spc="-1" strike="noStrike" baseline="30000">
                <a:solidFill>
                  <a:srgbClr val="0019a8"/>
                </a:solidFill>
                <a:latin typeface="Arial"/>
              </a:rPr>
              <a:t>rd</a:t>
            </a:r>
            <a:r>
              <a:rPr b="0" lang="en-US" sz="2400" spc="-1" strike="noStrike">
                <a:solidFill>
                  <a:srgbClr val="0019a8"/>
                </a:solidFill>
                <a:latin typeface="Arial"/>
              </a:rPr>
              <a:t> year undergraduate/junior</a:t>
            </a:r>
            <a:br>
              <a:rPr sz="2400"/>
            </a:br>
            <a:r>
              <a:rPr b="0" lang="en-US" sz="2400" spc="-1" strike="noStrike">
                <a:solidFill>
                  <a:srgbClr val="0019a8"/>
                </a:solidFill>
                <a:latin typeface="Arial"/>
              </a:rPr>
              <a:t>4 = 4</a:t>
            </a:r>
            <a:r>
              <a:rPr b="0" lang="en-US" sz="2400" spc="-1" strike="noStrike" baseline="30000">
                <a:solidFill>
                  <a:srgbClr val="0019a8"/>
                </a:solidFill>
                <a:latin typeface="Arial"/>
              </a:rPr>
              <a:t>th</a:t>
            </a:r>
            <a:r>
              <a:rPr b="0" lang="en-US" sz="2400" spc="-1" strike="noStrike">
                <a:solidFill>
                  <a:srgbClr val="0019a8"/>
                </a:solidFill>
                <a:latin typeface="Arial"/>
              </a:rPr>
              <a:t> year undergraduate/senior</a:t>
            </a:r>
            <a:br>
              <a:rPr sz="2400"/>
            </a:br>
            <a:r>
              <a:rPr b="0" lang="en-US" sz="2400" spc="-1" strike="noStrike">
                <a:solidFill>
                  <a:srgbClr val="0019a8"/>
                </a:solidFill>
                <a:latin typeface="Arial"/>
              </a:rPr>
              <a:t>5 = 5</a:t>
            </a:r>
            <a:r>
              <a:rPr b="0" lang="en-US" sz="2400" spc="-1" strike="noStrike" baseline="30000">
                <a:solidFill>
                  <a:srgbClr val="0019a8"/>
                </a:solidFill>
                <a:latin typeface="Arial"/>
              </a:rPr>
              <a:t>th</a:t>
            </a:r>
            <a:r>
              <a:rPr b="0" lang="en-US" sz="2400" spc="-1" strike="noStrike">
                <a:solidFill>
                  <a:srgbClr val="0019a8"/>
                </a:solidFill>
                <a:latin typeface="Arial"/>
              </a:rPr>
              <a:t> year/other undergraduate</a:t>
            </a:r>
            <a:br>
              <a:rPr sz="2400"/>
            </a:br>
            <a:r>
              <a:rPr b="0" lang="en-US" sz="2400" spc="-1" strike="noStrike">
                <a:solidFill>
                  <a:srgbClr val="0019a8"/>
                </a:solidFill>
                <a:latin typeface="Arial"/>
              </a:rPr>
              <a:t>6 = 1</a:t>
            </a:r>
            <a:r>
              <a:rPr b="0" lang="en-US" sz="2400" spc="-1" strike="noStrike" baseline="30000">
                <a:solidFill>
                  <a:srgbClr val="0019a8"/>
                </a:solidFill>
                <a:latin typeface="Arial"/>
              </a:rPr>
              <a:t>st</a:t>
            </a:r>
            <a:r>
              <a:rPr b="0" lang="en-US" sz="2400" spc="-1" strike="noStrike">
                <a:solidFill>
                  <a:srgbClr val="0019a8"/>
                </a:solidFill>
                <a:latin typeface="Arial"/>
              </a:rPr>
              <a:t> year graduate/professional</a:t>
            </a:r>
            <a:br>
              <a:rPr sz="2400"/>
            </a:br>
            <a:r>
              <a:rPr b="0" lang="en-US" sz="2400" spc="-1" strike="noStrike">
                <a:solidFill>
                  <a:srgbClr val="0019a8"/>
                </a:solidFill>
                <a:latin typeface="Arial"/>
              </a:rPr>
              <a:t>7 = Continuing graduate/professional or beyond</a:t>
            </a:r>
            <a:br>
              <a:rPr sz="2400"/>
            </a:b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AEC65DFA-4101-4B7C-BF06-903C289FC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1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Fields (Cont.)</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rug question </a:t>
            </a:r>
            <a:endParaRPr b="0" lang="en-US" sz="2800" spc="-1" strike="noStrike">
              <a:solidFill>
                <a:srgbClr val="0019a8"/>
              </a:solidFill>
              <a:latin typeface="Arial"/>
            </a:endParaRPr>
          </a:p>
          <a:p>
            <a:pPr lvl="2" marL="1119960" indent="-22392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2000-2001 - “Aid Eligibility Response (Drug Conviction)”</a:t>
            </a:r>
            <a:endParaRPr b="0" lang="en-US" sz="2400" spc="-1" strike="noStrike">
              <a:solidFill>
                <a:srgbClr val="0019a8"/>
              </a:solidFill>
              <a:latin typeface="Arial"/>
            </a:endParaRPr>
          </a:p>
          <a:p>
            <a:pPr lvl="3" marL="1568160" indent="-223920">
              <a:lnSpc>
                <a:spcPct val="100000"/>
              </a:lnSpc>
              <a:spcBef>
                <a:spcPts val="499"/>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Tahoma"/>
              </a:rPr>
              <a:t>1 = Eligible, 2 = Part Year Eligibility, 3 = Ineligible/Don’t Know</a:t>
            </a:r>
            <a:endParaRPr b="0" lang="en-US" sz="2000" spc="-1" strike="noStrike">
              <a:solidFill>
                <a:srgbClr val="0019a8"/>
              </a:solidFill>
              <a:latin typeface="Arial"/>
            </a:endParaRPr>
          </a:p>
          <a:p>
            <a:pPr lvl="2" marL="1119960" indent="-22392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2001-2002 - “Drug Conviction Affecting Eligibility?”</a:t>
            </a:r>
            <a:endParaRPr b="0" lang="en-US" sz="2400" spc="-1" strike="noStrike">
              <a:solidFill>
                <a:srgbClr val="0019a8"/>
              </a:solidFill>
              <a:latin typeface="Arial"/>
            </a:endParaRPr>
          </a:p>
          <a:p>
            <a:pPr lvl="3" marL="1568160" indent="-223920">
              <a:lnSpc>
                <a:spcPct val="100000"/>
              </a:lnSpc>
              <a:spcBef>
                <a:spcPts val="499"/>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Tahoma"/>
              </a:rPr>
              <a:t>1 = No</a:t>
            </a:r>
            <a:endParaRPr b="0" lang="en-US" sz="2000" spc="-1" strike="noStrike">
              <a:solidFill>
                <a:srgbClr val="0019a8"/>
              </a:solidFill>
              <a:latin typeface="Arial"/>
            </a:endParaRPr>
          </a:p>
          <a:p>
            <a:pPr lvl="3" marL="1568160" indent="-223920">
              <a:lnSpc>
                <a:spcPct val="100000"/>
              </a:lnSpc>
              <a:spcBef>
                <a:spcPts val="499"/>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Tahoma"/>
              </a:rPr>
              <a:t>2 = Yes (Part-Year)</a:t>
            </a:r>
            <a:endParaRPr b="0" lang="en-US" sz="2000" spc="-1" strike="noStrike">
              <a:solidFill>
                <a:srgbClr val="0019a8"/>
              </a:solidFill>
              <a:latin typeface="Arial"/>
            </a:endParaRPr>
          </a:p>
          <a:p>
            <a:pPr lvl="3" marL="1568160" indent="-223920">
              <a:lnSpc>
                <a:spcPct val="100000"/>
              </a:lnSpc>
              <a:spcBef>
                <a:spcPts val="499"/>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Tahoma"/>
              </a:rPr>
              <a:t>3 = Yes/Don’t Know</a:t>
            </a:r>
            <a:endParaRPr b="0" lang="en-US" sz="2000" spc="-1" strike="noStrike">
              <a:solidFill>
                <a:srgbClr val="0019a8"/>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9DD474F0-1B72-4247-A5DD-DABC3C4AF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457200"/>
            <a:ext cx="612612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1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Fields (Co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ax Return Filed: 1 = Already Comple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igible to file 1040A/1040EZ: </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1 = Yes,  2 = No,  3 = Don’t know</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e Fields (Date Completed, Application Receipt Date, Transaction Receipt Date): 20010101 to 20021231</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624A6351-D5F7-4549-9843-A3DC06326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457200"/>
            <a:ext cx="612612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1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4000"/>
          </a:bodyPr>
          <a:p>
            <a:pPr marL="322200" indent="-3222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Fields (Cont.) </a:t>
            </a:r>
            <a:endParaRPr b="0" lang="en-US" sz="3200" spc="-1" strike="noStrike">
              <a:solidFill>
                <a:srgbClr val="0019a8"/>
              </a:solidFill>
              <a:latin typeface="Arial"/>
            </a:endParaRPr>
          </a:p>
          <a:p>
            <a:pPr lvl="1" marL="698400" indent="-2685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atch Number: modified cycle year to 2</a:t>
            </a:r>
            <a:endParaRPr b="0" lang="en-US" sz="2800" spc="-1" strike="noStrike">
              <a:solidFill>
                <a:srgbClr val="0019a8"/>
              </a:solidFill>
              <a:latin typeface="Arial"/>
            </a:endParaRPr>
          </a:p>
          <a:p>
            <a:pPr lvl="1" marL="698400" indent="-2685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ec App Entry Source: 6 = Spanish FOTW; 8 = English FOTW</a:t>
            </a:r>
            <a:endParaRPr b="0" lang="en-US" sz="2800" spc="-1" strike="noStrike">
              <a:solidFill>
                <a:srgbClr val="0019a8"/>
              </a:solidFill>
              <a:latin typeface="Arial"/>
            </a:endParaRPr>
          </a:p>
          <a:p>
            <a:pPr lvl="1" marL="698400" indent="-2685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ys Gen Indicator:  I = Secondary INS Match; P = SSA Prisoner Post-Screening</a:t>
            </a:r>
            <a:endParaRPr b="0" lang="en-US" sz="2800" spc="-1" strike="noStrike">
              <a:solidFill>
                <a:srgbClr val="0019a8"/>
              </a:solidFill>
              <a:latin typeface="Arial"/>
            </a:endParaRPr>
          </a:p>
          <a:p>
            <a:pPr lvl="1" marL="698400" indent="-2685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ransaction Source/Site: 76 = NCS INS Secondary Match; 77 = NCS SSA Prisoner Post-Screening</a:t>
            </a:r>
            <a:endParaRPr b="0" lang="en-US" sz="2800" spc="-1" strike="noStrike">
              <a:solidFill>
                <a:srgbClr val="0019a8"/>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5D738C9B-B7EA-4FF0-A2B2-321568A89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457200"/>
            <a:ext cx="612612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2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7000"/>
          </a:bodyPr>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Fields (Cont.) </a:t>
            </a:r>
            <a:endParaRPr b="0" lang="en-US" sz="32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eld Correction Flags: modified to identify corrections both by transaction and cumulatively (165)</a:t>
            </a:r>
            <a:endParaRPr b="0" lang="en-US" sz="28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0 = Field has not been corrected</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1 = Field corrected on this transaction</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2 = Field corrected on previous transaction</a:t>
            </a:r>
            <a:endParaRPr b="0" lang="en-US" sz="24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ller (between ISIR and NSLDS data): field length increased to 22</a:t>
            </a:r>
            <a:endParaRPr b="0" lang="en-US" sz="2800" spc="-1" strike="noStrike">
              <a:solidFill>
                <a:srgbClr val="0019a8"/>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C598FDE9-AED8-41A9-AA79-060EBE05ED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42840" y="457200"/>
            <a:ext cx="620244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22"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NSLDS History Fiel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L Master Promissory Note (MPN) Flag:</a:t>
            </a:r>
            <a:endParaRPr b="0" lang="en-US" sz="28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 = Active</a:t>
            </a:r>
            <a:r>
              <a:rPr b="0" lang="en-US" sz="2400" spc="-1" strike="noStrike">
                <a:solidFill>
                  <a:srgbClr val="0019a8"/>
                </a:solidFill>
                <a:latin typeface="Arial"/>
              </a:rPr>
              <a:t>	</a:t>
            </a:r>
            <a:r>
              <a:rPr b="0" lang="en-US" sz="2400" spc="-1" strike="noStrike">
                <a:solidFill>
                  <a:srgbClr val="0019a8"/>
                </a:solidFill>
                <a:latin typeface="Arial"/>
              </a:rPr>
              <a:t>	</a:t>
            </a:r>
            <a:r>
              <a:rPr b="0" lang="en-US" sz="2400" spc="-1" strike="noStrike">
                <a:solidFill>
                  <a:srgbClr val="0019a8"/>
                </a:solidFill>
                <a:latin typeface="Arial"/>
              </a:rPr>
              <a:t>C = Closed</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 = Inactive</a:t>
            </a:r>
            <a:r>
              <a:rPr b="0" lang="en-US" sz="2400" spc="-1" strike="noStrike">
                <a:solidFill>
                  <a:srgbClr val="0019a8"/>
                </a:solidFill>
                <a:latin typeface="Arial"/>
              </a:rPr>
              <a:t>	</a:t>
            </a:r>
            <a:r>
              <a:rPr b="0" lang="en-US" sz="2400" spc="-1" strike="noStrike">
                <a:solidFill>
                  <a:srgbClr val="0019a8"/>
                </a:solidFill>
                <a:latin typeface="Arial"/>
              </a:rPr>
              <a:t>	</a:t>
            </a:r>
            <a:r>
              <a:rPr b="0" lang="en-US" sz="2400" spc="-1" strike="noStrike">
                <a:solidFill>
                  <a:srgbClr val="0019a8"/>
                </a:solidFill>
                <a:latin typeface="Arial"/>
              </a:rPr>
              <a:t>N = No MPN on file</a:t>
            </a:r>
            <a:endParaRPr b="0" lang="en-US" sz="2400" spc="-1" strike="noStrike">
              <a:solidFill>
                <a:srgbClr val="0019a8"/>
              </a:solidFill>
              <a:latin typeface="Arial"/>
            </a:endParaRPr>
          </a:p>
          <a:p>
            <a:pPr lvl="1" marL="743040" indent="-28584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FEL MPN Flag (A, I, C, N, U )</a:t>
            </a:r>
            <a:r>
              <a:rPr b="0" lang="en-US" sz="2800" spc="-1" strike="noStrike">
                <a:solidFill>
                  <a:srgbClr val="0019a8"/>
                </a:solidFill>
                <a:latin typeface="Arial"/>
              </a:rPr>
              <a:t>	</a:t>
            </a:r>
            <a:r>
              <a:rPr b="0" lang="en-US" sz="2800" spc="-1" strike="noStrike">
                <a:solidFill>
                  <a:srgbClr val="0019a8"/>
                </a:solidFill>
                <a:latin typeface="Arial"/>
              </a:rPr>
              <a:t>	</a:t>
            </a:r>
            <a:r>
              <a:rPr b="0" lang="en-US" sz="2800" spc="-1" strike="noStrike">
                <a:solidFill>
                  <a:srgbClr val="0019a8"/>
                </a:solidFill>
                <a:latin typeface="Arial"/>
              </a:rPr>
              <a:t>	</a:t>
            </a:r>
            <a:r>
              <a:rPr b="0" lang="en-US" sz="2800" spc="-1" strike="noStrike">
                <a:solidFill>
                  <a:srgbClr val="0019a8"/>
                </a:solidFill>
                <a:latin typeface="Arial"/>
              </a:rPr>
              <a:t>  </a:t>
            </a:r>
            <a:r>
              <a:rPr b="0" lang="en-US" sz="2400" spc="-1" strike="noStrike">
                <a:solidFill>
                  <a:srgbClr val="0019a8"/>
                </a:solidFill>
                <a:latin typeface="Arial"/>
              </a:rPr>
              <a:t>U = Unavailable</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FEL Lender Code</a:t>
            </a:r>
            <a:endParaRPr b="0" lang="en-US" sz="28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6-digit code or N/A if does not apply</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Y = more than one lender</a:t>
            </a:r>
            <a:endParaRPr b="0" lang="en-US" sz="2400" spc="-1" strike="noStrike">
              <a:solidFill>
                <a:srgbClr val="0019a8"/>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71A40823-852D-4A48-87EF-817B887D3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2840" y="457200"/>
            <a:ext cx="620244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24"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NSLDS History Fields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itional Unsubsidized Loan Flag: added at loan level</a:t>
            </a:r>
            <a:endParaRPr b="0" lang="en-US" sz="28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 = PLUS denial</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 = Health Professional</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B = Both</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 = Neither</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pitalized Interest Flag: added at loan level, Y or N</a:t>
            </a:r>
            <a:endParaRPr b="0" lang="en-US" sz="2800" spc="-1" strike="noStrike">
              <a:solidFill>
                <a:srgbClr val="0019a8"/>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7EA507B9-4FF6-4336-9FA4-8988AA65A1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42840" y="457200"/>
            <a:ext cx="620244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2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NSLDS History Fiel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t>
            </a:r>
            <a:r>
              <a:rPr b="0" lang="en-US" sz="2800" spc="-1" strike="noStrike">
                <a:solidFill>
                  <a:srgbClr val="0019a8"/>
                </a:solidFill>
                <a:latin typeface="Arial"/>
              </a:rPr>
              <a:t>Outstanding Principle Balance” renamed to “Aggregate Principle Balanc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verpayment Flags (Pell, SEOG, Perkins): values added </a:t>
            </a:r>
            <a:endParaRPr b="0" lang="en-US" sz="28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 = Deferred </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W = Waived</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44B59C9F-A075-4963-AD6E-29790352F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14</a:t>
            </a:r>
            <a:endParaRPr b="1" i="1" lang="en-US" sz="4000" spc="-1" strike="noStrike">
              <a:solidFill>
                <a:srgbClr val="c2000a"/>
              </a:solidFill>
              <a:latin typeface="Arial"/>
            </a:endParaRPr>
          </a:p>
        </p:txBody>
      </p:sp>
      <p:sp>
        <p:nvSpPr>
          <p:cNvPr id="91" name=""/>
          <p:cNvSpPr/>
          <p:nvPr/>
        </p:nvSpPr>
        <p:spPr>
          <a:xfrm>
            <a:off x="457200" y="2819520"/>
            <a:ext cx="838188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Review of ISIR Changes and CPS Database Matches</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4 -</a:t>
            </a:r>
          </a:p>
        </p:txBody>
      </p:sp>
      <p:sp>
        <p:nvSpPr>
          <p:cNvPr id="4" name="PlaceHolder 3"/>
          <p:cNvSpPr>
            <a:spLocks noGrp="1"/>
          </p:cNvSpPr>
          <p:nvPr>
            <p:ph type="sldNum" idx="2"/>
          </p:nvPr>
        </p:nvSpPr>
        <p:spPr/>
        <p:txBody>
          <a:bodyPr/>
          <a:p>
            <a:fld id="{021F3942-BA27-4EF2-8B36-820C8A0FB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42840" y="457200"/>
            <a:ext cx="620244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2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NSLDS History Fields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creased field lengths from 4 bytes to 6 bytes</a:t>
            </a:r>
            <a:endParaRPr b="0" lang="en-US" sz="28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ell EFC </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cheduled Amount</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ward Amount </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mount Paid </a:t>
            </a:r>
            <a:endParaRPr b="0" lang="en-US" sz="2400" spc="-1" strike="noStrike">
              <a:solidFill>
                <a:srgbClr val="0019a8"/>
              </a:solidFill>
              <a:latin typeface="Arial"/>
            </a:endParaRPr>
          </a:p>
          <a:p>
            <a:pPr lvl="2" marL="1143000" indent="-2286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maining Amount Paid</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8E5636B7-6365-4BCB-84E6-DC3FFD1978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520" y="457200"/>
            <a:ext cx="627876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3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NSLDS History Fields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ost Screening Reason Code: new reason added</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5 = DL or FFEL MPN (value has changed)</a:t>
            </a:r>
            <a:endParaRPr b="0" lang="en-US" sz="24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9 = other</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421C1696-2B34-49EB-AC20-B15332F31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666520" y="457200"/>
            <a:ext cx="627876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32"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fontScale="95000"/>
          </a:bodyPr>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 Changes</a:t>
            </a:r>
            <a:endParaRPr b="0" lang="en-US" sz="32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early update of Cycle Indicator to “02”</a:t>
            </a:r>
            <a:endParaRPr b="0" lang="en-US" sz="2800" spc="-1" strike="noStrike">
              <a:solidFill>
                <a:srgbClr val="0019a8"/>
              </a:solidFill>
              <a:latin typeface="Arial"/>
            </a:endParaRPr>
          </a:p>
          <a:p>
            <a:pPr lvl="2" marL="1085760" indent="-21708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or example, SARA02OP</a:t>
            </a:r>
            <a:endParaRPr b="0" lang="en-US" sz="24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ectronic Correction ISIR message class changed from SARR02OP to CORR02OP; error file changed to CORE02OP</a:t>
            </a:r>
            <a:endParaRPr b="0" lang="en-US" sz="28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ate Agency Year-To-Date message class changed</a:t>
            </a:r>
            <a:endParaRPr b="0" lang="en-US" sz="2800" spc="-1" strike="noStrike">
              <a:solidFill>
                <a:srgbClr val="0019a8"/>
              </a:solidFill>
              <a:latin typeface="Arial"/>
            </a:endParaRPr>
          </a:p>
          <a:p>
            <a:pPr lvl="2" marL="1085760" indent="-21708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rom YTDF to YTDN for Non-Resident data</a:t>
            </a:r>
            <a:endParaRPr b="0" lang="en-US" sz="2400" spc="-1" strike="noStrike">
              <a:solidFill>
                <a:srgbClr val="0019a8"/>
              </a:solidFill>
              <a:latin typeface="Arial"/>
            </a:endParaRPr>
          </a:p>
          <a:p>
            <a:pPr lvl="2" marL="1085760" indent="-21708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rom YTDN to YTDR for Resident data </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DEC583E1-43E5-4873-98F1-51953608D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457200"/>
            <a:ext cx="627876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34"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fontScale="97000"/>
          </a:bodyPr>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 Changes (Cont.)</a:t>
            </a:r>
            <a:endParaRPr b="0" lang="en-US" sz="32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ew file sent daily that lists applicants in Signature Hold File - message class HOLD02OP</a:t>
            </a:r>
            <a:endParaRPr b="0" lang="en-US" sz="28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SN</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ame (First, MI, Last)</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ate Added to Hold File</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pplication Source Code</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pendency Status</a:t>
            </a:r>
            <a:endParaRPr b="0" lang="en-US" sz="2400" spc="-1" strike="noStrike">
              <a:solidFill>
                <a:srgbClr val="0019a8"/>
              </a:solidFill>
              <a:latin typeface="Arial"/>
            </a:endParaRPr>
          </a:p>
          <a:p>
            <a:pPr lvl="2" marL="1108440" indent="-221400">
              <a:spcBef>
                <a:spcPts val="601"/>
              </a:spcBef>
              <a:buClr>
                <a:srgbClr val="0019a8"/>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ignature Flag </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4F47BC29-2BC7-44DD-9E42-FE9F27662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761760"/>
            <a:ext cx="8183520" cy="9903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a:t>
            </a:r>
            <a:endParaRPr b="1" i="1" lang="en-US" sz="4000" spc="-1" strike="noStrike">
              <a:solidFill>
                <a:srgbClr val="c2000a"/>
              </a:solidFill>
              <a:latin typeface="Arial"/>
            </a:endParaRPr>
          </a:p>
        </p:txBody>
      </p:sp>
      <p:sp>
        <p:nvSpPr>
          <p:cNvPr id="13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ive Service Match and Registration</a:t>
            </a:r>
            <a:endParaRPr b="0" lang="en-US" sz="32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 Are you Male from ‘Yes’ to ‘No’; record </a:t>
            </a:r>
            <a:r>
              <a:rPr b="1" lang="en-US" sz="2800" spc="-1" strike="noStrike" u="sng">
                <a:solidFill>
                  <a:srgbClr val="0019a8"/>
                </a:solidFill>
                <a:uFillTx/>
                <a:latin typeface="Arial"/>
              </a:rPr>
              <a:t>will not</a:t>
            </a:r>
            <a:r>
              <a:rPr b="1" lang="en-US" sz="2800" spc="-1" strike="noStrike">
                <a:solidFill>
                  <a:srgbClr val="0019a8"/>
                </a:solidFill>
                <a:latin typeface="Arial"/>
              </a:rPr>
              <a:t> </a:t>
            </a:r>
            <a:r>
              <a:rPr b="0" lang="en-US" sz="2800" spc="-1" strike="noStrike">
                <a:solidFill>
                  <a:srgbClr val="0019a8"/>
                </a:solidFill>
                <a:latin typeface="Arial"/>
              </a:rPr>
              <a:t>be sent to SS</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 SSN, first name, last name or date of birth, on a previously confirmed or exempted transaction, the transaction </a:t>
            </a:r>
            <a:r>
              <a:rPr b="1" lang="en-US" sz="2800" spc="-1" strike="noStrike" u="sng">
                <a:solidFill>
                  <a:srgbClr val="0019a8"/>
                </a:solidFill>
                <a:uFillTx/>
                <a:latin typeface="Arial"/>
              </a:rPr>
              <a:t>will be</a:t>
            </a:r>
            <a:r>
              <a:rPr b="0" lang="en-US" sz="2800" spc="-1" strike="noStrike">
                <a:solidFill>
                  <a:srgbClr val="0019a8"/>
                </a:solidFill>
                <a:latin typeface="Arial"/>
              </a:rPr>
              <a:t> sent to SS </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date of birth is blank, the transaction </a:t>
            </a:r>
            <a:r>
              <a:rPr b="1" lang="en-US" sz="2800" spc="-1" strike="noStrike" u="sng">
                <a:solidFill>
                  <a:srgbClr val="0019a8"/>
                </a:solidFill>
                <a:uFillTx/>
                <a:latin typeface="Arial"/>
              </a:rPr>
              <a:t>will not</a:t>
            </a:r>
            <a:r>
              <a:rPr b="0" lang="en-US" sz="2800" spc="-1" strike="noStrike">
                <a:solidFill>
                  <a:srgbClr val="0019a8"/>
                </a:solidFill>
                <a:latin typeface="Arial"/>
              </a:rPr>
              <a:t> be sent to SS for matching</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AA5BD95C-E5DF-4B8A-9B14-DC5C18C736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38"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ive Service Match and Registration (cont.)</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match flag valu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issue resolution procedur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6E8108BD-572A-4A49-B316-E8C7B24731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40"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SA SSN/Citizenship Match</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match flag valu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issue resolution procedur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F4231C69-82D1-4522-BF7E-293AB660A5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4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SA Prisoner Match</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mplementing as a post-screening match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nducted with SSA approximately every two week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results indicate student is incarcerated, another SAR/ISIR will be system generated with an indicator of ‘P’</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FFFE0BC1-B35C-4EF7-A1B4-A35CA4F6B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44"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 Primary Match</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match flag valu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issue resolution procedur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6659F34C-50EA-440A-B147-E1F31C472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 Automated Secondary Confirmation</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nticipated start up early Spring 2001</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pplicants not verified by INS primary verification match are automatically processed at INS for Secondary Confirmation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en INS Secondary Confirmation is complete another SAR/ISIR will be system generated with an indicator of  ‘I’</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D4718748-9FA6-4748-A7BE-656FFDCAB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is this session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9222A864-5589-49F7-8F4E-1F0AE1FCF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48"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VA Match</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match flag valu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issue resolution procedur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F5B4DB7F-4DE1-42D9-AFDA-E8DDD23B13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457200"/>
            <a:ext cx="7802640" cy="1828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Database Matches </a:t>
            </a:r>
            <a:endParaRPr b="1" i="1" lang="en-US" sz="4000" spc="-1" strike="noStrike">
              <a:solidFill>
                <a:srgbClr val="c2000a"/>
              </a:solidFill>
              <a:latin typeface="Arial"/>
            </a:endParaRPr>
          </a:p>
        </p:txBody>
      </p:sp>
      <p:sp>
        <p:nvSpPr>
          <p:cNvPr id="150"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Match</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match flag valu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 changes to issue resolution procedur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8461BDF4-9064-49E7-9725-6F5CD4B0AC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52" name="PlaceHolder 2"/>
          <p:cNvSpPr>
            <a:spLocks noGrp="1"/>
          </p:cNvSpPr>
          <p:nvPr>
            <p:ph/>
          </p:nvPr>
        </p:nvSpPr>
        <p:spPr>
          <a:xfrm>
            <a:off x="579600" y="1676520"/>
            <a:ext cx="8564400" cy="4114800"/>
          </a:xfrm>
          <a:prstGeom prst="rect">
            <a:avLst/>
          </a:prstGeom>
          <a:noFill/>
          <a:ln w="0">
            <a:noFill/>
          </a:ln>
        </p:spPr>
        <p:txBody>
          <a:bodyPr lIns="90000" rIns="90000" tIns="46800" bIns="46800" anchor="t">
            <a:normAutofit fontScale="69000"/>
          </a:bodyPr>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AP</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http://www.ifap.ed.gov</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FA Technical Support website</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http://www.ed.gov/sfatech</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PS Customer Service </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Phone: 1-800-330-5947</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Email:  cps@ncs.com</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700555B0-E09F-41EA-BF5C-DD3E8F0CC2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4" name="PlaceHolder 2"/>
          <p:cNvSpPr>
            <a:spLocks noGrp="1"/>
          </p:cNvSpPr>
          <p:nvPr>
            <p:ph/>
          </p:nvPr>
        </p:nvSpPr>
        <p:spPr>
          <a:xfrm>
            <a:off x="380880" y="213372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19a8"/>
                </a:solidFill>
                <a:latin typeface="Arial"/>
              </a:rPr>
              <a:t>Questions?</a:t>
            </a:r>
            <a:endParaRPr b="0" lang="en-US" sz="60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FBD3491D-AD44-46A8-86EE-118BDC50F3D6}"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61760"/>
            <a:ext cx="8183520" cy="2057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Review of ISIR Changes and CPS Database Matches</a:t>
            </a:r>
            <a:endParaRPr b="1" i="1" lang="en-US" sz="4000" spc="-1" strike="noStrike">
              <a:solidFill>
                <a:srgbClr val="c2000a"/>
              </a:solidFill>
              <a:latin typeface="Arial"/>
            </a:endParaRPr>
          </a:p>
        </p:txBody>
      </p:sp>
      <p:sp>
        <p:nvSpPr>
          <p:cNvPr id="95" name="PlaceHolder 2"/>
          <p:cNvSpPr>
            <a:spLocks noGrp="1"/>
          </p:cNvSpPr>
          <p:nvPr>
            <p:ph/>
          </p:nvPr>
        </p:nvSpPr>
        <p:spPr>
          <a:xfrm>
            <a:off x="609480" y="2666880"/>
            <a:ext cx="8336160" cy="3276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2001-2002 ISIR Field Chang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anges to Database Match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C3D6245C-EB21-4090-860C-0E08ECC68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457200"/>
            <a:ext cx="620244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record layout will follow order of questions on FAFSA</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raft ISIR record layout available on IFAP (http://ifap.ed.gov)</a:t>
            </a:r>
            <a:br>
              <a:rPr sz="3200"/>
            </a:br>
            <a:r>
              <a:rPr b="0" lang="en-US" sz="3200" spc="-1" strike="noStrike">
                <a:solidFill>
                  <a:srgbClr val="0019a8"/>
                </a:solidFill>
                <a:latin typeface="Arial"/>
              </a:rPr>
              <a: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2D442431-0953-452F-A478-A395AD657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457200"/>
            <a:ext cx="620244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leted FAFSA Fiel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 You Have a Driver’s Licens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and Parent’s Earned Income Credi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and Parent’s Assumed Earned Income Credi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and Parent’s Business Net Worth</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and Parent’s Farm Net Worth </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D9AA2FE2-8CAC-4B0F-8A24-A90542EAA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457200"/>
            <a:ext cx="6126120" cy="14479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01" name="PlaceHolder 2"/>
          <p:cNvSpPr>
            <a:spLocks noGrp="1"/>
          </p:cNvSpPr>
          <p:nvPr>
            <p:ph/>
          </p:nvPr>
        </p:nvSpPr>
        <p:spPr>
          <a:xfrm>
            <a:off x="609120" y="1828800"/>
            <a:ext cx="853452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ed FAFSA/Web Fields</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 You Have Children (55)</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ssumed Do You Have Children</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and Parents’ Income from Worksheet C (46 and 80) </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and Parents’ Business/Farm Net Worth (48 and 82)</a:t>
            </a:r>
            <a:endParaRPr b="0" lang="en-US" sz="2800" spc="-1" strike="noStrike">
              <a:solidFill>
                <a:srgbClr val="0019a8"/>
              </a:solidFill>
              <a:latin typeface="Arial"/>
            </a:endParaRPr>
          </a:p>
          <a:p>
            <a:pPr lvl="1" marL="727920" indent="-280080">
              <a:lnSpc>
                <a:spcPct val="100000"/>
              </a:lnSpc>
              <a:spcBef>
                <a:spcPts val="700"/>
              </a:spcBef>
              <a:buClr>
                <a:srgbClr val="0019a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Tahoma"/>
              </a:rPr>
              <a:t>Student’s E-mail address (FOTW/ROTW/COTW)</a:t>
            </a:r>
            <a:endParaRPr b="0" lang="en-US" sz="2800" spc="-1" strike="noStrike">
              <a:solidFill>
                <a:srgbClr val="0019a8"/>
              </a:solidFill>
              <a:latin typeface="Arial"/>
            </a:endParaRPr>
          </a:p>
        </p:txBody>
      </p:sp>
      <p:sp>
        <p:nvSpPr>
          <p:cNvPr id="102" name=""/>
          <p:cNvSpPr/>
          <p:nvPr/>
        </p:nvSpPr>
        <p:spPr>
          <a:xfrm>
            <a:off x="2743200" y="457200"/>
            <a:ext cx="6202440" cy="13716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C9B1BDFB-89DC-465D-9A22-B3CA242B7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480" y="457200"/>
            <a:ext cx="605016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0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ISIR Field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ource of Correction Flag (137)</a:t>
            </a:r>
            <a:endParaRPr b="0" lang="en-US" sz="2800" spc="-1" strike="noStrike">
              <a:solidFill>
                <a:srgbClr val="0019a8"/>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Arial"/>
              </a:rPr>
              <a:t>A = Applicant (SAR, PIC, or COTW) </a:t>
            </a:r>
            <a:endParaRPr b="0" lang="en-US" sz="2200" spc="-1" strike="noStrike">
              <a:solidFill>
                <a:srgbClr val="0019a8"/>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Arial"/>
              </a:rPr>
              <a:t>D = Dept. of Education (CPS System Generated)</a:t>
            </a:r>
            <a:endParaRPr b="0" lang="en-US" sz="2200" spc="-1" strike="noStrike">
              <a:solidFill>
                <a:srgbClr val="0019a8"/>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Arial"/>
              </a:rPr>
              <a:t>S = School (electronic correction)</a:t>
            </a:r>
            <a:endParaRPr b="0" lang="en-US" sz="2200" spc="-1" strike="noStrike">
              <a:solidFill>
                <a:srgbClr val="0019a8"/>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338574D0-AA90-4895-9671-540B805866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457200"/>
            <a:ext cx="612612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2001-2002 ISIR Changes</a:t>
            </a:r>
            <a:endParaRPr b="1" i="1" lang="en-US" sz="4000" spc="-1" strike="noStrike">
              <a:solidFill>
                <a:srgbClr val="c2000a"/>
              </a:solidFill>
              <a:latin typeface="Arial"/>
            </a:endParaRPr>
          </a:p>
        </p:txBody>
      </p:sp>
      <p:sp>
        <p:nvSpPr>
          <p:cNvPr id="106" name="PlaceHolder 2"/>
          <p:cNvSpPr>
            <a:spLocks noGrp="1"/>
          </p:cNvSpPr>
          <p:nvPr>
            <p:ph/>
          </p:nvPr>
        </p:nvSpPr>
        <p:spPr>
          <a:xfrm>
            <a:off x="807840" y="1676520"/>
            <a:ext cx="83358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ISIR Fields (Cont.)</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FC Change Flag (142)</a:t>
            </a:r>
            <a:endParaRPr b="0" lang="en-US" sz="2800" spc="-1" strike="noStrike">
              <a:solidFill>
                <a:srgbClr val="0019a8"/>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Arial"/>
              </a:rPr>
              <a:t>1 = EFC has increased from corrected transaction </a:t>
            </a:r>
            <a:endParaRPr b="0" lang="en-US" sz="2200" spc="-1" strike="noStrike">
              <a:solidFill>
                <a:srgbClr val="0019a8"/>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Arial"/>
              </a:rPr>
              <a:t>2 = EFC has decreased from corrected transaction</a:t>
            </a:r>
            <a:r>
              <a:rPr b="0" lang="en-US" sz="2200" spc="-1" strike="noStrike">
                <a:solidFill>
                  <a:srgbClr val="0019a8"/>
                </a:solidFill>
                <a:latin typeface="Arial"/>
              </a:rPr>
              <a:t>	</a:t>
            </a:r>
            <a:endParaRPr b="0" lang="en-US" sz="2200" spc="-1" strike="noStrike">
              <a:solidFill>
                <a:srgbClr val="0019a8"/>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Arial"/>
              </a:rPr>
              <a:t>Blank = No change</a:t>
            </a:r>
            <a:endParaRPr b="0" lang="en-US" sz="2200" spc="-1" strike="noStrike">
              <a:solidFill>
                <a:srgbClr val="0019a8"/>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19a8"/>
              </a:solidFill>
              <a:latin typeface="Arial"/>
            </a:endParaRPr>
          </a:p>
        </p:txBody>
      </p:sp>
      <p:sp>
        <p:nvSpPr>
          <p:cNvPr id="4" name="PlaceHolder 3"/>
          <p:cNvSpPr>
            <a:spLocks noGrp="1"/>
          </p:cNvSpPr>
          <p:nvPr>
            <p:ph type="ftr" idx="1"/>
          </p:nvPr>
        </p:nvSpPr>
        <p:spPr/>
        <p:txBody>
          <a:bodyPr/>
          <a:p>
            <a:r>
              <a:t>Session 14 -</a:t>
            </a:r>
          </a:p>
        </p:txBody>
      </p:sp>
      <p:sp>
        <p:nvSpPr>
          <p:cNvPr id="5" name="PlaceHolder 4"/>
          <p:cNvSpPr>
            <a:spLocks noGrp="1"/>
          </p:cNvSpPr>
          <p:nvPr>
            <p:ph type="sldNum" idx="2"/>
          </p:nvPr>
        </p:nvSpPr>
        <p:spPr/>
        <p:txBody>
          <a:bodyPr/>
          <a:p>
            <a:fld id="{560438EF-636F-468A-B254-B2EECC8AE1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09-28T15:21:24Z</cp:lastPrinted>
  <dcterms:modified xsi:type="dcterms:W3CDTF">2001-01-08T16:21:35Z</dcterms:modified>
  <cp:revision>262</cp:revision>
  <dc:subject/>
  <dc:title>No Slide Title</dc:title>
</cp:coreProperties>
</file>