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13575" cy="9299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12800" cy="929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3"/>
          </p:nvPr>
        </p:nvSpPr>
        <p:spPr>
          <a:xfrm>
            <a:off x="3975120" y="0"/>
            <a:ext cx="3038400" cy="465120"/>
          </a:xfrm>
          <a:prstGeom prst="rect">
            <a:avLst/>
          </a:prstGeom>
          <a:noFill/>
          <a:ln w="0">
            <a:noFill/>
          </a:ln>
        </p:spPr>
        <p:txBody>
          <a:bodyPr lIns="93960" rIns="93960" tIns="46800" bIns="46800" anchor="t">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0800" y="696960"/>
            <a:ext cx="4653000" cy="34891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move the slide</a:t>
            </a:r>
            <a:endParaRPr b="1" lang="en-US" sz="4000" spc="-1" strike="noStrike">
              <a:solidFill>
                <a:srgbClr val="c2000a"/>
              </a:solidFill>
              <a:latin typeface="Arial"/>
            </a:endParaRPr>
          </a:p>
        </p:txBody>
      </p:sp>
      <p:sp>
        <p:nvSpPr>
          <p:cNvPr id="83" name="PlaceHolder 4"/>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8834400"/>
            <a:ext cx="3038400" cy="465120"/>
          </a:xfrm>
          <a:prstGeom prst="rect">
            <a:avLst/>
          </a:prstGeom>
          <a:noFill/>
          <a:ln w="0">
            <a:noFill/>
          </a:ln>
        </p:spPr>
        <p:txBody>
          <a:bodyPr lIns="93960" rIns="93960" tIns="46800" bIns="46800" anchor="b">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5"/>
          </p:nvPr>
        </p:nvSpPr>
        <p:spPr>
          <a:xfrm>
            <a:off x="3975120" y="8834400"/>
            <a:ext cx="3038400" cy="465120"/>
          </a:xfrm>
          <a:prstGeom prst="rect">
            <a:avLst/>
          </a:prstGeom>
          <a:noFill/>
          <a:ln w="0">
            <a:noFill/>
          </a:ln>
        </p:spPr>
        <p:txBody>
          <a:bodyPr lIns="93960" rIns="93960" tIns="46800" bIns="4680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C7F24D-307D-49A9-97CF-518C069EC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53000" cy="3489120"/>
          </a:xfrm>
          <a:prstGeom prst="rect">
            <a:avLst/>
          </a:prstGeom>
          <a:ln w="0">
            <a:noFill/>
          </a:ln>
        </p:spPr>
      </p:sp>
      <p:sp>
        <p:nvSpPr>
          <p:cNvPr id="18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 Processing, Section 2</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more detail to the overall Electronic Data Exchange (EDE) Processi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by step instructions for doing the different process, for example, how to make a duplicate request or how to add your school code to a student’s record.</a:t>
            </a: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53000" cy="3489120"/>
          </a:xfrm>
          <a:prstGeom prst="rect">
            <a:avLst/>
          </a:prstGeom>
          <a:ln w="0">
            <a:noFill/>
          </a:ln>
        </p:spPr>
      </p:sp>
      <p:sp>
        <p:nvSpPr>
          <p:cNvPr id="19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ayouts (Section 3)</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rd layout section is maps for you to read the data sent by CPS or a map of what CPS is expecting from the data you send to us.  Provides the system developer and the financial aid office with the design for the files that they send and receive in the EDE Proces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to navigate through the data sent to or received from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EDExpress the software has all of this information written into i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53000" cy="3489120"/>
          </a:xfrm>
          <a:prstGeom prst="rect">
            <a:avLst/>
          </a:prstGeom>
          <a:ln w="0">
            <a:noFill/>
          </a:ln>
        </p:spPr>
      </p:sp>
      <p:sp>
        <p:nvSpPr>
          <p:cNvPr id="19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yout HOLD02OP; file of all student’s applications who listed your school that are on hold at CPS waiting for appropriate sign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s included in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 record</a:t>
            </a:r>
            <a:br>
              <a:rPr sz="1200"/>
            </a:br>
            <a:r>
              <a:rPr b="0" lang="en-US" sz="1200" spc="-1" strike="noStrike">
                <a:solidFill>
                  <a:srgbClr val="000000"/>
                </a:solidFill>
                <a:latin typeface="Times New Roman"/>
              </a:rPr>
              <a:t>Trailer Record</a:t>
            </a:r>
            <a:br>
              <a:rPr sz="1200"/>
            </a:br>
            <a:r>
              <a:rPr b="0" lang="en-US" sz="1200" spc="-1" strike="noStrike">
                <a:solidFill>
                  <a:srgbClr val="000000"/>
                </a:solidFill>
                <a:latin typeface="Times New Roman"/>
              </a:rPr>
              <a:t>EDE Batch Level</a:t>
            </a:r>
            <a:br>
              <a:rPr sz="1200"/>
            </a:br>
            <a:r>
              <a:rPr b="0" lang="en-US" sz="1200" spc="-1" strike="noStrike">
                <a:solidFill>
                  <a:srgbClr val="000000"/>
                </a:solidFill>
                <a:latin typeface="Times New Roman"/>
              </a:rPr>
              <a:t>EDE Record Leve</a:t>
            </a:r>
            <a:r>
              <a:rPr b="0" lang="en-US" sz="1200" spc="-1" strike="noStrike">
                <a:solidFill>
                  <a:srgbClr val="000000"/>
                </a:solidFill>
                <a:latin typeface="Times New Roman"/>
              </a:rPr>
              <a:t>l</a:t>
            </a:r>
            <a:br>
              <a:rPr sz="1200"/>
            </a:br>
            <a:r>
              <a:rPr b="0" lang="en-US" sz="1200" spc="-1" strike="noStrike">
                <a:solidFill>
                  <a:srgbClr val="000000"/>
                </a:solidFill>
                <a:latin typeface="Times New Roman"/>
              </a:rPr>
              <a:t>ISIR</a:t>
            </a:r>
            <a:br>
              <a:rPr sz="1200"/>
            </a:br>
            <a:r>
              <a:rPr b="0" lang="en-US" sz="1200" spc="-1" strike="noStrike">
                <a:solidFill>
                  <a:srgbClr val="000000"/>
                </a:solidFill>
                <a:latin typeface="Times New Roman"/>
              </a:rPr>
              <a:t>Type 2 Individual RAD request </a:t>
            </a:r>
            <a:br>
              <a:rPr sz="1200"/>
            </a:br>
            <a:r>
              <a:rPr b="0" lang="en-US" sz="1200" spc="-1" strike="noStrike">
                <a:solidFill>
                  <a:srgbClr val="000000"/>
                </a:solidFill>
                <a:latin typeface="Times New Roman"/>
              </a:rPr>
              <a:t>RADD Request Address 1</a:t>
            </a:r>
            <a:br>
              <a:rPr sz="1200"/>
            </a:br>
            <a:r>
              <a:rPr b="0" lang="en-US" sz="1200" spc="-1" strike="noStrike">
                <a:solidFill>
                  <a:srgbClr val="000000"/>
                </a:solidFill>
                <a:latin typeface="Times New Roman"/>
              </a:rPr>
              <a:t>RADD Request Address 2</a:t>
            </a:r>
            <a:br>
              <a:rPr sz="1200"/>
            </a:br>
            <a:r>
              <a:rPr b="0" lang="en-US" sz="1200" spc="-1" strike="noStrike">
                <a:solidFill>
                  <a:srgbClr val="000000"/>
                </a:solidFill>
                <a:latin typeface="Times New Roman"/>
              </a:rPr>
              <a:t>Initial App/Renewal App</a:t>
            </a:r>
            <a:br>
              <a:rPr sz="1200"/>
            </a:br>
            <a:r>
              <a:rPr b="0" lang="en-US" sz="1200" spc="-1" strike="noStrike">
                <a:solidFill>
                  <a:srgbClr val="000000"/>
                </a:solidFill>
                <a:latin typeface="Times New Roman"/>
              </a:rPr>
              <a:t>History Correction</a:t>
            </a:r>
            <a:br>
              <a:rPr sz="1200"/>
            </a:br>
            <a:r>
              <a:rPr b="0" lang="en-US" sz="1200" spc="-1" strike="noStrike">
                <a:solidFill>
                  <a:srgbClr val="000000"/>
                </a:solidFill>
                <a:latin typeface="Times New Roman"/>
              </a:rPr>
              <a:t>Duplicate Request</a:t>
            </a:r>
            <a:br>
              <a:rPr sz="1200"/>
            </a:br>
            <a:r>
              <a:rPr b="0" lang="en-US" sz="1200" spc="-1" strike="noStrike">
                <a:solidFill>
                  <a:srgbClr val="000000"/>
                </a:solidFill>
                <a:latin typeface="Times New Roman"/>
              </a:rPr>
              <a:t>FDR Request</a:t>
            </a:r>
            <a:br>
              <a:rPr sz="1200"/>
            </a:br>
            <a:r>
              <a:rPr b="0" lang="en-US" sz="1200" spc="-1" strike="noStrike">
                <a:solidFill>
                  <a:srgbClr val="000000"/>
                </a:solidFill>
                <a:latin typeface="Times New Roman"/>
              </a:rPr>
              <a:t>Signature Records</a:t>
            </a:r>
            <a:br>
              <a:rPr sz="1200"/>
            </a:br>
            <a:r>
              <a:rPr b="0" lang="en-US" sz="1200" spc="-1" strike="noStrike">
                <a:solidFill>
                  <a:srgbClr val="000000"/>
                </a:solidFill>
                <a:latin typeface="Times New Roman"/>
              </a:rPr>
              <a:t>Hold file records</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53000" cy="3489120"/>
          </a:xfrm>
          <a:prstGeom prst="rect">
            <a:avLst/>
          </a:prstGeom>
          <a:ln w="0">
            <a:noFill/>
          </a:ln>
        </p:spPr>
      </p:sp>
      <p:sp>
        <p:nvSpPr>
          <p:cNvPr id="19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Trailer  and EDE Batch Level Rejects  have not changed in length or field positions, but some of the valid field content has changed within the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 Record Level Rejects has not changed in overall length, but some of the field positions have changed.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Student’s First  Name</a:t>
            </a:r>
            <a:r>
              <a:rPr b="0" lang="en-US" sz="1200" spc="-1" strike="noStrike">
                <a:solidFill>
                  <a:srgbClr val="000000"/>
                </a:solidFill>
                <a:latin typeface="Times New Roman"/>
              </a:rPr>
              <a:t> field was increased from 9 bytes to 12 bytes so it will shift the field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Invalid Content</a:t>
            </a:r>
            <a:r>
              <a:rPr b="0" lang="en-US" sz="1200" spc="-1" strike="noStrike">
                <a:solidFill>
                  <a:srgbClr val="000000"/>
                </a:solidFill>
                <a:latin typeface="Times New Roman"/>
              </a:rPr>
              <a:t> (data sent on the record initially) has decreased from 40  bytes to 37 bytes.---Changed to balance the additional 3 bytes added to Student’s First Nam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53000" cy="3489120"/>
          </a:xfrm>
          <a:prstGeom prst="rect">
            <a:avLst/>
          </a:prstGeom>
          <a:ln w="0">
            <a:noFill/>
          </a:ln>
        </p:spPr>
      </p:sp>
      <p:sp>
        <p:nvSpPr>
          <p:cNvPr id="19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Type 2 Individual RAD Request, RADD Request Address 1 and Address 2  have not changed in length or field positions, but some of the valid field content has changed within the Type 2 Individual RAD Request valid fiel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 import Record has changed. It is a shorter record.  We will no longer send fields to you that we do not send renewal data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last year our layout contained spaces for tax information such as Type of Tax form, AGI, and Earned Income, but we never sent data in those fields.   For 2001-2002 our record layout will only contain the fields you receive renewal data for. Net worth of Business or Age of Older 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App/Renewal App file that you send to the CPS with application data has increased by 30 bytes.   These changes are primarily the result from changes to the 2001-2002 FAFSA that carry over to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 in field length to Student’s First name and mailing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field, Student’s email add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53000" cy="3489120"/>
          </a:xfrm>
          <a:prstGeom prst="rect">
            <a:avLst/>
          </a:prstGeom>
          <a:ln w="0">
            <a:noFill/>
          </a:ln>
        </p:spPr>
      </p:sp>
      <p:sp>
        <p:nvSpPr>
          <p:cNvPr id="198" name="PlaceHolder 2"/>
          <p:cNvSpPr>
            <a:spLocks noGrp="1"/>
          </p:cNvSpPr>
          <p:nvPr>
            <p:ph type="body"/>
          </p:nvPr>
        </p:nvSpPr>
        <p:spPr>
          <a:xfrm>
            <a:off x="450360" y="4255920"/>
            <a:ext cx="6094440" cy="43466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has gotten bigger again this year.  Increasing to 2850 bytes.  These changes are primarily due to changes to the FAFSA, increases in some field lengths in the NSLDS section and addition of new fields to the the ISIR which we will discuss in more detail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for 2001-2002 the Added/Modified column will list the change to the ISIR field on the ISIR layout making it easier to see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story Correction, Duplicate Request, FDR Request and Signature Records all come from the same layout, but are modified slightly for each specific layout.  You will notice that all of the records have increased in length and that is primarily due to the fact that the History Correction Layout grew for three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First name from 9 bytes to 12 by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d each of the 12 Correction Data fields  from 28 bytes to 35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ed 50 bytes for the student’s email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w file that CPS will be sending to schools. It is called Institution Student FAFSA Express/Web Hold File Record Layout-  or Hold file record for short.   This is a primarily a report for you of students who have filed a Web application or Correction or FAFSA Express Application and are on the CPS system waiting for a signature.   This file will be sent to you on a daily basis if there is a student on the Hold file that listed your school code.  You could potentially receive each student on 14 different reports if they fail to send in a signature page  At 14 days they would come off the hold file and a rejected ISIR would be generated with a reject 14,15, or 16 depending on the missing signa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53000" cy="3489120"/>
          </a:xfrm>
          <a:prstGeom prst="rect">
            <a:avLst/>
          </a:prstGeom>
          <a:ln w="0">
            <a:noFill/>
          </a:ln>
        </p:spPr>
      </p:sp>
      <p:sp>
        <p:nvSpPr>
          <p:cNvPr id="200" name="PlaceHolder 2"/>
          <p:cNvSpPr>
            <a:spLocks noGrp="1"/>
          </p:cNvSpPr>
          <p:nvPr>
            <p:ph type="body"/>
          </p:nvPr>
        </p:nvSpPr>
        <p:spPr>
          <a:xfrm>
            <a:off x="525240" y="4416480"/>
            <a:ext cx="601956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Codes/ System Requirements (Section 4)</a:t>
            </a:r>
            <a:r>
              <a:rPr b="0" lang="en-US" sz="1200" spc="-1" strike="noStrike">
                <a:solidFill>
                  <a:srgbClr val="000080"/>
                </a:solidFill>
                <a:latin typeface="Times New Roman"/>
              </a:rPr>
              <a:t> </a:t>
            </a:r>
            <a:r>
              <a:rPr b="0" lang="en-US" sz="1200" spc="-1" strike="noStrike">
                <a:solidFill>
                  <a:srgbClr val="000000"/>
                </a:solidFill>
                <a:latin typeface="Times New Roman"/>
              </a:rPr>
              <a:t>Tables will assist in resolving errors, coding and making correct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2001-2001-2002 ISIR cross-reference- This is a VERY helpful document which describes any field change to the ISIR from last year to this year. </a:t>
            </a:r>
            <a:br>
              <a:rPr sz="1200"/>
            </a:br>
            <a:r>
              <a:rPr b="0" lang="en-US" sz="1200" spc="-1" strike="noStrike">
                <a:solidFill>
                  <a:srgbClr val="000000"/>
                </a:solidFill>
                <a:latin typeface="Times New Roman"/>
              </a:rPr>
              <a:t>This table includes a new column this year “Changes/Valid Field Content Modified” that will help you quickly see any changes to the field such as an increase in field length or change in the valid fiel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Reject Codes and How to Respond to Each.  Includes rejects that will appear on the SAR/ISIR</a:t>
            </a:r>
            <a:br>
              <a:rPr sz="1200"/>
            </a:br>
            <a:r>
              <a:rPr b="0" lang="en-US" sz="1200" spc="-1" strike="noStrike">
                <a:solidFill>
                  <a:srgbClr val="000000"/>
                </a:solidFill>
                <a:latin typeface="Times New Roman"/>
              </a:rPr>
              <a:t>           New Reject 14---Missing student signature on paper application or 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eted Reject 20-- Removed edits and this was deleted a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Verifiable Rejects: (discuss in more detail with Changes to E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verifiable on the App or Correction w/ the override code, but can resen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ate of birth year equals 1900, 1901 or 1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Taxes paid equal Adjusted Gross Income</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53000" cy="3489120"/>
          </a:xfrm>
          <a:prstGeom prst="rect">
            <a:avLst/>
          </a:prstGeom>
          <a:ln w="0">
            <a:noFill/>
          </a:ln>
        </p:spPr>
      </p:sp>
      <p:sp>
        <p:nvSpPr>
          <p:cNvPr id="20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s with Code and Text-</a:t>
            </a:r>
            <a:br>
              <a:rPr sz="1200"/>
            </a:br>
            <a:r>
              <a:rPr b="0" lang="en-US" sz="1200" spc="-1" strike="noStrike">
                <a:solidFill>
                  <a:srgbClr val="000000"/>
                </a:solidFill>
                <a:latin typeface="Times New Roman"/>
              </a:rPr>
              <a:t>.Includes error code, text, and resolution received on the EDE Batch Level or EDE Record Level Reject .In the error files, e.g. EAPR, DU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Overrides gives a definition of the override codes, the meaning and how to fix.  Still 6 Overrides-5 and 6 changed verbiage, but not function  to reflect the changes in the Workshee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Codes:  A listing of the Comment number and the text associated with the Commen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ISIR Correction Flags and Correction/Highlight Field Numbers-  </a:t>
            </a:r>
            <a:br>
              <a:rPr sz="1200"/>
            </a:br>
            <a:r>
              <a:rPr b="0" lang="en-US" sz="1200" spc="-1" strike="noStrike">
                <a:solidFill>
                  <a:srgbClr val="000000"/>
                </a:solidFill>
                <a:latin typeface="Times New Roman"/>
              </a:rPr>
              <a:t>Contains the following Colum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 Field # Correction/ Highlight Flag Fiel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 Field Na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IR Field Posi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FSA Field Na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FSA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53000" cy="3489120"/>
          </a:xfrm>
          <a:prstGeom prst="rect">
            <a:avLst/>
          </a:prstGeom>
          <a:ln w="0">
            <a:noFill/>
          </a:ln>
        </p:spPr>
      </p:sp>
      <p:sp>
        <p:nvSpPr>
          <p:cNvPr id="20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LDS Codes- Codes used in the NSLDS portion of the ISIR</a:t>
            </a:r>
            <a:br>
              <a:rPr sz="1200"/>
            </a:br>
            <a:r>
              <a:rPr b="0" lang="en-US" sz="1200" spc="-1" strike="noStrike">
                <a:solidFill>
                  <a:srgbClr val="000000"/>
                </a:solidFill>
                <a:latin typeface="Times New Roman"/>
              </a:rPr>
              <a:t>No changes from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 Country / Jurisdiction Codes- valid abbreviations for state and mailing add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Data Entry Specifications are used when sending correction data files (CORR02IN).  It tells you what field number is associated with the field, length, justification,  valid field content and whether or not the field can be corrected to blank (using a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53000" cy="3489120"/>
          </a:xfrm>
          <a:prstGeom prst="rect">
            <a:avLst/>
          </a:prstGeom>
          <a:ln w="0">
            <a:noFill/>
          </a:ln>
        </p:spPr>
      </p:sp>
      <p:sp>
        <p:nvSpPr>
          <p:cNvPr id="20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Section 5)</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s to assist with printing ISIRs and Renewal Applications to the specifications approved by ED. Gives Row and Column specific directions for printing labels as well as field name references to the ISIR or Renewal for the data field to prin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what  Assumptions, Highlights, Comments, Signed-Numeric values,  and Rejects are and how to print the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includes sample output documents- Samples of what your printed documents should look like. </a:t>
            </a:r>
            <a:br>
              <a:rPr sz="12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this point ask them to take out the handout of the printed ISIR.  </a:t>
            </a:r>
            <a:br>
              <a:rPr sz="1400"/>
            </a:br>
            <a:r>
              <a:rPr b="1" lang="en-US" sz="1400" spc="-1" strike="noStrike">
                <a:solidFill>
                  <a:srgbClr val="000000"/>
                </a:solidFill>
                <a:latin typeface="Times New Roman"/>
              </a:rPr>
              <a:t>We will discuss some of the changes to the printed ISIR.  Notice there is highlighted labels which let you know that the label has changed.  If the content is highlighted it means that the print instructions have chang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53000" cy="3489120"/>
          </a:xfrm>
          <a:prstGeom prst="rect">
            <a:avLst/>
          </a:prstGeom>
          <a:ln w="0">
            <a:noFill/>
          </a:ln>
        </p:spPr>
      </p:sp>
      <p:sp>
        <p:nvSpPr>
          <p:cNvPr id="20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nnual rollover the year references to 2000-2001 were changed to 2001-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number moved from the top between the Student’s name and date to the last line cent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key was added to print to the lower right hand corner. The trankey is the student’s SSN, first two letters of last name and transact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lso on anywhere the first name is listed or the mailing address there will be more characters to print b/c of the increased field length on the ISI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53000" cy="3489120"/>
          </a:xfrm>
          <a:prstGeom prst="rect">
            <a:avLst/>
          </a:prstGeom>
          <a:ln w="0">
            <a:noFill/>
          </a:ln>
        </p:spPr>
      </p:sp>
      <p:sp>
        <p:nvSpPr>
          <p:cNvPr id="21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for </a:t>
            </a:r>
            <a:r>
              <a:rPr b="1" lang="en-US" sz="1200" spc="-1" strike="noStrike" u="sng">
                <a:solidFill>
                  <a:srgbClr val="000000"/>
                </a:solidFill>
                <a:uFillTx/>
                <a:latin typeface="Times New Roman"/>
              </a:rPr>
              <a:t>Enrollment Plans</a:t>
            </a:r>
            <a:r>
              <a:rPr b="0" lang="en-US" sz="1200" spc="-1" strike="noStrike">
                <a:solidFill>
                  <a:srgbClr val="000000"/>
                </a:solidFill>
                <a:latin typeface="Times New Roman"/>
              </a:rPr>
              <a:t> were changed from Enrollment Sts to Enroll Plan to mak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Residence Date was Date of Legal 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Level in College was Yr in Co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Stepfather and /Stepmother” to the parent SSN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djusted Gross Income was Student and Spouse 1999 AGI and Parents’ 1999 A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worksheet titles were Amt from Worksheet X now they are Total from Worksheet X</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53000" cy="3489120"/>
          </a:xfrm>
          <a:prstGeom prst="rect">
            <a:avLst/>
          </a:prstGeom>
          <a:ln w="0">
            <a:noFill/>
          </a:ln>
        </p:spPr>
      </p:sp>
      <p:sp>
        <p:nvSpPr>
          <p:cNvPr id="21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river’s License #</a:t>
            </a:r>
            <a:r>
              <a:rPr b="0" lang="en-US" sz="1200" spc="-1" strike="noStrike">
                <a:solidFill>
                  <a:srgbClr val="000000"/>
                </a:solidFill>
                <a:latin typeface="Times New Roman"/>
              </a:rPr>
              <a:t> Added instruction to print “None” if bl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arital Status</a:t>
            </a:r>
            <a:r>
              <a:rPr b="0" lang="en-US" sz="1200" spc="-1" strike="noStrike">
                <a:solidFill>
                  <a:srgbClr val="000000"/>
                </a:solidFill>
                <a:latin typeface="Times New Roman"/>
              </a:rPr>
              <a:t>- Changed Married to print “Married/Re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nrollment Plans</a:t>
            </a:r>
            <a:r>
              <a:rPr b="0" lang="en-US" sz="1200" spc="-1" strike="noStrike">
                <a:solidFill>
                  <a:srgbClr val="000000"/>
                </a:solidFill>
                <a:latin typeface="Times New Roman"/>
              </a:rPr>
              <a:t>- Chang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o include Not Sure   “Full Time/Not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o “Not Attending” from “Not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ther’s Educational Level</a:t>
            </a:r>
            <a:r>
              <a:rPr b="0" lang="en-US" sz="1200" spc="-1" strike="noStrike">
                <a:solidFill>
                  <a:srgbClr val="000000"/>
                </a:solidFill>
                <a:latin typeface="Times New Roman"/>
              </a:rPr>
              <a:t> and </a:t>
            </a:r>
            <a:r>
              <a:rPr b="1" lang="en-US" sz="1200" spc="-1" strike="noStrike" u="sng">
                <a:solidFill>
                  <a:srgbClr val="000000"/>
                </a:solidFill>
                <a:uFillTx/>
                <a:latin typeface="Times New Roman"/>
              </a:rPr>
              <a:t>Mother’s Educational Level</a:t>
            </a:r>
            <a:r>
              <a:rPr b="0" lang="en-US" sz="1200" spc="-1" strike="noStrike">
                <a:solidFill>
                  <a:srgbClr val="000000"/>
                </a:solidFill>
                <a:latin typeface="Times New Roman"/>
              </a:rPr>
              <a:t> -Instructions for 3 were changed from “College” to “College/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rade Level in College</a:t>
            </a:r>
            <a:r>
              <a:rPr b="0" lang="en-US" sz="1200" spc="-1" strike="noStrike">
                <a:solidFill>
                  <a:srgbClr val="000000"/>
                </a:solidFill>
                <a:latin typeface="Times New Roman"/>
              </a:rPr>
              <a:t>- all print instructions changed b/c the Valid field content on the ISIR changed.</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never attended college</a:t>
            </a:r>
            <a:br>
              <a:rPr sz="900"/>
            </a:br>
            <a:r>
              <a:rPr b="0" lang="en-US" sz="900" spc="-1" strike="noStrike">
                <a:solidFill>
                  <a:srgbClr val="000000"/>
                </a:solidFill>
                <a:latin typeface="Times New Roman"/>
              </a:rPr>
              <a:t>1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attended college before</a:t>
            </a:r>
            <a:br>
              <a:rPr sz="900"/>
            </a:br>
            <a:r>
              <a:rPr b="0" lang="en-US" sz="900" spc="-1" strike="noStrike">
                <a:solidFill>
                  <a:srgbClr val="000000"/>
                </a:solidFill>
                <a:latin typeface="Times New Roman"/>
              </a:rPr>
              <a:t>2 = 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year undergraduate/sophomore</a:t>
            </a:r>
            <a:br>
              <a:rPr sz="900"/>
            </a:br>
            <a:r>
              <a:rPr b="0" lang="en-US" sz="900" spc="-1" strike="noStrike">
                <a:solidFill>
                  <a:srgbClr val="000000"/>
                </a:solidFill>
                <a:latin typeface="Times New Roman"/>
              </a:rPr>
              <a:t>3 =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year undergraduate/junior</a:t>
            </a:r>
            <a:br>
              <a:rPr sz="900"/>
            </a:br>
            <a:r>
              <a:rPr b="0" lang="en-US" sz="900" spc="-1" strike="noStrike">
                <a:solidFill>
                  <a:srgbClr val="000000"/>
                </a:solidFill>
                <a:latin typeface="Times New Roman"/>
              </a:rPr>
              <a:t>4 = 4</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 undergraduate/senior</a:t>
            </a:r>
            <a:br>
              <a:rPr sz="900"/>
            </a:br>
            <a:r>
              <a:rPr b="0" lang="en-US" sz="900" spc="-1" strike="noStrike">
                <a:solidFill>
                  <a:srgbClr val="000000"/>
                </a:solidFill>
                <a:latin typeface="Times New Roman"/>
              </a:rPr>
              <a:t>5 = 5</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other undergraduate</a:t>
            </a:r>
            <a:br>
              <a:rPr sz="900"/>
            </a:br>
            <a:r>
              <a:rPr b="0" lang="en-US" sz="900" spc="-1" strike="noStrike">
                <a:solidFill>
                  <a:srgbClr val="000000"/>
                </a:solidFill>
                <a:latin typeface="Times New Roman"/>
              </a:rPr>
              <a:t>6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graduate/professional</a:t>
            </a:r>
            <a:br>
              <a:rPr sz="900"/>
            </a:br>
            <a:r>
              <a:rPr b="0" lang="en-US" sz="900" spc="-1" strike="noStrike">
                <a:solidFill>
                  <a:srgbClr val="000000"/>
                </a:solidFill>
                <a:latin typeface="Times New Roman"/>
              </a:rPr>
              <a:t>7 = Continuing graduate/professional or beyo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x Return Filed</a:t>
            </a:r>
            <a:r>
              <a:rPr b="0" lang="en-US" sz="1200" spc="-1" strike="noStrike">
                <a:solidFill>
                  <a:srgbClr val="000000"/>
                </a:solidFill>
                <a:latin typeface="Times New Roman"/>
              </a:rPr>
              <a:t> value of 1 changed from “Filed” to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ligible to File 1040A or 1040 EZ</a:t>
            </a:r>
            <a:r>
              <a:rPr b="0" lang="en-US" sz="1200" spc="-1" strike="noStrike">
                <a:solidFill>
                  <a:srgbClr val="000000"/>
                </a:solidFill>
                <a:latin typeface="Times New Roman"/>
              </a:rPr>
              <a:t> added a value of 3 to print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53000" cy="3489120"/>
          </a:xfrm>
          <a:prstGeom prst="rect">
            <a:avLst/>
          </a:prstGeom>
          <a:ln w="0">
            <a:noFill/>
          </a:ln>
        </p:spPr>
      </p:sp>
      <p:sp>
        <p:nvSpPr>
          <p:cNvPr id="214" name="PlaceHolder 2"/>
          <p:cNvSpPr>
            <a:spLocks noGrp="1"/>
          </p:cNvSpPr>
          <p:nvPr>
            <p:ph type="body"/>
          </p:nvPr>
        </p:nvSpPr>
        <p:spPr>
          <a:xfrm>
            <a:off x="546120" y="4319640"/>
            <a:ext cx="5999040" cy="4186080"/>
          </a:xfrm>
          <a:prstGeom prst="rect">
            <a:avLst/>
          </a:prstGeom>
          <a:noFill/>
          <a:ln w="0">
            <a:noFill/>
          </a:ln>
        </p:spPr>
        <p:txBody>
          <a:bodyPr lIns="93960" rIns="9396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Have a Driver’s License-</a:t>
            </a:r>
            <a:r>
              <a:rPr b="0" lang="en-US" sz="1100" spc="-1" strike="noStrike">
                <a:solidFill>
                  <a:srgbClr val="000000"/>
                </a:solidFill>
                <a:latin typeface="Times New Roman"/>
              </a:rPr>
              <a:t> Not used and to create space on the FASFSA.  We can deduce this answer by looking at the Driver’s License number and State..  If it is blank, the student does not have on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and Parent’s Business Net Worth and Student and Parent’s Farm</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 Worth-Combined into one question (48 and 82)- new field resulting in the combination of the two individual fields we discussed as being deleted.   Statistics for 1999-2000 show: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of students and 4.2.% of parents reported a value in Business Net Worth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of students and .5% of parents reported a value in Farm Net Worth</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 and Parent’s Earned Income Credit-</a:t>
            </a:r>
            <a:r>
              <a:rPr b="0" lang="en-US" sz="1100" spc="-1" strike="noStrike">
                <a:solidFill>
                  <a:srgbClr val="000000"/>
                </a:solidFill>
                <a:latin typeface="Times New Roman"/>
              </a:rPr>
              <a:t> Removed from the FAFSA and added to Worksheet A  This was done to consolidate the ‘needy’ items on one worksheet (B)  with non-needy items on another worksheet (C).  This will help you more quickly identify the neediest stude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E-mail Address- </a:t>
            </a:r>
            <a:r>
              <a:rPr b="0" lang="en-US" sz="1100" spc="-1" strike="noStrike">
                <a:solidFill>
                  <a:srgbClr val="000000"/>
                </a:solidFill>
                <a:latin typeface="Times New Roman"/>
              </a:rPr>
              <a:t>New 50 byte field added to electronic apps….Web, FE, EDExpress, and PIC. This question is </a:t>
            </a:r>
            <a:r>
              <a:rPr b="1" lang="en-US" sz="1100" spc="-1" strike="noStrike" u="sng">
                <a:solidFill>
                  <a:srgbClr val="000000"/>
                </a:solidFill>
                <a:uFillTx/>
                <a:latin typeface="Times New Roman"/>
              </a:rPr>
              <a:t>not</a:t>
            </a:r>
            <a:r>
              <a:rPr b="0" lang="en-US" sz="1100" spc="-1" strike="noStrike">
                <a:solidFill>
                  <a:srgbClr val="000000"/>
                </a:solidFill>
                <a:latin typeface="Times New Roman"/>
              </a:rPr>
              <a:t> on the paper FAFS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o you have Children </a:t>
            </a:r>
            <a:r>
              <a:rPr b="0" lang="en-US" sz="1100" spc="-1" strike="noStrike">
                <a:solidFill>
                  <a:srgbClr val="000000"/>
                </a:solidFill>
                <a:latin typeface="Times New Roman"/>
              </a:rPr>
              <a:t>(55) is a new field.  It was split out from Do you have Legal Dependants other than a Spouse making it easier for the applicant to understand.</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tudent’s and Parents’ Income from Worksheet C</a:t>
            </a:r>
            <a:r>
              <a:rPr b="0" lang="en-US" sz="1100" spc="-1" strike="noStrike">
                <a:solidFill>
                  <a:srgbClr val="000000"/>
                </a:solidFill>
                <a:latin typeface="Times New Roman"/>
              </a:rPr>
              <a:t> (46 and 80)- FAAs requested a way to determine values for the welfare amounts because some schools offer certain aid based on these figures. To accommodate this request the Worksheet A was split into two worksheets moving the previous Worksheet B to Worksheet C. Worksheet B will have “Need based income” and Worksheet C  is “Non need based income”.</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53000" cy="3489120"/>
          </a:xfrm>
          <a:prstGeom prst="rect">
            <a:avLst/>
          </a:prstGeom>
          <a:ln w="0">
            <a:noFill/>
          </a:ln>
        </p:spPr>
      </p:sp>
      <p:sp>
        <p:nvSpPr>
          <p:cNvPr id="21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 names were chang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numbers ie Step 1 we write out Step O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FSA question numbers wer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question moved to the end of Step One and was renamed to Drug Conv Affecting El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Savings and Checking moved after Net Worth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oter is the key.  You will notice the ‘@’ sign was added so you can determine if the change was on a previous transac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53000" cy="3489120"/>
          </a:xfrm>
          <a:prstGeom prst="rect">
            <a:avLst/>
          </a:prstGeom>
          <a:ln w="0">
            <a:noFill/>
          </a:ln>
        </p:spPr>
      </p:sp>
      <p:sp>
        <p:nvSpPr>
          <p:cNvPr id="218" name="PlaceHolder 2"/>
          <p:cNvSpPr>
            <a:spLocks noGrp="1"/>
          </p:cNvSpPr>
          <p:nvPr>
            <p:ph type="body"/>
          </p:nvPr>
        </p:nvSpPr>
        <p:spPr>
          <a:xfrm>
            <a:off x="934920" y="4398840"/>
            <a:ext cx="5221440" cy="43610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bel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ge 1 now School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 1 now Housing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out the software and documentation we rename the Institution Code to Federal School code and you will see this change on the ISIR to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d EFC Type was Pell Paid EFC last year.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53000" cy="3489120"/>
          </a:xfrm>
          <a:prstGeom prst="rect">
            <a:avLst/>
          </a:prstGeom>
          <a:ln w="0">
            <a:noFill/>
          </a:ln>
        </p:spPr>
      </p:sp>
      <p:sp>
        <p:nvSpPr>
          <p:cNvPr id="220" name="PlaceHolder 2"/>
          <p:cNvSpPr>
            <a:spLocks noGrp="1"/>
          </p:cNvSpPr>
          <p:nvPr>
            <p:ph type="body"/>
          </p:nvPr>
        </p:nvSpPr>
        <p:spPr>
          <a:xfrm>
            <a:off x="934920" y="4416480"/>
            <a:ext cx="5143680" cy="4186080"/>
          </a:xfrm>
          <a:prstGeom prst="rect">
            <a:avLst/>
          </a:prstGeom>
          <a:noFill/>
          <a:ln w="9360">
            <a:solidFill>
              <a:srgbClr val="f0f000"/>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By:  Added P, print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pplication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ged 61 to print FAFSA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62 to print Renewal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63 which was HCOTW  (THIS IS RIGHT, isn’t it since Apps can’t be a 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d 8 to print PIC  (IS THIS RIGHT????  I know PIC can’t do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ependency Over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2 to print “Canc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3 to print “F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A Adjus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2 to print “Fail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53000" cy="3489120"/>
          </a:xfrm>
          <a:prstGeom prst="rect">
            <a:avLst/>
          </a:prstGeom>
          <a:ln w="0">
            <a:noFill/>
          </a:ln>
        </p:spPr>
      </p:sp>
      <p:sp>
        <p:nvSpPr>
          <p:cNvPr id="222" name="PlaceHolder 2"/>
          <p:cNvSpPr>
            <a:spLocks noGrp="1"/>
          </p:cNvSpPr>
          <p:nvPr>
            <p:ph type="body"/>
          </p:nvPr>
        </p:nvSpPr>
        <p:spPr>
          <a:xfrm>
            <a:off x="388440" y="4416480"/>
            <a:ext cx="5923080" cy="4186080"/>
          </a:xfrm>
          <a:prstGeom prst="rect">
            <a:avLst/>
          </a:prstGeom>
          <a:noFill/>
          <a:ln w="0">
            <a:noFill/>
          </a:ln>
        </p:spPr>
        <p:txBody>
          <a:bodyPr lIns="93960" rIns="9396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New fiel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Duplicate SSN Flag-</a:t>
            </a:r>
            <a:r>
              <a:rPr b="0" lang="en-US" sz="1000" spc="-1" strike="noStrike">
                <a:solidFill>
                  <a:srgbClr val="000000"/>
                </a:solidFill>
                <a:latin typeface="Times New Roman"/>
              </a:rPr>
              <a:t> Indicates if another filer is using an original SSN that is the same as another original SSN already on file at the CPS, but the first two letters of the last name are different on the two transactions. This field was added as an indicator for FAAs to better enable our systems to prevent payment on duplicate SSNs. There is a 'Y' in the field if another filer is using this original SSN.</a:t>
            </a:r>
            <a:br>
              <a:rPr sz="1000"/>
            </a:b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Y = Another filer also using this SS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lank = N/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INS Sec. Conf. Flag</a:t>
            </a:r>
            <a:r>
              <a:rPr b="0" lang="en-US" sz="1000" spc="-1" strike="noStrike">
                <a:solidFill>
                  <a:srgbClr val="000000"/>
                </a:solidFill>
                <a:latin typeface="Times New Roman"/>
              </a:rPr>
              <a:t>.   We are working with INS to set-up an automatic Secondary Confirmation Match.  We will implement this new match as a pilot, but not until sometime after the 2001-2002 start-up. </a:t>
            </a:r>
            <a:endParaRPr b="0" lang="en-US" sz="10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nts who apply as eligible non-citizens and provide an alien registration numbers but are not verified by INS primary verification match, will automatically be processed at INS for secondary confirmation.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way we plan for this match to work is, when we receive records back from INS from Primary Verification, we will determine which records have a match flag of  “N”, not an eligible non-citizen.  Then we will immediately send the INS another file of these records for their secondary confirmation process.  As soon as INS processes the results, they will send the record back to CPS, and we will create a system-generated ISIR and SAR to report the result to schools and studen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tomatic secondary confirmation will take longer than the time it takes CPS to process the SARs/ISIRs. So, CPS  will proceed to process the SARs/ISIRs to report the primary verification match results as well as the results from the rest of regular processing.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INS returns the transactions that they completed secondary confirmation for, CPS will generate another SAR/ISIR to add the results from secondary confirmation. As you know, all system-generated ISIRs are in a separate message class, SYSG02OP. The CPS system generated indicator will be set to “I” to identify these record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ed Application Receipt Date and Transaction Receipt Date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ed @ description in foo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53000" cy="3489120"/>
          </a:xfrm>
          <a:prstGeom prst="rect">
            <a:avLst/>
          </a:prstGeom>
          <a:ln w="0">
            <a:noFill/>
          </a:ln>
        </p:spPr>
      </p:sp>
      <p:sp>
        <p:nvSpPr>
          <p:cNvPr id="22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s 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53000" cy="3489120"/>
          </a:xfrm>
          <a:prstGeom prst="rect">
            <a:avLst/>
          </a:prstGeom>
          <a:ln w="0">
            <a:noFill/>
          </a:ln>
        </p:spPr>
      </p:sp>
      <p:sp>
        <p:nvSpPr>
          <p:cNvPr id="22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both of the NSLDS Pages w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title across top of page “2001-2002 Institutional Student Information Reco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year re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format of Processed date from MM-DD-CCYY to MM/DD/CCYY (hyphen became the forward slas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53000" cy="3489120"/>
          </a:xfrm>
          <a:prstGeom prst="rect">
            <a:avLst/>
          </a:prstGeom>
          <a:ln w="0">
            <a:noFill/>
          </a:ln>
        </p:spPr>
      </p:sp>
      <p:sp>
        <p:nvSpPr>
          <p:cNvPr id="17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ntroduce prese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o is this session gear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ll levels of users can gain knowledge from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eared more for technical staff and schools who create their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xplain why evaluations are helpful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Explain where to put completed eval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lease ask your questions as we progress through t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f it is a large room w/ a microphone,  Have them step up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crop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53000" cy="3489120"/>
          </a:xfrm>
          <a:prstGeom prst="rect">
            <a:avLst/>
          </a:prstGeom>
          <a:ln w="0">
            <a:noFill/>
          </a:ln>
        </p:spPr>
      </p:sp>
      <p:sp>
        <p:nvSpPr>
          <p:cNvPr id="22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ime the Pell EFC is printed it will now contain more characters. b/c of the increased field length on th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field lengths for Pell EFC, Scheduled Amount,, Award Amount, Amount paid and Remaining Amount Paid increased from 4 bytes to 6 bytes to agree with data sent from RFMS to NSLD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lculated EFCs from CPS still remains at 5 digits. The maximum value is 99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53000" cy="3489120"/>
          </a:xfrm>
          <a:prstGeom prst="rect">
            <a:avLst/>
          </a:prstGeom>
          <a:ln w="0">
            <a:noFill/>
          </a:ln>
        </p:spPr>
      </p:sp>
      <p:sp>
        <p:nvSpPr>
          <p:cNvPr id="23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idized Loans was Subsid L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l Verification Flag was Ver.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tra Unsubsidized Flag</a:t>
            </a:r>
            <a:r>
              <a:rPr b="0" lang="en-US" sz="1200" spc="-1" strike="noStrike">
                <a:solidFill>
                  <a:srgbClr val="000000"/>
                </a:solidFill>
                <a:latin typeface="Times New Roman"/>
              </a:rPr>
              <a:t>- Added to the NSLDS section of the ISIR to inform schools that the aggregate loan amount borrowed includes unsubsidized loan amounts in excess of what the student would normally be eligible to receive, either because the dependent student’s parent was denied a PLUS or the student is a Health Professions student. </a:t>
            </a:r>
            <a:br>
              <a:rPr sz="1200"/>
            </a:br>
            <a:endParaRPr b="0" lang="en-US" sz="12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 = PLUS denial</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 = Health Professional</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 = Both</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 = Neither</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apitalized Interest Flag</a:t>
            </a:r>
            <a:r>
              <a:rPr b="0" lang="en-US" sz="1200" spc="-1" strike="noStrike">
                <a:solidFill>
                  <a:srgbClr val="000000"/>
                </a:solidFill>
                <a:latin typeface="Times New Roman"/>
              </a:rPr>
              <a:t>- This Flag is just for information purposes. It will not tell you how much additional loan funds the student receiv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53000" cy="3489120"/>
          </a:xfrm>
          <a:prstGeom prst="rect">
            <a:avLst/>
          </a:prstGeom>
          <a:ln w="0">
            <a:noFill/>
          </a:ln>
        </p:spPr>
      </p:sp>
      <p:sp>
        <p:nvSpPr>
          <p:cNvPr id="23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payment Values of D and W added to NSLDS Pell Overpayment Flag, NSLDS SEOG Overpayment Flag and  NSLDS Perkins Overpayment Flag  fiel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Deferred means the student owes an overpayment but returned to school, so the overpayment repayment will likely be deferred until the student leaves scho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Waived means student is a first time student who was awarded, but withdrew so the overpayment is automatically waived.</a:t>
            </a:r>
            <a:br>
              <a:rPr sz="1200"/>
            </a:b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53000" cy="3489120"/>
          </a:xfrm>
          <a:prstGeom prst="rect">
            <a:avLst/>
          </a:prstGeom>
          <a:ln w="0">
            <a:noFill/>
          </a:ln>
        </p:spPr>
      </p:sp>
      <p:sp>
        <p:nvSpPr>
          <p:cNvPr id="23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line of asterisks to separate the heading from loan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page number at bottom of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ields were ad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a Unsub</a:t>
            </a:r>
            <a:r>
              <a:rPr b="0" lang="en-US" sz="1200" spc="-1" strike="noStrike">
                <a:solidFill>
                  <a:srgbClr val="000000"/>
                </a:solidFill>
                <a:latin typeface="Times New Roman"/>
              </a:rPr>
              <a:t> and </a:t>
            </a:r>
            <a:r>
              <a:rPr b="1" lang="en-US" sz="1200" spc="-1" strike="noStrike">
                <a:solidFill>
                  <a:srgbClr val="000000"/>
                </a:solidFill>
                <a:latin typeface="Times New Roman"/>
              </a:rPr>
              <a:t>Capitalized Interest</a:t>
            </a:r>
            <a:r>
              <a:rPr b="0" lang="en-US" sz="1200" spc="-1" strike="noStrike">
                <a:solidFill>
                  <a:srgbClr val="000000"/>
                </a:solidFill>
                <a:latin typeface="Times New Roman"/>
              </a:rPr>
              <a:t> as on page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N Information for DL MPN, FFEL MPN and FFEL MPN Lender Co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DL MPN Flag-</a:t>
            </a:r>
            <a:r>
              <a:rPr b="0" lang="en-US" sz="1100" spc="-1" strike="noStrike">
                <a:solidFill>
                  <a:srgbClr val="000000"/>
                </a:solidFill>
                <a:latin typeface="Times New Roman"/>
              </a:rPr>
              <a:t> used to determine the status of the Direct Loan MP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FFEL MPN Flag-</a:t>
            </a:r>
            <a:r>
              <a:rPr b="0" lang="en-US" sz="1100" spc="-1" strike="noStrike">
                <a:solidFill>
                  <a:srgbClr val="000000"/>
                </a:solidFill>
                <a:latin typeface="Times New Roman"/>
              </a:rPr>
              <a:t> used to determine the status of the FFEL MPN </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oth have Valid content of:</a:t>
            </a:r>
            <a:r>
              <a:rPr b="0" lang="en-US" sz="1100" spc="-1" strike="noStrike">
                <a:solidFill>
                  <a:srgbClr val="000000"/>
                </a:solidFill>
                <a:latin typeface="Times New Roman"/>
              </a:rPr>
              <a:t>	</a:t>
            </a:r>
            <a:r>
              <a:rPr b="0" lang="en-US" sz="1100" spc="-1" strike="noStrike">
                <a:solidFill>
                  <a:srgbClr val="000000"/>
                </a:solidFill>
                <a:latin typeface="Times New Roman"/>
              </a:rPr>
              <a:t>A = 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 = Inactiv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 = Closed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 = No MPN on file</a:t>
            </a:r>
            <a:br>
              <a:rPr sz="1100"/>
            </a:b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Lender Code</a:t>
            </a:r>
            <a:r>
              <a:rPr b="0" lang="en-US" sz="1100" spc="-1" strike="noStrike">
                <a:solidFill>
                  <a:srgbClr val="000000"/>
                </a:solidFill>
                <a:latin typeface="Times New Roman"/>
              </a:rPr>
              <a:t>- used to determine who the FFEL lender is. </a:t>
            </a:r>
            <a:br>
              <a:rPr sz="1100"/>
            </a:b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	</a:t>
            </a:r>
            <a:r>
              <a:rPr b="0" lang="en-US" sz="1100" spc="-1" strike="noStrike">
                <a:solidFill>
                  <a:srgbClr val="000000"/>
                </a:solidFill>
                <a:latin typeface="Times New Roman"/>
              </a:rPr>
              <a:t>Lender Code VFC:</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Federal school code X00000-X99999</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Y = More than 1 lender</a:t>
            </a:r>
            <a:br>
              <a:rPr sz="1100"/>
            </a:b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N/A</a:t>
            </a: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53000" cy="3489120"/>
          </a:xfrm>
          <a:prstGeom prst="rect">
            <a:avLst/>
          </a:prstGeom>
          <a:ln w="0">
            <a:noFill/>
          </a:ln>
        </p:spPr>
      </p:sp>
      <p:sp>
        <p:nvSpPr>
          <p:cNvPr id="23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cellaneous (Section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es additional information necessary to assist user in the EDE implementation proc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of message classes with a description for the data,  if it is sent or received by the school, along with the field length and the TG number that the data is sent to .  This is a cumulative list for EDE data transmitted to the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testing procedures with test cases and example ISI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 the ISIR Change List because we put the data on this table in the ISIR and or the Cross Reference Table in Section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ection of the Tech Ref is the Index Sec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53000" cy="3489120"/>
          </a:xfrm>
          <a:prstGeom prst="rect">
            <a:avLst/>
          </a:prstGeom>
          <a:ln w="0">
            <a:noFill/>
          </a:ln>
        </p:spPr>
      </p:sp>
      <p:sp>
        <p:nvSpPr>
          <p:cNvPr id="23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sked for it - we obliged!! List of changes FAAs asked for that we will highlight today in a little more detail   (THIS IS A HIGH LEVEL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ore space for Christopher and foreign address, increas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name and address field length</a:t>
            </a:r>
            <a:br>
              <a:rPr sz="12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o Grade Level Values</a:t>
            </a:r>
            <a:br>
              <a:rPr sz="1200"/>
            </a:br>
            <a:r>
              <a:rPr b="0" lang="en-US" sz="1200" spc="-1" strike="noStrike">
                <a:solidFill>
                  <a:srgbClr val="000000"/>
                </a:solidFill>
                <a:latin typeface="Times New Roman"/>
              </a:rPr>
              <a:t>	</a:t>
            </a:r>
            <a:r>
              <a:rPr b="0" lang="en-US" sz="900" spc="-1" strike="noStrike">
                <a:solidFill>
                  <a:srgbClr val="000000"/>
                </a:solidFill>
                <a:latin typeface="Times New Roman"/>
              </a:rPr>
              <a:t>0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never attended colleg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1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undergraduate/attended college befor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2 = 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year undergraduate/sophomor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3 =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year undergraduate/junior</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4 = 4</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 undergraduate/senior</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5 = 5</a:t>
            </a:r>
            <a:r>
              <a:rPr b="0" lang="en-US" sz="900" spc="-1" strike="noStrike" baseline="30000">
                <a:solidFill>
                  <a:srgbClr val="000000"/>
                </a:solidFill>
                <a:latin typeface="Times New Roman"/>
              </a:rPr>
              <a:t>th</a:t>
            </a:r>
            <a:r>
              <a:rPr b="0" lang="en-US" sz="900" spc="-1" strike="noStrike">
                <a:solidFill>
                  <a:srgbClr val="000000"/>
                </a:solidFill>
                <a:latin typeface="Times New Roman"/>
              </a:rPr>
              <a:t> year/other undergraduate</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6 = 1</a:t>
            </a:r>
            <a:r>
              <a:rPr b="0" lang="en-US" sz="900" spc="-1" strike="noStrike" baseline="30000">
                <a:solidFill>
                  <a:srgbClr val="000000"/>
                </a:solidFill>
                <a:latin typeface="Times New Roman"/>
              </a:rPr>
              <a:t>st</a:t>
            </a:r>
            <a:r>
              <a:rPr b="0" lang="en-US" sz="900" spc="-1" strike="noStrike">
                <a:solidFill>
                  <a:srgbClr val="000000"/>
                </a:solidFill>
                <a:latin typeface="Times New Roman"/>
              </a:rPr>
              <a:t> year graduate/professional</a:t>
            </a:r>
            <a:br>
              <a:rPr sz="900"/>
            </a:br>
            <a:r>
              <a:rPr b="0" lang="en-US" sz="900" spc="-1" strike="noStrike">
                <a:solidFill>
                  <a:srgbClr val="000000"/>
                </a:solidFill>
                <a:latin typeface="Times New Roman"/>
              </a:rPr>
              <a:t>	</a:t>
            </a:r>
            <a:r>
              <a:rPr b="0" lang="en-US" sz="900" spc="-1" strike="noStrike">
                <a:solidFill>
                  <a:srgbClr val="000000"/>
                </a:solidFill>
                <a:latin typeface="Times New Roman"/>
              </a:rPr>
              <a:t>7 = Continuing graduate/professional or beyo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values for Tax Return filing status on the FAFSA to make the instructions more clear to Students.   This change carries over to the wording on th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values for Eligible to file 1040A or 1040EZ to help FAAs more quickly determine if the “Don’t Know” students should be followed up with to determine if they may qualify for SNT or Auto Zero EFC.</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53000" cy="3489120"/>
          </a:xfrm>
          <a:prstGeom prst="rect">
            <a:avLst/>
          </a:prstGeom>
          <a:ln w="0">
            <a:noFill/>
          </a:ln>
        </p:spPr>
      </p:sp>
      <p:sp>
        <p:nvSpPr>
          <p:cNvPr id="24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Correction Flag--Where did the correction come from?  A student? A school or the CPS…Now we have one field that you can quickly get this information from.</a:t>
            </a:r>
            <a:endParaRPr b="0" lang="en-US" sz="12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 Applicant (MDE, PIC or COTW) </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 = CPS (System Generated)</a:t>
            </a:r>
            <a:endParaRPr b="0" lang="en-US" sz="1100" spc="-1" strike="noStrike">
              <a:solidFill>
                <a:srgbClr val="000000"/>
              </a:solidFill>
              <a:latin typeface="Times New Roman"/>
            </a:endParaRPr>
          </a:p>
          <a:p>
            <a:pPr lvl="2" marL="914400" indent="0">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 = School (electronic correction)</a:t>
            </a:r>
            <a:endParaRPr b="0" lang="en-US" sz="11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ion Flags are cumulative and you can tell if the change is specific the the current transaction or a previous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Master Prom Note Flags (MPN) for DL and FFE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edit for same value in AGI and Taxes Pai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53000" cy="3489120"/>
          </a:xfrm>
          <a:prstGeom prst="rect">
            <a:avLst/>
          </a:prstGeom>
          <a:ln w="0">
            <a:noFill/>
          </a:ln>
        </p:spPr>
      </p:sp>
      <p:sp>
        <p:nvSpPr>
          <p:cNvPr id="24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Year increased- annual roll-over chang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HOLD12OP- Contains information for students who listed your institution on a web application or FAFSA Express application and are pending a signature pag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Correction ISIR and Correction Error import  file names to make it consistent with the export  file name of CORR12I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ARR12OP changed to CORR12OP</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ARE12OP changed to CORE12OP</a:t>
            </a:r>
            <a:br>
              <a:rPr sz="1200"/>
            </a:b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53000" cy="3489120"/>
          </a:xfrm>
          <a:prstGeom prst="rect">
            <a:avLst/>
          </a:prstGeom>
          <a:ln w="0">
            <a:noFill/>
          </a:ln>
        </p:spPr>
      </p:sp>
      <p:sp>
        <p:nvSpPr>
          <p:cNvPr id="244"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and Non Resident ISIR names for State agencies rena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 ISIRs changed  from YTDN12OP to YTDR12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tice the R in YTDR for 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Non-resident ISIRs will change from YTDF12OP to YTDN12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ice the N in YTDR for Non-Residen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53000" cy="3489120"/>
          </a:xfrm>
          <a:prstGeom prst="rect">
            <a:avLst/>
          </a:prstGeom>
          <a:ln w="0">
            <a:noFill/>
          </a:ln>
        </p:spPr>
      </p:sp>
      <p:sp>
        <p:nvSpPr>
          <p:cNvPr id="24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What is the EDE Technical Refe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t used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us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EDE Technical Refe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Sections and what each section was f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the specific layouts and their field length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cord layout for records on the HOLD file at CPS pending a signatu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the ISIR Cross Reference Table in Section 4  to include the specific change to a fie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print changes specifically changes to the printed ISIR and NSLDS p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that we do listen to what you have to say during the As You Requested!! portion of the session.  Please continue to give use your feedback and suggestions.  We review each issue during our requirements phase.  We have begun work on 2002-2003. We will do more work beginning late January, early Febru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m where the suggestion box so they can put their comments in the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53000" cy="3489120"/>
          </a:xfrm>
          <a:prstGeom prst="rect">
            <a:avLst/>
          </a:prstGeom>
          <a:ln w="0">
            <a:noFill/>
          </a:ln>
        </p:spPr>
      </p:sp>
      <p:sp>
        <p:nvSpPr>
          <p:cNvPr id="17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the outline/Agenda of what we will be discussing toda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What is the Electronic Data Exchange (EDE) Technical Referen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hat is it used fo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Who uses it?</a:t>
            </a: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Where can I get the ED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SFAtech download sit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b. IFAP web si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Structure of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 We will discuss the 8 sections of the Tech R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1. Data in each sec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 How data is us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At Your Request, we have made several changes-  In this section we will discuss changes that resulted in comments and suggestions from FAAs just like you.</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Edit Changes- We will discuss some changes to edits performed on application data when it goes through processing at the CPS.</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53000" cy="3489120"/>
          </a:xfrm>
          <a:prstGeom prst="rect">
            <a:avLst/>
          </a:prstGeom>
          <a:ln w="0">
            <a:noFill/>
          </a:ln>
        </p:spPr>
      </p:sp>
      <p:sp>
        <p:nvSpPr>
          <p:cNvPr id="24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further assistance after the session today you can go to the PC Lab in ____________________________________ (</a:t>
            </a:r>
            <a:r>
              <a:rPr b="0" lang="en-US" sz="900" spc="-1" strike="noStrike">
                <a:solidFill>
                  <a:srgbClr val="000000"/>
                </a:solidFill>
                <a:latin typeface="Times New Roman"/>
              </a:rPr>
              <a:t>state room name and give directio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act CPS Customer Service by phone or email or you can contact SFAT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eciate your feedback and comments on your evaluations.  We use these for future sessions and planning of future conferences.  Please fill out evaluations before you leave.  Put them your evaluations  ____________________________________________(</a:t>
            </a:r>
            <a:r>
              <a:rPr b="0" lang="en-US" sz="900" spc="-1" strike="noStrike">
                <a:solidFill>
                  <a:srgbClr val="000000"/>
                </a:solidFill>
                <a:latin typeface="Times New Roman"/>
              </a:rPr>
              <a:t>tell them where to put the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53000" cy="3489120"/>
          </a:xfrm>
          <a:prstGeom prst="rect">
            <a:avLst/>
          </a:prstGeom>
          <a:ln w="0">
            <a:noFill/>
          </a:ln>
        </p:spPr>
      </p:sp>
      <p:sp>
        <p:nvSpPr>
          <p:cNvPr id="25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personally thank your for joining our session today.  I hope you enjoy the rest of the conference. We will now address any additional questions that you may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706320"/>
            <a:ext cx="4653000" cy="3489480"/>
          </a:xfrm>
          <a:prstGeom prst="rect">
            <a:avLst/>
          </a:prstGeom>
          <a:ln w="0">
            <a:noFill/>
          </a:ln>
        </p:spPr>
      </p:sp>
      <p:sp>
        <p:nvSpPr>
          <p:cNvPr id="178"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s to fil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New messag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ummary-review of what we went over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Further Assistance, where to get additional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53000" cy="3489120"/>
          </a:xfrm>
          <a:prstGeom prst="rect">
            <a:avLst/>
          </a:prstGeom>
          <a:ln w="0">
            <a:noFill/>
          </a:ln>
        </p:spPr>
      </p:sp>
      <p:sp>
        <p:nvSpPr>
          <p:cNvPr id="180"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DE Technical Referenc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 Technical Reference is a reference tool that explains the Electronic Data Exchange (EDE) process with the Central Processing System (C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map if you will to tell you want to expect in each position of a file or a long string of alpha and numeric charact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53000" cy="3489120"/>
          </a:xfrm>
          <a:prstGeom prst="rect">
            <a:avLst/>
          </a:prstGeom>
          <a:ln w="0">
            <a:noFill/>
          </a:ln>
        </p:spPr>
      </p:sp>
      <p:sp>
        <p:nvSpPr>
          <p:cNvPr id="182"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e EDE Tech Ref used by?</a:t>
            </a:r>
            <a:br>
              <a:rPr sz="1200"/>
            </a:br>
            <a:br>
              <a:rPr sz="1200"/>
            </a:br>
            <a:r>
              <a:rPr b="0" lang="en-US" sz="1200" spc="-1" strike="noStrike">
                <a:solidFill>
                  <a:srgbClr val="000000"/>
                </a:solidFill>
                <a:latin typeface="Times New Roman"/>
              </a:rPr>
              <a:t>It is used by Schools in the programming area or financial aid office, State Agencies,  Third Party Servicer’s or Contractors offices,  At CPS in CS and some in our programming departments,  both mainframe system and EDExp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inly used when trying to design a system or interpret data.</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53000" cy="3489120"/>
          </a:xfrm>
          <a:prstGeom prst="rect">
            <a:avLst/>
          </a:prstGeom>
          <a:ln w="0">
            <a:noFill/>
          </a:ln>
        </p:spPr>
      </p:sp>
      <p:sp>
        <p:nvSpPr>
          <p:cNvPr id="184" name="PlaceHolder 2"/>
          <p:cNvSpPr>
            <a:spLocks noGrp="1"/>
          </p:cNvSpPr>
          <p:nvPr>
            <p:ph type="body"/>
          </p:nvPr>
        </p:nvSpPr>
        <p:spPr>
          <a:xfrm>
            <a:off x="233280" y="4241520"/>
            <a:ext cx="6546960" cy="4360680"/>
          </a:xfrm>
          <a:prstGeom prst="rect">
            <a:avLst/>
          </a:prstGeom>
          <a:noFill/>
          <a:ln w="0">
            <a:noFill/>
          </a:ln>
        </p:spPr>
        <p:txBody>
          <a:bodyPr lIns="93960" rIns="9396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wnload Instructions (can be found from from the Help option on the left had side of the screen in the Blue Column)</a:t>
            </a:r>
            <a:endParaRPr b="0" lang="en-US" sz="9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need special software to view or download like Adobe Acrobat, see the Download Utilities option in the Blue Column  for links to free software.)</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Go to:      www. SFA download.ed.gov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elect Select References and Documentation from Blue Column on Left side of scre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nder Electronic Data Exchange Technical Reference select 2001-2002  (You can select to download a MS Word or              </a:t>
            </a:r>
            <a:r>
              <a:rPr b="0" lang="en-US" sz="800" spc="-1" strike="noStrike">
                <a:solidFill>
                  <a:srgbClr val="000000"/>
                </a:solidFill>
                <a:latin typeface="Times New Roman"/>
              </a:rPr>
              <a:t>	</a:t>
            </a:r>
            <a:r>
              <a:rPr b="0" lang="en-US" sz="800" spc="-1" strike="noStrike">
                <a:solidFill>
                  <a:srgbClr val="000000"/>
                </a:solidFill>
                <a:latin typeface="Times New Roman"/>
              </a:rPr>
              <a:t>Adobe PDF documen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You should see a screen: that asks you if you want to</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Open this file from it’s current location or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 Save this file to Disk.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Choose "Save this file to disk"</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Next you'll see a “Save As Screen” where you choose where to save the file to.  Choose a location to save the file, then press the "Save" button on the screen.</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Next you'll see a screen like the one below:</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 Depending on the speed of your internet connection, the download may take a considerable amount of time (see table of Download Times above).</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 Once the software file is downloaded to the specified location, go to that location and double-click on the file in order to open and/or install it. </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ount of time it takes to download a file depends on the file size and the speed of the Internet connection. If you do not have a direct connection to the Internet, a 56 kbs modem is recommended.</a:t>
            </a:r>
            <a:br>
              <a:rPr sz="800"/>
            </a:br>
            <a:r>
              <a:rPr b="0" lang="en-US" sz="800" spc="-1" strike="noStrike">
                <a:solidFill>
                  <a:srgbClr val="000000"/>
                </a:solidFill>
                <a:latin typeface="Times New Roman"/>
              </a:rPr>
              <a:t>There is a table on the site that shows the minimum possible download times for various file sizes and modem speeds. The actual times will vary depending on the quality of the phone line and Internet traffic.</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Note</a:t>
            </a:r>
            <a:r>
              <a:rPr b="0" i="1" lang="en-US" sz="800" spc="-1" strike="noStrike">
                <a:solidFill>
                  <a:srgbClr val="000000"/>
                </a:solidFill>
                <a:latin typeface="Times New Roman"/>
              </a:rPr>
              <a:t>: Some organizations restrict their Users from downloading from FTP sites. If you are having trouble downloading (e.g., you are prompted for a User ID and Password, or just can’t download) try again later. If you are still unable to download, contact your Technical Support Staff to ensure that you have full FTP Download Rights.)</a:t>
            </a:r>
            <a:endParaRPr b="0" lang="en-US" sz="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53000" cy="3489120"/>
          </a:xfrm>
          <a:prstGeom prst="rect">
            <a:avLst/>
          </a:prstGeom>
          <a:ln w="0">
            <a:noFill/>
          </a:ln>
        </p:spPr>
      </p:sp>
      <p:sp>
        <p:nvSpPr>
          <p:cNvPr id="186" name="PlaceHolder 2"/>
          <p:cNvSpPr>
            <a:spLocks noGrp="1"/>
          </p:cNvSpPr>
          <p:nvPr>
            <p:ph type="body"/>
          </p:nvPr>
        </p:nvSpPr>
        <p:spPr>
          <a:xfrm>
            <a:off x="934920" y="4416480"/>
            <a:ext cx="5143680" cy="4186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important dates </a:t>
            </a:r>
            <a:br>
              <a:rPr sz="1200"/>
            </a:br>
            <a:r>
              <a:rPr b="1" lang="en-US" sz="1200" spc="-1" strike="noStrike">
                <a:solidFill>
                  <a:srgbClr val="ff0066"/>
                </a:solidFill>
                <a:latin typeface="Times New Roman"/>
              </a:rPr>
              <a:t>System Start up is Jan. 2,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8 sections to the EDE Technical Reference.   We will quickly touch on the contents of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Ref begins with a Table of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verview, sect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Explains the different Electronic Data Exchang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ctronic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newal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rr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plic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SI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What’s New and What’s Changed for 2001-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ources of Assistance- lists phone numbers and email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B9B58B-277A-45AF-B9D1-ED76958EB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A56465-E45F-45AB-8580-042F94CE2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04E989-C6DF-426A-BD78-8D4C3ECF2B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08A185-88B2-4E51-97AF-36AEF99E2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6EF47A-ADBF-4FDA-AC05-F2FEB65E6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6122A2-81F4-4820-AF11-19FB3C107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787213-F767-4139-BBCD-8260501B50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DAB091-2452-4AC4-8B18-488917FBA5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F6FCC-3333-45B6-BB65-F97993C3D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EDC1B-484D-4380-BF4C-A3621B0F4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3CF11-2DD0-46C1-9F78-9B7DA0AAC4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34586-BA88-4EB6-9EB2-692FE7236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CA20-60E9-4267-9A99-3734F31749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067440" y="6477120"/>
            <a:ext cx="28954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7" name=""/>
          <p:cNvSpPr/>
          <p:nvPr/>
        </p:nvSpPr>
        <p:spPr>
          <a:xfrm>
            <a:off x="7315200" y="6477120"/>
            <a:ext cx="18288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578F-824D-4861-AAA9-DB9E935CCA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9"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 Processing, section 2</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vides more detail to the overall electronic data exchange (EDE) process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ep by step instructions for doing the different process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w to make a duplicate request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w to add your school code to a student’s record</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58A8622-AECF-466B-A3E6-0F904A33C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Layouts, section 3</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e Record Layout section is a map to read the data sent by the CPS, or a map of what the CPS is expecting to receiv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DExpress has the record layout logic written into the program</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BC15410-5C90-491F-B4FE-354A7B312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ord Layouts, section 3 (Cont.)</a:t>
            </a:r>
            <a:endParaRPr b="0" lang="en-US" sz="3200" spc="-1" strike="noStrike">
              <a:solidFill>
                <a:srgbClr val="0019a8"/>
              </a:solidFill>
              <a:latin typeface="Arial"/>
            </a:endParaRPr>
          </a:p>
          <a:p>
            <a:pPr lvl="1" marL="735480" indent="-28296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ew layout HOLD02OP; file of all student’s applications who listed your school that are on hold at CPS waiting for appropriate signatures</a:t>
            </a:r>
            <a:endParaRPr b="0" lang="en-US" sz="28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Demographic info</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Date added to Hold file</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Electronic App Entry Source</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Signed By</a:t>
            </a:r>
            <a:endParaRPr b="0" lang="en-US" sz="2400" spc="-1" strike="noStrike">
              <a:solidFill>
                <a:srgbClr val="0019a8"/>
              </a:solidFill>
              <a:latin typeface="Arial"/>
            </a:endParaRPr>
          </a:p>
          <a:p>
            <a:pPr lvl="2" marL="1131480" indent="-226080">
              <a:lnSpc>
                <a:spcPct val="100000"/>
              </a:lnSpc>
              <a:spcBef>
                <a:spcPts val="601"/>
              </a:spcBef>
              <a:buClr>
                <a:srgbClr val="0019a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ahoma"/>
              </a:rPr>
              <a:t>Model</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AE116429-C8E7-47BC-A43B-6909CF213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a:t>
            </a:r>
            <a:endParaRPr b="1" i="1" lang="en-US" sz="4000" spc="-1" strike="noStrike">
              <a:solidFill>
                <a:srgbClr val="c2000a"/>
              </a:solidFill>
              <a:latin typeface="Arial"/>
            </a:endParaRPr>
          </a:p>
        </p:txBody>
      </p:sp>
      <p:graphicFrame>
        <p:nvGraphicFramePr>
          <p:cNvPr id="113" name=""/>
          <p:cNvGraphicFramePr/>
          <p:nvPr/>
        </p:nvGraphicFramePr>
        <p:xfrm>
          <a:off x="380880" y="2209680"/>
          <a:ext cx="8720280" cy="2563920"/>
        </p:xfrm>
        <a:graphic>
          <a:graphicData uri="http://schemas.openxmlformats.org/presentationml/2006/ole">
            <p:oleObj progId="Word.Document.12" r:id="rId1" spid="">
              <p:embed/>
              <p:pic>
                <p:nvPicPr>
                  <p:cNvPr id="114" name="" descr=""/>
                  <p:cNvPicPr/>
                  <p:nvPr/>
                </p:nvPicPr>
                <p:blipFill>
                  <a:blip r:embed="rId2"/>
                  <a:stretch/>
                </p:blipFill>
                <p:spPr>
                  <a:xfrm>
                    <a:off x="380880" y="2209680"/>
                    <a:ext cx="8720280" cy="256392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042069B5-9572-4652-9513-3C880287E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 (Cont.)</a:t>
            </a:r>
            <a:endParaRPr b="1" i="1" lang="en-US" sz="4000" spc="-1" strike="noStrike">
              <a:solidFill>
                <a:srgbClr val="c2000a"/>
              </a:solidFill>
              <a:latin typeface="Arial"/>
            </a:endParaRPr>
          </a:p>
        </p:txBody>
      </p:sp>
      <p:graphicFrame>
        <p:nvGraphicFramePr>
          <p:cNvPr id="116" name=""/>
          <p:cNvGraphicFramePr/>
          <p:nvPr/>
        </p:nvGraphicFramePr>
        <p:xfrm>
          <a:off x="404640" y="2057400"/>
          <a:ext cx="8739360" cy="2959200"/>
        </p:xfrm>
        <a:graphic>
          <a:graphicData uri="http://schemas.openxmlformats.org/presentationml/2006/ole">
            <p:oleObj progId="Word.Document.12" r:id="rId1" spid="">
              <p:embed/>
              <p:pic>
                <p:nvPicPr>
                  <p:cNvPr id="117" name="" descr=""/>
                  <p:cNvPicPr/>
                  <p:nvPr/>
                </p:nvPicPr>
                <p:blipFill>
                  <a:blip r:embed="rId2"/>
                  <a:stretch/>
                </p:blipFill>
                <p:spPr>
                  <a:xfrm>
                    <a:off x="404640" y="2057400"/>
                    <a:ext cx="8739360" cy="295920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BF208EB9-8A19-44F8-AE48-524753CF63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ord Layout Lengths (Cont.)</a:t>
            </a:r>
            <a:endParaRPr b="1" i="1" lang="en-US" sz="4000" spc="-1" strike="noStrike">
              <a:solidFill>
                <a:srgbClr val="c2000a"/>
              </a:solidFill>
              <a:latin typeface="Arial"/>
            </a:endParaRPr>
          </a:p>
        </p:txBody>
      </p:sp>
      <p:graphicFrame>
        <p:nvGraphicFramePr>
          <p:cNvPr id="119" name=""/>
          <p:cNvGraphicFramePr/>
          <p:nvPr/>
        </p:nvGraphicFramePr>
        <p:xfrm>
          <a:off x="404640" y="1905120"/>
          <a:ext cx="8739360" cy="3351240"/>
        </p:xfrm>
        <a:graphic>
          <a:graphicData uri="http://schemas.openxmlformats.org/presentationml/2006/ole">
            <p:oleObj progId="Word.Document.12" r:id="rId1" spid="">
              <p:embed/>
              <p:pic>
                <p:nvPicPr>
                  <p:cNvPr id="120" name="" descr=""/>
                  <p:cNvPicPr/>
                  <p:nvPr/>
                </p:nvPicPr>
                <p:blipFill>
                  <a:blip r:embed="rId2"/>
                  <a:stretch/>
                </p:blipFill>
                <p:spPr>
                  <a:xfrm>
                    <a:off x="404640" y="1905120"/>
                    <a:ext cx="8739360" cy="3351240"/>
                  </a:xfrm>
                  <a:prstGeom prst="rect">
                    <a:avLst/>
                  </a:prstGeom>
                  <a:ln w="0">
                    <a:noFill/>
                  </a:ln>
                </p:spPr>
              </p:pic>
            </p:oleObj>
          </a:graphicData>
        </a:graphic>
      </p:graphicFrame>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EF273434-D156-45DE-8D6F-03F0FB5EC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2" name="PlaceHolder 2"/>
          <p:cNvSpPr>
            <a:spLocks noGrp="1"/>
          </p:cNvSpPr>
          <p:nvPr>
            <p:ph/>
          </p:nvPr>
        </p:nvSpPr>
        <p:spPr>
          <a:xfrm>
            <a:off x="380520" y="1828800"/>
            <a:ext cx="8564760" cy="4114800"/>
          </a:xfrm>
          <a:prstGeom prst="rect">
            <a:avLst/>
          </a:prstGeom>
          <a:noFill/>
          <a:ln w="0">
            <a:noFill/>
          </a:ln>
        </p:spPr>
        <p:txBody>
          <a:bodyPr lIns="90000" rIns="90000" tIns="46800" bIns="46800" anchor="t">
            <a:normAutofit fontScale="95000"/>
          </a:bodyPr>
          <a:p>
            <a:pPr marL="325800" indent="-32580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a:t>
            </a:r>
            <a:endParaRPr b="0" lang="en-US" sz="32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2000-2001 to 2001-2002 ISIR Cross-Reference</a:t>
            </a:r>
            <a:endParaRPr b="0" lang="en-US" sz="2800" spc="-1" strike="noStrike">
              <a:solidFill>
                <a:srgbClr val="0019a8"/>
              </a:solidFill>
              <a:latin typeface="Arial"/>
            </a:endParaRPr>
          </a:p>
          <a:p>
            <a:pPr lvl="1" marL="705600" indent="-2714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able of Reject Codes and How to Respond to Each</a:t>
            </a:r>
            <a:endParaRPr b="0" lang="en-US" sz="28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leted Reject 20</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14 - Missing student signature </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 - Date of birth year equals 1900, 1901 or 1902</a:t>
            </a:r>
            <a:endParaRPr b="0" lang="en-US" sz="2400" spc="-1" strike="noStrike">
              <a:solidFill>
                <a:srgbClr val="0019a8"/>
              </a:solidFill>
              <a:latin typeface="Arial"/>
            </a:endParaRPr>
          </a:p>
          <a:p>
            <a:pPr lvl="2" marL="1085760" indent="-21708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 - Taxes paid equal Adjusted Gross Income</a:t>
            </a:r>
            <a:r>
              <a:rPr b="0" lang="en-US" sz="2400" spc="-1" strike="noStrike">
                <a:solidFill>
                  <a:srgbClr val="0019a8"/>
                </a:solidFill>
                <a:latin typeface="Arial"/>
              </a:rPr>
              <a:t>	</a:t>
            </a:r>
            <a:r>
              <a:rPr b="0" lang="en-US" sz="2400" spc="-1" strike="noStrike">
                <a:solidFill>
                  <a:srgbClr val="0019a8"/>
                </a:solidFill>
                <a:latin typeface="Arial"/>
              </a:rPr>
              <a:t>	</a:t>
            </a:r>
            <a:endParaRPr b="0" lang="en-US" sz="2400" spc="-1" strike="noStrike">
              <a:solidFill>
                <a:srgbClr val="0019a8"/>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38FDB884-A6BB-42C5-9312-6496828655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rror Messages with code an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ssumption Overri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mment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AR/ISIR Correction Flags and Correction/Highlight Field Number</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3FC8C1A1-9830-4611-BFE6-8F1B36A1F3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ing Codes/System Requirements, section 4 (Co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SLDS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e/Country/Jurisdiction Code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orrection Data Entry Specifications</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6BE4726-D250-4E67-967A-05A824242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2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section 5</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youts for printing ISIRs and Renewal Applications to ED specification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scribes assumptions, highlights, comments, signed-numeric values, rejects and how to print them</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ample output documents</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45FE09F-864D-48E3-A4CF-FFA559259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13</a:t>
            </a:r>
            <a:endParaRPr b="1" i="1" lang="en-US" sz="4000" spc="-1" strike="noStrike">
              <a:solidFill>
                <a:srgbClr val="c2000a"/>
              </a:solidFill>
              <a:latin typeface="Arial"/>
            </a:endParaRPr>
          </a:p>
        </p:txBody>
      </p:sp>
      <p:sp>
        <p:nvSpPr>
          <p:cNvPr id="91" name=""/>
          <p:cNvSpPr/>
          <p:nvPr/>
        </p:nvSpPr>
        <p:spPr>
          <a:xfrm>
            <a:off x="457200" y="2819520"/>
            <a:ext cx="8381880" cy="1802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19a8"/>
                </a:solidFill>
                <a:latin typeface="Arial"/>
              </a:rPr>
              <a:t>2001-2002 EDE Technical Reference Document Review and Layout Chang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3-</a:t>
            </a:r>
          </a:p>
        </p:txBody>
      </p:sp>
      <p:sp>
        <p:nvSpPr>
          <p:cNvPr id="4" name="PlaceHolder 3"/>
          <p:cNvSpPr>
            <a:spLocks noGrp="1"/>
          </p:cNvSpPr>
          <p:nvPr>
            <p:ph type="sldNum" idx="2"/>
          </p:nvPr>
        </p:nvSpPr>
        <p:spPr/>
        <p:txBody>
          <a:bodyPr/>
          <a:p>
            <a:fld id="{C1387D80-E35D-4D7E-A538-1B23BB422A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a:t>
            </a:r>
            <a:endParaRPr b="1" i="1" lang="en-US" sz="4000" spc="-1" strike="noStrike">
              <a:solidFill>
                <a:srgbClr val="c2000a"/>
              </a:solidFill>
              <a:latin typeface="Arial"/>
            </a:endParaRPr>
          </a:p>
        </p:txBody>
      </p:sp>
      <p:sp>
        <p:nvSpPr>
          <p:cNvPr id="13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1</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year reference on each pag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ge number moved from top to bottom</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rankey print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14A0C1E2-345C-408C-9702-72354FFEC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amples of Label changes </a:t>
            </a:r>
            <a:endParaRPr b="0" lang="en-US" sz="28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nrollment plan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Legal Residence Dat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Grade Level in Colleg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ther’s/Stepfather’s SSN</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djusted Gross Incom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A</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B</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A2F018D1-94C5-4EAB-97D8-4698AEE162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amples of Print Instruction changes </a:t>
            </a:r>
            <a:endParaRPr b="0" lang="en-US" sz="28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river’s License #</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arital Statu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nrollment Plans</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ther’s Educational Level</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Grade Level in College</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ax Return Filed</a:t>
            </a:r>
            <a:endParaRPr b="0" lang="en-US" sz="2400" spc="-1" strike="noStrike">
              <a:solidFill>
                <a:srgbClr val="0019a8"/>
              </a:solidFill>
              <a:latin typeface="Arial"/>
            </a:endParaRPr>
          </a:p>
          <a:p>
            <a:pPr lvl="2" marL="1119960" indent="-22392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ligible to File 1040A or 1040 EZ</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80A3B02F-0BD7-4ED9-8CBB-62721BE84F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leted </a:t>
            </a:r>
            <a:endParaRPr b="0" lang="en-US" sz="28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ave Driver’s License?</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et Worth of Investment Farm </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arned Income Credit for Student and Parent’s</a:t>
            </a:r>
            <a:endParaRPr b="0" lang="en-US" sz="2400" spc="-1" strike="noStrike">
              <a:solidFill>
                <a:srgbClr val="0019a8"/>
              </a:solidFill>
              <a:latin typeface="Arial"/>
            </a:endParaRPr>
          </a:p>
          <a:p>
            <a:pPr lvl="1" marL="713160" indent="-27432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a:t>
            </a:r>
            <a:endParaRPr b="0" lang="en-US" sz="28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mail Address</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ave Children You Support?</a:t>
            </a:r>
            <a:endParaRPr b="0" lang="en-US" sz="2400" spc="-1" strike="noStrike">
              <a:solidFill>
                <a:srgbClr val="0019a8"/>
              </a:solidFill>
              <a:latin typeface="Arial"/>
            </a:endParaRPr>
          </a:p>
          <a:p>
            <a:pPr lvl="2" marL="1097280" indent="-21924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otal from Worksheet C for Student and Parent’s</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53ED588D-8FE7-4D95-A1CA-BD2CFE985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3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2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ep labels chang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rug Conv Affecting Elig?  renamed and mo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ash, Savings and Checking moved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 description in foo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96CAE6EF-F145-4623-A0FD-C96ACC874F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bel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chool #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Housing #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ederal School Code Indicator</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aid EFC Type</a:t>
            </a:r>
            <a:endParaRPr b="0" lang="en-US" sz="24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B6BB8C41-7B31-485C-84AB-313DBF19E7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 Instruction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igned By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pplication Sourc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pendency Overrid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AA Adjustment</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E7FE9C7-BF41-45E1-9417-767B0BC9B3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3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uplicate SSN Flag</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 Sec. Conf. Flag</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witched Application Receipt Date and Transaction Receipt Date location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 description in foo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7AB57B8-E81F-4802-9D17-0581EE646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Cont.)</a:t>
            </a:r>
            <a:endParaRPr b="1" i="1" lang="en-US" sz="4000" spc="-1" strike="noStrike">
              <a:solidFill>
                <a:srgbClr val="c2000a"/>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Page 4</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ext changed to reflect certification page chang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60C3592-52BB-4EB1-9042-F736AC3EAD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a:t>
            </a:r>
            <a:endParaRPr b="1" i="1" lang="en-US" sz="4000" spc="-1" strike="noStrike">
              <a:solidFill>
                <a:srgbClr val="c2000a"/>
              </a:solidFill>
              <a:latin typeface="Arial"/>
            </a:endParaRPr>
          </a:p>
        </p:txBody>
      </p:sp>
      <p:sp>
        <p:nvSpPr>
          <p:cNvPr id="14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nd 2</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title across top of page 2001-2002 Institutional Student Information Recor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year referenc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anged format of Processed date from    MM-DD-CCYY to MM/DD/CCYY</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75227322-E4E7-4074-B09D-5EDEC526C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this session is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r>
              <a:rPr b="0" lang="en-US" sz="3200" spc="-1" strike="noStrike">
                <a:solidFill>
                  <a:srgbClr val="0019a8"/>
                </a:solidFill>
                <a:latin typeface="Arial"/>
              </a:rPr>
              <a: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7630AB50-78BF-43F7-A302-2DE55E71E1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nd 2 (Co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creased field length for Pell EFC</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cheduled Amount</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ward Amount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mount Paid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maining Amount Paid :</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A4D8B78-964F-46BF-B2CB-D91FFDEBF7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abel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ubsidized Loans:</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Pell Verification Flag</a:t>
            </a:r>
            <a:endParaRPr b="0" lang="en-US" sz="24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Field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xtra Unsub</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apitalized Interest</a:t>
            </a:r>
            <a:endParaRPr b="0" lang="en-US" sz="2400" spc="-1" strike="noStrike">
              <a:solidFill>
                <a:srgbClr val="0019a8"/>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139DBE34-8B91-4005-8B50-E3A481D17D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1 (Con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 Instruction Changes</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verpayment values of D and W added for: </a:t>
            </a:r>
            <a:endParaRPr b="0" lang="en-US" sz="24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Pell Overpayment Flag </a:t>
            </a:r>
            <a:endParaRPr b="0" lang="en-US" sz="20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SEOG Overpayment Flag</a:t>
            </a:r>
            <a:endParaRPr b="0" lang="en-US" sz="2000" spc="-1" strike="noStrike">
              <a:solidFill>
                <a:srgbClr val="0019a8"/>
              </a:solidFill>
              <a:latin typeface="Arial"/>
            </a:endParaRPr>
          </a:p>
          <a:p>
            <a:pPr lvl="3" marL="1600200" indent="-22860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NSLDS Perkins Overpayment Flag  </a:t>
            </a:r>
            <a:endParaRPr b="0" lang="en-US" sz="20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F32B9DE-F1BD-4EAD-A0B9-AED356AFE6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66520" y="456840"/>
            <a:ext cx="62787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s to the Printed ISIR NSLDS Page (Cont.)</a:t>
            </a:r>
            <a:endParaRPr b="1" i="1" lang="en-US" sz="4000" spc="-1" strike="noStrike">
              <a:solidFill>
                <a:srgbClr val="c2000a"/>
              </a:solidFill>
              <a:latin typeface="Arial"/>
            </a:endParaRPr>
          </a:p>
        </p:txBody>
      </p:sp>
      <p:sp>
        <p:nvSpPr>
          <p:cNvPr id="156" name="PlaceHolder 2"/>
          <p:cNvSpPr>
            <a:spLocks noGrp="1"/>
          </p:cNvSpPr>
          <p:nvPr>
            <p:ph/>
          </p:nvPr>
        </p:nvSpPr>
        <p:spPr>
          <a:xfrm>
            <a:off x="807840" y="1676520"/>
            <a:ext cx="8335800" cy="4114800"/>
          </a:xfrm>
          <a:prstGeom prst="rect">
            <a:avLst/>
          </a:prstGeom>
          <a:noFill/>
          <a:ln w="0">
            <a:noFill/>
          </a:ln>
        </p:spPr>
        <p:txBody>
          <a:bodyPr lIns="90000" rIns="90000" tIns="46800" bIns="46800" anchor="t">
            <a:normAutofit fontScale="90000"/>
          </a:bodyPr>
          <a:p>
            <a:pPr marL="308520" indent="-30852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SLDS Page 2</a:t>
            </a:r>
            <a:endParaRPr b="0" lang="en-US" sz="32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a line of asterisks</a:t>
            </a:r>
            <a:endParaRPr b="0" lang="en-US" sz="28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page number at bottom of page</a:t>
            </a:r>
            <a:endParaRPr b="0" lang="en-US" sz="2800" spc="-1" strike="noStrike">
              <a:solidFill>
                <a:srgbClr val="0019a8"/>
              </a:solidFill>
              <a:latin typeface="Arial"/>
            </a:endParaRPr>
          </a:p>
          <a:p>
            <a:pPr lvl="1" marL="668520" indent="-2570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ed Fields</a:t>
            </a:r>
            <a:endParaRPr b="0" lang="en-US" sz="28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Extra Unsub</a:t>
            </a:r>
            <a:endParaRPr b="0" lang="en-US" sz="24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apitalized Interest</a:t>
            </a:r>
            <a:endParaRPr b="0" lang="en-US" sz="2400" spc="-1" strike="noStrike">
              <a:solidFill>
                <a:srgbClr val="0019a8"/>
              </a:solidFill>
              <a:latin typeface="Arial"/>
            </a:endParaRPr>
          </a:p>
          <a:p>
            <a:pPr lvl="2" marL="1028520" indent="-20556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PN Information</a:t>
            </a:r>
            <a:endParaRPr b="0" lang="en-US" sz="24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Direct Loan MPN:</a:t>
            </a:r>
            <a:endParaRPr b="0" lang="en-US" sz="20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FEL MPN</a:t>
            </a:r>
            <a:endParaRPr b="0" lang="en-US" sz="2000" spc="-1" strike="noStrike">
              <a:solidFill>
                <a:srgbClr val="0019a8"/>
              </a:solidFill>
              <a:latin typeface="Arial"/>
            </a:endParaRPr>
          </a:p>
          <a:p>
            <a:pPr lvl="3" marL="1440000" indent="-205560">
              <a:spcBef>
                <a:spcPts val="499"/>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FEL MPN Lender Code </a:t>
            </a:r>
            <a:endParaRPr b="0" lang="en-US" sz="2000" spc="-1" strike="noStrike">
              <a:solidFill>
                <a:srgbClr val="0019a8"/>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207B8AA5-007D-40BA-92F8-70028F1DBB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 Ref (Cont.)</a:t>
            </a:r>
            <a:endParaRPr b="1" i="1" lang="en-US" sz="4000" spc="-1" strike="noStrike">
              <a:solidFill>
                <a:srgbClr val="c2000a"/>
              </a:solidFill>
              <a:latin typeface="Arial"/>
            </a:endParaRPr>
          </a:p>
        </p:txBody>
      </p:sp>
      <p:sp>
        <p:nvSpPr>
          <p:cNvPr id="15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iscellaneous, section 6</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vides additional information necessary to assist user in the EDE implementation proc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essage Clas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ptional testing procedures with test ca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moved the ISIR change lis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dex</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E59AE0A-64C3-48A5-B79A-26C3D0BFF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s You Requested!</a:t>
            </a:r>
            <a:endParaRPr b="1" i="1" lang="en-US" sz="4000" spc="-1" strike="noStrike">
              <a:solidFill>
                <a:srgbClr val="c2000a"/>
              </a:solidFill>
              <a:latin typeface="Arial"/>
            </a:endParaRPr>
          </a:p>
        </p:txBody>
      </p:sp>
      <p:sp>
        <p:nvSpPr>
          <p:cNvPr id="1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re space for first name and stree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e. Christopher and foreign addresse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value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rade Level</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ax Return Filing Statu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ligible to File 1040A or 1040EZ</a:t>
            </a:r>
            <a:br>
              <a:rPr sz="2800"/>
            </a:br>
            <a:r>
              <a:rPr b="0" lang="en-US" sz="2800" spc="-1" strike="noStrike">
                <a:solidFill>
                  <a:srgbClr val="0019a8"/>
                </a:solidFill>
                <a:latin typeface="Arial"/>
              </a:rPr>
              <a:t>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FC31ED44-376F-45EC-BA8C-B74F5658EB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s You Requested! (Cont.)</a:t>
            </a:r>
            <a:endParaRPr b="1" i="1" lang="en-US" sz="4000" spc="-1" strike="noStrike">
              <a:solidFill>
                <a:srgbClr val="c2000a"/>
              </a:solidFill>
              <a:latin typeface="Arial"/>
            </a:endParaRPr>
          </a:p>
        </p:txBody>
      </p:sp>
      <p:sp>
        <p:nvSpPr>
          <p:cNvPr id="16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rrection flag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ster Promissory Note (MPN) flags for DL and FFE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ate agencies will get NSLDS info on  ISI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0BB21E8-9408-4E5A-A6E4-B7E8C13257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a:t>
            </a:r>
            <a:endParaRPr b="1" i="1" lang="en-US" sz="4000" spc="-1" strike="noStrike">
              <a:solidFill>
                <a:srgbClr val="c2000a"/>
              </a:solidFill>
              <a:latin typeface="Arial"/>
            </a:endParaRPr>
          </a:p>
        </p:txBody>
      </p:sp>
      <p:sp>
        <p:nvSpPr>
          <p:cNvPr id="16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ear increased from 01 to 02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ew HOLD02O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Correction ISIR and Correction Error file names </a:t>
            </a:r>
            <a:endParaRPr b="0" lang="en-US" sz="3200" spc="-1" strike="noStrike">
              <a:solidFill>
                <a:srgbClr val="0019a8"/>
              </a:solidFill>
              <a:latin typeface="Arial"/>
            </a:endParaRPr>
          </a:p>
          <a:p>
            <a:pPr lvl="1" marL="743040" indent="-28584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stead of,</a:t>
            </a:r>
            <a:endParaRPr b="0" lang="en-US" sz="32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SARR02OP --  changed to CORR02OP</a:t>
            </a:r>
            <a:br>
              <a:rPr sz="2800"/>
            </a:br>
            <a:r>
              <a:rPr b="0" lang="en-US" sz="2800" spc="-1" strike="noStrike">
                <a:solidFill>
                  <a:srgbClr val="0019a8"/>
                </a:solidFill>
                <a:latin typeface="Arial"/>
              </a:rPr>
              <a:t>SARE02OP --  changed to CORE02OP</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C921EF83-E596-45F4-943C-8EE34934B5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essage Classes (Cont.)</a:t>
            </a:r>
            <a:endParaRPr b="1" i="1" lang="en-US" sz="4000" spc="-1" strike="noStrike">
              <a:solidFill>
                <a:srgbClr val="c2000a"/>
              </a:solidFill>
              <a:latin typeface="Arial"/>
            </a:endParaRPr>
          </a:p>
        </p:txBody>
      </p:sp>
      <p:sp>
        <p:nvSpPr>
          <p:cNvPr id="16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ied resident and non-resident state agency ISIR file name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19a8"/>
                </a:solidFill>
                <a:uFillTx/>
                <a:latin typeface="Arial"/>
              </a:rPr>
              <a:t>Resident</a:t>
            </a:r>
            <a:r>
              <a:rPr b="0" lang="en-US" sz="2800" spc="-1" strike="noStrike">
                <a:solidFill>
                  <a:srgbClr val="0019a8"/>
                </a:solidFill>
                <a:latin typeface="Arial"/>
              </a:rPr>
              <a:t> ISIRs </a:t>
            </a:r>
            <a:endParaRPr b="0" lang="en-US" sz="28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Instead of YTDN02OP -- YTD</a:t>
            </a:r>
            <a:r>
              <a:rPr b="0" lang="en-US" sz="2800" spc="-1" strike="noStrike" u="sng">
                <a:solidFill>
                  <a:srgbClr val="0019a8"/>
                </a:solidFill>
                <a:uFillTx/>
                <a:latin typeface="Arial"/>
              </a:rPr>
              <a:t>R</a:t>
            </a:r>
            <a:r>
              <a:rPr b="0" lang="en-US" sz="2800" spc="-1" strike="noStrike">
                <a:solidFill>
                  <a:srgbClr val="0019a8"/>
                </a:solidFill>
                <a:latin typeface="Arial"/>
              </a:rPr>
              <a:t>02OP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19a8"/>
                </a:solidFill>
                <a:uFillTx/>
                <a:latin typeface="Arial"/>
              </a:rPr>
              <a:t>Non-resident</a:t>
            </a:r>
            <a:r>
              <a:rPr b="0" lang="en-US" sz="2800" spc="-1" strike="noStrike">
                <a:solidFill>
                  <a:srgbClr val="0019a8"/>
                </a:solidFill>
                <a:latin typeface="Arial"/>
              </a:rPr>
              <a:t> ISIRs </a:t>
            </a:r>
            <a:endParaRPr b="0" lang="en-US" sz="28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Instead of YTDF02OP -- YTD</a:t>
            </a:r>
            <a:r>
              <a:rPr b="0" lang="en-US" sz="2800" spc="-1" strike="noStrike" u="sng">
                <a:solidFill>
                  <a:srgbClr val="0019a8"/>
                </a:solidFill>
                <a:uFillTx/>
                <a:latin typeface="Arial"/>
              </a:rPr>
              <a:t>N</a:t>
            </a:r>
            <a:r>
              <a:rPr b="0" lang="en-US" sz="2800" spc="-1" strike="noStrike">
                <a:solidFill>
                  <a:srgbClr val="0019a8"/>
                </a:solidFill>
                <a:latin typeface="Arial"/>
              </a:rPr>
              <a:t>02OP</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50F822F6-63C5-4A52-8E7B-C59F469EEA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ummary</a:t>
            </a:r>
            <a:endParaRPr b="1" i="1" lang="en-US" sz="4000" spc="-1" strike="noStrike">
              <a:solidFill>
                <a:srgbClr val="c2000a"/>
              </a:solidFill>
              <a:latin typeface="Arial"/>
            </a:endParaRPr>
          </a:p>
        </p:txBody>
      </p:sp>
      <p:sp>
        <p:nvSpPr>
          <p:cNvPr id="168" name="PlaceHolder 2"/>
          <p:cNvSpPr>
            <a:spLocks noGrp="1"/>
          </p:cNvSpPr>
          <p:nvPr>
            <p:ph/>
          </p:nvPr>
        </p:nvSpPr>
        <p:spPr>
          <a:xfrm>
            <a:off x="609480" y="1523880"/>
            <a:ext cx="83059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the EDE Technical Refere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 is it used fo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o uses i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ructure of the EDE Technical Referenc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8 Section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 You Reques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e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A81575ED-4183-47A1-87FF-9A08317ADC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456840"/>
            <a:ext cx="65073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Agenda</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the EDE Technical Refere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re can I get the EDE Tech Ref?</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ructure of EDE Tech Ref</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 You Requested!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E22417E8-8CAE-41C2-863B-E94199844B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170" name="PlaceHolder 2"/>
          <p:cNvSpPr>
            <a:spLocks noGrp="1"/>
          </p:cNvSpPr>
          <p:nvPr>
            <p:ph/>
          </p:nvPr>
        </p:nvSpPr>
        <p:spPr>
          <a:xfrm>
            <a:off x="579600" y="1676520"/>
            <a:ext cx="8564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PS Customer Service can be reached by</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Phone: 800-330-5947</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a:t>
            </a:r>
            <a:r>
              <a:rPr b="0" lang="en-US" sz="3200" spc="-1" strike="noStrike">
                <a:solidFill>
                  <a:srgbClr val="0019a8"/>
                </a:solidFill>
                <a:latin typeface="Arial"/>
              </a:rPr>
              <a:t>Email:  cps@ncs.com</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Or SFATECH:  sfatech@inet.ed.gov</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e appreciate your feedback and comments.</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2E07BBE9-DC25-42EC-B322-CA869BC922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72" name="PlaceHolder 2"/>
          <p:cNvSpPr>
            <a:spLocks noGrp="1"/>
          </p:cNvSpPr>
          <p:nvPr>
            <p:ph/>
          </p:nvPr>
        </p:nvSpPr>
        <p:spPr>
          <a:xfrm>
            <a:off x="380880" y="213372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19a8"/>
                </a:solidFill>
                <a:latin typeface="Arial"/>
              </a:rPr>
              <a:t>Questions?</a:t>
            </a:r>
            <a:endParaRPr b="0" lang="en-US" sz="60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BA9ED4A-D89F-4527-BA6D-77EF3344F1A8}"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 (Cont.)</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essage Class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umma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urther Assist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62A5B058-0626-467E-8EF9-DAED9E0B65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the EDE Technical Reference?</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at is it?</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ference tool explaining the electronic data exchange (EDE) process with the Central Processing System (CP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p describing what to expect in each position of a file or a long string of alpha and numeric characters </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21699773-19AB-40FE-B7CE-A996EC2CB0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the EDE Tech Ref? (Cont.)</a:t>
            </a:r>
            <a:endParaRPr b="1" i="1" lang="en-US" sz="4000" spc="-1" strike="noStrike">
              <a:solidFill>
                <a:srgbClr val="c2000a"/>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is it used b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chools in the programming area or financial aid office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ate agenci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ird Party Servicer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PS </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ustomer service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Development departments</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24242691-7F01-40B4-8E3F-55C77762D3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Can I get the EDE Tech Ref?</a:t>
            </a:r>
            <a:endParaRPr b="1" i="1" lang="en-US" sz="4000" spc="-1" strike="noStrike">
              <a:solidFill>
                <a:srgbClr val="c2000a"/>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fontScale="87000"/>
          </a:bodyPr>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o to www.sfadownload.ed.gov</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 References and Documentation from Blue Column on Left side of screen</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Electronic Data Exchange Technical Reference select 2001-2002</a:t>
            </a:r>
            <a:endParaRPr b="0" lang="en-US" sz="3200" spc="-1" strike="noStrike">
              <a:solidFill>
                <a:srgbClr val="0019a8"/>
              </a:solidFill>
              <a:latin typeface="Arial"/>
            </a:endParaRPr>
          </a:p>
          <a:p>
            <a:pPr marL="298440" indent="-2984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 either a MS Word or Adobe PDF document</a:t>
            </a:r>
            <a:endParaRPr b="0" lang="en-US" sz="3200" spc="-1" strike="noStrike">
              <a:solidFill>
                <a:srgbClr val="0019a8"/>
              </a:solidFill>
              <a:latin typeface="Arial"/>
            </a:endParaRPr>
          </a:p>
          <a:p>
            <a:pPr marL="298440" indent="-298440" algn="ctr">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ww.ifap.ed.gov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03CD24BD-DA5B-47A7-8C2A-CDCD3526A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tructure of EDE Technical Reference</a:t>
            </a:r>
            <a:endParaRPr b="1" i="1" lang="en-US" sz="4000" spc="-1" strike="noStrike">
              <a:solidFill>
                <a:srgbClr val="c2000a"/>
              </a:solidFill>
              <a:latin typeface="Arial"/>
            </a:endParaRPr>
          </a:p>
        </p:txBody>
      </p:sp>
      <p:sp>
        <p:nvSpPr>
          <p:cNvPr id="10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able of Cont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verview, section 1</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Explains the different EDE process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s New and What’s Changed for 2001-2002</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ources of Assistance- lists phone numbers and email addresse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13-</a:t>
            </a:r>
          </a:p>
        </p:txBody>
      </p:sp>
      <p:sp>
        <p:nvSpPr>
          <p:cNvPr id="5" name="PlaceHolder 4"/>
          <p:cNvSpPr>
            <a:spLocks noGrp="1"/>
          </p:cNvSpPr>
          <p:nvPr>
            <p:ph type="sldNum" idx="2"/>
          </p:nvPr>
        </p:nvSpPr>
        <p:spPr/>
        <p:txBody>
          <a:bodyPr/>
          <a:p>
            <a:fld id="{9ED7AC9E-BBD6-495E-9304-684DD59C7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27T16:16:03Z</cp:lastPrinted>
  <dcterms:modified xsi:type="dcterms:W3CDTF">2001-01-08T16:22:19Z</dcterms:modified>
  <cp:revision>296</cp:revision>
  <dc:subject/>
  <dc:title>No Slide Title</dc:title>
</cp:coreProperties>
</file>