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5083-2A4D-4E73-B706-E7C1004CA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 data definitions acros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dits across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based student access to aid – aid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to transform or integrate 3 separate processes in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Middleware (“wrapper technology”)  will accept current record layouts and convert them into COD format, allowing schools to migrate to common record as they are 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Regardless of the solution chosen, Schools will need to transition gradually to the new common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Using middleware can ease this transition.  Schools will transition to the common process suppor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the COD System by moving from step 1) Current Process where schools send separate records/report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RFMS, LOS, and CBS, to step 2) COD System where middleware is used to support the acceptanc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both new and old record formats.  This will allow ED/SFA to retire the legacy systems and transition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supporting only one system while allowing schools more time to transition their business processes, wh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Omega"/>
              </a:rPr>
              <a:t>lead to step 3) Common Process where they request payment using one common record lay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3C8D-C897-4FED-8660-16425AB0B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2285D-5057-4ACD-9A62-CE7F4CF00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9044-FB64-49E6-821C-629EE9BCC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D188-70AB-4F34-925A-A983DA6FF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630B-58BF-425E-B9C5-6C5CBAAFD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15EF-E9C5-43DF-A23A-CD1234B24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5BD6-8349-438A-9013-63C122898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7EE4-BF91-4E49-A3F9-5513123AB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B2A0-2DF5-48AB-9122-28E265F50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EE71-C63D-4F4B-ABAC-770A51DCE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2B91-788E-4C58-BD65-7B0B233FC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C57E-39D8-448A-90D1-069CC0211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3CAB-E0CB-4BEC-9398-FF42C2E8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438280"/>
            <a:ext cx="838188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WHAT CHALLENGES, SOLUTIONS OR STRATEGIES DO YOU S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010F-8B9B-4E98-A80D-31326C383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89280" y="45684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Benefits to the Financial Aid Administrator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7840" y="1676520"/>
            <a:ext cx="833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mmon Process means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ne record layout to suppor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ewer edits, fewer rejec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tudent’s access to aid informa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fessional mobility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7935-D433-4E74-86E6-EC976C6F98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mmunity Inpu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User Steering Committe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Open sessions at conferences and….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6273-6A42-41DB-B5D1-5BE0E7DC94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 Point of Contac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ARY HALDAN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S CHANNEL LEAD FOR COD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FA, U.S. DEPT. OF EDUCAT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Mary_Haldane@ed.gov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02-260-6675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98CA-FF0C-490D-B724-A55F31FB67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ession 44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819520"/>
            <a:ext cx="83818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OPEN FORUM ON COMMON ORIGINATION AND DISBUR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a8"/>
                </a:solidFill>
                <a:latin typeface="Arial"/>
              </a:rPr>
              <a:t>Presenter:  Mary Hald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3D48-9195-4B3B-B68A-FAB1FDBE57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FA Modernization Blueprin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nitiativ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ommon Origination and Disbursemen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Porta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P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A92D-9530-4731-BB5B-3AA196E4A5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4343400" y="350532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: Where we are now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1143000"/>
          <a:ext cx="739152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73915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133720" y="5791320"/>
            <a:ext cx="44193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S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48640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67080" y="5486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43400" y="4495680"/>
            <a:ext cx="40384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887B-DA16-43D4-A35F-3940F351A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: Where we are going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8280" y="2057400"/>
          <a:ext cx="67057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057400"/>
                    <a:ext cx="6705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514600" y="1447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Comm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447920"/>
          <a:ext cx="152424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447920"/>
                    <a:ext cx="15242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2760" y="91440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cc3300"/>
                </a:solidFill>
                <a:latin typeface="CG Omega"/>
              </a:rPr>
              <a:t>X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20040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95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on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33720" y="2971800"/>
            <a:ext cx="91440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5F4B-23B3-49D5-B2DB-DBD2D84586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 Objective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Common Process across all program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36836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CG Omega"/>
              </a:rPr>
              <a:t>Shared data definition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36836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CG Omega"/>
              </a:rPr>
              <a:t>Common edits, where applicabl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368360" indent="-228600">
              <a:lnSpc>
                <a:spcPct val="100000"/>
              </a:lnSpc>
              <a:spcBef>
                <a:spcPts val="601"/>
              </a:spcBef>
              <a:buClr>
                <a:srgbClr val="0019a8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CG Omega"/>
              </a:rPr>
              <a:t>Common business rules, where applicable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Streamlined proces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Reduced cos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Integrated customer servic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7C29-3748-420C-AF6F-DFB0FB3737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OD Objectives..</a:t>
            </a:r>
            <a:r>
              <a:rPr b="1" i="1" lang="en-US" sz="2400" spc="-1" strike="noStrike">
                <a:solidFill>
                  <a:srgbClr val="c2000a"/>
                </a:solidFill>
                <a:latin typeface="Arial"/>
              </a:rPr>
              <a:t>continued</a:t>
            </a:r>
            <a:endParaRPr b="1" i="1" lang="en-US" sz="24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3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Minimize required changes to schools’ internal process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Real-time, single source sharing of data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CG Omega"/>
              </a:rPr>
              <a:t>Full access to student historical data for those with the right to know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C292-3930-481D-BFF4-D5FB53E6F9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2818440"/>
            <a:ext cx="8175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long the way…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63600" y="2326320"/>
            <a:ext cx="6609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RF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06080" y="2878560"/>
            <a:ext cx="5205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02840" y="3469320"/>
            <a:ext cx="513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C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7400" y="2469960"/>
            <a:ext cx="982800" cy="50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8840" y="3022560"/>
            <a:ext cx="1019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3124080"/>
            <a:ext cx="1015920" cy="507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66920" y="2880000"/>
            <a:ext cx="76140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791320" y="2471400"/>
            <a:ext cx="1055520" cy="50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91320" y="3024360"/>
            <a:ext cx="1050840" cy="2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124080"/>
            <a:ext cx="988920" cy="50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5480" y="17521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G Omega"/>
              </a:rPr>
              <a:t>2) COD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32440" y="2145240"/>
            <a:ext cx="295560" cy="191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Middle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2680" y="3019320"/>
            <a:ext cx="9316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2640" y="2873880"/>
            <a:ext cx="56952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44560" y="280116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32440" y="2285280"/>
            <a:ext cx="67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F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50360" y="3351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FI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84200" y="2799720"/>
            <a:ext cx="67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D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54040" y="4939200"/>
            <a:ext cx="76140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3800" y="5102280"/>
            <a:ext cx="1019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200" y="4939200"/>
            <a:ext cx="569520" cy="3070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G Omega"/>
              </a:rPr>
              <a:t>C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31720" y="485244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G Omega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76200" y="4495320"/>
            <a:ext cx="70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G Omega"/>
              </a:rPr>
              <a:t>3) Common Process (COD System With Schools Sending Common Reco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4160" y="175212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G Omega"/>
              </a:rPr>
              <a:t>1) Current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46B3-FD9D-46A4-8BEB-09378419E7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Schedule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219320"/>
          <a:ext cx="8458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458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724280" y="4267080"/>
            <a:ext cx="19051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44 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BF42-BF4D-44C7-952F-B72ACBA23F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34:30Z</dcterms:modified>
  <cp:revision>70</cp:revision>
  <dc:subject/>
  <dc:title>No Slide Title</dc:title>
</cp:coreProperties>
</file>