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FD45-BC9C-454F-9CF1-D4E2989F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 data definitions acros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dits acros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based student access to aid – aid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to transform or integrate 3 separate processes in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Middleware (“wrapper technology”)  will accept current record layouts and convert them into COD format, allowing schools to migrate to common record as they ar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Regardless of the solution chosen, Schools will need to transition gradually to the new common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Using middleware can ease this transition.  Schools will transition to the common process suppor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the COD System by moving from step 1) Current Process where schools send separate records/report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RFMS, LOS, and CBS, to step 2) COD System where middleware is used to support the acceptanc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both new and old record formats.  This will allow ED/SFA to retire the legacy systems and transition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supporting only one system while allowing schools more time to transition their business processes, wh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lead to step 3) Common Process where they request payment using one common record lay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CEF0-E0B8-4CC4-B721-54E262E2C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7BA5-7781-4428-AAE4-4A4BE3D21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FF32-3353-4AA3-8C5C-C3B0FEFD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3A3D-A1FB-4710-89E5-7C25D3313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6802-91D8-4C8B-B436-4D813944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094C-05D7-4E4E-8844-79D5070E3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D1E6-AE8B-4F59-A6C3-5ECD86354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BED1-7623-4171-95C7-8C907BD59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C518-7ED6-427F-B830-A25633E77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7E0B-DD03-46EB-AE1E-6908F391A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E97E-94F9-4DD7-AC07-177A7E380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F670-A0C9-4892-B1B6-F986431B9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3FC-0048-48B3-B304-81809871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43828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CHALLENGES, SOLUTIONS OR STRATEGIES DO YOU S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5ABD-BE6E-4FB2-A789-AB0EC1C77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8928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Benefits to the Financial Aid Administrator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mmon Process means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ne record layout to suppor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ewer edits, fewer rejec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udent’s access to aid inform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fessional mobilit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D8F3-D5C0-42DC-98A4-5FA552D7BD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mmunity Inpu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Steering Committe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pen sessions at conferences and…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30A3-9B20-4228-A42F-6E0C73D79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Point of Contac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ARY HALDAN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S CHANNEL LEAD FOR CO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FA, U.S. DEPT. OF EDUC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ary_Haldane@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02-260-6675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2666-A0A0-4A01-8DC1-ADBBEF5572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44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19520"/>
            <a:ext cx="83818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OPEN FORUM ON COMMON ORIGINATION AND DISBUR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Presenter:  Mary Hald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131E-B12E-41CC-9AE6-8AEBE346BE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FA Modernization Blueprin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nitiativ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mmon Origination and Disbursemen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Porta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P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BD0A-265F-4EEE-AA49-63375B7B7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4343400" y="350532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: Where we are now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1143000"/>
          <a:ext cx="739152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3915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133720" y="5791320"/>
            <a:ext cx="4419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864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67080" y="5486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43400" y="4495680"/>
            <a:ext cx="4038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5C58-AB76-42CB-947F-CE8D4E376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: Where we are go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2057400"/>
          <a:ext cx="6705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6705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514600" y="1447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Comm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152424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15242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2760" y="91440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cc3300"/>
                </a:solidFill>
                <a:latin typeface="CG Omega"/>
              </a:rPr>
              <a:t>X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20040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95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on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33720" y="2971800"/>
            <a:ext cx="914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B55F-D49D-451F-AA31-5115DAB4E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Objectiv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Common Process across all program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Shared data definition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Common edits, where applic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Common business rules, where applic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Streamlined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Reduced cos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Integrated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8148-9B5B-4C22-85D1-D59956DF4B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Objectives..</a:t>
            </a:r>
            <a:r>
              <a:rPr b="1" i="1" lang="en-US" sz="2400" spc="-1" strike="noStrike">
                <a:solidFill>
                  <a:srgbClr val="c2000a"/>
                </a:solidFill>
                <a:latin typeface="Arial"/>
              </a:rPr>
              <a:t>continued</a:t>
            </a:r>
            <a:endParaRPr b="1" i="1" lang="en-US" sz="2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3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Minimize required changes to schools’ internal proces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Real-time, single source sharing of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Full access to student historical data for those with the right to know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7F9B-2AC3-4FD0-94B2-F596317B4A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2818440"/>
            <a:ext cx="8175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long the way…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63600" y="2326320"/>
            <a:ext cx="6609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R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6080" y="2878560"/>
            <a:ext cx="5205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2840" y="3469320"/>
            <a:ext cx="513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2469960"/>
            <a:ext cx="982800" cy="50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8840" y="3022560"/>
            <a:ext cx="10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3124080"/>
            <a:ext cx="1015920" cy="50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66920" y="2880000"/>
            <a:ext cx="76140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791320" y="2471400"/>
            <a:ext cx="1055520" cy="5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91320" y="3024360"/>
            <a:ext cx="1050840" cy="2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124080"/>
            <a:ext cx="988920" cy="50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5480" y="1752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2) COD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32440" y="2145240"/>
            <a:ext cx="295560" cy="191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Middl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2680" y="3019320"/>
            <a:ext cx="9316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2640" y="2873880"/>
            <a:ext cx="56952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44560" y="280116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32440" y="2285280"/>
            <a:ext cx="67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F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50360" y="3351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FI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4200" y="2799720"/>
            <a:ext cx="67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D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54040" y="4939200"/>
            <a:ext cx="76140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3800" y="5102280"/>
            <a:ext cx="10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200" y="4939200"/>
            <a:ext cx="56952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31720" y="485244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76200" y="4495320"/>
            <a:ext cx="70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3) Common Process (COD System With Schools Sending Common Reco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4160" y="175212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1) Curr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4F04-7533-43E2-A80D-3524BAE91F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chedul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2193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458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724280" y="4267080"/>
            <a:ext cx="19051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32A3-2242-45C5-9DBF-9E55E52EC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34:30Z</dcterms:modified>
  <cp:revision>70</cp:revision>
  <dc:subject/>
  <dc:title>No Slide Title</dc:title>
</cp:coreProperties>
</file>