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DBA30-160C-4790-ADBA-581B59ABF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13CC1-EAEA-4AF8-AF7E-B0F789ED8A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9C0E1-3247-4E6F-A0FD-8C5A290685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D24C2-FFC7-4148-8287-B1C786E4C6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A6CF4-39BE-46C8-BAE5-E7A0A5C9CC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67150-9D1C-42E1-BAEC-DB31CEC387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FF90E-52AA-424F-A8FC-4A1B8C875D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CB710-BE0E-4FD1-88E8-FBB7528620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1CD2A-F302-46EA-BF29-DDF57CAD45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6CC03-34B9-48F5-AF3E-91787D4A5D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14602-786D-4EA0-858F-8F5B05657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A3782-7A65-4799-BF2D-B898F6FFA5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19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19a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58FC-8A81-436B-B4A2-38FAD3B13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lid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1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.png"/><Relationship Id="rId4" Type="http://schemas.openxmlformats.org/officeDocument/2006/relationships/image" Target="../media/image20.wmf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2000a"/>
                </a:solidFill>
                <a:latin typeface="Arial"/>
              </a:rPr>
              <a:t>Session 37</a:t>
            </a:r>
            <a:endParaRPr b="1" i="1" lang="en-US" sz="4400" spc="-1" strike="noStrike">
              <a:solidFill>
                <a:srgbClr val="c2000a"/>
              </a:solidFill>
              <a:latin typeface="Arial"/>
            </a:endParaRPr>
          </a:p>
        </p:txBody>
      </p:sp>
      <p:pic>
        <p:nvPicPr>
          <p:cNvPr id="78" name="FISAP_3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7238880" cy="4857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676520" y="1600200"/>
            <a:ext cx="2438280" cy="66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Campus-Base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 rot="1718400">
            <a:off x="3746520" y="5063760"/>
            <a:ext cx="54288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/ 3.1</a:t>
            </a:r>
            <a:endParaRPr b="1" lang="en-US" sz="12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3200400"/>
            <a:ext cx="304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79829-2B24-48DC-96C4-4ECE87935F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2000a"/>
                </a:solidFill>
                <a:latin typeface="Arial"/>
              </a:rPr>
              <a:t>Funding Schedule</a:t>
            </a:r>
            <a:endParaRPr b="1" i="1" lang="en-US" sz="44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1752480"/>
            <a:ext cx="7848360" cy="12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By DEC 15, 2000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FISAP EDIT CORRECTIONS DUE TO 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ort your edit file (FIDT02O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ort and transmit your corrected / updated FISAP data (FEDT02IN) to 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f you do not receive an acknowledgement file (FEDA02OP) within 24 hours, and an edit fil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FIDT02OP) within 5 workdays, please contact UAL at (877) 801-716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(Please note:  All FISAP data submissions to ED will generate acknowledgement and edit fil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3048120"/>
            <a:ext cx="784836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By FEB 1, 2001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TENTATIVE AWARDS TRANSMITTED TO SCH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wnload tentative awards and funding worksheets (FTEN02O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ew / print the file using any text editor program (NotePad, WordPad, etc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f you have received FISAP edit file(s) but not received tentative awards, please contact one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CB sta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4114800"/>
            <a:ext cx="78483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By APR 1, 2001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FINAL AWARDS TRANSMITTED TO SCH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wnload final awards and funding worksheets (FFIN02O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ew / print the file using any text editor program (NotePad, WordPad, etc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f you have received tentative awards but not final awards, please contact one of the CB sta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38862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51055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4952880"/>
            <a:ext cx="7848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By MAY 1, 2001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CLOSEOUT OF AW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nds reported as unexpended on the FISAP are deoblig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A’s (FAWD02OP) are transmitted to schools that had funds deoblig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5638680"/>
            <a:ext cx="7848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By JUNE 1, 2001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TC PAY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chools are reimbursed for TC pay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C Payment worksheets (FTCP02OP) are transmitted to scho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54932-116C-4BD1-B06D-8093E7D8F6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2819520"/>
            <a:ext cx="838188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19a8"/>
                </a:solidFill>
                <a:latin typeface="Arial"/>
              </a:rPr>
              <a:t>FISAP Report Requ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1CAE5-CB64-46D3-A9A8-1F1DBDA517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42880" y="1370160"/>
            <a:ext cx="7239240" cy="4854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514600" y="457200"/>
            <a:ext cx="6431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2000a"/>
                </a:solidFill>
                <a:latin typeface="Arial"/>
              </a:rPr>
              <a:t>FISAP Report Requ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0" t="0" r="83098" b="0"/>
          <a:stretch/>
        </p:blipFill>
        <p:spPr>
          <a:xfrm>
            <a:off x="1442880" y="1370160"/>
            <a:ext cx="1224000" cy="4854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rcRect l="16907" t="12594" r="17828" b="10496"/>
          <a:stretch/>
        </p:blipFill>
        <p:spPr>
          <a:xfrm>
            <a:off x="2666880" y="1981080"/>
            <a:ext cx="4724640" cy="3733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rcRect l="16907" t="11019" r="12566" b="7358"/>
          <a:stretch/>
        </p:blipFill>
        <p:spPr>
          <a:xfrm>
            <a:off x="2666880" y="1905120"/>
            <a:ext cx="5105520" cy="3962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rcRect l="33752" t="37706" r="45198" b="57588"/>
          <a:stretch/>
        </p:blipFill>
        <p:spPr>
          <a:xfrm>
            <a:off x="3886200" y="3048120"/>
            <a:ext cx="3048120" cy="380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rcRect l="33237" t="27046" r="48595" b="71051"/>
          <a:stretch/>
        </p:blipFill>
        <p:spPr>
          <a:xfrm>
            <a:off x="3809880" y="2603520"/>
            <a:ext cx="2976840" cy="241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8C976-FE2C-46A9-BB93-BF3DB761D6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42880" y="1370160"/>
            <a:ext cx="7239240" cy="4854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14600" y="2514600"/>
            <a:ext cx="518148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3048120"/>
            <a:ext cx="518148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14600" y="3352680"/>
            <a:ext cx="5181480" cy="960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457200"/>
            <a:ext cx="635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2000a"/>
                </a:solidFill>
                <a:latin typeface="Arial"/>
              </a:rPr>
              <a:t>FISAP Report Requ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7435" t="12594" r="6250" b="12065"/>
          <a:stretch/>
        </p:blipFill>
        <p:spPr>
          <a:xfrm>
            <a:off x="1676520" y="1981080"/>
            <a:ext cx="6858000" cy="3962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0" y="3962520"/>
            <a:ext cx="6094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E3288-F184-4CAB-A59C-99B2724092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42880" y="1370160"/>
            <a:ext cx="7239240" cy="4854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rcRect l="17998" t="28967" r="17880" b="28646"/>
          <a:stretch/>
        </p:blipFill>
        <p:spPr>
          <a:xfrm>
            <a:off x="2057400" y="2057400"/>
            <a:ext cx="6400800" cy="3795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flipH="1">
            <a:off x="4495320" y="3505320"/>
            <a:ext cx="12193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457200"/>
            <a:ext cx="635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2000a"/>
                </a:solidFill>
                <a:latin typeface="Arial"/>
              </a:rPr>
              <a:t>FISAP Report Requ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9C8AF-7F49-42B6-B264-274C1F48E5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743200" y="533520"/>
            <a:ext cx="5867280" cy="5717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.S. DEPARTMENT OF EDU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FFICE OF STUDENT FINANCIAL ASSIST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999-2000 Award Ye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ampus-Based Progra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tatement of Acc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PEID:  009999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Grantee DUNS Number:  9999999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stitution Name:  JOANN’S PIANO ACADEMY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ity:  IOWA CITY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tate: 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Grant Period:  July 1, 1999 through June 30, 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ederal Supplemental Educational Opportunity Grant Progra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GAPS Award Number:  P007A9999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ansaction Amount   Transaction 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$3,826,003       03/09/19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$14,347       08/24/19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$3,840,350  P007A999999 authorization amount as of 11/13/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ederal Work-Study Progra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GAPS Award Number:  P033A9999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ansaction Amount   Transaction 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$3,721,928       03/09/19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$133,576       05/09/19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$210,950       08/24/19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$95,000       02/04/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$4,161,454  P033A999999 authorization amount as of 11/13/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ederal Perkins Loan Program FC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GAPS Award Number:  P038A9999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ansaction Amount   Transaction 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$502,572       03/09/19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$4,162       08/24/19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$128,943       02/04/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$635,677  P038A999999 authorization amount as of 11/13/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676520"/>
            <a:ext cx="23716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chool Information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680" y="2286000"/>
            <a:ext cx="16002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ward Year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43000" y="2971800"/>
            <a:ext cx="1533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FSEOG Activit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295280" y="4114800"/>
            <a:ext cx="1381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FWS Activit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90720" y="5410080"/>
            <a:ext cx="16858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erkins Activit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1" name=""/>
          <p:cNvSpPr/>
          <p:nvPr/>
        </p:nvSpPr>
        <p:spPr>
          <a:xfrm>
            <a:off x="2743200" y="190512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43828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3200" y="312408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43200" y="426708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556272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49528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E620A-02B7-4EFE-BEFB-0252D5C0C6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2819520"/>
            <a:ext cx="838188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19a8"/>
                </a:solidFill>
                <a:latin typeface="Arial"/>
              </a:rPr>
              <a:t>External Data Fi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38636-4114-464A-BD6B-ED788E99D2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42880" y="1370160"/>
            <a:ext cx="7239240" cy="4854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124080" y="457200"/>
            <a:ext cx="5821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2000a"/>
                </a:solidFill>
                <a:latin typeface="Arial"/>
              </a:rPr>
              <a:t>External Data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437920" y="4419720"/>
            <a:ext cx="7621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2286000"/>
            <a:ext cx="17528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F873A-15A7-405B-B126-A9FE605246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105520" y="220968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4267080"/>
            <a:ext cx="380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42880" y="1370160"/>
            <a:ext cx="7239240" cy="4854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124080" y="457200"/>
            <a:ext cx="5821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2000a"/>
                </a:solidFill>
                <a:latin typeface="Arial"/>
              </a:rPr>
              <a:t>External Data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rcRect l="16921" t="28640" r="6240" b="46406"/>
          <a:stretch/>
        </p:blipFill>
        <p:spPr>
          <a:xfrm>
            <a:off x="2668680" y="4208400"/>
            <a:ext cx="5560920" cy="1209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666880" y="4191120"/>
            <a:ext cx="571500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rcRect l="16916" t="28646" r="6240" b="59214"/>
          <a:stretch/>
        </p:blipFill>
        <p:spPr>
          <a:xfrm>
            <a:off x="1523880" y="3352680"/>
            <a:ext cx="6934320" cy="1749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5DD2A-969A-4997-82F1-8BA0B67F3A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105520" y="220968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4120" y="4267080"/>
            <a:ext cx="380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42880" y="1370160"/>
            <a:ext cx="7239240" cy="4854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124080" y="457200"/>
            <a:ext cx="5821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2000a"/>
                </a:solidFill>
                <a:latin typeface="Arial"/>
              </a:rPr>
              <a:t>External Data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CEBFF-517B-4DBC-AFB7-D5762A6A39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2819520"/>
            <a:ext cx="838188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19a8"/>
                </a:solidFill>
                <a:latin typeface="Arial"/>
              </a:rPr>
              <a:t>Present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325BA-3E4F-4CDE-935F-1B269BD533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42880" y="1370160"/>
            <a:ext cx="7239240" cy="4854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rcRect l="0" t="0" r="83098" b="0"/>
          <a:stretch/>
        </p:blipFill>
        <p:spPr>
          <a:xfrm>
            <a:off x="1442880" y="1370160"/>
            <a:ext cx="1224000" cy="4854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124080" y="457200"/>
            <a:ext cx="5821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2000a"/>
                </a:solidFill>
                <a:latin typeface="Arial"/>
              </a:rPr>
              <a:t>External Data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rcRect l="17894" t="12499" r="17894" b="12499"/>
          <a:stretch/>
        </p:blipFill>
        <p:spPr>
          <a:xfrm>
            <a:off x="2743200" y="1981080"/>
            <a:ext cx="4648320" cy="36576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rcRect l="18957" t="12644" r="18839" b="12002"/>
          <a:stretch/>
        </p:blipFill>
        <p:spPr>
          <a:xfrm>
            <a:off x="2819520" y="1981080"/>
            <a:ext cx="4503600" cy="3657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rcRect l="33322" t="27166" r="53120" b="70818"/>
          <a:stretch/>
        </p:blipFill>
        <p:spPr>
          <a:xfrm>
            <a:off x="3809880" y="2666880"/>
            <a:ext cx="2971800" cy="2286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rcRect l="34806" t="37706" r="39936" b="57588"/>
          <a:stretch/>
        </p:blipFill>
        <p:spPr>
          <a:xfrm>
            <a:off x="3962520" y="3124080"/>
            <a:ext cx="2971800" cy="38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F449F-CCED-428C-885C-FC307852DF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105520" y="220968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4120" y="4267080"/>
            <a:ext cx="380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442880" y="1370160"/>
            <a:ext cx="7239240" cy="4854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124080" y="457200"/>
            <a:ext cx="5821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2000a"/>
                </a:solidFill>
                <a:latin typeface="Arial"/>
              </a:rPr>
              <a:t>External Data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3FF77-2150-4FD9-A65B-0D0EE138E1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" y="2819520"/>
            <a:ext cx="83818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19a8"/>
                </a:solidFill>
                <a:latin typeface="Arial"/>
              </a:rPr>
              <a:t>FISAP Chang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(Next Cyc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BBDE4-FBBF-46B7-9A41-C05F2F9CA9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9680" y="457200"/>
            <a:ext cx="6735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2000a"/>
                </a:solidFill>
                <a:latin typeface="Arial"/>
              </a:rPr>
              <a:t>FISAP Changes</a:t>
            </a: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(Next Cyc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82880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Lobbying and Debarment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Signature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Non-Traditional Calendar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Reading Tutors/Family Literacy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57200" y="2819520"/>
            <a:ext cx="83818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19a8"/>
                </a:solidFill>
                <a:latin typeface="Arial"/>
              </a:rPr>
              <a:t>Data Fl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(Next Cyc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E9343-09E2-4B07-BCFF-C1F58F51E04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40360" y="1371600"/>
            <a:ext cx="2267280" cy="39574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95680" y="1371600"/>
            <a:ext cx="2344680" cy="395748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63800" y="1371600"/>
            <a:ext cx="2531880" cy="39574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000" y="1371600"/>
            <a:ext cx="1981080" cy="39625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1204920" cy="97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543800" y="2743200"/>
            <a:ext cx="1143000" cy="9907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28600" y="28954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CH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3352680"/>
            <a:ext cx="1143000" cy="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43800" y="36576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FA STA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FISAP_3" descr=""/>
          <p:cNvPicPr/>
          <p:nvPr/>
        </p:nvPicPr>
        <p:blipFill>
          <a:blip r:embed="rId3"/>
          <a:stretch/>
        </p:blipFill>
        <p:spPr>
          <a:xfrm>
            <a:off x="2590920" y="2743200"/>
            <a:ext cx="1143000" cy="990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228600" y="3505320"/>
            <a:ext cx="1143000" cy="9903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28600" y="44956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VIC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324480" y="3200400"/>
            <a:ext cx="1143000" cy="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281952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371600" y="3352680"/>
            <a:ext cx="106992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6765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COL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62120" y="3123720"/>
            <a:ext cx="1440" cy="3812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09680" y="167652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ENTRY \ VALID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167652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TRANS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0" y="1676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5"/>
          <a:srcRect l="9240" t="18724" r="8999" b="23644"/>
          <a:stretch/>
        </p:blipFill>
        <p:spPr>
          <a:xfrm>
            <a:off x="5029200" y="2743200"/>
            <a:ext cx="1143000" cy="9907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029200" y="2743200"/>
            <a:ext cx="1143000" cy="99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3733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37339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457200"/>
            <a:ext cx="5821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2000a"/>
                </a:solidFill>
                <a:latin typeface="Arial"/>
              </a:rPr>
              <a:t>Data Flow</a:t>
            </a: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(Next Cyc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371600" y="3733560"/>
            <a:ext cx="3657600" cy="685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71600" y="2362320"/>
            <a:ext cx="365760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324480" y="3352320"/>
            <a:ext cx="1143000" cy="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819520"/>
            <a:ext cx="838188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19a8"/>
                </a:solidFill>
                <a:latin typeface="Arial"/>
              </a:rPr>
              <a:t>Contact Infor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00800" y="57150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D91C3-B918-4317-AD16-0C0EB8F987A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4120" y="4267080"/>
            <a:ext cx="380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1523880"/>
            <a:ext cx="80010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P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800) 330-59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ITLE IV WAN (SAIG)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800) 615-11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AL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877) 801-71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CAMPUS- BASED STAFF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HARRISON BANNISTER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(202) 708-5776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ICH BENNETT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202) 260-607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RICHARD COPPAGE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(202) 708-4694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ANDRA DONELSON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202) 708-97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HERRAINE GREEN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(202) 708-5774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HONDA HERBERT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202) 708-91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JOSEPH MORRIS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(202) 708-8745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JUDY NORRIS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202) 708-97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DOROTHY PROCTOR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(202) 708-7746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OBERT SMITH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202) 358-48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ILTON THOMAS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(202) 708-9756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AMELA WILLS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202) 401-32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43200" y="457200"/>
            <a:ext cx="620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2000a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1DEA4-B3E0-4040-B4D4-CE6E1B0661B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447920" y="4724280"/>
            <a:ext cx="7315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BFOB@ED.GOV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"/>
          <p:cNvSpPr txBox="1"/>
          <p:nvPr/>
        </p:nvSpPr>
        <p:spPr>
          <a:xfrm rot="915000">
            <a:off x="533160" y="1828800"/>
            <a:ext cx="2781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Questions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5" name=""/>
          <p:cNvSpPr txBox="1"/>
          <p:nvPr/>
        </p:nvSpPr>
        <p:spPr>
          <a:xfrm rot="20414400">
            <a:off x="609480" y="3657600"/>
            <a:ext cx="2781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mments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6" name=""/>
          <p:cNvSpPr txBox="1"/>
          <p:nvPr/>
        </p:nvSpPr>
        <p:spPr>
          <a:xfrm rot="581400">
            <a:off x="4191120" y="3428640"/>
            <a:ext cx="45720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Focus Group Interest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7" name=""/>
          <p:cNvSpPr txBox="1"/>
          <p:nvPr/>
        </p:nvSpPr>
        <p:spPr>
          <a:xfrm rot="20664000">
            <a:off x="4038120" y="1295280"/>
            <a:ext cx="4038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Beta Testers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8E137-730A-49D5-9E8F-1D9B642C75C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Dallas Presenter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3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Rhonda Herbert</a:t>
            </a: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CB Operation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Milton Thomas</a:t>
            </a: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CB Operation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Danny Dytang</a:t>
            </a: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UA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Tim Colvin</a:t>
            </a: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NC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F8810-55FF-4E5E-90B9-D4F140465E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2000a"/>
                </a:solidFill>
                <a:latin typeface="Arial"/>
              </a:rPr>
              <a:t>Atlanta Presenters</a:t>
            </a:r>
            <a:endParaRPr b="1" i="1" lang="en-US" sz="44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3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9a8"/>
                </a:solidFill>
                <a:latin typeface="Arial"/>
              </a:rPr>
              <a:t>Milton Thomas</a:t>
            </a:r>
            <a:r>
              <a:rPr b="1" lang="en-US" sz="36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19a8"/>
                </a:solidFill>
                <a:latin typeface="Arial"/>
              </a:rPr>
              <a:t>CB Operations</a:t>
            </a:r>
            <a:endParaRPr b="0" lang="en-US" sz="36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9a8"/>
                </a:solidFill>
                <a:latin typeface="Arial"/>
              </a:rPr>
              <a:t>Danny Dytang</a:t>
            </a:r>
            <a:r>
              <a:rPr b="1" lang="en-US" sz="36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19a8"/>
                </a:solidFill>
                <a:latin typeface="Arial"/>
              </a:rPr>
              <a:t>UAL</a:t>
            </a:r>
            <a:endParaRPr b="0" lang="en-US" sz="36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9a8"/>
                </a:solidFill>
                <a:latin typeface="Arial"/>
              </a:rPr>
              <a:t>Tim Colvin</a:t>
            </a:r>
            <a:r>
              <a:rPr b="1" lang="en-US" sz="36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19a8"/>
                </a:solidFill>
                <a:latin typeface="Arial"/>
              </a:rPr>
              <a:t>NCS</a:t>
            </a:r>
            <a:endParaRPr b="0" lang="en-US" sz="36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79234-B58F-4703-ADAE-BC8E0170A8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2000a"/>
                </a:solidFill>
                <a:latin typeface="Arial"/>
              </a:rPr>
              <a:t>Phoenix Presenters</a:t>
            </a:r>
            <a:endParaRPr b="1" i="1" lang="en-US" sz="44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3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9a8"/>
                </a:solidFill>
                <a:latin typeface="Arial"/>
              </a:rPr>
              <a:t>Milton Thomas</a:t>
            </a:r>
            <a:r>
              <a:rPr b="1" lang="en-US" sz="36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19a8"/>
                </a:solidFill>
                <a:latin typeface="Arial"/>
              </a:rPr>
              <a:t>CB Operations</a:t>
            </a:r>
            <a:endParaRPr b="0" lang="en-US" sz="36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9a8"/>
                </a:solidFill>
                <a:latin typeface="Arial"/>
              </a:rPr>
              <a:t>Danny Dytang</a:t>
            </a:r>
            <a:r>
              <a:rPr b="1" lang="en-US" sz="36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19a8"/>
                </a:solidFill>
                <a:latin typeface="Arial"/>
              </a:rPr>
              <a:t>UAL</a:t>
            </a:r>
            <a:endParaRPr b="0" lang="en-US" sz="36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EA1CF-46A9-4088-8180-53D458E16D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819520"/>
            <a:ext cx="838188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19a8"/>
                </a:solidFill>
                <a:latin typeface="Arial"/>
              </a:rPr>
              <a:t>Session Outl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877D2-F874-4ADB-8E78-8F75C8B83A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2000a"/>
                </a:solidFill>
                <a:latin typeface="Arial"/>
              </a:rPr>
              <a:t>Session Outline</a:t>
            </a:r>
            <a:endParaRPr b="1" i="1" lang="en-US" sz="44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75248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a8"/>
                </a:solidFill>
                <a:latin typeface="Arial"/>
              </a:rPr>
              <a:t>Funding Schedule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a8"/>
                </a:solidFill>
                <a:latin typeface="Arial"/>
              </a:rPr>
              <a:t>FISAP Report Request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a8"/>
                </a:solidFill>
                <a:latin typeface="Arial"/>
              </a:rPr>
              <a:t>External Data File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a8"/>
                </a:solidFill>
                <a:latin typeface="Arial"/>
              </a:rPr>
              <a:t>FISAP Change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Next Cycle)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a8"/>
                </a:solidFill>
                <a:latin typeface="Arial"/>
              </a:rPr>
              <a:t>Data Flow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Next Cycle)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a8"/>
                </a:solidFill>
                <a:latin typeface="Arial"/>
              </a:rPr>
              <a:t>Contact Information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57721-B8E9-4B98-B5B5-670C95B507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2819520"/>
            <a:ext cx="838188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19a8"/>
                </a:solidFill>
                <a:latin typeface="Arial"/>
              </a:rPr>
              <a:t>Funding Schedu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56836-F0F2-4916-B6FF-028EB9B0BC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2000a"/>
                </a:solidFill>
                <a:latin typeface="Arial"/>
              </a:rPr>
              <a:t>Funding Schedule</a:t>
            </a:r>
            <a:endParaRPr b="1" i="1" lang="en-US" sz="44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209680"/>
            <a:ext cx="7848360" cy="24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By AUG 1, 2000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FISAP DOCUMENTATION &amp; PRIOR YEAR DATA SENT TO SCH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f the documentation or your prior year data is missing, contact Title IV WAN at (800) 615-11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wnload the FISAP software from the web at “www.sfadownload.ed.gov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stall the FISAP software and import your prior year data (FPYD02O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f you have software problems, please contact CPS at (800) 330-59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f necessary, complete and transmit the Reallocation Form(FREL02IN) by August 25,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(Reallocation Deadline next year is August 24, 200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f you have transmission problems, please contact Title IV WAN at (800) 615-11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f you do not receive an acknowledgement file (FREA02OP) within 24 hours, please contact 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 (877) 801-716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(Please remember to adjust your funding levels in the FISAP software if you return funds via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Reallocation For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85680" y="4800600"/>
            <a:ext cx="784872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By OCT 1, 2000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FISAP SUBMISSION DUE TO 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ort and transmit your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omplete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FISAP data (FCUR02IN) to 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f you do not receive an acknowledgement file (FCUA02OP) within 24 hours, and an edit 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FIDT02OP) within 5 workdays, please contact UAL at (877) 801-716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f you need assistance with your edits, please contact one of the CB sta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4038480"/>
            <a:ext cx="22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209680"/>
            <a:ext cx="22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7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B12AC-56B8-4041-8655-2301C591CF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8T20:32:24Z</dcterms:created>
  <dc:creator>Milton Thomas</dc:creator>
  <dc:description/>
  <dc:language>en-US</dc:language>
  <cp:lastModifiedBy>I.R.G.</cp:lastModifiedBy>
  <cp:lastPrinted>2000-11-21T00:02:42Z</cp:lastPrinted>
  <dcterms:modified xsi:type="dcterms:W3CDTF">2001-01-08T15:03:52Z</dcterms:modified>
  <cp:revision>121</cp:revision>
  <dc:subject>Atlanta EAC 2000</dc:subject>
  <dc:title>No Slide Title</dc:title>
</cp:coreProperties>
</file>