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D3FB2-112A-4C97-94DF-E89B16C85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7B80-AC78-422E-96E4-2F9F47AC3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4C98-DF4F-4843-935B-D066AB760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3562-1789-4466-B0CF-4D8C88A7B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01A3-F6FA-4E96-91F8-6B022EE92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F671-B24F-477D-8661-A078DF31A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CAA1-92B4-4941-9E26-B6F10FD94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9A45-3938-4F2E-98AF-121DFEE9B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3888-1263-4521-AFC7-2A4F54E20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375F-3AAD-4BD8-AD5B-AA4F823C6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4C84-4BE3-4CA9-9137-97C93A883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E863-1DD8-40D1-864B-602A3C807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129B-369F-4B68-8EE4-67E51A1F0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.png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Session 37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78" name="FISAP_3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7238880" cy="4857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1600200"/>
            <a:ext cx="243828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Campus-Bas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 rot="1718400">
            <a:off x="3746520" y="5063760"/>
            <a:ext cx="542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/ 3.1</a:t>
            </a:r>
            <a:endParaRPr b="1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20040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AB1B-E44D-4E1A-B216-9C2532D19A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unding Schedule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752480"/>
            <a:ext cx="784836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DEC 15, 2000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FISAP EDIT CORRECTIONS DUE TO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 your edit file (FIDT02O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ort and transmit your corrected / updated FISAP data (FEDT02IN) to 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do not receive an acknowledgement file (FEDA02OP) within 24 hours, and an edit fi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FIDT02OP) within 5 workdays, please contact UAL at (877) 801-7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(Please note:  All FISAP data submissions to ED will generate acknowledgement and edit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048120"/>
            <a:ext cx="78483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FEB 1, 2001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TENTATIVE AWARDS TRANSMITTED TO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 tentative awards and funding worksheets (FTEN02O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w / print the file using any text editor program (NotePad, WordPad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have received FISAP edit file(s) but not received tentative awards, please contact one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CB sta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114800"/>
            <a:ext cx="7848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APR 1, 2001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FINAL AWARDS TRANSMITTED TO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 final awards and funding worksheets (FFIN02O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w / print the file using any text editor program (NotePad, WordPad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have received tentative awards but not final awards, please contact one of the CB sta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862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952880"/>
            <a:ext cx="784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MAY 1, 2001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CLOSEOUT OF AW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ds reported as unexpended on the FISAP are deoblig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A’s (FAWD02OP) are transmitted to schools that had funds deoblig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638680"/>
            <a:ext cx="784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JUNE 1, 2001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TC PAY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hools are reimbursed for TC pay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C Payment worksheets (FTCP02OP) are transmitted to sch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FD77-4471-436E-AA3A-DEA4811143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FISAP Report Requ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6E33-85D7-4ADC-9D06-5EF6525F51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14600" y="457200"/>
            <a:ext cx="643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ISAP Report Re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83098" b="0"/>
          <a:stretch/>
        </p:blipFill>
        <p:spPr>
          <a:xfrm>
            <a:off x="1442880" y="1370160"/>
            <a:ext cx="1224000" cy="485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16907" t="12594" r="17828" b="10496"/>
          <a:stretch/>
        </p:blipFill>
        <p:spPr>
          <a:xfrm>
            <a:off x="2666880" y="1981080"/>
            <a:ext cx="472464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16907" t="11019" r="12566" b="7358"/>
          <a:stretch/>
        </p:blipFill>
        <p:spPr>
          <a:xfrm>
            <a:off x="2666880" y="1905120"/>
            <a:ext cx="5105520" cy="3962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33752" t="37706" r="45198" b="57588"/>
          <a:stretch/>
        </p:blipFill>
        <p:spPr>
          <a:xfrm>
            <a:off x="3886200" y="3048120"/>
            <a:ext cx="304812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rcRect l="33237" t="27046" r="48595" b="71051"/>
          <a:stretch/>
        </p:blipFill>
        <p:spPr>
          <a:xfrm>
            <a:off x="3809880" y="2603520"/>
            <a:ext cx="2976840" cy="24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9241-C5A8-4F7B-B2F8-2107F09BDE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2514600"/>
            <a:ext cx="51814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3048120"/>
            <a:ext cx="51814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352680"/>
            <a:ext cx="518148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457200"/>
            <a:ext cx="635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ISAP Report Re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7435" t="12594" r="6250" b="12065"/>
          <a:stretch/>
        </p:blipFill>
        <p:spPr>
          <a:xfrm>
            <a:off x="1676520" y="1981080"/>
            <a:ext cx="6858000" cy="3962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0" y="3962520"/>
            <a:ext cx="6094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C90B-B7AF-4541-8A59-C8DB381E82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17998" t="28967" r="17880" b="28646"/>
          <a:stretch/>
        </p:blipFill>
        <p:spPr>
          <a:xfrm>
            <a:off x="2057400" y="2057400"/>
            <a:ext cx="6400800" cy="3795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4495320" y="350532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57200"/>
            <a:ext cx="635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ISAP Report Re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A866-C447-4CA2-A561-8861BE55D0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743200" y="533520"/>
            <a:ext cx="5867280" cy="5717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.S. DEPARTMENT OF EDU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FFICE OF STUDENT FINANCIAL ASSIS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999-2000 Award Ye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mpus-Based Progra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 of Ac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PEID:  009999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rantee DUNS Number:  9999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itution Name:  JOANN’S PIANO ACADEMY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ity:  IOWA CITY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: 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rant Period:  July 1, 1999 through June 30,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ederal Supplemental Educational Opportunity Grant Pro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APS Award Number:  P007A9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Amount   Transaction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3,826,003       03/09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14,347       08/24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3,840,350  P007A999999 authorization amount as of 11/13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ederal Work-Study Pro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APS Award Number:  P033A9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Amount   Transaction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3,721,928       03/09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133,576       05/09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210,950       08/24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95,000       02/04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4,161,454  P033A999999 authorization amount as of 11/13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ederal Perkins Loan Program F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APS Award Number:  P038A9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Amount   Transaction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502,572       03/09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4,162       08/24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128,943       02/04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635,677  P038A999999 authorization amount as of 11/13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676520"/>
            <a:ext cx="2371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chool Informatio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2286000"/>
            <a:ext cx="1600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ward Year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43000" y="2971800"/>
            <a:ext cx="1533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SEOG Activ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95280" y="4114800"/>
            <a:ext cx="1381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WS Activ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5410080"/>
            <a:ext cx="1685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rkins Activ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19051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43828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312408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26708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55627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952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B857-7BDC-406A-A467-123F2B0EE5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External Data Fi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9EB6-A470-4207-A596-78A7955355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External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437920" y="441972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286000"/>
            <a:ext cx="1752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9D5E-E6D7-4518-BFF4-4F4036B190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105520" y="2209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42670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External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6921" t="28640" r="6240" b="46406"/>
          <a:stretch/>
        </p:blipFill>
        <p:spPr>
          <a:xfrm>
            <a:off x="2668680" y="4208400"/>
            <a:ext cx="5560920" cy="120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66880" y="4191120"/>
            <a:ext cx="57150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rcRect l="16916" t="28646" r="6240" b="59214"/>
          <a:stretch/>
        </p:blipFill>
        <p:spPr>
          <a:xfrm>
            <a:off x="1523880" y="3352680"/>
            <a:ext cx="6934320" cy="1749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9D28-7252-4DBD-94F2-07F467722B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05520" y="2209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42670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External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BD4C-CB1E-478C-9148-5FDF00D4B0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Presen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A2E9-DFED-411A-866B-6620E2E8A7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0" t="0" r="83098" b="0"/>
          <a:stretch/>
        </p:blipFill>
        <p:spPr>
          <a:xfrm>
            <a:off x="1442880" y="1370160"/>
            <a:ext cx="1224000" cy="4854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External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rcRect l="17894" t="12499" r="17894" b="12499"/>
          <a:stretch/>
        </p:blipFill>
        <p:spPr>
          <a:xfrm>
            <a:off x="2743200" y="198108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rcRect l="18957" t="12644" r="18839" b="12002"/>
          <a:stretch/>
        </p:blipFill>
        <p:spPr>
          <a:xfrm>
            <a:off x="2819520" y="1981080"/>
            <a:ext cx="4503600" cy="3657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rcRect l="33322" t="27166" r="53120" b="70818"/>
          <a:stretch/>
        </p:blipFill>
        <p:spPr>
          <a:xfrm>
            <a:off x="3809880" y="2666880"/>
            <a:ext cx="2971800" cy="228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rcRect l="34806" t="37706" r="39936" b="57588"/>
          <a:stretch/>
        </p:blipFill>
        <p:spPr>
          <a:xfrm>
            <a:off x="3962520" y="3124080"/>
            <a:ext cx="2971800" cy="3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BDBD-5F84-479C-9D95-B82FD77F2B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105520" y="2209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42670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External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5966-DFDC-4C04-BBD2-3187F11707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819520"/>
            <a:ext cx="8381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FISAP Cha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Next Cy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A12D-6D85-496D-97DE-E4888930BC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57200"/>
            <a:ext cx="6735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ISAP Changes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(Next Cy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8288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Lobbying and Debarm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Signature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Non-Traditional Calendar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Reading Tutors/Family Literac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819520"/>
            <a:ext cx="8381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Data Fl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Next Cy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0205-4781-4F17-8863-CFA16D8507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40360" y="1371600"/>
            <a:ext cx="2267280" cy="3957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1371600"/>
            <a:ext cx="2344680" cy="395748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63800" y="1371600"/>
            <a:ext cx="2531880" cy="3957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000" y="1371600"/>
            <a:ext cx="1981080" cy="3962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204920" cy="9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543800" y="274320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2895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3352680"/>
            <a:ext cx="114300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36576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FA STA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FISAP_3" descr=""/>
          <p:cNvPicPr/>
          <p:nvPr/>
        </p:nvPicPr>
        <p:blipFill>
          <a:blip r:embed="rId3"/>
          <a:stretch/>
        </p:blipFill>
        <p:spPr>
          <a:xfrm>
            <a:off x="2590920" y="27432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28600" y="35053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" y="4495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324480" y="3200400"/>
            <a:ext cx="11430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28195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3352680"/>
            <a:ext cx="106992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6765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120" y="3123720"/>
            <a:ext cx="144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1676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RY \ 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6765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1676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rcRect l="9240" t="18724" r="8999" b="23644"/>
          <a:stretch/>
        </p:blipFill>
        <p:spPr>
          <a:xfrm>
            <a:off x="5029200" y="274320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29200" y="2743200"/>
            <a:ext cx="114300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7339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Data Flow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(Next Cy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371600" y="3733560"/>
            <a:ext cx="36576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362320"/>
            <a:ext cx="36576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324480" y="3352320"/>
            <a:ext cx="114300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Contact 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5715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90D9-460A-4DEB-AC15-6886C74166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4120" y="42670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523880"/>
            <a:ext cx="80010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800) 330-59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ITLE IV WAN (SAIG)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800) 615-1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AL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877) 801-71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CAMPUS- BASED STAFF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ARRISON BANNISTER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5776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ICH BENNETT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260-6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ICHARD COPPAGE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4694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NDRA DONELSON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708-97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RRAINE GREEN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5774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HONDA HERBERT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708-91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JOSEPH MORRIS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8745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JUDY NORRIS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708-97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OROTHY PROCTOR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7746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OBERT SMITH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358-48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LTON THOMAS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9756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MELA WILLS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401-32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457200"/>
            <a:ext cx="62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A767-4D3C-47E8-AA76-7C195D719B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447920" y="4724280"/>
            <a:ext cx="7315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BFOB@ED.GOV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 rot="915000">
            <a:off x="533160" y="1828800"/>
            <a:ext cx="278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estion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 rot="20414400">
            <a:off x="609480" y="3657600"/>
            <a:ext cx="278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mment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 rot="581400">
            <a:off x="4191120" y="3428640"/>
            <a:ext cx="4572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ocus Group Interest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 rot="20664000">
            <a:off x="4038120" y="1295280"/>
            <a:ext cx="40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eta Tester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7556-02BE-4139-9604-77FAAB9D52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Dallas Presenter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Rhonda Herbert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CB Oper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Milton Thomas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CB Oper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Danny Dytang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UA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Tim Colvin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NC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84EF-04E1-4B80-A8BB-1A6A850AA9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Atlanta Presenters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Milton Thomas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CB Operations</a:t>
            </a: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Danny Dytang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UAL</a:t>
            </a: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Tim Colvin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NCS</a:t>
            </a: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DD6C-6697-4DB6-BB66-01F4DBABB1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Phoenix Presenters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Milton Thomas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CB Operations</a:t>
            </a: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Danny Dytang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UAL</a:t>
            </a: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DFB1-4239-4770-9C33-4C17F2548D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Session Out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9F01-E40A-4EF9-BBD0-5A60104949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Session Outline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Funding Schedul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FISAP Report Reques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External Data Fil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FISAP Chang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Next Cycle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Data Flow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Next Cycle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7347-A7E8-46C6-9101-4AED069847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Funding Sche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A688F-8124-4D84-AD32-A007AC616E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unding Schedule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209680"/>
            <a:ext cx="784836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AUG 1, 200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FISAP DOCUMENTATION &amp; PRIOR YEAR DATA SENT TO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the documentation or your prior year data is missing, contact Title IV WAN at (800) 615-1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 the FISAP software from the web at “www.sfadownload.ed.gov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tall the FISAP software and import your prior year data (FPYD02O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have software problems, please contact CPS at (800) 330-59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necessary, complete and transmit the Reallocation Form(FREL02IN) by August 25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(Reallocation Deadline next year is August 24, 20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have transmission problems, please contact Title IV WAN at (800) 615-1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do not receive an acknowledgement file (FREA02OP) within 24 hours, please contact 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 (877) 801-7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(Please remember to adjust your funding levels in the FISAP software if you return funds via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Reallocation Fo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85680" y="4800600"/>
            <a:ext cx="7848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OCT 1, 2000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FISAP SUBMISSION DUE TO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ort and transmit your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mplet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FISAP data (FCUR02IN) to 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do not receive an acknowledgement file (FCUA02OP) within 24 hours, and an edit 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FIDT02OP) within 5 workdays, please contact UAL at (877) 801-7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need assistance with your edits, please contact one of the CB sta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038480"/>
            <a:ext cx="2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2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291C-36C2-4CB1-873B-93BDBD7588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Milton Thomas</dc:creator>
  <dc:description/>
  <dc:language>en-US</dc:language>
  <cp:lastModifiedBy>I.R.G.</cp:lastModifiedBy>
  <cp:lastPrinted>2000-11-21T00:02:42Z</cp:lastPrinted>
  <dcterms:modified xsi:type="dcterms:W3CDTF">2001-01-08T15:03:52Z</dcterms:modified>
  <cp:revision>121</cp:revision>
  <dc:subject>Atlanta EAC 2000</dc:subject>
  <dc:title>No Slide Title</dc:title>
</cp:coreProperties>
</file>