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AB88-6531-464F-9212-701723695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748-D6B5-44CE-9668-9F7BBBE6E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1685-8CAD-4F64-9A52-419D9BFD2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4CAA-DA1A-4D79-A861-3EB0D1A6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D30-5631-4A4F-A7D7-686657F6A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6319-33E8-41BE-8643-B10795566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9AE9-C46D-4067-931A-18DFC8AF4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5572-9F3A-4EC7-BC82-335AD2284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DB51-5D92-4452-B4AE-496042376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AF79-845B-46D3-B45F-2C828BAB0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0797-703D-4CBA-9299-817E58E6E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4794-938D-422A-A30A-0BC080707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2DAE-DC25-4DEA-9A61-5C4C5FA81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B214-8A8B-4D29-9FF9-7D092414A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7E22-D44F-4B09-93A7-75D2B6A33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D9D5-E3B5-4693-871B-FA8B7BF50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2A96-1218-4E78-AA24-37451C10F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BEE2-68CD-4407-B616-CEC733A1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8E48-995A-474A-B588-19246586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550F-2DE9-4943-A8C4-B99664DEC6FF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Mid-Year Transfers Process Objectiv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educe school workload to meet regulatory require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 informs NSLDS of students to be monitored (inform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SLDS monitors data received and determines who to notify (monit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SLDS alerts new school (i.e., push data out) of relevant changes (alert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stribute results only to new schoo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ovide convenient input and output op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9C93-A9C1-4F66-B428-2F152692D73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A005-6166-4DA3-B46A-D64136204FF8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68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Mid-Year Transfers Who Is Monitored? (Inform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 provides NSLDS with list of applicants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pplicant identifier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nrollment perio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ISIR Transaction # (optional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nput methods: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nter on NSLDSFA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end data file to NSLD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27F8-74C1-4810-8810-11A1921F4227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oan1" descr=""/>
          <p:cNvPicPr/>
          <p:nvPr/>
        </p:nvPicPr>
        <p:blipFill>
          <a:blip r:embed="rId1"/>
          <a:stretch/>
        </p:blipFill>
        <p:spPr>
          <a:xfrm>
            <a:off x="0" y="0"/>
            <a:ext cx="9306000" cy="1808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C982-75A6-4AF1-8ACA-F6A82DB88ABE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84320" y="33480"/>
          <a:ext cx="8762760" cy="67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33480"/>
                    <a:ext cx="8762760" cy="67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0245-1619-4AA8-82A0-24F98F19969D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id-Yr_Scr_Add" descr="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4D56-AB03-46F7-8413-AF667FB9E459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82440"/>
          <a:ext cx="8458200" cy="663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2440"/>
                    <a:ext cx="845820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5744-DF8D-4F9C-8A9E-DF49D2695550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form Data Fil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eader recor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tail record (one per student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pplicant identifier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nrollment perio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ISIR Transaction # (optional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railer recor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77A3-4738-4317-A8BC-7C946DE67D86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6834-61BC-43FF-9C70-CB13AB137079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33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09680"/>
            <a:ext cx="76960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SLDS: Can We Say Goodbye To FATs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ynn Alexa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on Hol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816C-7EE3-420F-AB43-BD1A04DFC7FB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Mid-Year Transfers What Will NSLDS Do? (Monitor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s there new data affecting applicant’s eligibility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a8"/>
                </a:solidFill>
                <a:latin typeface="Arial"/>
              </a:rPr>
              <a:t>New data means a new loan or Pell Grant was added or changed for attendance at another school (since last ISIR or alert)</a:t>
            </a:r>
            <a:endParaRPr b="0" lang="en-US" sz="2200" spc="-1" strike="noStrike">
              <a:solidFill>
                <a:srgbClr val="0019a8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New or cancelled disbursement on a loa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New or cancelled disbursement on a Pell Grant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Reduced Pell Grant Award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a8"/>
                </a:solidFill>
                <a:latin typeface="Arial"/>
              </a:rPr>
              <a:t>Data for attendance at school to which the applicant is transferring is not monitored</a:t>
            </a:r>
            <a:endParaRPr b="0" lang="en-US" sz="2200" spc="-1" strike="noStrike">
              <a:solidFill>
                <a:srgbClr val="0019a8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a8"/>
                </a:solidFill>
                <a:latin typeface="Arial"/>
              </a:rPr>
              <a:t>Changes in default status or overpayments would continue as done currently (postscreening) so that all schools are notified</a:t>
            </a:r>
            <a:endParaRPr b="0" lang="en-US" sz="2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ABF1-A208-4A5A-8934-07F67AB0D782}" type="slidenum">
              <a:t>20</a:t>
            </a:fld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Monitor Rules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onitor perio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tarts:  Date enter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nds:  Enrollment end dat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FEL/FDLP Loa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Loan at school A overlaps enrollment begin date at school B; 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Loan begin date at school A is less than 30 weeks before enrollment begin date at school B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A327-2D67-45AD-AEA5-B2CEE831E60E}" type="slidenum">
              <a:t>21</a:t>
            </a:fld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Monitor Rules (cont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erkins Loa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sbursement at school A is in the same award year as enrollment begin date at school B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ell Gra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rant at school A is in the same award year as the enrollment begin date at school B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C710-E229-44BB-8886-75D3607BDC94}" type="slidenum">
              <a:t>22</a:t>
            </a:fld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8224-DC3B-4C6C-8B31-81B76D2E9995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Are Results Communicated? (Alert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SLDS communicates results only to the school to which the applicant is transferring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utput shows entire financial aid histo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utput methods: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NSLDSFA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Financial aid history data file (like current FAT batch process-see IFAP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mail notific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BD67-AB5F-4B7B-9628-AE32593990A8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4920" y="123840"/>
          <a:ext cx="8534160" cy="661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3840"/>
                    <a:ext cx="853416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7461-D368-42DF-A7B0-FDC281CCF12F}" type="slidenum">
              <a:t>25</a:t>
            </a:fld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lert Data Fil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eader recor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tail record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ggregates, error codes and match flag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ame histo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Loan detail record(s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ell Grant payment record(s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verpayment record(s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railer recor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DFC9-DB5C-4B51-B666-565036B2E2D2}" type="slidenum">
              <a:t>26</a:t>
            </a:fld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6980-8EA2-48CF-A762-2CCB40CF4628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5821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chool Alert Profil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mail address to send alert notice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results are available - go to NSLDSFAP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data file being sent - access TIV WAN mailbox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uld be group email addres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IV WAN Mailbox of person to receive data file (only for schools wanting a file sent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dd contact person for mid-year transfer questions in Organizational Contac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C314-A3E7-40DF-8047-4FF1706E5E77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57160" y="66600"/>
          <a:ext cx="7431120" cy="67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66600"/>
                    <a:ext cx="7431120" cy="67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3EC7-916B-499F-B118-94FBEDFE56DB}" type="slidenum">
              <a:t>29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3377-4292-49C0-A709-3BFDC08DEE87}" type="slidenum">
              <a:t>3</a:t>
            </a:fld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676520"/>
            <a:ext cx="769608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SLDS: Can We Say Goodbye To FATs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3526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89F7-D5DF-4CA2-9433-DFD2AAE4A0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73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 and Discuss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87880" y="1523880"/>
            <a:ext cx="2479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09AC-F92A-4265-ABB6-834200EF7396}" type="slidenum">
              <a:t>31</a:t>
            </a:fld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Customer Servi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999-821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all between the hours of 8:00 a.m. and 8:00 p.m. ET any weekday other than Federal holiday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r, e-mail:  nsldscoe@raytheon.co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3FA9-CFB2-4683-B5A1-983569330C56}" type="slidenum">
              <a:t>32</a:t>
            </a:fld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5E12-C109-43E3-8FB1-A6B487949122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 issu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apitalized interest calcul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nsolidation loans issu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hanges for 2001-2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58DB-75F5-449F-96A4-D1AC577D5822}" type="slidenum">
              <a:t>34</a:t>
            </a:fld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apitalized Interes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ncluded in Outstanding Principal Balan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SLDS excludes capitalized interest in aggregat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ssumes capitalized interest is paid before principa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Includes the lesser of OPB, amount disbursed or net loan amount in aggregat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SLDS does calculation for you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083C-185F-47F5-BFA2-782006AB5FF8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5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apitalized Interest Exampl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Loan #2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Loan amt:  $5,000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Amt Disb:   $2,500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OPB:          $3,000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mount disbursed is the smallest amount.  Thus, it is used to compute the aggregate amount. $500 is assumed to be capitalized interest.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Loan #1: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Loan amt:  $3,000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mt Disb:  $3,000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OPB:         $2,200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$2,200 is included in aggregates as it is the smallest amount.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F184-1DE0-4F26-849F-E5EC686B0FDE}" type="slidenum">
              <a:t>36</a:t>
            </a:fld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nsolidation Loan Issu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Consolidation loans have specific loan types [CL (FFEL); D5 and D6 (Direct Loans)]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Underlying loans reported with PC status and zero OPB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Date of Loan Status on underlying loans and Consolidation Loan Date should be close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Some underlying loans may be reported with PF - working with data providers to improve data accuracy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Consolidation loans may include Perkins (CL or D6) and Health Professions loans (CL or D5)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C0C4-4088-4526-A7D6-40CA75B64559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Aggregat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ubsidized -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  <a:ea typeface="Times New Roman"/>
              </a:rPr>
              <a:t>SF (subsidized), D1, or D6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nsubsidized -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  <a:ea typeface="Times New Roman"/>
              </a:rPr>
              <a:t>SF (non-subsidized), SU, SL, D2, D5, or RF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mbined -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  <a:ea typeface="Times New Roman"/>
              </a:rPr>
              <a:t>SF (subsidized and non-subsidized), SU, SL, D1, D2, D5, D6, or RF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FEL Consolidation - C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6538-0E02-4389-858D-71BEBD8C2458}" type="slidenum">
              <a:t>38</a:t>
            </a:fld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nsolidation Loan Aggregat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rect Loans: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5 - Consolidation Unsubsidized (included in Unsubsidized and Combined aggregates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6 - Consolidation Subsidized (included in Subsidized and Combined aggregates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FEL: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CL - Consolidation Loan (sub and unsub) (included in FFEL Consolidation aggregate only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Contact lender to obtain sub/unsub breakdown of underlying loan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008B-088E-43D2-84AF-FDC6A7F38020}" type="slidenum">
              <a:t>39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A9F7-47DD-4D46-994F-1D4583547754}" type="slidenum">
              <a:t>4</a:t>
            </a:fld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SIR/SAR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hanges for 2001-2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dd increased unsubsidized loan indicator due to PLUS denial (Direct Loans only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dd increased unsubsidized loan indicator due to Health Professions loan (Direct Loans only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dd Master Promissory Note indicator -Yes or No (Direct Loans only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17F1-F675-44F4-BE6A-4A778B50B801}" type="slidenum">
              <a:t>40</a:t>
            </a:fld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ew Loan Status Codes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21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urpose of new cod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hanges in cod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ffects on student eligibilit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mplementation schedu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4702-A794-4B88-B1E9-005CFC9C4E27}" type="slidenum">
              <a:t>41</a:t>
            </a:fld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tatus Code Purpos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 are the key NSLDS functions which are dependent on loan status codes?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5748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tudent eligibilit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ISIR/SAR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re/Postscreening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ayment of fees to guaranty agenci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eneration of repor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olicy analysis and research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D68D-2377-4278-91F5-814FB66727A1}" type="slidenum">
              <a:t>42</a:t>
            </a:fld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6964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tatus Code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ive existing loan status codes are being retired.  What are they and what is replacing them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ID - In school or grac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Replaced by IA (Loan Originated), IG (In-grace) and IM (Military grace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UI - Uninsured/unreinsured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Replaced by AL, UA, UB, UC and UD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PC - Paid by consolidatio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Replaced by DN and PN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DU (Defaulted unresolved) becomes DF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DX (Satisfactory arrangements) becomes XD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D61E-8997-4D28-8838-7549C6084D78}" type="slidenum">
              <a:t>43</a:t>
            </a:fld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8120" y="68544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tatus Codes: Old Loa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 new codes will be used to resolve problems with old loans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5748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DR - Defaulted loan included in rolled-up loa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PM - Old loans (over 12 years in repayment) with no lender updates will be close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AL - Loans with no known lender and no updates on balances for four year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B5CA-072B-4F25-B4DF-AEE6792110E6}" type="slidenum">
              <a:t>44</a:t>
            </a:fld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tatus Codes: Eligibilit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urrently, a student with a DB, DL, DO, DU, DT and DW are ineligible for aid.  What new codes will cause student to be ineligible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9800" y="198108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DF - Defaulted unresolve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DZ - Defaulted, missed paymen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UB - Temporarily uninsured-default claim denie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UD - Permanently uninsured-default claim denie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AL - Abandoned loa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D97E-6D26-4987-A7BC-E7B6049EE343}" type="slidenum">
              <a:t>45</a:t>
            </a:fld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tatus Codes: Implementa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 are the critical dates for implementation of the new loan status codes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57480" y="1828800"/>
            <a:ext cx="40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evelopment to be completed by end of yea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ata providers </a:t>
            </a:r>
            <a:r>
              <a:rPr b="0" i="1" lang="en-US" sz="2800" spc="-1" strike="noStrike" u="sng">
                <a:solidFill>
                  <a:srgbClr val="0019a8"/>
                </a:solidFill>
                <a:uFillTx/>
                <a:latin typeface="Arial"/>
              </a:rPr>
              <a:t>may</a:t>
            </a:r>
            <a:r>
              <a:rPr b="0" lang="en-US" sz="2800" spc="-1" strike="noStrike" u="sng">
                <a:solidFill>
                  <a:srgbClr val="0019a8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tart reporting new codes by Jan 1, 2001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ata providers </a:t>
            </a:r>
            <a:r>
              <a:rPr b="0" i="1" lang="en-US" sz="2800" spc="-1" strike="noStrike" u="sng">
                <a:solidFill>
                  <a:srgbClr val="0019a8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 use new codes by December 31, 2001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7FE7-B38D-4BFC-9DAF-4C67A26928DE}" type="slidenum">
              <a:t>46</a:t>
            </a:fld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Customer Servi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999-821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all between the hours of 8:00 a.m. and 8:00 p.m. ET any weekday other than Federal holiday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r, e-mail:  nsldscoe@raytheon.co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BD4C-6A6D-4A6B-8B00-CA4AB54675A6}" type="slidenum">
              <a:t>47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inancial Aid History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Former Polic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ay use NSLDS except for mid-year transfer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ust respond to requests for FA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ssist colleagues by responding to inquiri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termine whether to award aid using authority of GEN-96-13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769E-F807-432C-A91D-2865BC5D1300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inancial Aid History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terim Polic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ffective July 1, 2000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ay use NSLDS for all applicants including mid-year transfer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Check NSLDS 30 days prior to the beginning of the first payment perio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May use ISIR if generated within the 30 day perio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ust respond to requests for FA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ssist colleagues by responding to inquiri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efer to GEN-00-12 for detai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E2B3-5A0A-4211-A01D-FE696EAEB4BB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inancial Aid History 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ew: Inform, Monitor &amp; Aler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120" y="18288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lanned for July 1, 2001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se NSLDS for all applica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NSLDS mid-year transfer process to alert school of changes affecting the student’s eligibilit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s not required to respond to requests for FA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ssist colleagues by responding to inquiri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1C87-87DA-49D1-90CB-4A3FC71C00A1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Aid History - Policy Breakthrough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id-Year Transfer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Alert Pro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Discus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FF04-C39A-428E-9FD4-5868D307B888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inancial Aid History 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OCUS Group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Meet with the community to define the mid-year transfer process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First session held July 9th at NASFAA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Second session held August 25th with proprietary schools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Third session held at MASFAA on October 10th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19a8"/>
                </a:solidFill>
                <a:latin typeface="Arial"/>
              </a:rPr>
              <a:t>Share your suggestions with us:</a:t>
            </a:r>
            <a:endParaRPr b="0" lang="en-US" sz="2600" spc="-1" strike="noStrike">
              <a:solidFill>
                <a:srgbClr val="0019a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Jeff_Baker@ed.gov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Lynn_Alexander@ed.gov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holec@fallschurch.esys.com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3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050D-E39A-4B9D-B7AD-68382EFAE7E7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2000-11-21T22:31:51Z</cp:lastPrinted>
  <dcterms:modified xsi:type="dcterms:W3CDTF">2001-01-08T16:35:31Z</dcterms:modified>
  <cp:revision>53</cp:revision>
  <dc:subject/>
  <dc:title>No Slide Title</dc:title>
</cp:coreProperties>
</file>