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F3A2-3D5B-49D5-BE98-5CC6C8DDF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796F-2BC0-468C-87EB-17E8B4D42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B907-CD48-4667-8A89-B310B0E41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C84B-035E-4D01-8096-B4A579950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0DF9-2CAB-4573-8ADD-D1426112F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2771-9E7A-4288-A284-52AAB042A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5C0F-FE76-4987-B09E-070772F25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22F1-1952-4B5E-912C-B0D577DE4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23EE-F1F5-4E07-8D7D-97D303D2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3306-2A68-4021-A471-D7ACBFBED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5370-368B-48D0-9470-70B1DF619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3ED9-ACC0-4563-934E-E4D1C844F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EB6-1018-49F6-B3E0-E7B97799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26B-9A96-4CFC-8C85-383266D76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3280" y="16606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ession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1160" y="417528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irect Loan Servicing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2920" y="166068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ession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1371600"/>
          <a:ext cx="835668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35668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verage Speed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f Answer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0EEC-6AE7-469A-A9B8-4AA9D2839B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91320" y="5331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Process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Volume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371600"/>
          <a:ext cx="83358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3358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7C5F-883B-4388-ADD6-9D0BD027A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12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opulation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Total # of Borrower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05120"/>
          <a:ext cx="772308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2308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046320" y="3124080"/>
            <a:ext cx="974880" cy="307080"/>
          </a:xfrm>
          <a:prstGeom prst="rect">
            <a:avLst/>
          </a:prstGeom>
          <a:solidFill>
            <a:srgbClr val="efa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114,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5840" y="2666880"/>
            <a:ext cx="974880" cy="307080"/>
          </a:xfrm>
          <a:prstGeom prst="rect">
            <a:avLst/>
          </a:prstGeom>
          <a:solidFill>
            <a:srgbClr val="efa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56,7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7C8C-B6E6-49A4-AA18-D95353604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832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istribution by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lan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43F8-EBA8-4213-9C18-A61E496A5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lan Selection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676520"/>
          <a:ext cx="533556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533556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400800" y="1981080"/>
            <a:ext cx="2514600" cy="2210040"/>
          </a:xfrm>
          <a:prstGeom prst="wedgeRoundRectCallout">
            <a:avLst>
              <a:gd name="adj1" fmla="val -71148"/>
              <a:gd name="adj2" fmla="val -33189"/>
              <a:gd name="adj3" fmla="val 16667"/>
            </a:avLst>
          </a:prstGeom>
          <a:solidFill>
            <a:srgbClr val="efa9ef"/>
          </a:solidFill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ted and IC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yment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borr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8D4C-8FF9-465B-94CB-5B38BA6072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12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Borrowers by Institution Typ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896C-C664-41D9-851F-A0E6506BA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Borrowers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by Loan Type</a:t>
            </a:r>
            <a:br>
              <a:rPr sz="3600"/>
            </a:b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9080" y="1600200"/>
          <a:ext cx="7767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600200"/>
                    <a:ext cx="7767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F0CE-369F-4891-9845-A36FDA2CA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8320" y="6094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Monthly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Payment Volum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76520"/>
          <a:ext cx="855972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5972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DC1B-4D5C-473D-A7F4-8E58109BC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4340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ctive Borrowers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Using EDA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1754280"/>
          <a:ext cx="83314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4280"/>
                    <a:ext cx="8331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A913-7A0A-4758-873E-F9C6D2235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43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ollar Value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f Payment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4280" y="1371600"/>
          <a:ext cx="855972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371600"/>
                    <a:ext cx="85597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13920" y="5715000"/>
            <a:ext cx="76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Upcoming Mass Mailing December of 2.5m EDA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C6CB-21C6-4300-8391-918C6441CC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90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esenter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an Hayward, Directo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rect Loan Servicing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FA Student Channel, Repaymen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ue Szabo, Vice Presiden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FSA Data Corpor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rect Loan Servicing Center, Utica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5E31-338F-42BA-A1D8-4DE4B8CB5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51460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000a"/>
                </a:solidFill>
                <a:latin typeface="Times New Roman"/>
              </a:rPr>
              <a:t>New Initi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E4D8-8424-4754-882D-B13EB8837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14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’s new at the Servicing Center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3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Outreach Progra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ent Account Manager Outreach Progra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linquency Management Strategi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135C-28CD-4A07-8AC0-E010EC7E2B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School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utreach Program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Services “Expands” Hours of Oper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:00a.m. to 8:30p.m. EST  Monday through Frida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Services Representatives Trained 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SLDS and Clearinghouse system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arm” Call Transfe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Direct Loan Web Site for 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uture E-gain Enhancements for 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C477-08FC-49F7-A652-80029F71D2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pen the lines of Communication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velop ongoing training program on-site and/or assign School Services Representative in the fiel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rovide ongoing updates of what’s new at the servicing center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Hold quarterly conference calls with CAMs to discuss topics of interes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ollow-up Mechanis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velop e-mail mechanism for CAMs to communicate with the servicing center on outstanding issu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Client Account Manager Outreach Program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1A25-CFA0-43D9-9A24-D8F6715B1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elinquency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Management 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Grace Counseling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fault Aver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mproved Communic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ewer, better letters and notic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roved VRU scrip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2E96-7CDE-4FFF-9C39-088BC19BCC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129528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000a"/>
                </a:solidFill>
                <a:latin typeface="Times New Roman"/>
              </a:rPr>
              <a:t>DLSS Development Upd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2692440"/>
            <a:ext cx="3240360" cy="340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9120" y="316548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Serv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School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NSLD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87A1-856A-467A-9E35-C3445ECD68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62960" indent="-31896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cent Direct Loan Servicing Enhance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2K Compliance - without a hitch!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Consolidation Pay-off Improvement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EDA Interest Rate Incentive (.25%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ar 00/01 Functionalit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MPN suppor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20 disbursements and Eliminate Sequence Number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Disbursement Confirmation to LO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SLDS Improvement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PEID Improvement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learinghouse Report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Foreign country indicato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dentifier Conflict resolution process implemented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9B08-911B-4551-8D60-7203136D9E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91400" indent="-3384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ajor DL Borrower Web Site Enhancements</a:t>
            </a:r>
            <a:br>
              <a:rPr sz="2800"/>
            </a:b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(www.dlservicer.ed.gov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982800" indent="-190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Web Site Enhancements for Borrower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Account History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NSLDS FFEL/Perkins data in Exit Counsel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nline Def/Forb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Borrower Satisfaction Survey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hange to Exit Quiz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lectronic submission of General Forbearance and Unemployment Defermen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82800" indent="-190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-Gain Implementatio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mproved e-Mail processe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608E-E311-4B4E-9DD3-5F18D6FB07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88360" y="4629240"/>
            <a:ext cx="741240" cy="11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13600" y="4114800"/>
            <a:ext cx="14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Govt.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Leadership A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CE2B-49B6-4C81-94C1-CF6F3E12F8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-32292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Direct Loan Web Site for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Schools!!!</a:t>
            </a:r>
            <a:br>
              <a:rPr sz="3200"/>
            </a:b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(www.dlservicer.ed.gov/schools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937080" indent="-181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ew Function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Multiple Account look-up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xit Counseling Completion Data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ntact U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FAQ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37080" indent="-181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IN Access using Loan Origination On-Line PI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Only need one PI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chool controls authorizatio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User profil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63EC-701A-4F3D-BB28-CB2E45A904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988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irect Loan Program Updat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Snap-sho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rends and Statistic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velopment Updat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’s happened since the last EAC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’s new in our future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pdate on Delinquency Management efforts.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C6B2-A310-41BA-B2D5-AA3703AE4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239240" cy="5353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88360" y="4857840"/>
            <a:ext cx="741240" cy="1162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13600" y="4419720"/>
            <a:ext cx="14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Govt.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Leadership A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5826-8334-4E9D-B3C5-4044DA29C8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in our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mmediate future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irect Loan Servicing Functionalit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November ‘00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Unpaid Refund Discharge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In-Military Statu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1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February ‘01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Weekly Report to NSLD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Language Indicato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llect Borrower e-Mail addresse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2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July ‘01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-ID (see below) 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Teacher Forgivenes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BPP, Etc…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T&amp;P Disability Track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3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PLUS Interest Rate Change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5CD4-902E-42CC-9EBF-429CE8085C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in our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mmediate future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Web enhancements (March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nrollment/Delinquency Report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Hyperlink to Exit Counseling from School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-Mail capability for school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Borrower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Web enhancements (March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Borrower Personalization/Counsel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Spanish Language Forms and Question Cente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n-Line EDA Enrollmen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1098E available Online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nsolidation Application Process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E-ID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(Web-enabled) (June/July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Deferments and Forbearance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P-Notes (LO)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908E-AEE3-4A34-80F7-00E377DA87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lease Call Us!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EXPANDED Hours of Operation 8:00a.m. to 8:30p.m. EST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Monday through Frida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Direct Loan Servicing Cen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1-800-848-097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School Servic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1-888-877-7658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a8"/>
                </a:solidFill>
                <a:latin typeface="Arial"/>
              </a:rPr>
              <a:t>www.dlservicer.ed.gov </a:t>
            </a:r>
            <a:r>
              <a:rPr b="1" i="1" lang="en-US" sz="2800" spc="-1" strike="noStrike" u="sng">
                <a:solidFill>
                  <a:srgbClr val="0019a8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a8"/>
                </a:solidFill>
                <a:latin typeface="Arial"/>
              </a:rPr>
              <a:t>www.dlservicer.ed.gov/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6F4B-E695-4DE7-9D92-00055E00BC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Times New Roman"/>
              </a:rPr>
              <a:t>Direct Loan Program Upd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1568-EA7E-4DC7-BA65-06DDF83C3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 Snap-shot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urrent Direct Loan Activity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5,034,377   Direct Loan Borrower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9,015,777   Booked Loans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($71 Billion)   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45,219,723  Payments Received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($9.6 Billion)   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63,519  Borrowers using EDA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     (Electronic Debit Accoun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7BEE-0265-442E-B9E1-382406A0B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0240" y="4568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irect Loan Servicing Center</a:t>
            </a:r>
            <a:br>
              <a:rPr sz="3600"/>
            </a:b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Program-To-Date: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1,980,607  Borrower Services Call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,917,632  Collection Call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3,033,150  Defer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,147,439  Forbearanc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,390,684  Correspondence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6,983,585  SSCR Reques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F907-E9D6-4BD4-87F1-ED98A021A4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7640" y="456840"/>
            <a:ext cx="193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Staff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Level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447920"/>
          <a:ext cx="89917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91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1835-677E-49A9-8CB8-0A39C9A454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213372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Times New Roman"/>
              </a:rPr>
              <a:t>Trends and Stat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73392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Times New Roman"/>
              </a:rPr>
              <a:t>Servicing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Times New Roman"/>
              </a:rPr>
              <a:t>October 1999 vs. October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B049-84FF-4DCC-92D5-6ED815C55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ncom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Call Volum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523880"/>
          <a:ext cx="83566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566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1E00-DB5F-42A5-A537-F4A223A2CE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29:26Z</dcterms:modified>
  <cp:revision>102</cp:revision>
  <dc:subject/>
  <dc:title>No Slide Title</dc:title>
</cp:coreProperties>
</file>