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D346A-B74E-412F-8E61-099B58E63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11182-E3B8-4367-BABF-BC77D5941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97E85-F6AF-40C7-A2F8-FEBBAE67F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84655-10F1-451E-B199-83E47A425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D48AE-5C4F-4477-9226-0EE36F4AD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282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47080" y="182880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282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47080" y="3978360"/>
            <a:ext cx="268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82BF9-2BF1-47A7-95E0-66C505C6A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2BA1C-0173-4C5D-A237-09252AE48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FDB5E-8AA6-4EF5-AAD2-B4441E235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3720" y="456840"/>
            <a:ext cx="5821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22731-F57F-40A9-81B4-45877489E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33CBF-46B3-414D-8412-605B12928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1240" y="397836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1764F-656F-4707-A199-072455CCC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1240" y="1828800"/>
            <a:ext cx="406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78360"/>
            <a:ext cx="83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2A358-7CB7-4083-8298-6D57BDDE3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19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19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6708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737F-2A5F-4301-B064-BE46AFA47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lid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1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00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19a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67440" y="64771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647712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E969-B30E-4B55-B6C2-D4C7A8670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Title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58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183280" y="166068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ession 3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51160" y="4175280"/>
            <a:ext cx="665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Direct Loan Servicing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2920" y="1660680"/>
            <a:ext cx="237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Session 3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457200" y="1371600"/>
          <a:ext cx="835668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835668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05160" y="4568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Average Speed 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of Answer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DAD9A-DFDB-4D56-B09A-EF37E092A6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91320" y="533160"/>
            <a:ext cx="3047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Processing 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Volumes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28600" y="1371600"/>
          <a:ext cx="8335800" cy="40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33580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67FBC-B239-4B34-B65B-24575A3A59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81280" y="45684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Repayment Population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Total # of Borrowers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1905120"/>
          <a:ext cx="7723080" cy="40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723080" cy="40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046320" y="3124080"/>
            <a:ext cx="974880" cy="307080"/>
          </a:xfrm>
          <a:prstGeom prst="rect">
            <a:avLst/>
          </a:prstGeom>
          <a:solidFill>
            <a:srgbClr val="efa9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114,2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5840" y="2666880"/>
            <a:ext cx="974880" cy="307080"/>
          </a:xfrm>
          <a:prstGeom prst="rect">
            <a:avLst/>
          </a:prstGeom>
          <a:solidFill>
            <a:srgbClr val="efa9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456,7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F72CF-D537-4647-931C-F555189FD4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48320" y="4568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Distribution by 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Repayment Plans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62120" y="16002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BED9F-B1C2-4032-A928-6F67B6493F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2880" y="45684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Repayment Plan Selection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066680" y="1676520"/>
          <a:ext cx="5335560" cy="39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5335560" cy="39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6400800" y="1981080"/>
            <a:ext cx="2514600" cy="2210040"/>
          </a:xfrm>
          <a:prstGeom prst="wedgeRoundRectCallout">
            <a:avLst>
              <a:gd name="adj1" fmla="val -71148"/>
              <a:gd name="adj2" fmla="val -33189"/>
              <a:gd name="adj3" fmla="val 16667"/>
            </a:avLst>
          </a:prstGeom>
          <a:solidFill>
            <a:srgbClr val="efa9ef"/>
          </a:solidFill>
          <a:ln cap="sq" w="1260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o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uated and IC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ayment P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the borrow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F3439-C340-41D8-AA35-EA6BEB8B82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81280" y="45684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Repayment Borrowers by Institution Type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14400" y="16002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2425E-C5CA-4585-99E7-2DC603254E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71800" y="4568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Repayment Borrowers 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by Loan Type</a:t>
            </a:r>
            <a:br>
              <a:rPr sz="3600"/>
            </a:b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9080" y="1600200"/>
          <a:ext cx="776772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9080" y="1600200"/>
                    <a:ext cx="776772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C2F32-5978-4462-A20C-2BC496564D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8320" y="60948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Monthly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Payment Volume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920" y="1676520"/>
          <a:ext cx="8559720" cy="42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855972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0A180-D225-4AAD-9277-CFD98EF347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43400" y="4568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Active Borrowers 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Using EDA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80880" y="1754280"/>
          <a:ext cx="833148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4280"/>
                    <a:ext cx="833148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7A040-FFC2-4FAE-96A0-810E7B1DC6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943600" y="4568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Dollar Value 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of Payments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84280" y="1371600"/>
          <a:ext cx="855972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1371600"/>
                    <a:ext cx="855972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13920" y="5715000"/>
            <a:ext cx="761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a8"/>
                </a:solidFill>
                <a:latin typeface="Arial"/>
              </a:rPr>
              <a:t>Upcoming Mass Mailing December of 2.5m EDA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1EBCE-89E1-4D94-8CE0-F6B644B98A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9000" y="4568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Presenters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Dan Hayward, Director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Direct Loan Servicing 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FA Student Channel, Repayment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ue Szabo, Vice President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FSA Data Corporation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Direct Loan Servicing Center, Utica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7C3B5-837D-4F5B-A1FF-AC8DC4F359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4400" y="2514600"/>
            <a:ext cx="7772400" cy="1143000"/>
          </a:xfrm>
          <a:prstGeom prst="rect">
            <a:avLst/>
          </a:prstGeom>
          <a:solidFill>
            <a:srgbClr val="c0c0c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2000a"/>
                </a:solidFill>
                <a:latin typeface="Times New Roman"/>
              </a:rPr>
              <a:t>New Initia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C8F3B-106C-430C-BE19-53E674CE27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14800" y="45684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What’s new at the Servicing Center?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336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School Outreach Program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Client Account Manager Outreach Program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Delinquency Management Strategi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D50AE-104D-4FEE-AD1F-108163A67B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4568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School 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Outreach Program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chool Services “Expands” Hours of Operation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8:00a.m. to 8:30p.m. EST  Monday through Friday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School Services Representatives Trained On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NSLDS and Clearinghouse system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29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Warm” Call Transfer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29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New Direct Loan Web Site for School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290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Future E-gain Enhancements for School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AE3BA-95C5-4D59-82B5-C019350892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Open the lines of Communication</a:t>
            </a: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Develop ongoing training program on-site and/or assign School Services Representative in the field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Provide ongoing updates of what’s new at the servicing center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Hold quarterly conference calls with CAMs to discuss topics of interest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Follow-up Mechanism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Develop e-mail mechanism for CAMs to communicate with the servicing center on outstanding issue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971800" y="456840"/>
            <a:ext cx="582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Client Account Manager Outreach Program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375B2-5290-4A78-997C-8DBCED3EC5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Delinquency 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Management 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Grace Counseling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Default Aversion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Improved Communication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Fewer, better letters and notice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Graphic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E-mail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Improved VRU script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52A83-6F39-4E96-89AD-7FE751B67C3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14400" y="1295280"/>
            <a:ext cx="7772400" cy="1143000"/>
          </a:xfrm>
          <a:prstGeom prst="rect">
            <a:avLst/>
          </a:prstGeom>
          <a:solidFill>
            <a:srgbClr val="c0c0c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2000a"/>
                </a:solidFill>
                <a:latin typeface="Times New Roman"/>
              </a:rPr>
              <a:t>DLSS Development Upd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09680" y="2692440"/>
            <a:ext cx="3240360" cy="3403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099120" y="3165480"/>
            <a:ext cx="273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Times New Roman"/>
              </a:rPr>
              <a:t>- DL Serv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Times New Roman"/>
              </a:rPr>
              <a:t>- DL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Times New Roman"/>
              </a:rPr>
              <a:t>- DL School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Times New Roman"/>
              </a:rPr>
              <a:t>- NSLDS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4D26D-FD01-48D8-B904-86B88D24D5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91120" y="4568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What’s happened since the last EAC?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36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62960" indent="-31896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Recent Direct Loan Servicing Enhancement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925560" indent="-17964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Y2K Compliance - without a hitch!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1" marL="925560" indent="-17964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Consolidation Pay-off Improvements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1" marL="925560" indent="-17964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EDA Interest Rate Incentive (.25%)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1" marL="925560" indent="-17964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Year 00/01 Functionality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2" marL="1203480" indent="-18504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MPN support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203480" indent="-18504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20 disbursements and Eliminate Sequence Numbers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203480" indent="-18504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Disbursement Confirmation to LO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1" marL="925560" indent="-179640">
              <a:spcBef>
                <a:spcPts val="499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a8"/>
                </a:solidFill>
                <a:latin typeface="Arial"/>
              </a:rPr>
              <a:t>NSLDS Improvements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2" marL="1203480" indent="-18504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OPEID Improvement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203480" indent="-18504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Clearinghouse Reporting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203480" indent="-18504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Foreign country indicator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203480" indent="-18504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Identifier Conflict resolution process implemented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1BB0D-4495-4386-B1F2-3AE0CAED9A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04960" y="4568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What’s happened since the last EAC?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36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91400" indent="-338400">
              <a:spcBef>
                <a:spcPts val="700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Major DL Borrower Web Site Enhancements</a:t>
            </a:r>
            <a:br>
              <a:rPr sz="2800"/>
            </a:b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(www.dlservicer.ed.gov)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982800" indent="-19080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Web Site Enhancements for Borrower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278000" indent="-19656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Account History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278000" indent="-19656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NSLDS FFEL/Perkins data in Exit Counseling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278000" indent="-19656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Online Def/Forb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278000" indent="-19656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Borrower Satisfaction Survey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278000" indent="-19656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Change to Exit Quiz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278000" indent="-19656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Electronic submission of General Forbearance and Unemployment Deferment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1" marL="982800" indent="-19080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E-Gain Implementation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278000" indent="-19656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Improved e-Mail processes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66F11-F406-4756-9CCC-C2F77D0FF75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488360" y="4629240"/>
            <a:ext cx="741240" cy="1162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113600" y="4114800"/>
            <a:ext cx="147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9900"/>
                </a:solidFill>
                <a:latin typeface="Lucida Sans"/>
              </a:rPr>
              <a:t>Govt.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9900"/>
                </a:solidFill>
                <a:latin typeface="Lucida Sans"/>
              </a:rPr>
              <a:t>Leadership A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22201-AE11-4B04-9DC9-83F6E25B8C4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04960" y="4568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What’s happened since the last EAC?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36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68720" indent="-32292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NEW Direct Loan Web Site for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Schools!!!</a:t>
            </a:r>
            <a:br>
              <a:rPr sz="3200"/>
            </a:b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(www.dlservicer.ed.gov/schools)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937080" indent="-18180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New Function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218240" indent="-1872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Multiple Account look-up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218240" indent="-1872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Exit Counseling Completion Data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218240" indent="-1872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Contact Us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218240" indent="-1872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FAQs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1" marL="937080" indent="-18180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PIN Access using Loan Origination On-Line PIN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218240" indent="-1872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Only need one PIN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218240" indent="-1872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School controls authorization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218240" indent="-187200">
              <a:spcBef>
                <a:spcPts val="60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User profiles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5A408-FA56-457B-92CC-F3B7856DDF6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9880" y="45684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Agenda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Direct Loan Program Updat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A Snap-shot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Trends and Statistic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New Initiative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Development Update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What’s happened since the last EAC?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What’s new in our future?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Update on Delinquency Management efforts.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F5B88-C65D-45B2-91E6-438982F6B8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7239240" cy="5353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488360" y="4857840"/>
            <a:ext cx="741240" cy="1162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113600" y="4419720"/>
            <a:ext cx="147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9900"/>
                </a:solidFill>
                <a:latin typeface="Lucida Sans"/>
              </a:rPr>
              <a:t>Govt.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9900"/>
                </a:solidFill>
                <a:latin typeface="Lucida Sans"/>
              </a:rPr>
              <a:t>Leadership A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B6C7B-E998-42D1-BD18-01657E1B83C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343040" y="45684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What’s in our 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immediate future?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36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Direct Loan Servicing Functionality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a8"/>
                </a:solidFill>
                <a:latin typeface="Arial"/>
              </a:rPr>
              <a:t>November ‘00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Unpaid Refund Discharge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- In-Military Status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Incentive Rebate - Part 1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a8"/>
                </a:solidFill>
                <a:latin typeface="Arial"/>
              </a:rPr>
              <a:t>February ‘01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Weekly Report to NSLDS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- Language Indicator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Collect Borrower e-Mail addresses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Incentive Rebate - Part 2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9a8"/>
                </a:solidFill>
                <a:latin typeface="Arial"/>
              </a:rPr>
              <a:t>July ‘01</a:t>
            </a:r>
            <a:endParaRPr b="0" lang="en-US" sz="20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E-ID (see below) 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- Teacher Forgiveness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EBPP, Etc…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- T&amp;P Disability Tracking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19a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Incentive Rebate - Part 3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- PLUS Interest Rate Change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0F936-CB58-4D1B-9EC7-D1F2494E501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43040" y="45684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What’s in our 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immediate future?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36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 Web enhancements (March ‘01)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Enrollment/Delinquency Reporting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Hyperlink to Exit Counseling from School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e-Mail capability for schools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Arial"/>
              </a:rPr>
              <a:t>Borrower</a:t>
            </a: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 Web enhancements (March ‘01)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Borrower Personalization/Counseling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Spanish Language Forms and Question Center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On-Line EDA Enrollment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1098E available Online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Consolidation Application Processing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19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Arial"/>
              </a:rPr>
              <a:t>E-ID</a:t>
            </a: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 (Web-enabled) (June/July ‘01)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Deferments and Forbearances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19a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a8"/>
                </a:solidFill>
                <a:latin typeface="Arial"/>
              </a:rPr>
              <a:t>P-Notes (LO)</a:t>
            </a:r>
            <a:endParaRPr b="0" lang="en-US" sz="1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64E49-326F-42FB-8642-86AD815939D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8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Please Call Us!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Arial"/>
              </a:rPr>
              <a:t>EXPANDED Hours of Operation 8:00a.m. to 8:30p.m. EST  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233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a8"/>
                </a:solidFill>
                <a:latin typeface="Arial"/>
              </a:rPr>
              <a:t>Monday through Friday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233280" indent="0" algn="ctr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233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2000a"/>
                </a:solidFill>
                <a:latin typeface="Arial"/>
              </a:rPr>
              <a:t>Direct Loan Servicing Center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33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2000a"/>
                </a:solidFill>
                <a:latin typeface="Arial"/>
              </a:rPr>
              <a:t>1-800-848-0979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33280" indent="0" algn="ctr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33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2000a"/>
                </a:solidFill>
                <a:latin typeface="Arial"/>
              </a:rPr>
              <a:t>School Servic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33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2000a"/>
                </a:solidFill>
                <a:latin typeface="Arial"/>
              </a:rPr>
              <a:t>1-888-877-7658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33280" indent="0" algn="ctr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19a8"/>
                </a:solidFill>
                <a:latin typeface="Arial"/>
              </a:rPr>
              <a:t>www.dlservicer.ed.gov </a:t>
            </a:r>
            <a:r>
              <a:rPr b="1" i="1" lang="en-US" sz="2800" spc="-1" strike="noStrike" u="sng">
                <a:solidFill>
                  <a:srgbClr val="0019a8"/>
                </a:solidFill>
                <a:uFillTx/>
                <a:latin typeface="Arial"/>
              </a:rPr>
              <a:t>AND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19a8"/>
                </a:solidFill>
                <a:latin typeface="Arial"/>
              </a:rPr>
              <a:t>www.dlservicer.ed.gov/schools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19a8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22E6C-AE6A-4D5C-ADDA-E469F14D2C3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14400" y="2590920"/>
            <a:ext cx="7772400" cy="1143000"/>
          </a:xfrm>
          <a:prstGeom prst="rect">
            <a:avLst/>
          </a:prstGeom>
          <a:solidFill>
            <a:srgbClr val="c0c0c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19a8"/>
                </a:solidFill>
                <a:latin typeface="Times New Roman"/>
              </a:rPr>
              <a:t>Direct Loan Program Upd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AB8A6-59DB-4DF6-B0C7-37409C99E9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62720" y="4568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A Snap-shot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Current Direct Loan Activity: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5,034,377   Direct Loan Borrower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19,015,777   Booked Loans </a:t>
            </a: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($71 Billion)     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45,219,723  Payments Received </a:t>
            </a:r>
            <a:r>
              <a:rPr b="0" lang="en-US" sz="2400" spc="-1" strike="noStrike">
                <a:solidFill>
                  <a:srgbClr val="0019a8"/>
                </a:solidFill>
                <a:latin typeface="Arial"/>
              </a:rPr>
              <a:t>($9.6 Billion)     </a:t>
            </a:r>
            <a:endParaRPr b="0" lang="en-US" sz="2400" spc="-1" strike="noStrike">
              <a:solidFill>
                <a:srgbClr val="0019a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263,519  Borrowers using EDA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        (Electronic Debit Account)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AABE8-D4C0-4CFA-A5DD-46294D84DF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00240" y="4568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Direct Loan Servicing Center</a:t>
            </a:r>
            <a:br>
              <a:rPr sz="3600"/>
            </a:b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07840" y="1676520"/>
            <a:ext cx="833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1" lang="en-US" sz="3200" spc="-1" strike="noStrike">
                <a:solidFill>
                  <a:srgbClr val="0019a8"/>
                </a:solidFill>
                <a:latin typeface="Arial"/>
              </a:rPr>
              <a:t>Program-To-Date: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21,980,607  Borrower Services Call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1,917,632  Collection Call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3,033,150  Deferment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2,147,439  Forbearance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2,390,684  Correspondence 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2000a"/>
              </a:buClr>
              <a:buSzPct val="70000"/>
              <a:buFont typeface="Monotype Sorts" charset="2"/>
              <a:buChar char=""/>
              <a:tabLst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6,983,585  SSCR Requests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1665360"/>
                <a:tab algn="l" pos="3330720"/>
                <a:tab algn="l" pos="4995720"/>
                <a:tab algn="l" pos="6661080"/>
                <a:tab algn="l" pos="8326440"/>
                <a:tab algn="l" pos="9991800"/>
              </a:tabLst>
            </a:pPr>
            <a:r>
              <a:rPr b="0" lang="en-US" sz="3200" spc="-1" strike="noStrike">
                <a:solidFill>
                  <a:srgbClr val="0019a8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19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FA1C4-4798-4B32-9F51-C8FEF15C07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7640" y="456840"/>
            <a:ext cx="193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Staffing 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Levels</a:t>
            </a:r>
            <a:r>
              <a:rPr b="1" i="1" lang="en-US" sz="4000" spc="-1" strike="noStrike">
                <a:solidFill>
                  <a:srgbClr val="c2000a"/>
                </a:solidFill>
                <a:latin typeface="Arial"/>
              </a:rPr>
              <a:t> </a:t>
            </a:r>
            <a:endParaRPr b="1" i="1" lang="en-US" sz="40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447920"/>
          <a:ext cx="899172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899172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B044E-462D-464E-92E3-CDBC40F9B6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2133720"/>
            <a:ext cx="7772400" cy="1143000"/>
          </a:xfrm>
          <a:prstGeom prst="rect">
            <a:avLst/>
          </a:prstGeom>
          <a:solidFill>
            <a:srgbClr val="c0c0c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19a8"/>
                </a:solidFill>
                <a:latin typeface="Times New Roman"/>
              </a:rPr>
              <a:t>Trends and Statistic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3733920"/>
            <a:ext cx="7620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a8"/>
                </a:solidFill>
                <a:latin typeface="Times New Roman"/>
              </a:rPr>
              <a:t>Servicing C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a8"/>
                </a:solidFill>
                <a:latin typeface="Times New Roman"/>
              </a:rPr>
              <a:t>October 1999 vs. October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CE804-83D8-4D4A-A312-D06DC6AAD7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90960" y="4568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Incoming </a:t>
            </a:r>
            <a:br>
              <a:rPr sz="3600"/>
            </a:br>
            <a:r>
              <a:rPr b="1" i="1" lang="en-US" sz="3600" spc="-1" strike="noStrike">
                <a:solidFill>
                  <a:srgbClr val="c2000a"/>
                </a:solidFill>
                <a:latin typeface="Arial"/>
              </a:rPr>
              <a:t>Call Volume</a:t>
            </a:r>
            <a:endParaRPr b="1" i="1" lang="en-US" sz="3600" spc="-1" strike="noStrike">
              <a:solidFill>
                <a:srgbClr val="c2000a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1523880"/>
          <a:ext cx="8356680" cy="40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35668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31-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271EA-D1D4-480A-835D-7177ECFD88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8T20:32:24Z</dcterms:created>
  <dc:creator>Tim Weedlun</dc:creator>
  <dc:description/>
  <dc:language>en-US</dc:language>
  <cp:lastModifiedBy>I.R.G.</cp:lastModifiedBy>
  <cp:lastPrinted>1998-06-12T14:08:53Z</cp:lastPrinted>
  <dcterms:modified xsi:type="dcterms:W3CDTF">2001-01-08T16:29:26Z</dcterms:modified>
  <cp:revision>102</cp:revision>
  <dc:subject/>
  <dc:title>No Slide Title</dc:title>
</cp:coreProperties>
</file>