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EE8A6-8078-4ADB-A2AF-F60EE74ECC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1702D-2649-4FB9-B212-8161078FD4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061AA-4D48-4232-8B5D-CB50EF3876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282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470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282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470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44A49-CCF2-4F29-8744-523634174D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123720" y="456840"/>
            <a:ext cx="5821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3732C-9C96-4DC6-8BD8-6A426269F1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4282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470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094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4282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470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1FB08-E4FD-48BB-8BE9-8FDB295696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ED784-9F5F-4D48-A185-5714A9F286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E937F-5B6D-4D58-9EAC-58D547C612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23720" y="456840"/>
            <a:ext cx="5821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BC2F9-C9B1-4D67-A14D-BD06B329AE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4598C-FD80-46BA-B5D7-E03F61D654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2BFB8-AB41-4B5D-AD70-9C43B3A3E9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3323E-4767-418A-AF68-E5CA5E4F7E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19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19a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06708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A2D5D-44A3-4463-AF02-A3E997DCF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Slide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51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2000a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19a8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19a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19a8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067440" y="64771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315200" y="647712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733DD-8081-4652-8B47-E3EEF86449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Title" descr=""/>
          <p:cNvPicPr/>
          <p:nvPr/>
        </p:nvPicPr>
        <p:blipFill>
          <a:blip r:embed="rId1"/>
          <a:stretch/>
        </p:blipFill>
        <p:spPr>
          <a:xfrm>
            <a:off x="0" y="-33480"/>
            <a:ext cx="9144000" cy="65865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Tabs/Entry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Demo tab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Required fields: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19a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Original SSN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Student ID field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19a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Available under file/open to sort by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4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2B4AF-EB76-430C-AF65-70707ABF7221}" type="slidenum">
              <a:t>10</a:t>
            </a:fld>
          </a:p>
        </p:txBody>
      </p:sp>
    </p:spTree>
  </p:cSld>
  <p:transition spd="med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Tabs/Entry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R2T4 tab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2000-2010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Unique key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Year, original SSN, School Calendar Profile code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19a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Yellow highlighted fields required to ‘save’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Calculation 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Step 2 &gt;60% no return due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4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5FECA-C50A-4285-9800-B132E948C596}" type="slidenum">
              <a:t>11</a:t>
            </a:fld>
          </a:p>
        </p:txBody>
      </p:sp>
    </p:spTree>
  </p:cSld>
  <p:transition spd="med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Tabs/Entry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Post Withdrawal tab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Step 4 E &gt; $0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Notes tab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User Data tab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4 Pre-defined fields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lvl="3" marL="1584000" indent="-226080">
              <a:spcBef>
                <a:spcPts val="499"/>
              </a:spcBef>
              <a:buClr>
                <a:srgbClr val="0019a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GPA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3" marL="1584000" indent="-226080">
              <a:spcBef>
                <a:spcPts val="499"/>
              </a:spcBef>
              <a:buClr>
                <a:srgbClr val="0019a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Major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3" marL="1584000" indent="-226080">
              <a:spcBef>
                <a:spcPts val="499"/>
              </a:spcBef>
              <a:buClr>
                <a:srgbClr val="0019a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Over payment status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3" marL="1584000" indent="-226080">
              <a:spcBef>
                <a:spcPts val="499"/>
              </a:spcBef>
              <a:buClr>
                <a:srgbClr val="0019a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Withdrawal reason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4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E8042-8FE2-4F88-B7C2-AEA470D2753C}" type="slidenum">
              <a:t>12</a:t>
            </a:fld>
          </a:p>
        </p:txBody>
      </p:sp>
    </p:spTree>
  </p:cSld>
  <p:transition spd="med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View Return Arrangements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View menu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Return arrangements (2 Options)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Student overpayment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19a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45 Days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19a8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Step 8 &gt; zero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School return arrangement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19a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30 Days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19a8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Step 6 &gt; Zero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4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7AE77-B5A7-41E9-9B06-51B595A1FD1C}" type="slidenum">
              <a:t>13</a:t>
            </a:fld>
          </a:p>
        </p:txBody>
      </p:sp>
    </p:spTree>
  </p:cSld>
  <p:transition spd="med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Reports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Report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Tab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Return of Title IV Funds Worksheet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Return of Title IV Funds Notes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Return of Title IV Funds Summary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Post-Withdrawal Disbursement Tracking Sheet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Print All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4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F39FC-86B2-4FF4-B6E3-7D3674CF8C6B}" type="slidenum">
              <a:t>14</a:t>
            </a:fld>
          </a:p>
        </p:txBody>
      </p:sp>
    </p:spTree>
  </p:cSld>
  <p:transition spd="med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Reports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Global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Student listing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19a8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Withdrawal type 1-6 (All)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Return arrangements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19a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Students to be notified report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19a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Students notified report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19a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School return arrangement report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19a8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Arrangement status: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19a8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Completed/not completed/all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4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AE497-AC3C-4189-B7CB-453A2BB4BC14}" type="slidenum">
              <a:t>15</a:t>
            </a:fld>
          </a:p>
        </p:txBody>
      </p:sp>
    </p:spTree>
  </p:cSld>
  <p:transition spd="med"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Further Assistance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4086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CPS customer service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800-330-5947/Option 9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Types of questions handled: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19a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Installations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19a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Setup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19a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Entry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19a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Print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300640" y="1828800"/>
            <a:ext cx="32018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4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066D9-19FB-4D1C-A86E-2E5C7B2C88F2}" type="slidenum">
              <a:t>16</a:t>
            </a:fld>
          </a:p>
        </p:txBody>
      </p:sp>
    </p:spTree>
  </p:cSld>
  <p:transition spd="med"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Further Assistance 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ED customer service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800-433-7327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Types of questions handled: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19a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Policy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19a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Federal calculation questions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Additional Assistance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cps@ncs.com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osfap_csb@ed.gov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sfatech@inet.gov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4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18960-DB99-4610-8430-8E6A789BE3D3}" type="slidenum">
              <a:t>17</a:t>
            </a:fld>
          </a:p>
        </p:txBody>
      </p:sp>
    </p:spTree>
  </p:cSld>
  <p:transition spd="med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Questions?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347920" y="1981080"/>
            <a:ext cx="444816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4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FBC5A-6F1E-49C5-8D65-DD3CE56EB0BE}" type="slidenum">
              <a:t>18</a:t>
            </a:fld>
          </a:p>
        </p:txBody>
      </p:sp>
    </p:spTree>
  </p:cSld>
  <p:transition spd="med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057400" y="2590560"/>
            <a:ext cx="582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Return of Title IV Funds for Windows</a:t>
            </a:r>
            <a:br>
              <a:rPr sz="4000"/>
            </a:b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Version 1.1.1</a:t>
            </a:r>
            <a:br>
              <a:rPr sz="4000"/>
            </a:b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4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21BB8-4848-451B-A251-3BAEFFE6F233}" type="slidenum">
              <a:t>2</a:t>
            </a:fld>
          </a:p>
        </p:txBody>
      </p:sp>
    </p:spTree>
  </p:cSld>
  <p:transition spd="med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Introduction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Who is this session geared for?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Evaluation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Question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4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BE651-C642-4BBB-92B4-E0888A767901}" type="slidenum">
              <a:t>3</a:t>
            </a:fld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Agenda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Setup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Tabs/Entry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View Return Arrangement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Report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Questions?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4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8C062-DB49-443B-929C-45DDB3F378AD}" type="slidenum">
              <a:t>4</a:t>
            </a:fld>
          </a:p>
        </p:txBody>
      </p:sp>
    </p:spTree>
  </p:cSld>
  <p:transition spd="med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Setup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Define security level/IDs of personnel who will access the software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System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Enable notepad entries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Default to ‘Yes’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4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E5FBB-6EAA-476E-BD19-718711AD3B11}" type="slidenum">
              <a:t>5</a:t>
            </a:fld>
          </a:p>
        </p:txBody>
      </p:sp>
    </p:spTree>
  </p:cSld>
  <p:transition spd="med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Setup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336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Program Institutional Charge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Must be defined prior to school calendar profile code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19a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Pre-defined Fields: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19a8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Tuition &amp; Fees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19a8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Room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19a8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Board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19a8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Other’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9a8"/>
                </a:solidFill>
                <a:latin typeface="Arial"/>
              </a:rPr>
              <a:t>Note: Additional (other) fields must have unique names</a:t>
            </a:r>
            <a:endParaRPr b="0" lang="en-US" sz="16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4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C5B28-8769-464A-99F5-D3FA3EAD1941}" type="slidenum">
              <a:t>6</a:t>
            </a:fld>
          </a:p>
        </p:txBody>
      </p:sp>
    </p:spTree>
  </p:cSld>
  <p:transition spd="med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Setup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School Calendar Profile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Define school beginning/ending date for credit hour schools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19a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Define scheduled breaks of 5 days or more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Define hours for particular pay period/ period of enrollment for clock hour schools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19a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Unique Key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19a8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School Calendar Profile code or Institutional Charges code/year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4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C8DE4-A5E3-4443-AA85-E53BA2C3ABD3}" type="slidenum">
              <a:t>7</a:t>
            </a:fld>
          </a:p>
        </p:txBody>
      </p:sp>
    </p:spTree>
  </p:cSld>
  <p:transition spd="med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Setup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User Data setup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Define school specific fields that additional data may be collected for on withdrawal students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4 field types available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19a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Date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19a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Numeric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19a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19a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Yes or No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4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48313-2555-4628-82A8-627A1F030E24}" type="slidenum">
              <a:t>8</a:t>
            </a:fld>
          </a:p>
        </p:txBody>
      </p:sp>
    </p:spTree>
  </p:cSld>
  <p:transition spd="med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216160" y="1981080"/>
            <a:ext cx="4710240" cy="41148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Ready?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4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465F5-E1AD-4176-902B-56FA357C145D}" type="slidenum">
              <a:t>9</a:t>
            </a:fld>
          </a:p>
        </p:txBody>
      </p:sp>
    </p:spTree>
  </p:cSld>
  <p:transition spd="med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8T20:32:24Z</dcterms:created>
  <dc:creator>Tim Weedlun</dc:creator>
  <dc:description/>
  <dc:language>en-US</dc:language>
  <cp:lastModifiedBy>I.R.G.</cp:lastModifiedBy>
  <cp:lastPrinted>1998-06-12T14:08:53Z</cp:lastPrinted>
  <dcterms:modified xsi:type="dcterms:W3CDTF">2001-01-08T16:08:25Z</dcterms:modified>
  <cp:revision>73</cp:revision>
  <dc:subject/>
  <dc:title>No Slide Title</dc:title>
</cp:coreProperties>
</file>