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90EBA-B27C-42A8-8DFB-C3BF0D017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82362-AE8B-4FF5-A11B-8DF79DC33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47A63-B878-4304-BE10-FC41E6883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5D4BF-515E-4B36-AAAA-4BEF3AFA2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91DE5-7042-4550-B67F-3E71FAA1E1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7D470-57A1-4C80-B715-EC7EAC0B1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2044-9FAF-49C4-90AB-2460CDE1B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4FF2B-90F5-434A-BF44-0D92B215B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0EA0A-1F0F-4EB0-92C0-5AD26D848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D9EE6-3DCB-474B-84E0-474EA4196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27B23-403D-4687-8476-B50F28BA7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D25EE-739A-41B6-A0BB-ED109B1ED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19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19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C4B5-4529-40EB-B802-B42DDF8B1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lid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1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67440" y="64771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647712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208E-DEF6-43AD-975D-94E92D3EC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Title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586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Tabs/Entry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Demo tab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Required fields: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Original SSN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Student ID field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Available under file/open to sort by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2B528-8D4F-4018-ACAF-2C9C9865E32B}" type="slidenum">
              <a:t>10</a:t>
            </a:fld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Tabs/Entry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R2T4 tab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2000-2010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Unique key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Year, original SSN, School Calendar Profile code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Yellow highlighted fields required to ‘save’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alculation 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Step 2 &gt;60% no return due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51296-AE9B-41D2-8901-A90961FE7A7A}" type="slidenum">
              <a:t>11</a:t>
            </a:fld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Tabs/Entry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ost Withdrawal tab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Step 4 E &gt; $0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otes tab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User Data tab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4 Pre-defined field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GPA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Major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Over payment status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Withdrawal reason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5E0BF-886C-4B60-B3F1-01B64B557A85}" type="slidenum">
              <a:t>12</a:t>
            </a:fld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View Return Arrangement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View menu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Return arrangements (2 Options)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Student overpayment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45 Days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tep 8 &gt; zero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School return arrangement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30 Days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tep 6 &gt; Zero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04AA-B298-46DB-BB77-CE7C4FE548C7}" type="slidenum">
              <a:t>13</a:t>
            </a:fld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Report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Report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Tab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Return of Title IV Funds Worksheet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Return of Title IV Funds Note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Return of Title IV Funds Summary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Post-Withdrawal Disbursement Tracking Sheet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Print All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C869B-AB08-433D-AC96-9083B23BD771}" type="slidenum">
              <a:t>14</a:t>
            </a:fld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Report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Global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Student listing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Withdrawal type 1-6 (All)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Return arrangement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tudents to be notified report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tudents notified report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chool return arrangement report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Arrangement status: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Completed/not completed/al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13A72-7949-40C1-BCCA-D456667E94C7}" type="slidenum">
              <a:t>15</a:t>
            </a:fld>
          </a:p>
        </p:txBody>
      </p:sp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Further Assistanc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08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PS customer servic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800-330-5947/Option 9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Types of questions handled: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Installations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etup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Entry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Print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00640" y="1828800"/>
            <a:ext cx="32018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BAB62-2AE6-4371-8F73-E0578BAC9554}" type="slidenum">
              <a:t>16</a:t>
            </a:fld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Further Assistance 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D customer servic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800-433-7327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Types of questions handled: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Policy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ederal calculation questions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dditional Assistanc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cps@ncs.com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osfap_csb@ed.gov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sfatech@inet.gov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38F63-81CC-4140-AE41-7D2DB547B25E}" type="slidenum">
              <a:t>17</a:t>
            </a:fld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Questions?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47920" y="1981080"/>
            <a:ext cx="44481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FD1D7-930D-4948-822D-2528FF97EC97}" type="slidenum">
              <a:t>18</a:t>
            </a:fld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400" y="25905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Return of Title IV Funds for Windows</a:t>
            </a:r>
            <a:br>
              <a:rPr sz="4000"/>
            </a:b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Version 1.1.1</a:t>
            </a:r>
            <a:br>
              <a:rPr sz="4000"/>
            </a:b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FA4D7-53E1-470B-A826-5D865A16688A}" type="slidenum">
              <a:t>2</a:t>
            </a:fld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Introduction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Who is this session geared for?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valuation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8DBD8-C920-4C1C-AD5C-63F96A152059}" type="slidenum">
              <a:t>3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Agenda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tup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abs/Entry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View Return Arrangement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Report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66D38-3FCF-4AA9-94C9-3793A9479D18}" type="slidenum">
              <a:t>4</a:t>
            </a:fld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etup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Define security level/IDs of personnel who will access the software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Enable notepad entrie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Default to ‘Yes’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94ABD-72F8-49DC-96CD-355E22D4AE61}" type="slidenum">
              <a:t>5</a:t>
            </a:fld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etup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36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rogram Institutional Charg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Must be defined prior to school calendar profile code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Pre-defined Fields: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Tuition &amp; Fees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Room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Other’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a8"/>
                </a:solidFill>
                <a:latin typeface="Arial"/>
              </a:rPr>
              <a:t>Note: Additional (other) fields must have unique names</a:t>
            </a:r>
            <a:endParaRPr b="0" lang="en-US" sz="16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46D73-924D-4B18-8D72-10A6AA5F40D6}" type="slidenum">
              <a:t>6</a:t>
            </a:fld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etup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chool Calendar Profil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Define school beginning/ending date for credit hour school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Define scheduled breaks of 5 days or more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Define hours for particular pay period/ period of enrollment for clock hour school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Unique Key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chool Calendar Profile code or Institutional Charges code/year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119CB-8468-4212-9806-3CBC035232FD}" type="slidenum">
              <a:t>7</a:t>
            </a:fld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etup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User Data setup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efine school specific fields that additional data may be collected for on withdrawal student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4 field types available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Numeric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Yes or No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13663-6E6C-4613-BA45-C4302E64F4AE}" type="slidenum">
              <a:t>8</a:t>
            </a:fld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16160" y="1981080"/>
            <a:ext cx="4710240" cy="4114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Ready?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048FF-0EDF-4FF9-A84C-068AA97A68C6}" type="slidenum">
              <a:t>9</a:t>
            </a:fld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8T20:32:24Z</dcterms:created>
  <dc:creator>Tim Weedlun</dc:creator>
  <dc:description/>
  <dc:language>en-US</dc:language>
  <cp:lastModifiedBy>I.R.G.</cp:lastModifiedBy>
  <cp:lastPrinted>1998-06-12T14:08:53Z</cp:lastPrinted>
  <dcterms:modified xsi:type="dcterms:W3CDTF">2001-01-08T16:08:25Z</dcterms:modified>
  <cp:revision>73</cp:revision>
  <dc:subject/>
  <dc:title>No Slide Title</dc:title>
</cp:coreProperties>
</file>