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7102475" cy="8993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7102800" cy="899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80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3"/>
          </p:nvPr>
        </p:nvSpPr>
        <p:spPr>
          <a:xfrm>
            <a:off x="4024440" y="0"/>
            <a:ext cx="30780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302840" y="674640"/>
            <a:ext cx="4496040" cy="337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2000a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4"/>
          </p:nvPr>
        </p:nvSpPr>
        <p:spPr>
          <a:xfrm>
            <a:off x="0" y="8542440"/>
            <a:ext cx="30780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5"/>
          </p:nvPr>
        </p:nvSpPr>
        <p:spPr>
          <a:xfrm>
            <a:off x="4024440" y="8542440"/>
            <a:ext cx="30780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A6773-7F77-4FE4-A9FC-98AB530B18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ro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rs can now click on Awarded Funds on the students Awards tab and see the Totals at the bottom without having to scroll dow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n’t a visible change for users but what it does is allow users to import their Packaging data into the Pell module for manually created records. In previous years, if a packaging record was created manually users would not be able to import the awarded Pell amount on the Packaging record into Pell. This change resolves that issu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ederal Subsidized Stafford Loan and Federal Unsubsidized Stafford Loan names have been changed to Direct Subsidized Loan and Direct Unsubsidized Loa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fix addresses an inconvenience schools were facing with the 2000-2001 software. The Packaging record will print as long as a packaging record is present, whether funds have been awarded or not. Also, users will no longer receive an error when printing an Award Letter when no funds have been award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ederal School Code will not print on the Award Letter is users do not mark the Print School Name/Address? box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ort Order options for Last Name and SSN have been added to the Print dialog for the List-Students by Fund Code repor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printing a List - Students by Fund Code users can choose to print Packaged records, records that are not packaged, or bot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ed Based Loans has been changes to read Other Need Based Loans on the Funds Measurement Repor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income grids and field labels on the FISAP Eligible Dependent and FISAP Eligible Independent reports  match those in Part II of the FISAP 3.0 softw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ve re-added the feature allowing records at an “N” status to package as long as all of the required fields are populate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one or more required fields are left blank, or if the record is for one reason or another truly not ready to package, a dialogue box will appear giving the reasons the record cannot be packaged. This feature will only work at the record level with the student open on the scre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ve added an new Documents Status of D - Received Not Reviewed. If the student has a document with a D status and if that document is required for packaging, the software will not allow the record to be packag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ackaging logic has been adjusted so that if the dependency status is = BLANK than the software will not package PLUS loans. The logic was previously set to package PLUS if not equal to 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ve modified the Priority Date to be a Priority Date Range instead.  We did this to give more control, particularly when Repackaging/Unpackaging a selected group of records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r defined formulas calculate all awards of a particular fund when awarded multiple tim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30 VA Benefits are excluded as a resource when calculating eligibility for Federal Direct Stafford/Ford Loan progra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ward Letter Received, Received Date, and Print Letter in Next Batch fields are only updated when the Packaging status is P, H, or  when using Multiple Ent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actually a global feature but greatly affects users of the packaging modul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run, go to File | Import | Global | Prior Year User-Defined Queries and Setup. Click OK and users will be given a checklist of areas they can choose to import.  Users can choose Academic Year Profiles, Fund Maintenance, Award Methodologies, Budgets, and SAP Valu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 Budgets option is automatically selected for ISIR impor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tle Slide: Introduce yourself and co-presenter/PC Oper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ries are automatically marked. A query will not be imported if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contains a user defined field from the User Database (tbl_A_UserDatabas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contains a field that was either modified or removed.it contains a specific date as a parame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query with the same identifier already exists in the new softwa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oftware will remove invalid values from Query Titles (valid values for Title changed to only allow A-Z, 0-9 and space) and replace with spaces.  If a Query Title doesn’t contain any valid values, it will not move the query and display it on the edit repor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progress bars now appear during ISIR import, one to display the import of ISIR data and another to display the progress of the Add Budgets fun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browsable grid was added with the purpose of exporting the grid data to a file and printing disbursement roster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enda Slide --- review briefly. We’ll be discussing the major changes and new features in the above area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295280" y="68580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ve added three New fund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Direct Unsubsidized Loan-Need Based (Aid Type D) - This Aid Type was added so users could set up their Direct Unsubsidized Loans as either Need Based or Non-need Bas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) Grant, Non-need Based (Aid Type R) - This Aid Type was added since users wanted a way to distinguish between their Need Based Grants and Non-need Based Gra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) Chapter 30 VA Benefits/Americorps (Aid Type V) - We were made aware that schools were packaging this fund by hand so we added it to make the awarding of this fund easier  for us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ve added a “Do Not Unpackage” field to Fund Maintenance Set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something schools asked for. We’ve enable the Remaining Need button the Fund Maintenance setup screen for all loan fun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ve also added new Loan Fees to Budget Setup - This is something users in the Packaging Focus Group asked for so we added it. Like all other budget fields, this can be modified at the record leve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erm Housing Status has been replaced with Housing Pla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a fix from the 2000-2001 software. If a Budget Code contained a space users were unable to assign the budget to a student record. This has been corrected in the 2001-2002 softwa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ve made the greeting on the Award Letter modifiable so if you don’t care for the greeting “Dear Student” you can change it by going to Tools | Setup | Global | User Defined Text | Award Letter Text | Offer/Notification Letter | Text Block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will also now be able to modify both the greeting and the closing on the Document Tracking Letter. To do this, go to Tools | Setup | Global | User Defined Text |  Doc Tr Letter Tex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nformation will be pulled from the ISIR on import.  Users will be allowed to modify these amounts on the Awards Tab by clicking on the NSLDS Loan Amounts butt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ew valid values for grade levels are 0-7 and are defined as follow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 = 1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year undergraduate/never attended colle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= 1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year  undergraduate/attended college bef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= 2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year undergraduate/sophom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= 3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year undergraduate/juni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 = 4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year undergraduate seni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 = 5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year/other undergradu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 = 1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year graduate/profess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 = continuing graduate/profess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E7948B-2FB6-4C2B-93AC-362469AB45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978360"/>
            <a:ext cx="83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8BD9C5-03EA-42D4-8B18-0F76A160AA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7836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81240" y="397836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D81C96-8C48-4AB8-9812-DF6B4801F7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28280" y="182880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47080" y="182880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97836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28280" y="397836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47080" y="397836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99698B-D191-44DD-B08D-900B83A5E0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3123720" y="456840"/>
            <a:ext cx="5821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6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9480" y="397836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2DF050-82BD-4711-AD64-532DA601E3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881240" y="397836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09480" y="3978360"/>
            <a:ext cx="83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09480" y="3978360"/>
            <a:ext cx="83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9480" y="397836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881240" y="397836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428280" y="182880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247080" y="182880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09480" y="397836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428280" y="397836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247080" y="397836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3AA57D-544B-4ECD-B899-ED103F8821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93DEB4-7DE3-40F5-A160-31F6E2F918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8829D4-993D-4D40-AB91-E68FBB8C03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23720" y="456840"/>
            <a:ext cx="5821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6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47E0D5-862E-4DAA-ADD8-16EABCFC7E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97836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1F7DFF-7A51-40BD-950B-95BC618440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81240" y="397836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5328DC-CA47-44E5-9712-21DAC3B9EF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978360"/>
            <a:ext cx="83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C9CBFB-6C7F-492C-81F1-87C00D6231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2000a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19a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19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19a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19a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06708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76760"/>
            <a:ext cx="18288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66D3B-4881-47B1-AC5E-4DE6A83EFF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Slide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510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2000a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19a8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19a8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19a8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19a8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19a8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19a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19a8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19a8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19a8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19a8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19a8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19a8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19a8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19a8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19a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6067440" y="647712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315200" y="647712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D29C1-0467-4B66-BF13-D0DA0CE0A6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Title" descr=""/>
          <p:cNvPicPr/>
          <p:nvPr/>
        </p:nvPicPr>
        <p:blipFill>
          <a:blip r:embed="rId1"/>
          <a:stretch/>
        </p:blipFill>
        <p:spPr>
          <a:xfrm>
            <a:off x="0" y="-33480"/>
            <a:ext cx="9144000" cy="658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733920" y="456840"/>
            <a:ext cx="3504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2000a"/>
                </a:solidFill>
                <a:latin typeface="Arial"/>
              </a:rPr>
              <a:t>Entry (cont.)</a:t>
            </a: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New Features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19a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19a8"/>
                </a:solidFill>
                <a:latin typeface="Arial"/>
              </a:rPr>
              <a:t>Can view Fund Totals without scrolling</a:t>
            </a:r>
            <a:endParaRPr b="0" lang="en-US" sz="2800" spc="-1" strike="noStrike">
              <a:solidFill>
                <a:srgbClr val="0019a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19a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19a8"/>
                </a:solidFill>
                <a:latin typeface="Arial"/>
              </a:rPr>
              <a:t>Entered transaction # now used as trankey for manual records</a:t>
            </a:r>
            <a:endParaRPr b="0" lang="en-US" sz="28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19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16D4F9-2D08-4320-BCE9-35C691E72CE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733560" y="456840"/>
            <a:ext cx="3429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2000a"/>
                </a:solidFill>
                <a:latin typeface="Arial"/>
              </a:rPr>
              <a:t>Entry (cont.)</a:t>
            </a: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New Features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19a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19a8"/>
                </a:solidFill>
                <a:latin typeface="Arial"/>
              </a:rPr>
              <a:t>Federal Subsidized Stafford Loan and Federal Unsubsidized Stafford Loan names now Direct Subsidized Loan and Direct Unsubsidized Loan</a:t>
            </a:r>
            <a:endParaRPr b="0" lang="en-US" sz="28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19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43CA20-5FC1-443F-92AB-ED9CF91A843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733560" y="456840"/>
            <a:ext cx="1447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2000a"/>
                </a:solidFill>
                <a:latin typeface="Arial"/>
              </a:rPr>
              <a:t>Print</a:t>
            </a: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New Features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19a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19a8"/>
                </a:solidFill>
                <a:latin typeface="Arial"/>
              </a:rPr>
              <a:t>Print Packaging records with no funds from Awards tab</a:t>
            </a:r>
            <a:endParaRPr b="0" lang="en-US" sz="2800" spc="-1" strike="noStrike">
              <a:solidFill>
                <a:srgbClr val="0019a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19a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19a8"/>
                </a:solidFill>
                <a:latin typeface="Arial"/>
              </a:rPr>
              <a:t>Federal School Code suppressed on Award Letter</a:t>
            </a:r>
            <a:endParaRPr b="0" lang="en-US" sz="2800" spc="-1" strike="noStrike">
              <a:solidFill>
                <a:srgbClr val="0019a8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19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7AF9C6-FFBE-454A-9DEE-61E898C62A0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733560" y="456840"/>
            <a:ext cx="3429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2000a"/>
                </a:solidFill>
                <a:latin typeface="Arial"/>
              </a:rPr>
              <a:t>Print (cont.)</a:t>
            </a: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New Features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19a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19a8"/>
                </a:solidFill>
                <a:latin typeface="Arial"/>
              </a:rPr>
              <a:t>Sort Order option added to List - Students by Fund Code</a:t>
            </a:r>
            <a:endParaRPr b="0" lang="en-US" sz="2800" spc="-1" strike="noStrike">
              <a:solidFill>
                <a:srgbClr val="0019a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19a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19a8"/>
                </a:solidFill>
                <a:latin typeface="Arial"/>
              </a:rPr>
              <a:t>New reporting options for List - Students by Fund Code</a:t>
            </a:r>
            <a:endParaRPr b="0" lang="en-US" sz="2800" spc="-1" strike="noStrike">
              <a:solidFill>
                <a:srgbClr val="0019a8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19a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19a8"/>
                </a:solidFill>
                <a:latin typeface="Arial"/>
              </a:rPr>
              <a:t>Packaged</a:t>
            </a:r>
            <a:endParaRPr b="0" lang="en-US" sz="2400" spc="-1" strike="noStrike">
              <a:solidFill>
                <a:srgbClr val="0019a8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19a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19a8"/>
                </a:solidFill>
                <a:latin typeface="Arial"/>
              </a:rPr>
              <a:t>Not Packaged</a:t>
            </a:r>
            <a:endParaRPr b="0" lang="en-US" sz="2400" spc="-1" strike="noStrike">
              <a:solidFill>
                <a:srgbClr val="0019a8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19a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19a8"/>
                </a:solidFill>
                <a:latin typeface="Arial"/>
              </a:rPr>
              <a:t>Both</a:t>
            </a:r>
            <a:endParaRPr b="0" lang="en-US" sz="24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19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D2BB3A-6DD4-4726-8620-8CD5F3BE685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733560" y="456840"/>
            <a:ext cx="3352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2000a"/>
                </a:solidFill>
                <a:latin typeface="Arial"/>
              </a:rPr>
              <a:t>Print (cont.)</a:t>
            </a: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New Features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19a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19a8"/>
                </a:solidFill>
                <a:latin typeface="Arial"/>
              </a:rPr>
              <a:t>Funds Measurement Report - Need Based Loans now Other Need Based Loans</a:t>
            </a:r>
            <a:endParaRPr b="0" lang="en-US" sz="2800" spc="-1" strike="noStrike">
              <a:solidFill>
                <a:srgbClr val="0019a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19a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19a8"/>
                </a:solidFill>
                <a:latin typeface="Arial"/>
              </a:rPr>
              <a:t>FISAP Reports - new income grids and field labels match those in Part II of the FISAP 3.0 software</a:t>
            </a:r>
            <a:endParaRPr b="0" lang="en-US" sz="28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19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EA65FA-6710-4317-A9A5-F38B1611BBA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504960" y="456840"/>
            <a:ext cx="2361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2000a"/>
                </a:solidFill>
                <a:latin typeface="Arial"/>
              </a:rPr>
              <a:t>Process</a:t>
            </a: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New Features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19a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19a8"/>
                </a:solidFill>
                <a:latin typeface="Arial"/>
              </a:rPr>
              <a:t>Process | Package allowed on “N” records</a:t>
            </a:r>
            <a:endParaRPr b="0" lang="en-US" sz="2800" spc="-1" strike="noStrike">
              <a:solidFill>
                <a:srgbClr val="0019a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19a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19a8"/>
                </a:solidFill>
                <a:latin typeface="Arial"/>
              </a:rPr>
              <a:t>Dialog to give reasons why record could not package</a:t>
            </a:r>
            <a:endParaRPr b="0" lang="en-US" sz="2800" spc="-1" strike="noStrike">
              <a:solidFill>
                <a:srgbClr val="0019a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19a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19a8"/>
                </a:solidFill>
                <a:latin typeface="Arial"/>
              </a:rPr>
              <a:t>Doc Status “D” prevents record from being packaged</a:t>
            </a:r>
            <a:endParaRPr b="0" lang="en-US" sz="28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19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2C3747-689F-43BF-8865-344F486407A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505320" y="456840"/>
            <a:ext cx="403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2000a"/>
                </a:solidFill>
                <a:latin typeface="Arial"/>
              </a:rPr>
              <a:t>Process (cont.)</a:t>
            </a: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New Features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19a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19a8"/>
                </a:solidFill>
                <a:latin typeface="Arial"/>
              </a:rPr>
              <a:t>PLUS Loans not awarded if Dependency Status blank</a:t>
            </a:r>
            <a:endParaRPr b="0" lang="en-US" sz="2800" spc="-1" strike="noStrike">
              <a:solidFill>
                <a:srgbClr val="0019a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19a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19a8"/>
                </a:solidFill>
                <a:latin typeface="Arial"/>
              </a:rPr>
              <a:t>Process Package/Unpackage/Repackage Priority Deadline Date changed to Priority Deadline Date Range</a:t>
            </a:r>
            <a:endParaRPr b="0" lang="en-US" sz="28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19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6C1ABC-C452-4308-A2ED-B91C1DD7115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504960" y="456840"/>
            <a:ext cx="4190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2000a"/>
                </a:solidFill>
                <a:latin typeface="Arial"/>
              </a:rPr>
              <a:t>Process (cont.)</a:t>
            </a: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New Features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19a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19a8"/>
                </a:solidFill>
                <a:latin typeface="Arial"/>
              </a:rPr>
              <a:t>User Defined Formulas calculates funds awarded multiple times</a:t>
            </a:r>
            <a:endParaRPr b="0" lang="en-US" sz="2800" spc="-1" strike="noStrike">
              <a:solidFill>
                <a:srgbClr val="0019a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19a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19a8"/>
                </a:solidFill>
                <a:latin typeface="Arial"/>
              </a:rPr>
              <a:t>Chapter 30 VA Benefits/Americorps not included when determining Stafford eligibility</a:t>
            </a:r>
            <a:endParaRPr b="0" lang="en-US" sz="28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19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C2CED4-A545-4DBD-B3B2-D9EA97C8DE6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505320" y="456840"/>
            <a:ext cx="403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2000a"/>
                </a:solidFill>
                <a:latin typeface="Arial"/>
              </a:rPr>
              <a:t>Process (cont.)</a:t>
            </a: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New Features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19a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19a8"/>
                </a:solidFill>
                <a:latin typeface="Arial"/>
              </a:rPr>
              <a:t>Multiple Entry - Award Letter Received, Received Date, and Print Letter updateable only when the Pack status is P, H, or M</a:t>
            </a:r>
            <a:endParaRPr b="0" lang="en-US" sz="2800" spc="-1" strike="noStrike">
              <a:solidFill>
                <a:srgbClr val="0019a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19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58AC52-BD4F-4722-B9F4-3F549AA3CA7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657600" y="456840"/>
            <a:ext cx="1905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2000a"/>
                </a:solidFill>
                <a:latin typeface="Arial"/>
              </a:rPr>
              <a:t>Import</a:t>
            </a: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New Features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19a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19a8"/>
                </a:solidFill>
                <a:latin typeface="Arial"/>
              </a:rPr>
              <a:t>Import last year’s setup</a:t>
            </a:r>
            <a:endParaRPr b="0" lang="en-US" sz="2800" spc="-1" strike="noStrike">
              <a:solidFill>
                <a:srgbClr val="0019a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19a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19a8"/>
                </a:solidFill>
                <a:latin typeface="Arial"/>
              </a:rPr>
              <a:t>Add Budget option selected as default</a:t>
            </a:r>
            <a:endParaRPr b="0" lang="en-US" sz="28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19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F0888D-4500-4C07-8BDD-8BDDA15C5D3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2000a"/>
                </a:solidFill>
                <a:latin typeface="Arial"/>
              </a:rPr>
              <a:t>Session 19</a:t>
            </a: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57200" y="2819520"/>
            <a:ext cx="8381880" cy="158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27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19a8"/>
                </a:solidFill>
                <a:latin typeface="Arial"/>
              </a:rPr>
              <a:t>EDExpress Packaging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spcBef>
                <a:spcPts val="27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19a8"/>
                </a:solidFill>
                <a:latin typeface="Arial"/>
              </a:rPr>
              <a:t>What’s New and Q&amp;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19-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8BFDD8-7212-4BAA-AEEA-155076F422C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657240" y="456840"/>
            <a:ext cx="350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2000a"/>
                </a:solidFill>
                <a:latin typeface="Arial"/>
              </a:rPr>
              <a:t>Import (cont.)</a:t>
            </a: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New Features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19a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19a8"/>
                </a:solidFill>
                <a:latin typeface="Arial"/>
              </a:rPr>
              <a:t>Two progress bars during ISIR import</a:t>
            </a:r>
            <a:endParaRPr b="0" lang="en-US" sz="2800" spc="-1" strike="noStrike">
              <a:solidFill>
                <a:srgbClr val="0019a8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19a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19a8"/>
                </a:solidFill>
                <a:latin typeface="Arial"/>
              </a:rPr>
              <a:t>ISIR data import</a:t>
            </a:r>
            <a:endParaRPr b="0" lang="en-US" sz="2400" spc="-1" strike="noStrike">
              <a:solidFill>
                <a:srgbClr val="0019a8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19a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19a8"/>
                </a:solidFill>
                <a:latin typeface="Arial"/>
              </a:rPr>
              <a:t>Add Budgets function</a:t>
            </a:r>
            <a:endParaRPr b="0" lang="en-US" sz="2400" spc="-1" strike="noStrike">
              <a:solidFill>
                <a:srgbClr val="0019a8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19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3BFDDB-DF92-465C-9DEE-E9C8CCED82F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580920" y="456840"/>
            <a:ext cx="2057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2000a"/>
                </a:solidFill>
                <a:latin typeface="Arial"/>
              </a:rPr>
              <a:t>Browse</a:t>
            </a: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New Features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19a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19a8"/>
                </a:solidFill>
                <a:latin typeface="Arial"/>
              </a:rPr>
              <a:t>New Browse grid added for Awarded Funds by Term </a:t>
            </a:r>
            <a:endParaRPr b="0" lang="en-US" sz="28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19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DB20EA-240E-4949-9A09-49FEFF01F66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2000a"/>
                </a:solidFill>
                <a:latin typeface="Arial"/>
              </a:rPr>
              <a:t>Further Assistance</a:t>
            </a: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447560" y="1904760"/>
            <a:ext cx="64767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We appreciate your feedback and comments.  We can be reached: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Phone: 800-330-5947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Email:  CPS@ncs.com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or  SFATECH@inet.ed.gov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19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42BA54-CE58-4242-AD75-45EE0DFA6AD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971440" y="2666520"/>
            <a:ext cx="304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2000a"/>
                </a:solidFill>
                <a:latin typeface="Arial"/>
              </a:rPr>
              <a:t>Questions?</a:t>
            </a: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19-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9A5978-E2F8-4BBB-AF98-6F9763CB8B0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895480" y="609120"/>
            <a:ext cx="327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2000a"/>
                </a:solidFill>
                <a:latin typeface="Arial"/>
              </a:rPr>
              <a:t>Introduction</a:t>
            </a: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Who the Session is geared for?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Evaluations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Questions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19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CCC4E9-805C-4115-8158-8A98DD75430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352320" y="609120"/>
            <a:ext cx="2057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2000a"/>
                </a:solidFill>
                <a:latin typeface="Arial"/>
              </a:rPr>
              <a:t>Agenda</a:t>
            </a: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447920" y="1828440"/>
            <a:ext cx="3200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Setup</a:t>
            </a: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Entry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Process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Import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Browse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19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344E44-DEA9-4705-9309-6F0A4963606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657240" y="456840"/>
            <a:ext cx="1676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2000a"/>
                </a:solidFill>
                <a:latin typeface="Arial"/>
              </a:rPr>
              <a:t>Setup</a:t>
            </a: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50640" y="1600200"/>
            <a:ext cx="787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New Fields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19a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19a8"/>
                </a:solidFill>
                <a:latin typeface="Arial"/>
              </a:rPr>
              <a:t>Added New funds to Fund Maintenance</a:t>
            </a:r>
            <a:endParaRPr b="0" lang="en-US" sz="2800" spc="-1" strike="noStrike">
              <a:solidFill>
                <a:srgbClr val="0019a8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19a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19a8"/>
                </a:solidFill>
                <a:latin typeface="Arial"/>
              </a:rPr>
              <a:t>Direct Unsubsidized Loan-Need Based (Aid Type D)</a:t>
            </a:r>
            <a:endParaRPr b="0" lang="en-US" sz="2000" spc="-1" strike="noStrike">
              <a:solidFill>
                <a:srgbClr val="0019a8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19a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19a8"/>
                </a:solidFill>
                <a:latin typeface="Arial"/>
              </a:rPr>
              <a:t>Grant, Non-need Based (Aid Type R)</a:t>
            </a:r>
            <a:endParaRPr b="0" lang="en-US" sz="2000" spc="-1" strike="noStrike">
              <a:solidFill>
                <a:srgbClr val="0019a8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19a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19a8"/>
                </a:solidFill>
                <a:latin typeface="Arial"/>
              </a:rPr>
              <a:t>Chapter 30 VA Benefits/Americorps (Aid Type V)</a:t>
            </a:r>
            <a:endParaRPr b="0" lang="en-US" sz="2000" spc="-1" strike="noStrike">
              <a:solidFill>
                <a:srgbClr val="0019a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19a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19a8"/>
                </a:solidFill>
                <a:latin typeface="Arial"/>
              </a:rPr>
              <a:t>Added a “Do Not Unpackage” field to Fund Maintenance</a:t>
            </a:r>
            <a:endParaRPr b="0" lang="en-US" sz="2800" spc="-1" strike="noStrike">
              <a:solidFill>
                <a:srgbClr val="0019a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19a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19a8"/>
                </a:solidFill>
                <a:latin typeface="Arial"/>
              </a:rPr>
              <a:t>Can enter Remaining Need Values for loan funds</a:t>
            </a:r>
            <a:endParaRPr b="0" lang="en-US" sz="2800" spc="-1" strike="noStrike">
              <a:solidFill>
                <a:srgbClr val="0019a8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19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042F60-7712-4AA0-A8CB-1B53CA50CE2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657240" y="456840"/>
            <a:ext cx="350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2000a"/>
                </a:solidFill>
                <a:latin typeface="Arial"/>
              </a:rPr>
              <a:t>Setup (cont.)</a:t>
            </a: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New Features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19a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19a8"/>
                </a:solidFill>
                <a:latin typeface="Arial"/>
              </a:rPr>
              <a:t>Added new Loan Fees to Budget</a:t>
            </a:r>
            <a:endParaRPr b="0" lang="en-US" sz="2800" spc="-1" strike="noStrike">
              <a:solidFill>
                <a:srgbClr val="0019a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19a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19a8"/>
                </a:solidFill>
                <a:latin typeface="Arial"/>
              </a:rPr>
              <a:t>Housing Status now Housing Plans</a:t>
            </a:r>
            <a:endParaRPr b="0" lang="en-US" sz="2800" spc="-1" strike="noStrike">
              <a:solidFill>
                <a:srgbClr val="0019a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19a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19a8"/>
                </a:solidFill>
                <a:latin typeface="Arial"/>
              </a:rPr>
              <a:t>Budget Codes can now contain spaces</a:t>
            </a:r>
            <a:endParaRPr b="0" lang="en-US" sz="28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19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4DE1E1-DD15-4159-9BF0-F2344CC4121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657240" y="456840"/>
            <a:ext cx="3352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2000a"/>
                </a:solidFill>
                <a:latin typeface="Arial"/>
              </a:rPr>
              <a:t>Setup (cont.)</a:t>
            </a: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New Features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19a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19a8"/>
                </a:solidFill>
                <a:latin typeface="Arial"/>
              </a:rPr>
              <a:t>Award Letter greeting modifiable</a:t>
            </a:r>
            <a:endParaRPr b="0" lang="en-US" sz="2800" spc="-1" strike="noStrike">
              <a:solidFill>
                <a:srgbClr val="0019a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19a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19a8"/>
                </a:solidFill>
                <a:latin typeface="Arial"/>
              </a:rPr>
              <a:t>Document Tracking Letter greeting and closing modifiable</a:t>
            </a:r>
            <a:endParaRPr b="0" lang="en-US" sz="28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19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3D43D0-21A5-42AC-A16F-B912CE9F125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733560" y="456840"/>
            <a:ext cx="1523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2000a"/>
                </a:solidFill>
                <a:latin typeface="Arial"/>
              </a:rPr>
              <a:t>Entry</a:t>
            </a: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9480" y="1828800"/>
            <a:ext cx="78789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New Fiel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19a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19a8"/>
                </a:solidFill>
                <a:latin typeface="Arial"/>
              </a:rPr>
              <a:t>Added Loan Aggregates fields to the Packaging Reco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19a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19a8"/>
                </a:solidFill>
                <a:latin typeface="Arial"/>
              </a:rPr>
              <a:t>Aggregate Subsidized Loan Amou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19a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19a8"/>
                </a:solidFill>
                <a:latin typeface="Arial"/>
              </a:rPr>
              <a:t>Aggregate Unsubsidized Loan Amou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19a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19a8"/>
                </a:solidFill>
                <a:latin typeface="Arial"/>
              </a:rPr>
              <a:t>Aggregate Perkins Loan Amou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19-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87742F-3FF4-40A6-A608-234D6C96C4D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733920" y="456840"/>
            <a:ext cx="3504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2000a"/>
                </a:solidFill>
                <a:latin typeface="Arial"/>
              </a:rPr>
              <a:t>Entry (cont.)</a:t>
            </a: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833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New Fields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19a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19a8"/>
                </a:solidFill>
                <a:latin typeface="Arial"/>
              </a:rPr>
              <a:t>New valid values for grade levels are </a:t>
            </a:r>
            <a:r>
              <a:rPr b="1" lang="en-US" sz="2800" spc="-1" strike="noStrike">
                <a:solidFill>
                  <a:srgbClr val="0019a8"/>
                </a:solidFill>
                <a:latin typeface="Arial"/>
              </a:rPr>
              <a:t>0-7</a:t>
            </a:r>
            <a:r>
              <a:rPr b="0" lang="en-US" sz="2800" spc="-1" strike="noStrike">
                <a:solidFill>
                  <a:srgbClr val="0019a8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19a8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19a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19a8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19a8"/>
                </a:solidFill>
                <a:latin typeface="Arial"/>
              </a:rPr>
              <a:t> = 1</a:t>
            </a:r>
            <a:r>
              <a:rPr b="0" lang="en-US" sz="2000" spc="-1" strike="noStrike" baseline="30000">
                <a:solidFill>
                  <a:srgbClr val="0019a8"/>
                </a:solidFill>
                <a:latin typeface="Arial"/>
              </a:rPr>
              <a:t>st</a:t>
            </a:r>
            <a:r>
              <a:rPr b="0" lang="en-US" sz="2000" spc="-1" strike="noStrike">
                <a:solidFill>
                  <a:srgbClr val="0019a8"/>
                </a:solidFill>
                <a:latin typeface="Arial"/>
              </a:rPr>
              <a:t> year undergraduate/never attended college</a:t>
            </a:r>
            <a:endParaRPr b="0" lang="en-US" sz="2000" spc="-1" strike="noStrike">
              <a:solidFill>
                <a:srgbClr val="0019a8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19a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19a8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19a8"/>
                </a:solidFill>
                <a:latin typeface="Arial"/>
              </a:rPr>
              <a:t> = 1</a:t>
            </a:r>
            <a:r>
              <a:rPr b="0" lang="en-US" sz="2000" spc="-1" strike="noStrike" baseline="30000">
                <a:solidFill>
                  <a:srgbClr val="0019a8"/>
                </a:solidFill>
                <a:latin typeface="Arial"/>
              </a:rPr>
              <a:t>st</a:t>
            </a:r>
            <a:r>
              <a:rPr b="0" lang="en-US" sz="2000" spc="-1" strike="noStrike">
                <a:solidFill>
                  <a:srgbClr val="0019a8"/>
                </a:solidFill>
                <a:latin typeface="Arial"/>
              </a:rPr>
              <a:t> year undergraduate/attended college before</a:t>
            </a:r>
            <a:endParaRPr b="0" lang="en-US" sz="2000" spc="-1" strike="noStrike">
              <a:solidFill>
                <a:srgbClr val="0019a8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19a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19a8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19a8"/>
                </a:solidFill>
                <a:latin typeface="Arial"/>
              </a:rPr>
              <a:t> = 2</a:t>
            </a:r>
            <a:r>
              <a:rPr b="0" lang="en-US" sz="2000" spc="-1" strike="noStrike" baseline="30000">
                <a:solidFill>
                  <a:srgbClr val="0019a8"/>
                </a:solidFill>
                <a:latin typeface="Arial"/>
              </a:rPr>
              <a:t>nd</a:t>
            </a:r>
            <a:r>
              <a:rPr b="0" lang="en-US" sz="2000" spc="-1" strike="noStrike">
                <a:solidFill>
                  <a:srgbClr val="0019a8"/>
                </a:solidFill>
                <a:latin typeface="Arial"/>
              </a:rPr>
              <a:t> year undergraduate/sophomore</a:t>
            </a:r>
            <a:endParaRPr b="0" lang="en-US" sz="2000" spc="-1" strike="noStrike">
              <a:solidFill>
                <a:srgbClr val="0019a8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19a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19a8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19a8"/>
                </a:solidFill>
                <a:latin typeface="Arial"/>
              </a:rPr>
              <a:t> = 3</a:t>
            </a:r>
            <a:r>
              <a:rPr b="0" lang="en-US" sz="2000" spc="-1" strike="noStrike" baseline="30000">
                <a:solidFill>
                  <a:srgbClr val="0019a8"/>
                </a:solidFill>
                <a:latin typeface="Arial"/>
              </a:rPr>
              <a:t>rd</a:t>
            </a:r>
            <a:r>
              <a:rPr b="0" lang="en-US" sz="2000" spc="-1" strike="noStrike">
                <a:solidFill>
                  <a:srgbClr val="0019a8"/>
                </a:solidFill>
                <a:latin typeface="Arial"/>
              </a:rPr>
              <a:t> year undergraduate/junior</a:t>
            </a:r>
            <a:endParaRPr b="0" lang="en-US" sz="2000" spc="-1" strike="noStrike">
              <a:solidFill>
                <a:srgbClr val="0019a8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19a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19a8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19a8"/>
                </a:solidFill>
                <a:latin typeface="Arial"/>
              </a:rPr>
              <a:t> = 4</a:t>
            </a:r>
            <a:r>
              <a:rPr b="0" lang="en-US" sz="2000" spc="-1" strike="noStrike" baseline="30000">
                <a:solidFill>
                  <a:srgbClr val="0019a8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0019a8"/>
                </a:solidFill>
                <a:latin typeface="Arial"/>
              </a:rPr>
              <a:t> year undergraduate senior</a:t>
            </a:r>
            <a:endParaRPr b="0" lang="en-US" sz="2000" spc="-1" strike="noStrike">
              <a:solidFill>
                <a:srgbClr val="0019a8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19a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19a8"/>
                </a:solidFill>
                <a:latin typeface="Arial"/>
              </a:rPr>
              <a:t>5</a:t>
            </a:r>
            <a:r>
              <a:rPr b="0" lang="en-US" sz="2000" spc="-1" strike="noStrike">
                <a:solidFill>
                  <a:srgbClr val="0019a8"/>
                </a:solidFill>
                <a:latin typeface="Arial"/>
              </a:rPr>
              <a:t> =  5</a:t>
            </a:r>
            <a:r>
              <a:rPr b="0" lang="en-US" sz="2000" spc="-1" strike="noStrike" baseline="30000">
                <a:solidFill>
                  <a:srgbClr val="0019a8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0019a8"/>
                </a:solidFill>
                <a:latin typeface="Arial"/>
              </a:rPr>
              <a:t> year/other undergraduate</a:t>
            </a:r>
            <a:endParaRPr b="0" lang="en-US" sz="2000" spc="-1" strike="noStrike">
              <a:solidFill>
                <a:srgbClr val="0019a8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19a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19a8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0019a8"/>
                </a:solidFill>
                <a:latin typeface="Arial"/>
              </a:rPr>
              <a:t> = 1</a:t>
            </a:r>
            <a:r>
              <a:rPr b="0" lang="en-US" sz="2000" spc="-1" strike="noStrike" baseline="30000">
                <a:solidFill>
                  <a:srgbClr val="0019a8"/>
                </a:solidFill>
                <a:latin typeface="Arial"/>
              </a:rPr>
              <a:t>st</a:t>
            </a:r>
            <a:r>
              <a:rPr b="0" lang="en-US" sz="2000" spc="-1" strike="noStrike">
                <a:solidFill>
                  <a:srgbClr val="0019a8"/>
                </a:solidFill>
                <a:latin typeface="Arial"/>
              </a:rPr>
              <a:t> year graduate/professional</a:t>
            </a:r>
            <a:endParaRPr b="0" lang="en-US" sz="2000" spc="-1" strike="noStrike">
              <a:solidFill>
                <a:srgbClr val="0019a8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19a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19a8"/>
                </a:solidFill>
                <a:latin typeface="Arial"/>
              </a:rPr>
              <a:t>7</a:t>
            </a:r>
            <a:r>
              <a:rPr b="0" lang="en-US" sz="2000" spc="-1" strike="noStrike">
                <a:solidFill>
                  <a:srgbClr val="0019a8"/>
                </a:solidFill>
                <a:latin typeface="Arial"/>
              </a:rPr>
              <a:t> = continuing graduate/professional</a:t>
            </a:r>
            <a:endParaRPr b="0" lang="en-US" sz="2000" spc="-1" strike="noStrike">
              <a:solidFill>
                <a:srgbClr val="0019a8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19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61F39E-5C0D-4ED5-B381-23D3F823E01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08T20:32:24Z</dcterms:created>
  <dc:creator>Tim Weedlun</dc:creator>
  <dc:description/>
  <dc:language>en-US</dc:language>
  <cp:lastModifiedBy>I.R.G.</cp:lastModifiedBy>
  <cp:lastPrinted>1998-06-12T14:08:53Z</cp:lastPrinted>
  <dcterms:modified xsi:type="dcterms:W3CDTF">2001-01-08T16:14:17Z</dcterms:modified>
  <cp:revision>159</cp:revision>
  <dc:subject/>
  <dc:title>No Slide Title</dc:title>
</cp:coreProperties>
</file>