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E39-AA86-447A-8789-F2BAC3CDD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 ask if anyone has any questions or needs clarification on anything that has been cov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questions, check time to make haven’t run over, restate the basic process and close the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page 1 number 5 under  basic query rules - sentence 2 says if the user wishes the criteria to be cumulative in queries with more that 2 fields, parenthetical statements must be used -  Should say, if using more than 2 operators should evaluate and see if parentheses should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out wrong - more like should review queries with more than one kind of operator  and consider  whether some parts should be run before othe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- Introduce o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- Introduce o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cover basic origination and disbursement cycle or novice - will move from that point.  For beginners to advanc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evaluate - even if you feel rushed.  We do take suggestions seriously and helps to improve future EA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ime for questions and end of sort overview.  Can ask questions in the exerci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s On Exercises will go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right with AND before OR 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allows user to select value as running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tical groups items so they are considered together and before the other rules are ex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help can assist in defining the format of possible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Add right and Add left Explain why would want to do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3B02-DDB5-4781-B136-D18109218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29FC-BC14-43E9-95F4-E1A8C81A4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C454-259B-4D9F-8887-C056187C3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DF71-A75F-4246-9651-C6F5E39F7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2321-45A0-4E31-9F64-6E97D74D4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B543-4EB9-41C4-B6B6-529381FF4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285B-D124-4EBA-8B79-9CC7807C5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BCDE-3B98-4033-B383-EB12E3FD5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6A52-46CA-40FA-A3E0-097323DF2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28F6-5EA2-4A6B-9911-854EFAEE9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0360-0FEF-40A6-A556-30217A86D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AEA0-9B53-49AB-855B-0D8F05B53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1A0-A47D-4252-84AF-D050B4137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5335-5041-4A24-9A60-A09837A31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rigination Statu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Origination Record Status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 = Not Read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 = Ready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 = Batch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E1F8-A293-480B-844D-7026B6ADA2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12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FMS (Origination) Statu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FMS Origination Status returned on Origination Acknowledgement or Year to Date 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 = Correc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718A-7308-4BC9-ACDA-80D0BEECD0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22800" y="456840"/>
            <a:ext cx="5821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isbursement Status</a:t>
            </a:r>
            <a:br>
              <a:rPr sz="4000"/>
            </a:b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Disbursement Record Statu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 = Read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 = Batch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E49B-92C5-4BE4-9576-2FB25A88D6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12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FMS Disbursement Statu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FMS Disbursement Status returned on Disbursement Acknowledgement or Year to Date 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 = Correc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54DD-2DE8-48C2-8075-20B7EFE88E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About The Pell Module Of The EDExpress Software Should Be Referred To CPS Customer Service At 1-800-330-5947, Option 4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About The Electronic Transmission Process Should Be Referred To Title IV WAN Customer Service At 1-800-615-118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ACAE-0E83-4095-8EB3-88BC4C2CFA75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About The Pell Process, Rejected Batches Or Account Information Should Be Referred To RFMS At 1-800-4-P-Grant (1-800-474-7268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AE2C-34AE-4C04-86B1-4E350B8F9C7E}" type="slidenum">
              <a:t>15</a:t>
            </a:fld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ands On!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lease remember to always set print options to “Screen”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e’re here to help, just flag us down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 Computer Lab is a great resource - feel free to drop in with any questions or issue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7EC9-1AA2-45F7-BD4D-DFB8A8875D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17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83818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Please Remember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Pell Hands-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Managing Exceptions and Creating Meaningful Exceptions Reports EDExpress Pell Pa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F024-493A-4CB4-9583-D6F3B92CB8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17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447920"/>
            <a:ext cx="83818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Pell Hands-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Managing Exceptions and Creating Meaningful Exceptions Reports EDExpress Pell Pa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2021-A350-45A2-86E8-550B326E3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456840"/>
            <a:ext cx="57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ntroduction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s session concentrates on how to effectively use EDExpress to identify exceptions records and reconcile Pell data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3869-B2A2-442B-BFC9-A30106B17B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0920" y="456840"/>
            <a:ext cx="53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ell Query Module Overview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asic Query Func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Highlight of Important Query Fields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ands-On Exercis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17C7-2734-409E-A582-A21ACF4897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Basic Query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arameter or (Prompt at Execution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arenthetical State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alue Help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C95E-EB21-4E5F-9068-9E5CDA85EB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arameter Query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1371600"/>
          <a:ext cx="6781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781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105520" y="2362320"/>
            <a:ext cx="2057400" cy="6094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6C46-4905-44BA-9792-4C4A852FA1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User Enters Valu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547640"/>
          <a:ext cx="670572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47640"/>
                    <a:ext cx="67057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E0E2-777A-4AAD-ABFF-BC1FB0379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arenthetical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390680"/>
          <a:ext cx="701028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90680"/>
                    <a:ext cx="70102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845C-393B-4519-A2F0-6C145D677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ant Fields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it/Comment Codes: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se Like and Not Like operators instead of =, &lt;&gt;,... unless using Null valu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Origination Edits/Comments Returned by RFM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sbursement Comm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ull - leave field blank and Append - can be useful.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3EDD-4FD2-4B75-B0D0-5CCA468674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16:53Z</dcterms:modified>
  <cp:revision>97</cp:revision>
  <dc:subject/>
  <dc:title>No Slide Title</dc:title>
</cp:coreProperties>
</file>