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08B8-C09D-41A1-9AE6-7E9D29A4E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 ask if anyone has any questions or needs clarification on anything that has been cov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questions, check time to make haven’t run over, restate the basic process and close the s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page 1 number 5 under  basic query rules - sentence 2 says if the user wishes the criteria to be cumulative in queries with more that 2 fields, parenthetical statements must be used -  Should say, if using more than 2 operators should evaluate and see if parentheses should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out wrong - more like should review queries with more than one kind of operator  and consider  whether some parts should be run before othe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- Introduce o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- Introduce o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cover basic origination and disbursement cycle or novice - will move from that point.  For beginners to advanc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evaluate - even if you feel rushed.  We do take suggestions seriously and helps to improve future EA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ime for questions and end of sort overview.  Can ask questions in the exerci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s On Exercises will go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right with AND before OR 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 allows user to select value as running 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hetical groups items so they are considered together and before the other rules are ex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 help can assist in defining the format of possible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Add right and Add left Explain why would want to do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00A8-DDE9-412A-B879-47C720AF4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60E3-E0B8-4628-AF01-25F384EDA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7985-3C21-44B7-A50A-6AF683A3E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4D17-017E-4E87-A9D8-FC85E3525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D39E-1BC4-4EB6-AFED-6B73E0929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12F6-45E1-4EBF-A8D0-4CD1617AE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D913-A304-47B1-A401-7CB4478F5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0E16-D40C-4B36-9BB8-48C06A8ED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5797C-0FC8-41CC-9FBA-90D81576B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2BE5-0235-4E32-8F8E-40E224FCD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F1C8-A541-45F1-9AD9-5CD0373D9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28AD-498D-4B20-84F1-6E4BB954E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2F2B-7926-421D-B804-66CBB288E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465A-6AEB-47A6-9A70-81D8AE0FE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Origination Statu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Express Origination Record Status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 = Not Read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R = Ready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B = Batch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 = Accept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 = Rejected (Error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78B7-E146-4041-A104-29A6295D4D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12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FMS (Origination) Statu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FMS Origination Status returned on Origination Acknowledgement or Year to Date 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 = Accept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 = Correct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 = Rejected (Error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417E-A1CF-40F2-B10F-FF22B61521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22800" y="456840"/>
            <a:ext cx="5821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Disbursement Status</a:t>
            </a:r>
            <a:br>
              <a:rPr sz="4000"/>
            </a:b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Express Disbursement Record Statu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R = Read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B = Batch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 = Accept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 = Rejected (Error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9C84-2B01-4FDF-81C4-F4254E30E7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12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FMS Disbursement Statu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FMS Disbursement Status returned on Disbursement Acknowledgement or Year to Date Fi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 = Accept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 = Correct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 = Rejected (Error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439D-7521-4052-BE23-54BD2553D3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urther Assistanc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 About The Pell Module Of The EDExpress Software Should Be Referred To CPS Customer Service At 1-800-330-5947, Option 4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 About The Electronic Transmission Process Should Be Referred To Title IV WAN Customer Service At 1-800-615-1189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06E2-24DC-4AE3-A3BA-AB810FEA2329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urther Assistanc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 About The Pell Process, Rejected Batches Or Account Information Should Be Referred To RFMS At 1-800-4-P-Grant (1-800-474-7268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A4D47-8D5D-4E8C-902A-772CA2E909B9}" type="slidenum">
              <a:t>15</a:t>
            </a:fld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Hands On!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lease remember to always set print options to “Screen”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e’re here to help, just flag us down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e Computer Lab is a great resource - feel free to drop in with any questions or issues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528A-E6DC-4E73-95F8-91D11706F6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17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447920"/>
            <a:ext cx="83818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Please Remember Eval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Pell Hands-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Managing Exceptions and Creating Meaningful Exceptions Reports EDExpress Pell Pa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75DF-1280-4B1A-A9A4-2C93A834B0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17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447920"/>
            <a:ext cx="83818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Pell Hands-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Managing Exceptions and Creating Meaningful Exceptions Reports EDExpress Pell Pa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8462-2626-46AF-BD84-5E23F31F69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00040" y="456840"/>
            <a:ext cx="57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ntroduction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s session concentrates on how to effectively use EDExpress to identify exceptions records and reconcile Pell data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2C0D-1F38-4BB5-AC49-035BEE7678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80920" y="456840"/>
            <a:ext cx="53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ell Query Module Overview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Basic Query Function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Highlight of Important Query Fields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Hands-On Exercis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7F86-F82A-416C-A934-61E94A41CF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Basic Query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arameter or (Prompt at Execution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arenthetical Statemen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Value Help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D6F4-ED40-40D5-A4D5-1B3C27A467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arameter Query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1371600"/>
          <a:ext cx="6781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781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105520" y="2362320"/>
            <a:ext cx="2057400" cy="60948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47C4-E3C9-4107-B7E0-28DC345440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User Enters Valu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547640"/>
          <a:ext cx="670572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47640"/>
                    <a:ext cx="670572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6F6B-CCD0-4055-947D-CF9DD7A62D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arenthetical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390680"/>
          <a:ext cx="701028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90680"/>
                    <a:ext cx="701028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737F-7030-4CCD-879B-BA440FDD75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mportant Fields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	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it/Comment Codes: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Use Like and Not Like operators instead of =, &lt;&gt;,... unless using Null valu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Origination Edits/Comments Returned by RFM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isbursement Commen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ull - leave field blank and Append - can be useful.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7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1594-B540-4C95-A34F-2923911CC7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1998-06-12T14:08:53Z</cp:lastPrinted>
  <dcterms:modified xsi:type="dcterms:W3CDTF">2001-01-08T16:16:53Z</dcterms:modified>
  <cp:revision>97</cp:revision>
  <dc:subject/>
  <dc:title>No Slide Title</dc:title>
</cp:coreProperties>
</file>