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3"/>
          </p:nvPr>
        </p:nvSpPr>
        <p:spPr>
          <a:xfrm>
            <a:off x="402444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2000a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4"/>
          </p:nvPr>
        </p:nvSpPr>
        <p:spPr>
          <a:xfrm>
            <a:off x="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5"/>
          </p:nvPr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7CDC-88FE-4A01-9E37-56F8E3476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t ENAS Calcs is now Estimated EFC 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ross 2 option result of increased size of address field.  (Across 3 may truncate long addresses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ables schools to print list of ISIRs without duplications caused my multiple student trans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added as result of user sugg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the option of choosing which setup information you want to carry over to the new version of the softw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ries cannot be moved if they reference a field that has been modified, deleted, reference a field in the User Database, or contain a date parame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ecurity setup is moved, Groups and Users will be set to no access until the SYSADMIN reviews the sett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changes have been made to reduce the risk of data loss or corruption during the database version update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 and @ will print on IS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those of you who request renewal data had a chance to use the Renewal softwar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r name field will allow students with longer first names, like Christopher, to enter their entire first name.  According to ED, 53,000 students named Christopher filed FAFSAs in 2000-2001.  555,000 students filed with first names that used all 9 characters.  (Jacqueline is another example of an affected nam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ded address field to accommodate longer street addresses, specifically Puerto Rico addresses and addresses with apartment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s other than a spouse has been divided into two ques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children you suppor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legal dependents other than children or spou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ail address will not be collected from paper FAF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ail address is on Demo tab and will export with initial application if entered.  Will export with correction if the email address has been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5F193-261B-497D-BA47-E15C176ECA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12F0D-26C3-45A0-8E48-6AD86ABBF0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A6929-28D7-4FD9-9275-B2CE4ECD22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F8058-841A-4608-8AC9-37EB6EFCDF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F2BC1-3B77-4832-82E4-A801E1D3B2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5E625-E6A7-4DB2-8836-9E6B0E562D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4E8DA-FB5F-476E-BF4E-C57D830B61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B7F23-38FB-4B90-A426-BA5DB26F2E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082FC-6A3A-4259-AFF5-E2A92F1E7C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5DA7B-35D6-4854-8BCC-4CC86AA7C5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77E8B-3CA1-4D8A-B875-0F27064E8C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C64AB-FED6-4D9F-9D37-6698F129D7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19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19a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6708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ED5A-58ED-42D5-A93D-33407359A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lid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1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2000a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19a8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067440" y="64771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315200" y="647712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B955-03C4-44BB-8544-7013D1D1A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Title" descr="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5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Consistency Improvements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All references to “Institution Code” and “Institution” are changed to “Federal School Code” and “School” throughout software, help text, and documentation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All references to “formerly Title IV WAN” are removed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TG ID” and “TG ID #” will be changed to “TG #”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AC8B7-61AF-49AF-8B7B-1E27A736AB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Consistency Improvements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Options to Print Estimated EFC will be labeled consistently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pic>
        <p:nvPicPr>
          <p:cNvPr id="123" name="efc%20calc" descr=""/>
          <p:cNvPicPr/>
          <p:nvPr/>
        </p:nvPicPr>
        <p:blipFill>
          <a:blip r:embed="rId1"/>
          <a:stretch/>
        </p:blipFill>
        <p:spPr>
          <a:xfrm>
            <a:off x="2286000" y="3124080"/>
            <a:ext cx="4700520" cy="23418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514600" y="4038480"/>
            <a:ext cx="2514600" cy="83844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77A95-75A5-49C6-A4D3-95B4B95315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Printing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New option for printing mailing labels “Across 2”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pic>
        <p:nvPicPr>
          <p:cNvPr id="127" name="printmaillabels" descr=""/>
          <p:cNvPicPr/>
          <p:nvPr/>
        </p:nvPicPr>
        <p:blipFill>
          <a:blip r:embed="rId1"/>
          <a:stretch/>
        </p:blipFill>
        <p:spPr>
          <a:xfrm>
            <a:off x="3581280" y="1523880"/>
            <a:ext cx="5373720" cy="4079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657600" y="3962520"/>
            <a:ext cx="1676520" cy="91440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28369-B41F-4C46-8B57-8C58E8FA5F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Printing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EDExpress will have a print option under List-Processed ISIRs to print either Highest or Active Transaction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pic>
        <p:nvPicPr>
          <p:cNvPr id="131" name="transaction%20pref" descr=""/>
          <p:cNvPicPr/>
          <p:nvPr/>
        </p:nvPicPr>
        <p:blipFill>
          <a:blip r:embed="rId1"/>
          <a:stretch/>
        </p:blipFill>
        <p:spPr>
          <a:xfrm>
            <a:off x="1676520" y="3809880"/>
            <a:ext cx="6172200" cy="1917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447920" y="3809880"/>
            <a:ext cx="6172200" cy="167652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C3FEF-2EEB-454F-8BD7-4BC8B51CBE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Global Setup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EDExpress will allow demographic, setup, and most queries to be moved forward from the prior year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pic>
        <p:nvPicPr>
          <p:cNvPr id="135" name="prior%20year%20data" descr=""/>
          <p:cNvPicPr/>
          <p:nvPr/>
        </p:nvPicPr>
        <p:blipFill>
          <a:blip r:embed="rId1"/>
          <a:stretch/>
        </p:blipFill>
        <p:spPr>
          <a:xfrm>
            <a:off x="2590920" y="3581280"/>
            <a:ext cx="4495680" cy="219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6F9AF-2418-4CE5-83C8-1AA91902C6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Global Setup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pic>
        <p:nvPicPr>
          <p:cNvPr id="137" name="prior%20year%20move" descr=""/>
          <p:cNvPicPr/>
          <p:nvPr/>
        </p:nvPicPr>
        <p:blipFill>
          <a:blip r:embed="rId1"/>
          <a:stretch/>
        </p:blipFill>
        <p:spPr>
          <a:xfrm>
            <a:off x="1903320" y="1728720"/>
            <a:ext cx="5335560" cy="340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E3B2F-8B41-40ED-BE71-7C12EBBFF1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Global Setup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91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Can move forward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Demographic Data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Security Groups Setup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Most Queries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Pell Setup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Packaging Methodology and Academic Year Profiles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53160" y="1828800"/>
            <a:ext cx="4092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Cannot move forward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Queries that reference modified/deleted fields, User Database, or date parameter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Estimated Disbursement Dates in Pell Setup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19E80-99FF-43D9-91DE-491B0228664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Update Database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The update database will be renamed so that the filename is application and year specific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The update process will be modified to run only once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There will be a new comparison process of the version number in registry with the version of the database 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0F618-4AF6-4BE1-B678-0CA23915EAE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Corrections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Correction ISIRs will return in message class CORR02OP.  (Rejected corrections will be returned in message class CORE02OP)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Correction flags will allow tracking of corrections by transaction and cumulatively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#: corrected on this transaction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@: corrected on previous transaction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1229C-361C-40E6-894B-BAB08FBAB69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Corrections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2743200"/>
            <a:ext cx="3581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Quick Correction” will allow assumption and override capability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pic>
        <p:nvPicPr>
          <p:cNvPr id="147" name="quick%20correction" descr=""/>
          <p:cNvPicPr/>
          <p:nvPr/>
        </p:nvPicPr>
        <p:blipFill>
          <a:blip r:embed="rId1"/>
          <a:stretch/>
        </p:blipFill>
        <p:spPr>
          <a:xfrm>
            <a:off x="3886200" y="1295280"/>
            <a:ext cx="4876920" cy="4498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809880" y="3505320"/>
            <a:ext cx="4876920" cy="1981080"/>
          </a:xfrm>
          <a:prstGeom prst="ellipse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E9950-A4D7-441D-9D6D-5C05575008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Session 12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2819520"/>
            <a:ext cx="8381880" cy="18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19a8"/>
                </a:solidFill>
                <a:latin typeface="Arial"/>
              </a:rPr>
              <a:t>EDExpress Application Processing—What’s New and Q&amp;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2F598-F798-480B-B169-289C73D085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Import Function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853160" y="1828800"/>
            <a:ext cx="4092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ISIR imports combined into one import type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The first four characters of the message class will appear next to the import descriptions 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2280" y="1440000"/>
            <a:ext cx="4548240" cy="387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C807F-41BB-4327-A561-A94367562D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Import Function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91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New import type added for hold files (HOLD02OP)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Daily file containing information for students who listed your institution on a web application and are pending a signature p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</p:txBody>
      </p:sp>
      <p:pic>
        <p:nvPicPr>
          <p:cNvPr id="154" name="holdimport" descr=""/>
          <p:cNvPicPr/>
          <p:nvPr/>
        </p:nvPicPr>
        <p:blipFill>
          <a:blip r:embed="rId1"/>
          <a:stretch/>
        </p:blipFill>
        <p:spPr>
          <a:xfrm>
            <a:off x="4419720" y="2133720"/>
            <a:ext cx="4524120" cy="22953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029200" y="3352680"/>
            <a:ext cx="1600200" cy="53352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D03EF-ABB7-4D5A-AD27-65F6355B8C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User Database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8336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Valid values for User Data Field Names will be changed to A-Z and 0-9.  First character must be a letter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Characters such as ‘.’, ‘!’, and “()’ will no longer be allowed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This change is to avoid database error message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pic>
        <p:nvPicPr>
          <p:cNvPr id="158" name="user%20data%20student" descr=""/>
          <p:cNvPicPr/>
          <p:nvPr/>
        </p:nvPicPr>
        <p:blipFill>
          <a:blip r:embed="rId1"/>
          <a:stretch/>
        </p:blipFill>
        <p:spPr>
          <a:xfrm>
            <a:off x="1523880" y="4724280"/>
            <a:ext cx="6888240" cy="138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9C442-B1F0-4D3B-8B9D-5B578FA499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Multiple Entry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Student last name added to Multiple Entry screen to make it easier to select records.  Users will be able to sort students by last name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pic>
        <p:nvPicPr>
          <p:cNvPr id="161" name="multiple%20entry" descr=""/>
          <p:cNvPicPr/>
          <p:nvPr/>
        </p:nvPicPr>
        <p:blipFill>
          <a:blip r:embed="rId1"/>
          <a:stretch/>
        </p:blipFill>
        <p:spPr>
          <a:xfrm>
            <a:off x="3505320" y="1752480"/>
            <a:ext cx="517356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A21E2-5394-414C-9563-42E62E905F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List Changes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28840" y="1218960"/>
            <a:ext cx="3962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Process|List Changes from SAR/ISIR tab will allow sorting on the grid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List Changes will properly display Dependency Overrides and FAA Adjustment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pic>
        <p:nvPicPr>
          <p:cNvPr id="164" name="list%20changes%202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4695840" cy="32749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048120" y="2590920"/>
            <a:ext cx="838080" cy="38088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4191120"/>
            <a:ext cx="2514600" cy="38088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67B9E-A46D-4383-BE8C-CA5A37F9274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Data Entry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412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Hotkeys added for Open (ctrl + O) and New (ctrl + N)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Demo Tab will not edit on Permanent Zip Code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Entry of invalid dates (example:12/39/2000) no longer allowed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Displays ID of user that originally imported the ISIR.  Will no longer temporarily change when another user makes correction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7F74E-FAB9-4A06-A34F-8C530E1E812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Document Tracking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When adding documents, the dialog box will contain a date range field as well as a Transaction Preference dropdown box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A new document status of “Received Not Reviewed” will be added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Users will have the option of modifying the greeting and closing of the Document Tracking Letter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56B77-7FEC-4EA0-8673-D7BB6FFF21C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Document Tracking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Process|Add Documents will allow documents to be added to highest or active transaction, or by date range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pic>
        <p:nvPicPr>
          <p:cNvPr id="173" name="add%20docs" descr=""/>
          <p:cNvPicPr/>
          <p:nvPr/>
        </p:nvPicPr>
        <p:blipFill>
          <a:blip r:embed="rId1"/>
          <a:stretch/>
        </p:blipFill>
        <p:spPr>
          <a:xfrm>
            <a:off x="1828800" y="3505320"/>
            <a:ext cx="5791320" cy="203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92B85-B7E8-4D43-AEAB-42D5DC91448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Query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Additional predefined queries added to allow users to search for data in comma separated fields (such as ISIR reject codes)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pic>
        <p:nvPicPr>
          <p:cNvPr id="176" name="query%20grid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4735440" cy="36003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038480" y="3581280"/>
            <a:ext cx="381240" cy="304920"/>
          </a:xfrm>
          <a:prstGeom prst="rightArrow">
            <a:avLst>
              <a:gd name="adj1" fmla="val 50000"/>
              <a:gd name="adj2" fmla="val 3125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2E4D2-EB96-417A-A541-28C559461AB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Query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EDExpress will contain a browsable grid of all query fields for each module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pic>
        <p:nvPicPr>
          <p:cNvPr id="180" name="browse%20queries" descr=""/>
          <p:cNvPicPr/>
          <p:nvPr/>
        </p:nvPicPr>
        <p:blipFill>
          <a:blip r:embed="rId1"/>
          <a:stretch/>
        </p:blipFill>
        <p:spPr>
          <a:xfrm>
            <a:off x="2057400" y="2438280"/>
            <a:ext cx="5334120" cy="350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A8DB8-378B-4DD1-B236-FC4BDFAF293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23720" y="60912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EDExpress Application Processing—</a:t>
            </a:r>
            <a:br>
              <a:rPr sz="4000"/>
            </a:b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What’s New and Q &amp; A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Who is this session geared for?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All level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Evaluation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Time for Q&amp;A at end of session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D3AD4-7907-4FC4-99B7-FF2DC73689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Query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Help will make every effort to supply information about valid field content instead of referring user to the technical reference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pic>
        <p:nvPicPr>
          <p:cNvPr id="183" name="query%20value%20help" descr=""/>
          <p:cNvPicPr/>
          <p:nvPr/>
        </p:nvPicPr>
        <p:blipFill>
          <a:blip r:embed="rId1"/>
          <a:stretch/>
        </p:blipFill>
        <p:spPr>
          <a:xfrm>
            <a:off x="1143000" y="3657600"/>
            <a:ext cx="7269120" cy="146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B25C8-652A-4F02-8BFC-46954580021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RAD Process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New </a:t>
            </a:r>
            <a:r>
              <a:rPr b="0" i="1" lang="en-US" sz="3200" spc="-1" strike="noStrike">
                <a:solidFill>
                  <a:srgbClr val="0019a8"/>
                </a:solidFill>
                <a:latin typeface="Arial"/>
              </a:rPr>
              <a:t>Renewal Applications</a:t>
            </a: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 software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pic>
        <p:nvPicPr>
          <p:cNvPr id="186" name="renewal" descr=""/>
          <p:cNvPicPr/>
          <p:nvPr/>
        </p:nvPicPr>
        <p:blipFill>
          <a:blip r:embed="rId1"/>
          <a:stretch/>
        </p:blipFill>
        <p:spPr>
          <a:xfrm>
            <a:off x="2286000" y="2590920"/>
            <a:ext cx="4343400" cy="272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62C21-08B4-4340-AF8D-C378D178BA8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RAD Process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Renewal Applications software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Import RAD files (RADD02OP)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Import and print RAD error files (EREP02OP)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pic>
        <p:nvPicPr>
          <p:cNvPr id="189" name="renewalimport" descr=""/>
          <p:cNvPicPr/>
          <p:nvPr/>
        </p:nvPicPr>
        <p:blipFill>
          <a:blip r:embed="rId1"/>
          <a:stretch/>
        </p:blipFill>
        <p:spPr>
          <a:xfrm>
            <a:off x="2514600" y="2819520"/>
            <a:ext cx="4667400" cy="33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3A336-E7CB-4ADB-8B2E-BD59C97D0BD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Renewal Process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Renewal Applications software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Print Renewal Applications and List Renewal Application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pic>
        <p:nvPicPr>
          <p:cNvPr id="192" name="renewalprint" descr=""/>
          <p:cNvPicPr/>
          <p:nvPr/>
        </p:nvPicPr>
        <p:blipFill>
          <a:blip r:embed="rId1"/>
          <a:stretch/>
        </p:blipFill>
        <p:spPr>
          <a:xfrm>
            <a:off x="3733920" y="2362320"/>
            <a:ext cx="4763880" cy="361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99A35-4CFE-4B6E-B96F-BF90B7713DE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Further Assistance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We appreciate your feedback and comments.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12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2000a"/>
                </a:solidFill>
                <a:latin typeface="Arial"/>
              </a:rPr>
              <a:t>CPS Customer Service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12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Phone: (800) 330-5947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12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Fax: (319) 358-4260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12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Email: &lt;cps@ncs.com&gt;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12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TDD/TTY: (800) 511-5806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12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2000a"/>
                </a:solidFill>
                <a:latin typeface="Arial"/>
              </a:rPr>
              <a:t>SFATECH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http://www.ed.gov/offices/OSFAP/sfatech/index.html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3BC11-9FF1-488C-B7E5-016F7B47728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09320" y="259056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c2000a"/>
                </a:solidFill>
                <a:latin typeface="Arial"/>
              </a:rPr>
              <a:t>Questions?</a:t>
            </a:r>
            <a:endParaRPr b="1" i="1" lang="en-US" sz="72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D39A8-077B-4E17-8175-804CE46A3E0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F8B1F-89E6-4F5F-AF5D-3D5596ACCDB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Agenda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91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FAFSA Change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Consistency Improvement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Printing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Global Setup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Update Database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Correction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53160" y="1828800"/>
            <a:ext cx="4092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Import Function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User Database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Multiple Entry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List Change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Data Entry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Document Tracking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Query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RAD Proces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9B9AA-33EC-4E85-83AF-995C7289D1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Changes to the FAFSA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91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First name expanded from 9 to 12 character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Address field expanded to 35 character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pic>
        <p:nvPicPr>
          <p:cNvPr id="99" name="EDE7%20name%20address" descr=""/>
          <p:cNvPicPr/>
          <p:nvPr/>
        </p:nvPicPr>
        <p:blipFill>
          <a:blip r:embed="rId1"/>
          <a:stretch/>
        </p:blipFill>
        <p:spPr>
          <a:xfrm>
            <a:off x="3581280" y="2438280"/>
            <a:ext cx="5410440" cy="21290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705720" y="2895480"/>
            <a:ext cx="1600200" cy="53352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3352680"/>
            <a:ext cx="3429000" cy="53352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2413D-810E-4CEE-9E84-72FE6EA256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Other FAFSA Changes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853160" y="1828800"/>
            <a:ext cx="4092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Worksheet C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Business/Farm Net Worth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pic>
        <p:nvPicPr>
          <p:cNvPr id="104" name="fafsa%20change%202" descr=""/>
          <p:cNvPicPr/>
          <p:nvPr/>
        </p:nvPicPr>
        <p:blipFill>
          <a:blip r:embed="rId1"/>
          <a:stretch/>
        </p:blipFill>
        <p:spPr>
          <a:xfrm>
            <a:off x="758880" y="1295280"/>
            <a:ext cx="3946320" cy="4114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33520" y="3809880"/>
            <a:ext cx="2057400" cy="30492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191120"/>
            <a:ext cx="2361960" cy="38088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E2462-2CA0-4126-87C6-FA90DC600D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Other FAFSA Changes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91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Drug Eligibility Question moved from #28 to #35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Do you have children?”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pic>
        <p:nvPicPr>
          <p:cNvPr id="109" name="fafsa%20change%203" descr=""/>
          <p:cNvPicPr/>
          <p:nvPr/>
        </p:nvPicPr>
        <p:blipFill>
          <a:blip r:embed="rId1"/>
          <a:stretch/>
        </p:blipFill>
        <p:spPr>
          <a:xfrm>
            <a:off x="4572000" y="1447920"/>
            <a:ext cx="4267080" cy="14014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495680" y="1828800"/>
            <a:ext cx="3886200" cy="53352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fafsa%20change%204" descr=""/>
          <p:cNvPicPr/>
          <p:nvPr/>
        </p:nvPicPr>
        <p:blipFill>
          <a:blip r:embed="rId2"/>
          <a:stretch/>
        </p:blipFill>
        <p:spPr>
          <a:xfrm>
            <a:off x="3276720" y="3276720"/>
            <a:ext cx="5181480" cy="2747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048120" y="4038480"/>
            <a:ext cx="4952880" cy="129564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CC1A2-5AF2-4EA0-A8E2-085F1A01C5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Other FAFSA Changes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tudent email addresse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collected from FAFSA on the Web applications, electronic applications, and electronic correction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email address is correctable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pic>
        <p:nvPicPr>
          <p:cNvPr id="115" name="fafsa%20change%205" descr=""/>
          <p:cNvPicPr/>
          <p:nvPr/>
        </p:nvPicPr>
        <p:blipFill>
          <a:blip r:embed="rId1"/>
          <a:stretch/>
        </p:blipFill>
        <p:spPr>
          <a:xfrm>
            <a:off x="1447920" y="4343400"/>
            <a:ext cx="6476760" cy="12542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371600" y="4495680"/>
            <a:ext cx="6629400" cy="91440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9B98C-FC5D-4501-BDD0-0142CA9376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Other FAFSA Changes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EDExpress will reflect other ISIR deletions and revised data element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Printed ISIR will reflect changes to NSLDS data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tate Agency ISIRs will contain NSLDS data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F45EF-0C1B-466B-9481-0A5DDBE425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8T20:32:24Z</dcterms:created>
  <dc:creator>Tim Weedlun</dc:creator>
  <dc:description/>
  <dc:language>en-US</dc:language>
  <cp:lastModifiedBy>I.R.G.</cp:lastModifiedBy>
  <cp:lastPrinted>2000-10-03T18:09:50Z</cp:lastPrinted>
  <dcterms:modified xsi:type="dcterms:W3CDTF">2001-01-08T16:23:31Z</dcterms:modified>
  <cp:revision>63</cp:revision>
  <dc:subject/>
  <dc:title>No Slide Title</dc:title>
</cp:coreProperties>
</file>