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402444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00a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BCF5-AC43-4E36-8E3A-537671A5F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ENAS Calcs is now Estimated EFC 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2 option result of increased size of address field.  (Across 3 may truncate long address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s schools to print list of ISIRs without duplications caused my multiple student trans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added as result of user sugg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he option of choosing which setup information you want to carry over to the new version of the softw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ries cannot be moved if they reference a field that has been modified, deleted, reference a field in the User Database, or contain a date param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curity setup is moved, Groups and Users will be set to no access until the SYSADMIN reviews the sett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hanges have been made to reduce the risk of data loss or corruption during the database version updat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 and @ will print on IS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those of you who request renewal data had a chance to use the Renewal softwar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name field will allow students with longer first names, like Christopher, to enter their entire first name.  According to ED, 53,000 students named Christopher filed FAFSAs in 2000-2001.  555,000 students filed with first names that used all 9 characters.  (Jacqueline is another example of an affected nam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ed address field to accommodate longer street addresses, specifically Puerto Rico addresses and addresses with apartment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s other than a spouse has been divided into two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children you suppo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legal dependents other than children or spou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ail address will not be collected from paper FAF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ail address is on Demo tab and will export with initial application if entered.  Will export with correction if the email address has been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E77EE-9DAB-4CD0-A535-06C6B2F08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5E0D1-A5BA-41E3-834E-3377CB4E4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04EA8-5F5C-4C6B-9AD8-C70323493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6C93-F102-434B-A5FA-1286AACCB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725BF-BA1A-4ECE-9D04-CB72D355C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F0DC0-1D3F-4F7B-AC4F-175BB69A9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C96A4-5D6F-4E56-8BFC-F34F3C771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A1163-0C5B-457D-8187-F7F90F56C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3227-E9B9-43F0-9F74-DC0D5CA87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FB58D-FC43-43B6-9360-25B8661A9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A9091-6AB2-46D3-A847-1166B19E9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3415F-2FE7-4AB1-A41D-B1F29D8CA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19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19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29B5-10FB-4DA7-8A35-56CC8D79C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lid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1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67440" y="64771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15200" y="647712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A68A-6518-4B65-99A0-037E4CE08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Title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onsistency Improvement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All references to “Institution Code” and “Institution” are changed to “Federal School Code” and “School” throughout software, help text, and documentation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All references to “formerly Title IV WAN” are removed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G ID” and “TG ID #” will be changed to “TG #”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A6DC2-876D-4E39-98EC-2E8E5A82A6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onsistency Improvement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Options to Print Estimated EFC will be labeled consistently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23" name="efc%20calc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700520" cy="2341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14600" y="4038480"/>
            <a:ext cx="2514600" cy="83844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C6298-3523-4C3B-ADA6-BD0D6DAD66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Printing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option for printing mailing labels “Across 2”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27" name="printmaillabels" descr=""/>
          <p:cNvPicPr/>
          <p:nvPr/>
        </p:nvPicPr>
        <p:blipFill>
          <a:blip r:embed="rId1"/>
          <a:stretch/>
        </p:blipFill>
        <p:spPr>
          <a:xfrm>
            <a:off x="3581280" y="1523880"/>
            <a:ext cx="5373720" cy="4079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657600" y="3962520"/>
            <a:ext cx="1676520" cy="9144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F57B-9756-4D5F-8A25-77AFC79414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Printing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DExpress will have a print option under List-Processed ISIRs to print either Highest or Active Transaction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31" name="transaction%20pref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6172200" cy="1917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47920" y="3809880"/>
            <a:ext cx="6172200" cy="16765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D4BB7-68D2-406D-88AB-5F12CFE323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Global Setup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DExpress will allow demographic, setup, and most queries to be moved forward from the prior year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35" name="prior%20year%20data" descr=""/>
          <p:cNvPicPr/>
          <p:nvPr/>
        </p:nvPicPr>
        <p:blipFill>
          <a:blip r:embed="rId1"/>
          <a:stretch/>
        </p:blipFill>
        <p:spPr>
          <a:xfrm>
            <a:off x="2590920" y="3581280"/>
            <a:ext cx="4495680" cy="219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BB150-E33A-4697-9605-BD77E77F3F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Global Setup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pic>
        <p:nvPicPr>
          <p:cNvPr id="137" name="prior%20year%20move" descr=""/>
          <p:cNvPicPr/>
          <p:nvPr/>
        </p:nvPicPr>
        <p:blipFill>
          <a:blip r:embed="rId1"/>
          <a:stretch/>
        </p:blipFill>
        <p:spPr>
          <a:xfrm>
            <a:off x="1903320" y="1728720"/>
            <a:ext cx="5335560" cy="340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F71C3-7E88-4775-BDF1-EF993011AF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Global Setup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an move forwar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Demographic Data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Security Groups Setup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Most Querie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Pell Setup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Packaging Methodology and Academic Year Profile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53160" y="1828800"/>
            <a:ext cx="409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annot move forwar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Queries that reference modified/deleted fields, User Database, or date parameter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Estimated Disbursement Dates in Pell Setup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D9FBE-90A7-49A9-8D2A-8A8204AD9E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Update Databas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e update database will be renamed so that the filename is application and year specific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e update process will be modified to run only onc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ere will be a new comparison process of the version number in registry with the version of the database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DDD00-9292-4B8A-B372-4BC87AA7B9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orrection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orrection ISIRs will return in message class CORR02OP.  (Rejected corrections will be returned in message class CORE02OP)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orrection flags will allow tracking of corrections by transaction and cumulatively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#: corrected on this transaction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@: corrected on previous transaction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BD6D4-52B7-4807-AA02-76AE63DF55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orrection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3581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Quick Correction” will allow assumption and override capability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47" name="quick%20correction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4876920" cy="4498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809880" y="3505320"/>
            <a:ext cx="4876920" cy="198108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DFF42-367F-486A-B109-6B6F461746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ession 12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819520"/>
            <a:ext cx="838188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19a8"/>
                </a:solidFill>
                <a:latin typeface="Arial"/>
              </a:rPr>
              <a:t>EDExpress Application Processing—What’s New and Q&amp;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1FB32-09F4-4A52-9186-0D64D8FA3B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Import Function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53160" y="1828800"/>
            <a:ext cx="409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ISIR imports combined into one import typ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The first four characters of the message class will appear next to the import descriptions 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2280" y="1440000"/>
            <a:ext cx="4548240" cy="38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DF9A9-DC53-444A-A707-F90A24A476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Import Function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New import type added for hold files (HOLD02OP)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Daily file containing information for students who listed your institution on a web application and are pending a signatur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54" name="holdimport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524120" cy="2295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029200" y="3352680"/>
            <a:ext cx="1600200" cy="5335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06C74-52CF-4BE4-B024-8C422788BE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User Databas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336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Valid values for User Data Field Names will be changed to A-Z and 0-9.  First character must be a letter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haracters such as ‘.’, ‘!’, and “()’ will no longer be allowe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This change is to avoid database error message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58" name="user%20data%20student" descr=""/>
          <p:cNvPicPr/>
          <p:nvPr/>
        </p:nvPicPr>
        <p:blipFill>
          <a:blip r:embed="rId1"/>
          <a:stretch/>
        </p:blipFill>
        <p:spPr>
          <a:xfrm>
            <a:off x="1523880" y="4724280"/>
            <a:ext cx="6888240" cy="13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69A63-2A5B-4499-8ED9-802DB78AB5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Multiple Entry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tudent last name added to Multiple Entry screen to make it easier to select records.  Users will be able to sort students by last nam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61" name="multiple%20entry" descr=""/>
          <p:cNvPicPr/>
          <p:nvPr/>
        </p:nvPicPr>
        <p:blipFill>
          <a:blip r:embed="rId1"/>
          <a:stretch/>
        </p:blipFill>
        <p:spPr>
          <a:xfrm>
            <a:off x="3505320" y="1752480"/>
            <a:ext cx="517356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C5EBD-9965-4184-8C3F-B2F4FF05C6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List Change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8840" y="1218960"/>
            <a:ext cx="3962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rocess|List Changes from SAR/ISIR tab will allow sorting on the grid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List Changes will properly display Dependency Overrides and FAA Adjustment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64" name="list%20changes%202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4695840" cy="3274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48120" y="2590920"/>
            <a:ext cx="838080" cy="38088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4191120"/>
            <a:ext cx="2514600" cy="38088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1BE99-C62A-402A-9DB3-8CC51EE73D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Data Entry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4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Hotkeys added for Open (ctrl + O) and New (ctrl + N)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Demo Tab will not edit on Permanent Zip Cod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ntry of invalid dates (example:12/39/2000) no longer allowed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Displays ID of user that originally imported the ISIR.  Will no longer temporarily change when another user makes correction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12B0D-7AA3-4FC0-8080-5DF4C8A895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Document Tracking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When adding documents, the dialog box will contain a date range field as well as a Transaction Preference dropdown box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A new document status of “Received Not Reviewed” will be added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Users will have the option of modifying the greeting and closing of the Document Tracking Letter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9FAA2-30CB-4AD9-B793-3766A72457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Document Tracking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rocess|Add Documents will allow documents to be added to highest or active transaction, or by date rang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73" name="add%20docs" descr=""/>
          <p:cNvPicPr/>
          <p:nvPr/>
        </p:nvPicPr>
        <p:blipFill>
          <a:blip r:embed="rId1"/>
          <a:stretch/>
        </p:blipFill>
        <p:spPr>
          <a:xfrm>
            <a:off x="1828800" y="3505320"/>
            <a:ext cx="5791320" cy="203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ADCD5-524A-44A3-9400-FA0B0F7648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Query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Additional predefined queries added to allow users to search for data in comma separated fields (such as ISIR reject codes)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76" name="query%20grid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735440" cy="3600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038480" y="3581280"/>
            <a:ext cx="381240" cy="304920"/>
          </a:xfrm>
          <a:prstGeom prst="rightArrow">
            <a:avLst>
              <a:gd name="adj1" fmla="val 50000"/>
              <a:gd name="adj2" fmla="val 3125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CBC7B-4BBA-4173-A758-ADDDE9D285D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Query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DExpress will contain a browsable grid of all query fields for each modul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80" name="browse%20queries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334120" cy="350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CF955-6569-478D-9519-FF358EF43BC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EDExpress Application Processing—</a:t>
            </a:r>
            <a:br>
              <a:rPr sz="4000"/>
            </a:b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What’s New and Q &amp; A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Who is this session geared for?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ll level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valuation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Time for Q&amp;A at end of session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9B102-90B2-42BD-A82B-011B541A7B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Query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Help will make every effort to supply information about valid field content instead of referring user to the technical referenc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83" name="query%20value%20help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7269120" cy="146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369CA-5F98-4BE5-8FB2-61E559DC5D9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RAD Proces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New </a:t>
            </a:r>
            <a:r>
              <a:rPr b="0" i="1" lang="en-US" sz="3200" spc="-1" strike="noStrike">
                <a:solidFill>
                  <a:srgbClr val="0019a8"/>
                </a:solidFill>
                <a:latin typeface="Arial"/>
              </a:rPr>
              <a:t>Renewal Applications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softwar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86" name="renewal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4343400" cy="27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FF5B6-BFAB-4CCE-9674-2C047B4F23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RAD Proces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Renewal Applications softwar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Import RAD files (RADD02OP)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Import and print RAD error files (EREP02OP)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89" name="renewalimport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466740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2966-4DBE-4280-8EED-93EAD335DCB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Renewal Proces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Renewal Applications softwar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Print Renewal Applications and List Renewal Application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92" name="renewalprint" descr=""/>
          <p:cNvPicPr/>
          <p:nvPr/>
        </p:nvPicPr>
        <p:blipFill>
          <a:blip r:embed="rId1"/>
          <a:stretch/>
        </p:blipFill>
        <p:spPr>
          <a:xfrm>
            <a:off x="3733920" y="2362320"/>
            <a:ext cx="4763880" cy="361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E0F69-4AB8-412D-AC4B-ACEFF11FF8D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Further Assistanc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We appreciate your feedback and comments.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2000a"/>
                </a:solidFill>
                <a:latin typeface="Arial"/>
              </a:rPr>
              <a:t>CPS Customer Servic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Phone: (800) 330-5947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Fax: (319) 358-4260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Email: &lt;cps@ncs.com&gt;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TDD/TTY: (800) 511-5806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2000a"/>
                </a:solidFill>
                <a:latin typeface="Arial"/>
              </a:rPr>
              <a:t>SFATECH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http://www.ed.gov/offices/OSFAP/sfatech/index.html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D8920-5D0D-42DD-839F-C47FA3DEB91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09320" y="259056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2000a"/>
                </a:solidFill>
                <a:latin typeface="Arial"/>
              </a:rPr>
              <a:t>Questions?</a:t>
            </a:r>
            <a:endParaRPr b="1" i="1" lang="en-US" sz="72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8622D-EC92-496B-9769-2CB855A4CDC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E9B15-AA29-4966-B205-BF881EC17E9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Agenda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FAFSA Change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onsistency Improvement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Printing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Global Setup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Update Databas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orrection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53160" y="1828800"/>
            <a:ext cx="409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Import Function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User Databas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Multiple Entry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List Change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ata Entry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ocument Tracking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Query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RAD Proces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72CA2-ED8C-4524-A7AA-217CB2B1B2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hanges to the FAFSA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First name expanded from 9 to 12 character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ddress field expanded to 35 character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99" name="EDE7%20name%20address" descr=""/>
          <p:cNvPicPr/>
          <p:nvPr/>
        </p:nvPicPr>
        <p:blipFill>
          <a:blip r:embed="rId1"/>
          <a:stretch/>
        </p:blipFill>
        <p:spPr>
          <a:xfrm>
            <a:off x="3581280" y="2438280"/>
            <a:ext cx="5410440" cy="2129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705720" y="2895480"/>
            <a:ext cx="1600200" cy="5335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352680"/>
            <a:ext cx="3429000" cy="5335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8D75B-CF1D-4B46-BD12-6E1CC17F36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Other FAFSA Change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53160" y="1828800"/>
            <a:ext cx="409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Worksheet C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Business/Farm Net Worth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04" name="fafsa%20change%202" descr=""/>
          <p:cNvPicPr/>
          <p:nvPr/>
        </p:nvPicPr>
        <p:blipFill>
          <a:blip r:embed="rId1"/>
          <a:stretch/>
        </p:blipFill>
        <p:spPr>
          <a:xfrm>
            <a:off x="758880" y="1295280"/>
            <a:ext cx="3946320" cy="4114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520" y="3809880"/>
            <a:ext cx="2057400" cy="3049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38088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DC46D-108B-46B4-B0EE-761B02C06D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Other FAFSA Change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rug Eligibility Question moved from #28 to #35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o you have children?”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09" name="fafsa%20change%203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4267080" cy="1401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95680" y="1828800"/>
            <a:ext cx="3886200" cy="5335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fafsa%20change%204" descr=""/>
          <p:cNvPicPr/>
          <p:nvPr/>
        </p:nvPicPr>
        <p:blipFill>
          <a:blip r:embed="rId2"/>
          <a:stretch/>
        </p:blipFill>
        <p:spPr>
          <a:xfrm>
            <a:off x="3276720" y="3276720"/>
            <a:ext cx="5181480" cy="2747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8120" y="4038480"/>
            <a:ext cx="4952880" cy="129564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49666-4AA5-4D44-BE94-02683F7509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Other FAFSA Change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tudent email address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collected from FAFSA on the Web applications, electronic applications, and electronic correction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email address is correctable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pic>
        <p:nvPicPr>
          <p:cNvPr id="115" name="fafsa%20change%205" descr=""/>
          <p:cNvPicPr/>
          <p:nvPr/>
        </p:nvPicPr>
        <p:blipFill>
          <a:blip r:embed="rId1"/>
          <a:stretch/>
        </p:blipFill>
        <p:spPr>
          <a:xfrm>
            <a:off x="1447920" y="4343400"/>
            <a:ext cx="6476760" cy="1254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371600" y="4495680"/>
            <a:ext cx="6629400" cy="9144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8CB2A-9C67-4E98-A1B9-6877753D6B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Other FAFSA Change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DExpress will reflect other ISIR deletions and revised data element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rinted ISIR will reflect changes to NSLDS data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tate Agency ISIRs will contain NSLDS data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12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F9A1F-FDC9-425F-A408-DC95D89EF5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8T20:32:24Z</dcterms:created>
  <dc:creator>Tim Weedlun</dc:creator>
  <dc:description/>
  <dc:language>en-US</dc:language>
  <cp:lastModifiedBy>I.R.G.</cp:lastModifiedBy>
  <cp:lastPrinted>2000-10-03T18:09:50Z</cp:lastPrinted>
  <dcterms:modified xsi:type="dcterms:W3CDTF">2001-01-08T16:23:31Z</dcterms:modified>
  <cp:revision>63</cp:revision>
  <dc:subject/>
  <dc:title>No Slide Title</dc:title>
</cp:coreProperties>
</file>