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26716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815C-651A-4D9C-AC89-999EB8EDE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4F9E-CDEA-4B54-A5FA-34D874B4B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483D-450D-4DFF-BB3F-B81FFF52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14BD-47CE-4D51-A5C0-EAADFC572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5F9E-2459-4BDC-A27F-E23D1580D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1F63-2FA1-4552-8050-20FA2A238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F9DD-EB29-4125-A685-69A8A21F1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C8F8-9CE1-412E-B843-0BFC3DB5F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5F6F-934F-4602-BDD4-D357DD9D7A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7124-E7D1-429B-9CD6-B7EAD0849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3737-EEB2-48FA-BCFD-CBF3D75B3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98E8-3ED5-4C0E-BCF4-FAF28303D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D502-1BEA-40F2-A100-3DF6C6702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34C5-17E6-4ED4-B42A-F71BD28FF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CABA-56D8-482F-9B47-F4F9E69CC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14EC-194D-42A1-B6E9-409F5C0C3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CF4C-0E48-4F2A-9CF6-C621DC3B6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AB7F-F56A-4EAA-ACF5-4ADBD829F3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6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19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s://ecdrappeals.ed.gov/ecdra/index.html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ifap.ed.gov/" TargetMode="External"/><Relationship Id="rId2" Type="http://schemas.openxmlformats.org/officeDocument/2006/relationships/hyperlink" Target="http://www.ifap.ed.gov/DefaultManagement/DefaultManagement.html" TargetMode="External"/><Relationship Id="rId3" Type="http://schemas.openxmlformats.org/officeDocument/2006/relationships/hyperlink" Target="https://ecdrappeals.ed.gov/" TargetMode="Externa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18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3209"/>
                </a:solidFill>
                <a:latin typeface="Verdana"/>
              </a:rPr>
              <a:t>COHORT DEFAULT RATE CALCULATIONS AND IMP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atrina Tur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ances Robins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eff Ba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143000" y="2286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ool Rates for FFEL and Direct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What is the CDR Calculation? </a:t>
            </a: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rrently, a school’s cohort default rate 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ercentage of the number of the school’s FFEL and Direct Loan borrowers who enter repayment in one federal fiscal yea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ho default in that federal fiscal Year or by the end of the next federal fiscal ye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inning with the 2009 cohort it will b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rrower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ho default in that federal fiscal year or by the end of the next two federal fiscal yea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952E-17B5-419F-90EE-8E1776CD457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2-Year Versus 3-Year Calcul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520" y="1447920"/>
            <a:ext cx="71625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19320" y="15238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number of borrowers from the denominator who default within a cohort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ectangle 4"/>
          <p:cNvGrpSpPr/>
          <p:nvPr/>
        </p:nvGrpSpPr>
        <p:grpSpPr>
          <a:xfrm>
            <a:off x="353880" y="1652760"/>
            <a:ext cx="731880" cy="425160"/>
            <a:chOff x="353880" y="1652760"/>
            <a:chExt cx="731880" cy="425160"/>
          </a:xfrm>
        </p:grpSpPr>
        <p:pic>
          <p:nvPicPr>
            <p:cNvPr id="95" name="Rectangle 4" descr=""/>
            <p:cNvPicPr/>
            <p:nvPr/>
          </p:nvPicPr>
          <p:blipFill>
            <a:blip r:embed="rId1"/>
            <a:stretch/>
          </p:blipFill>
          <p:spPr>
            <a:xfrm>
              <a:off x="353880" y="1652760"/>
              <a:ext cx="73188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80880" y="167652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Rectangle 5"/>
          <p:cNvGrpSpPr/>
          <p:nvPr/>
        </p:nvGrpSpPr>
        <p:grpSpPr>
          <a:xfrm>
            <a:off x="4621320" y="1652760"/>
            <a:ext cx="731880" cy="425160"/>
            <a:chOff x="4621320" y="1652760"/>
            <a:chExt cx="731880" cy="425160"/>
          </a:xfrm>
        </p:grpSpPr>
        <p:pic>
          <p:nvPicPr>
            <p:cNvPr id="98" name="Rectangle 5" descr=""/>
            <p:cNvPicPr/>
            <p:nvPr/>
          </p:nvPicPr>
          <p:blipFill>
            <a:blip r:embed="rId2"/>
            <a:stretch/>
          </p:blipFill>
          <p:spPr>
            <a:xfrm>
              <a:off x="4621320" y="1652760"/>
              <a:ext cx="73188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648320" y="167652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Text Box 6"/>
          <p:cNvSpPr/>
          <p:nvPr/>
        </p:nvSpPr>
        <p:spPr>
          <a:xfrm>
            <a:off x="5410080" y="16002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number of borrowers who enter repayment within a cohort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410080" y="3200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      .071 or 7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410080" y="4724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      .121 or 12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1"/>
          <p:cNvGrpSpPr/>
          <p:nvPr/>
        </p:nvGrpSpPr>
        <p:grpSpPr>
          <a:xfrm>
            <a:off x="380880" y="2971800"/>
            <a:ext cx="4030200" cy="1294920"/>
            <a:chOff x="380880" y="2971800"/>
            <a:chExt cx="4030200" cy="1294920"/>
          </a:xfrm>
        </p:grpSpPr>
        <p:grpSp>
          <p:nvGrpSpPr>
            <p:cNvPr id="104" name="Text Box 9"/>
            <p:cNvGrpSpPr/>
            <p:nvPr/>
          </p:nvGrpSpPr>
          <p:grpSpPr>
            <a:xfrm>
              <a:off x="380880" y="3756600"/>
              <a:ext cx="1714320" cy="510120"/>
              <a:chOff x="380880" y="3756600"/>
              <a:chExt cx="1714320" cy="510120"/>
            </a:xfrm>
          </p:grpSpPr>
          <p:pic>
            <p:nvPicPr>
              <p:cNvPr id="105" name="Text Box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756600"/>
                <a:ext cx="1714320" cy="51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407880" y="3782880"/>
                <a:ext cx="166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5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 Box 10"/>
            <p:cNvSpPr/>
            <p:nvPr/>
          </p:nvSpPr>
          <p:spPr>
            <a:xfrm>
              <a:off x="407160" y="297180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Y-09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2830680" y="2971800"/>
              <a:ext cx="15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Y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Text Box 12"/>
            <p:cNvGrpSpPr/>
            <p:nvPr/>
          </p:nvGrpSpPr>
          <p:grpSpPr>
            <a:xfrm>
              <a:off x="380880" y="3317040"/>
              <a:ext cx="1714320" cy="498960"/>
              <a:chOff x="380880" y="3317040"/>
              <a:chExt cx="1714320" cy="498960"/>
            </a:xfrm>
          </p:grpSpPr>
          <p:pic>
            <p:nvPicPr>
              <p:cNvPr id="110" name="Text Box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80880" y="3317040"/>
                <a:ext cx="1714320" cy="49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407880" y="3342600"/>
                <a:ext cx="166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1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Text Box 13"/>
            <p:cNvGrpSpPr/>
            <p:nvPr/>
          </p:nvGrpSpPr>
          <p:grpSpPr>
            <a:xfrm>
              <a:off x="2650680" y="3323520"/>
              <a:ext cx="1598400" cy="498600"/>
              <a:chOff x="2650680" y="3323520"/>
              <a:chExt cx="1598400" cy="498600"/>
            </a:xfrm>
          </p:grpSpPr>
          <p:pic>
            <p:nvPicPr>
              <p:cNvPr id="113" name="Text Box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2650680" y="3323520"/>
                <a:ext cx="1598400" cy="4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2676600" y="3346920"/>
                <a:ext cx="155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Group 22"/>
          <p:cNvGrpSpPr/>
          <p:nvPr/>
        </p:nvGrpSpPr>
        <p:grpSpPr>
          <a:xfrm>
            <a:off x="380880" y="4648320"/>
            <a:ext cx="4497120" cy="1301400"/>
            <a:chOff x="380880" y="4648320"/>
            <a:chExt cx="4497120" cy="1301400"/>
          </a:xfrm>
        </p:grpSpPr>
        <p:grpSp>
          <p:nvGrpSpPr>
            <p:cNvPr id="116" name="Text Box 14"/>
            <p:cNvGrpSpPr/>
            <p:nvPr/>
          </p:nvGrpSpPr>
          <p:grpSpPr>
            <a:xfrm>
              <a:off x="380880" y="5450400"/>
              <a:ext cx="1260720" cy="499320"/>
              <a:chOff x="380880" y="5450400"/>
              <a:chExt cx="1260720" cy="499320"/>
            </a:xfrm>
          </p:grpSpPr>
          <p:pic>
            <p:nvPicPr>
              <p:cNvPr id="117" name="Text Box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380880" y="5450400"/>
                <a:ext cx="1260720" cy="49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407880" y="5475240"/>
                <a:ext cx="121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5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407520" y="4648320"/>
              <a:ext cx="113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Y-0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740040" y="464832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Y-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2149200" y="4648320"/>
              <a:ext cx="108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Y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Text Box 18"/>
            <p:cNvGrpSpPr/>
            <p:nvPr/>
          </p:nvGrpSpPr>
          <p:grpSpPr>
            <a:xfrm>
              <a:off x="380880" y="4981680"/>
              <a:ext cx="1260720" cy="498960"/>
              <a:chOff x="380880" y="4981680"/>
              <a:chExt cx="1260720" cy="498960"/>
            </a:xfrm>
          </p:grpSpPr>
          <p:pic>
            <p:nvPicPr>
              <p:cNvPr id="123" name="Text Box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380880" y="4981680"/>
                <a:ext cx="1260720" cy="49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407880" y="5004720"/>
                <a:ext cx="121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1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Text Box 19"/>
            <p:cNvGrpSpPr/>
            <p:nvPr/>
          </p:nvGrpSpPr>
          <p:grpSpPr>
            <a:xfrm>
              <a:off x="2052720" y="4981680"/>
              <a:ext cx="1175040" cy="498960"/>
              <a:chOff x="2052720" y="4981680"/>
              <a:chExt cx="1175040" cy="498960"/>
            </a:xfrm>
          </p:grpSpPr>
          <p:pic>
            <p:nvPicPr>
              <p:cNvPr id="126" name="Text Box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2052720" y="4981680"/>
                <a:ext cx="1175040" cy="49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2074680" y="5004720"/>
                <a:ext cx="113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Text Box 20"/>
            <p:cNvGrpSpPr/>
            <p:nvPr/>
          </p:nvGrpSpPr>
          <p:grpSpPr>
            <a:xfrm>
              <a:off x="3640680" y="4981680"/>
              <a:ext cx="1188360" cy="498960"/>
              <a:chOff x="3640680" y="4981680"/>
              <a:chExt cx="1188360" cy="498960"/>
            </a:xfrm>
          </p:grpSpPr>
          <p:pic>
            <p:nvPicPr>
              <p:cNvPr id="129" name="Text Box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640680" y="4981680"/>
                <a:ext cx="1188360" cy="49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664440" y="5004720"/>
                <a:ext cx="114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Equal 26"/>
          <p:cNvGrpSpPr/>
          <p:nvPr/>
        </p:nvGrpSpPr>
        <p:grpSpPr>
          <a:xfrm>
            <a:off x="6267600" y="3535200"/>
            <a:ext cx="334800" cy="238320"/>
            <a:chOff x="6267600" y="3535200"/>
            <a:chExt cx="334800" cy="238320"/>
          </a:xfrm>
        </p:grpSpPr>
        <p:pic>
          <p:nvPicPr>
            <p:cNvPr id="132" name="Equal 26" descr=""/>
            <p:cNvPicPr/>
            <p:nvPr/>
          </p:nvPicPr>
          <p:blipFill>
            <a:blip r:embed="rId10"/>
            <a:stretch/>
          </p:blipFill>
          <p:spPr>
            <a:xfrm>
              <a:off x="6267600" y="3535200"/>
              <a:ext cx="33480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299280" y="3568680"/>
              <a:ext cx="279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Minus 27"/>
          <p:cNvGrpSpPr/>
          <p:nvPr/>
        </p:nvGrpSpPr>
        <p:grpSpPr>
          <a:xfrm>
            <a:off x="5529240" y="3578400"/>
            <a:ext cx="444600" cy="72720"/>
            <a:chOff x="5529240" y="3578400"/>
            <a:chExt cx="444600" cy="72720"/>
          </a:xfrm>
        </p:grpSpPr>
        <p:pic>
          <p:nvPicPr>
            <p:cNvPr id="135" name="Minus 27" descr=""/>
            <p:cNvPicPr/>
            <p:nvPr/>
          </p:nvPicPr>
          <p:blipFill>
            <a:blip r:embed="rId11"/>
            <a:stretch/>
          </p:blipFill>
          <p:spPr>
            <a:xfrm>
              <a:off x="5529240" y="3578400"/>
              <a:ext cx="444600" cy="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557680" y="3610080"/>
              <a:ext cx="390600" cy="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Minus 28"/>
          <p:cNvGrpSpPr/>
          <p:nvPr/>
        </p:nvGrpSpPr>
        <p:grpSpPr>
          <a:xfrm>
            <a:off x="5529240" y="5102280"/>
            <a:ext cx="444600" cy="73080"/>
            <a:chOff x="5529240" y="5102280"/>
            <a:chExt cx="444600" cy="73080"/>
          </a:xfrm>
        </p:grpSpPr>
        <p:pic>
          <p:nvPicPr>
            <p:cNvPr id="138" name="Minus 28" descr=""/>
            <p:cNvPicPr/>
            <p:nvPr/>
          </p:nvPicPr>
          <p:blipFill>
            <a:blip r:embed="rId12"/>
            <a:stretch/>
          </p:blipFill>
          <p:spPr>
            <a:xfrm>
              <a:off x="5529240" y="5102280"/>
              <a:ext cx="444600" cy="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557680" y="5133960"/>
              <a:ext cx="390600" cy="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Equal 29"/>
          <p:cNvGrpSpPr/>
          <p:nvPr/>
        </p:nvGrpSpPr>
        <p:grpSpPr>
          <a:xfrm>
            <a:off x="6267600" y="5059440"/>
            <a:ext cx="334800" cy="237960"/>
            <a:chOff x="6267600" y="5059440"/>
            <a:chExt cx="334800" cy="237960"/>
          </a:xfrm>
        </p:grpSpPr>
        <p:pic>
          <p:nvPicPr>
            <p:cNvPr id="141" name="Equal 29" descr=""/>
            <p:cNvPicPr/>
            <p:nvPr/>
          </p:nvPicPr>
          <p:blipFill>
            <a:blip r:embed="rId13"/>
            <a:stretch/>
          </p:blipFill>
          <p:spPr>
            <a:xfrm>
              <a:off x="6267600" y="5059440"/>
              <a:ext cx="3348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299280" y="5092560"/>
              <a:ext cx="279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Cross 30"/>
          <p:cNvGrpSpPr/>
          <p:nvPr/>
        </p:nvGrpSpPr>
        <p:grpSpPr>
          <a:xfrm>
            <a:off x="2176560" y="3395520"/>
            <a:ext cx="365040" cy="365400"/>
            <a:chOff x="2176560" y="3395520"/>
            <a:chExt cx="365040" cy="365400"/>
          </a:xfrm>
        </p:grpSpPr>
        <p:pic>
          <p:nvPicPr>
            <p:cNvPr id="144" name="Cross 30" descr=""/>
            <p:cNvPicPr/>
            <p:nvPr/>
          </p:nvPicPr>
          <p:blipFill>
            <a:blip r:embed="rId14"/>
            <a:stretch/>
          </p:blipFill>
          <p:spPr>
            <a:xfrm>
              <a:off x="2176560" y="339552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86000" y="342900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Cross 32"/>
          <p:cNvGrpSpPr/>
          <p:nvPr/>
        </p:nvGrpSpPr>
        <p:grpSpPr>
          <a:xfrm>
            <a:off x="1646280" y="5072040"/>
            <a:ext cx="358560" cy="365040"/>
            <a:chOff x="1646280" y="5072040"/>
            <a:chExt cx="358560" cy="365040"/>
          </a:xfrm>
        </p:grpSpPr>
        <p:pic>
          <p:nvPicPr>
            <p:cNvPr id="147" name="Cross 32" descr=""/>
            <p:cNvPicPr/>
            <p:nvPr/>
          </p:nvPicPr>
          <p:blipFill>
            <a:blip r:embed="rId15"/>
            <a:stretch/>
          </p:blipFill>
          <p:spPr>
            <a:xfrm>
              <a:off x="1646280" y="5072040"/>
              <a:ext cx="35856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752480" y="51055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Cross 33"/>
          <p:cNvGrpSpPr/>
          <p:nvPr/>
        </p:nvGrpSpPr>
        <p:grpSpPr>
          <a:xfrm>
            <a:off x="3243240" y="5072040"/>
            <a:ext cx="365040" cy="365040"/>
            <a:chOff x="3243240" y="5072040"/>
            <a:chExt cx="365040" cy="365040"/>
          </a:xfrm>
        </p:grpSpPr>
        <p:pic>
          <p:nvPicPr>
            <p:cNvPr id="150" name="Cross 33" descr=""/>
            <p:cNvPicPr/>
            <p:nvPr/>
          </p:nvPicPr>
          <p:blipFill>
            <a:blip r:embed="rId16"/>
            <a:stretch/>
          </p:blipFill>
          <p:spPr>
            <a:xfrm>
              <a:off x="3243240" y="507204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352680" y="51055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Equal 36"/>
          <p:cNvGrpSpPr/>
          <p:nvPr/>
        </p:nvGrpSpPr>
        <p:grpSpPr>
          <a:xfrm>
            <a:off x="4821120" y="3535200"/>
            <a:ext cx="336600" cy="238320"/>
            <a:chOff x="4821120" y="3535200"/>
            <a:chExt cx="336600" cy="238320"/>
          </a:xfrm>
        </p:grpSpPr>
        <p:pic>
          <p:nvPicPr>
            <p:cNvPr id="153" name="Equal 36" descr=""/>
            <p:cNvPicPr/>
            <p:nvPr/>
          </p:nvPicPr>
          <p:blipFill>
            <a:blip r:embed="rId17"/>
            <a:stretch/>
          </p:blipFill>
          <p:spPr>
            <a:xfrm>
              <a:off x="4821120" y="3535200"/>
              <a:ext cx="33660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851360" y="3568680"/>
              <a:ext cx="279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Equal 37"/>
          <p:cNvGrpSpPr/>
          <p:nvPr/>
        </p:nvGrpSpPr>
        <p:grpSpPr>
          <a:xfrm>
            <a:off x="4973760" y="5059440"/>
            <a:ext cx="336600" cy="237960"/>
            <a:chOff x="4973760" y="5059440"/>
            <a:chExt cx="336600" cy="237960"/>
          </a:xfrm>
        </p:grpSpPr>
        <p:pic>
          <p:nvPicPr>
            <p:cNvPr id="156" name="Equal 37" descr=""/>
            <p:cNvPicPr/>
            <p:nvPr/>
          </p:nvPicPr>
          <p:blipFill>
            <a:blip r:embed="rId18"/>
            <a:stretch/>
          </p:blipFill>
          <p:spPr>
            <a:xfrm>
              <a:off x="4973760" y="5059440"/>
              <a:ext cx="3366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003640" y="5092560"/>
              <a:ext cx="279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Slide Number Placeholder 38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8315-D4AB-4664-8EE3-61B488EEF72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gress created a transition period during which “no school sanctions will be taken based on the 3-year calculated rate until after there have been three consecutive cohort years of such rates calculat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4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ring the transition period, sanctions will be based on calculations made according to pre-HEOA provis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4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sets of draft and official CDR rates will be issued annually for Cohort Years 2009, 2010, and 201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Transition Period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F846-BFF6-4A75-B103-E53113F7896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80880" y="3808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The Two-Year CDR Calendar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Table 4" descr=""/>
          <p:cNvPicPr/>
          <p:nvPr/>
        </p:nvPicPr>
        <p:blipFill>
          <a:blip r:embed="rId1"/>
          <a:stretch/>
        </p:blipFill>
        <p:spPr>
          <a:xfrm>
            <a:off x="1298520" y="1146240"/>
            <a:ext cx="669924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BB65-BEB6-481A-B7A0-8BED6EBAE9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26"/>
          <p:cNvSpPr/>
          <p:nvPr/>
        </p:nvSpPr>
        <p:spPr>
          <a:xfrm rot="153600">
            <a:off x="1003320" y="379440"/>
            <a:ext cx="738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alendar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26"/>
          <p:cNvSpPr/>
          <p:nvPr/>
        </p:nvSpPr>
        <p:spPr>
          <a:xfrm>
            <a:off x="533520" y="838080"/>
            <a:ext cx="7391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Three-Year CDR Calendar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26"/>
          <p:cNvSpPr/>
          <p:nvPr/>
        </p:nvSpPr>
        <p:spPr>
          <a:xfrm>
            <a:off x="228600" y="457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The Three-Year CDR Calendar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alendar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able 6" descr=""/>
          <p:cNvPicPr/>
          <p:nvPr/>
        </p:nvPicPr>
        <p:blipFill>
          <a:blip r:embed="rId1"/>
          <a:stretch/>
        </p:blipFill>
        <p:spPr>
          <a:xfrm>
            <a:off x="1450800" y="1378080"/>
            <a:ext cx="6699600" cy="441324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8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E3F6-44AE-4EB6-B9D5-5DED3847A2C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Transition Peri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363600" y="1905120"/>
            <a:ext cx="8780400" cy="38098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533520" y="1143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-Year vs. Three-Year Cohort Defaul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8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7220-B5EE-4FB7-9B9D-7A13972E99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le 1"/>
          <p:cNvSpPr/>
          <p:nvPr/>
        </p:nvSpPr>
        <p:spPr>
          <a:xfrm>
            <a:off x="228600" y="609480"/>
            <a:ext cx="8915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3209"/>
                </a:solidFill>
                <a:latin typeface="Verdana"/>
              </a:rPr>
              <a:t>Institutional CDR Calculations By CD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ontent Placeholder 2"/>
          <p:cNvSpPr/>
          <p:nvPr/>
        </p:nvSpPr>
        <p:spPr>
          <a:xfrm>
            <a:off x="1523880" y="1143000"/>
            <a:ext cx="655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aining Publications of 2-year 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Table 7" descr=""/>
          <p:cNvPicPr/>
          <p:nvPr/>
        </p:nvPicPr>
        <p:blipFill>
          <a:blip r:embed="rId1"/>
          <a:stretch/>
        </p:blipFill>
        <p:spPr>
          <a:xfrm>
            <a:off x="79200" y="2365200"/>
            <a:ext cx="8967960" cy="2962440"/>
          </a:xfrm>
          <a:prstGeom prst="rect">
            <a:avLst/>
          </a:prstGeom>
          <a:ln w="0">
            <a:noFill/>
          </a:ln>
        </p:spPr>
      </p:pic>
      <p:sp>
        <p:nvSpPr>
          <p:cNvPr id="178" name="Slide Number Placeholder 8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2D02-D010-464C-A8B2-9D970DAB5D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Table 3" descr=""/>
          <p:cNvPicPr/>
          <p:nvPr/>
        </p:nvPicPr>
        <p:blipFill>
          <a:blip r:embed="rId1"/>
          <a:stretch/>
        </p:blipFill>
        <p:spPr>
          <a:xfrm>
            <a:off x="158760" y="1901880"/>
            <a:ext cx="8717040" cy="4194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52280" y="6094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Institutional CDR Calculations By CD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99072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s of 3-year 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3112-F295-4AF2-B456-E4286925A2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62120" y="8380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Default Prevention Task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990720" y="1849320"/>
            <a:ext cx="7619760" cy="28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OA raised the single-year threshold  for preparing a default management plan from 25% to 3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2012, schools with a CDR equal to or greater than 30% must establish a default prevention task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1E6B-3E92-4388-B0DE-C35690F127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533520" y="4572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Default Prevention Task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52280" y="1295280"/>
            <a:ext cx="883944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ols must create a task force and prepar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fault prevention plan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ies the factors causing the school’s CDR to   exceed the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stablishes measurable objectives and identifies steps to take to improve the school’s 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pecifies actions the school will take to improve student loan repayment, including loan repayment couns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3C56-2217-4BF3-89E0-2C3DD23135A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2860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4920" y="457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04920" y="6094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ohort Default Rate Autho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1295280"/>
            <a:ext cx="80773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er Education Act of 19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ection 435(m) – CDR Calc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ection 428G – Disbursement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mended by Higher 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Opportunity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partment of Education’s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34 CFR Part 668, Subparts M an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Modified on October 28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NPRM Published on July 28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ohort Default Rate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681F-722D-4D36-BF67-A92599B4E5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09480" y="24382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CDR Challenge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Adjustments, and Appeal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CE37-E2D5-489F-8F3D-38979B9765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Challenges, Adjustments, and Appe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Diagram 4" descr=""/>
          <p:cNvPicPr/>
          <p:nvPr/>
        </p:nvPicPr>
        <p:blipFill>
          <a:blip r:embed="rId1"/>
          <a:stretch/>
        </p:blipFill>
        <p:spPr>
          <a:xfrm>
            <a:off x="981000" y="1487520"/>
            <a:ext cx="7304040" cy="468144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3897-4E93-437B-B096-C629F58A76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057400" y="762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CDR 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6200" y="1600200"/>
            <a:ext cx="41148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llenges are submitted by a school after the release of draf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hort default rate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ing the Loan Record Detail Repor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ccessful challenge will “fix” data that was used to calculate rat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1143000" y="1295280"/>
            <a:ext cx="2273400" cy="4572000"/>
            <a:chOff x="1143000" y="1295280"/>
            <a:chExt cx="2273400" cy="4572000"/>
          </a:xfrm>
        </p:grpSpPr>
        <p:grpSp>
          <p:nvGrpSpPr>
            <p:cNvPr id="198" name="Flowchart: Manual Operation 5"/>
            <p:cNvGrpSpPr/>
            <p:nvPr/>
          </p:nvGrpSpPr>
          <p:grpSpPr>
            <a:xfrm>
              <a:off x="1143000" y="1295280"/>
              <a:ext cx="2273400" cy="4572000"/>
              <a:chOff x="1143000" y="1295280"/>
              <a:chExt cx="2273400" cy="4572000"/>
            </a:xfrm>
          </p:grpSpPr>
          <p:pic>
            <p:nvPicPr>
              <p:cNvPr id="199" name="Flowchart: Manual Operation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1295280"/>
                <a:ext cx="227340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16200000">
                <a:off x="942840" y="2475720"/>
                <a:ext cx="2678760" cy="21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Flowchart: Manual Operation 4"/>
            <p:cNvSpPr/>
            <p:nvPr/>
          </p:nvSpPr>
          <p:spPr>
            <a:xfrm>
              <a:off x="1198080" y="2220840"/>
              <a:ext cx="2168280" cy="26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600" rIns="1216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Verdana"/>
                </a:rPr>
                <a:t>Challeng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correct Data Challenge (IDC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articipation Rate Index Challenge (PRI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Slide Number Placeholder 7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6241-C413-44D9-B18B-ADC9C9EE31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DR Challenge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1219320"/>
            <a:ext cx="89917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correct Data Challenge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re submitted to Guaranty Agencies(GA) for FFEL loans held by the GA and to the Department’s servicers for FFEL loans held by ED and for Direct Lo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ossible incorrect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68400" indent="-2826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orrower did not enter repayment during coho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68400" indent="-2826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orrower did not default during monitor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68400" indent="-2826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Other borrowers entered repayment during cohor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E916-CB12-4817-BD4D-2F8BACF46E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76212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CDR Challenges (continued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52280" y="121932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000" indent="-54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articipation Rate Index Challeng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re submitted to the Department of Education.  They are only available if school is potentially subject to loss of eligibility (or provisional certification) based on draf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000" indent="-54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000" indent="-54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No sanction is applied if, based upon statutory formula, only a small percentage  of a school’s students who could receive a Title IV loan actually received one during a defined enroll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A95A-AF01-4929-87DD-537B1A3DFF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685800" y="380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Verdana"/>
              </a:rPr>
              <a:t>CDR Challenge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7" descr="pri.jpg"/>
          <p:cNvPicPr/>
          <p:nvPr/>
        </p:nvPicPr>
        <p:blipFill>
          <a:blip r:embed="rId1"/>
          <a:stretch/>
        </p:blipFill>
        <p:spPr>
          <a:xfrm>
            <a:off x="609480" y="4114800"/>
            <a:ext cx="7848720" cy="2057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533520" y="1523880"/>
            <a:ext cx="8458200" cy="35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 one-year &gt;40% potential loss of eligibility, PRI must be equal to or less than 0.0601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 two-yea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5% potential loss of eligibility and for provisional certification, PRI must be equal to or less than 0.037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 three-y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0% potential loss of eligibility and for provisional certification, PRI must be equal to or less than 0.062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80880" y="990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1000" indent="-35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articipation Rate Index Challeng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A03-0430-4B14-B32B-D30FB29201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295280" y="457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CDR Adjust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1066680" y="1143000"/>
            <a:ext cx="2273400" cy="4572000"/>
            <a:chOff x="1066680" y="1143000"/>
            <a:chExt cx="2273400" cy="4572000"/>
          </a:xfrm>
        </p:grpSpPr>
        <p:grpSp>
          <p:nvGrpSpPr>
            <p:cNvPr id="216" name="Flowchart: Manual Operation 5"/>
            <p:cNvGrpSpPr/>
            <p:nvPr/>
          </p:nvGrpSpPr>
          <p:grpSpPr>
            <a:xfrm>
              <a:off x="1066680" y="1143000"/>
              <a:ext cx="2273400" cy="4572000"/>
              <a:chOff x="1066680" y="1143000"/>
              <a:chExt cx="2273400" cy="4572000"/>
            </a:xfrm>
          </p:grpSpPr>
          <p:pic>
            <p:nvPicPr>
              <p:cNvPr id="217" name="Flowchart: Manual Operation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1143000"/>
                <a:ext cx="227340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 rot="16200000">
                <a:off x="866520" y="2325960"/>
                <a:ext cx="2678760" cy="21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Flowchart: Manual Operation 4"/>
            <p:cNvSpPr/>
            <p:nvPr/>
          </p:nvSpPr>
          <p:spPr>
            <a:xfrm>
              <a:off x="1124640" y="2068560"/>
              <a:ext cx="2162880" cy="26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600" rIns="1216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Verdana"/>
                </a:rPr>
                <a:t>Adjustmen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ncorrected Data Adjustment (UD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New Data Adjustment (ND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TextBox 7"/>
          <p:cNvSpPr/>
          <p:nvPr/>
        </p:nvSpPr>
        <p:spPr>
          <a:xfrm>
            <a:off x="396252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justments are submitted by schools to ED after release of official ra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cessful Adjustments will result in the recalculation of the cohort default rate.  The electronically corrected rate is publicly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9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B8FE-052B-4240-A33E-A77DB687D9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CDR Adjustments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15238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Uncorrected Data Adjustment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an be done in response to 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ncorrect Data Challeng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greed to by the data manager but not reflected in the official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hey are only available for the most recent cohort of borrowers, used to calculate the most recent official rate. If approved, rate will be adj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3A88-5B47-4ACA-BC4C-AEDADBB59E7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219320" y="533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DR Adjust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14300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New Data Adjust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is available only for the most recent cohort of borrowers used to calculate the most recent official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 review of loan record detail reports for draft and official rates show data newly included, excluded, or otherwis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The school identifies errors that are confirmed by the data manager. If approved, rate will be adj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7E3E-209E-417F-A36F-9A552CC5E6D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362320" y="609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CDR Appe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267080" y="1981080"/>
            <a:ext cx="472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1000" indent="-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ppeals are submitted by schools to the Department of Education after release of the official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Cohort Default Rat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828800" y="1143000"/>
            <a:ext cx="2273400" cy="4572000"/>
            <a:chOff x="1828800" y="1143000"/>
            <a:chExt cx="2273400" cy="4572000"/>
          </a:xfrm>
        </p:grpSpPr>
        <p:grpSp>
          <p:nvGrpSpPr>
            <p:cNvPr id="231" name="Flowchart: Manual Operation 5"/>
            <p:cNvGrpSpPr/>
            <p:nvPr/>
          </p:nvGrpSpPr>
          <p:grpSpPr>
            <a:xfrm>
              <a:off x="1828800" y="1143000"/>
              <a:ext cx="2273400" cy="4572000"/>
              <a:chOff x="1828800" y="1143000"/>
              <a:chExt cx="2273400" cy="4572000"/>
            </a:xfrm>
          </p:grpSpPr>
          <p:pic>
            <p:nvPicPr>
              <p:cNvPr id="232" name="Flowchart: Manual Operation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828800" y="1143000"/>
                <a:ext cx="227340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 rot="16200000">
                <a:off x="1628640" y="2325960"/>
                <a:ext cx="2678760" cy="21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Flowchart: Manual Operation 4"/>
            <p:cNvSpPr/>
            <p:nvPr/>
          </p:nvSpPr>
          <p:spPr>
            <a:xfrm>
              <a:off x="1886760" y="2068560"/>
              <a:ext cx="2162880" cy="26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600" rIns="12168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Appeal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oan Servicing Appeal (L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rroneous Data Appeal (E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conomically Disadvantaged Appeal (ED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articipation Rate Index Appeal (PRI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Slide Number Placeholder 7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9D86-68EA-47F2-871D-5510651317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8377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Why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are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DRs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Important?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  <a:ea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1600200"/>
            <a:ext cx="739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Defaulted federal student loans cost taxpayers money and harm the borrower. By calculat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ohort Default Rat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(CDRs), sanctioning schools with higher rates, and providing benefits to schools with lower rates, the statute creates an incentive for schools to work to reduce defaul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Users\nichelle.alston\AppData\Local\Microsoft\Windows\Temporary Internet Files\Content.IE5\7M1T5EJ2\MP900439392[1].jpg"/>
          <p:cNvPicPr/>
          <p:nvPr/>
        </p:nvPicPr>
        <p:blipFill>
          <a:blip r:embed="rId1"/>
          <a:stretch/>
        </p:blipFill>
        <p:spPr>
          <a:xfrm>
            <a:off x="5943600" y="4800600"/>
            <a:ext cx="24382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219320" y="533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DR Appe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" y="121932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rroneous Data Appeal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re only available if the school is subject to loss of eligibility (or provisional certification) based on official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oncurrently, a Erroneous Data Appeal is also only available if the school previously challenged the accuracy of data as part of i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ncorrect Data Challe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or if a review of loan record detail reports for draft and official rates show data newly included, excluded, or otherwise changed and the school disputes the accuracy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01FD-6853-4365-BF22-391D290CCD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584520" y="3198960"/>
            <a:ext cx="185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762120" y="533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DR Appe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80880" y="1295280"/>
            <a:ext cx="8534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oan Servicing Appeals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chools request loan servicing records from Guaranty Agency(GA) for FFEL loans held by the GA and the Department of Edu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(ED) servicers for FFEL loans held by ED and for Direct 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chools may appeal their most recent official rate; or any official rate upon which loss of eligibility is ba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successful appeal will result in adjustments to numerator and denomin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n electronically correct rate will be publicly relea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0105-6435-414F-8613-2C685BD6FB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13372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CDR Appe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137160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Economically Disadvantaged Appeal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vailable based on loss of eligibility or notice of second successive official rate potentially subjecting school to provisional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Economically Disadvantaged Appe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requires an independent auditor opinion certifying a school’s low-income rate and completion or placement rates that meet regulatory requir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8597-B614-4A16-A4BC-B93CF0772C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673D-90E4-4E4C-981E-9D2A5DC710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1905120" y="6094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CDR Appe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28600" y="1447920"/>
            <a:ext cx="85345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1000" indent="-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articipation Rate Index Appeal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re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only available if a school is subject to loss of eligibility or provisional certification based on official 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re will be no sanction applied if, based upon statutory formula, only a small percentage of a school’s students who could receive a Title IV loan actually received one during a defined enroll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articipation Rate Index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295280" y="609480"/>
            <a:ext cx="46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r CDR App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523880" y="5335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Other CDR Appe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304920" y="129528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verage Rate Appeals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f a school is subject to loss of eligibility but two or more of the official rates are average rates, actual rates will be used for thos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efore notice of the official rate, the Department will make an initial determination that school may qualify for an average rate app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f the school qualifies they will receive notice of that determination at the same time they receive notice of the officia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0BFE-F3FE-48E9-99B2-D8E5EDDD3B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523880" y="685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Other CDR Appe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80880" y="137160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irty-or-Fewer Borrower Appeals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f combined total of all three years of borrowers entering repayment is less than 30, there will be no loss of elig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efore notice of official rate, the Department will make an initial determination that a school may qualify for a thirty-or-fewer borrower app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1000" indent="-1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f the school qualifies, they will receive notice of that determination at the same time they receive notice of their officia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B2A8-14CC-41E1-8CDF-591324A677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188120" cy="539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2A0B-0C60-46E4-892E-3572257E904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2044800"/>
            <a:ext cx="914400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es IDC, UDA and NDA electronic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ecame available in February 20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FY 2006 draft C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 at the following link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s://ecdrappeals.ed.gov/ecdra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905120" y="6858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eCDR Appe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17F8-AD37-4A92-8DFD-E79391430B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1371600" y="762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eCDR Appe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457200" y="18288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ning with the FY 2009 cohort (draft CDRs released in February 2011), all schoo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e eCDR Appeals to prepare and submit their IDC, UDA and 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FAP for upcoming electronic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D853-068E-4130-94F7-B072C7F6B1D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838080" y="6858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eCDR Appeals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762120" y="1752480"/>
            <a:ext cx="7696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-to-us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s Privacy Ac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ically packages alleg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data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s draft/official LRD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populates 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3D0B-8C6B-415E-8208-2E33FA32CA7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2860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80880" y="106668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1295280"/>
            <a:ext cx="84582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ongress believes that school behavior can influence borrower repayment if the sch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ffers high-value academic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dmits only qualifi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vides quality academic couns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vides quality financial literacy couns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vides quality loan counseling (entrance/ex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ssists ED, lenders, and guaranty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371600" y="5335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Why</a:t>
            </a:r>
            <a:r>
              <a:rPr b="1" lang="en-US" sz="3600" spc="-1" strike="noStrike">
                <a:solidFill>
                  <a:srgbClr val="b73209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are</a:t>
            </a:r>
            <a:r>
              <a:rPr b="1" lang="en-US" sz="3600" spc="-1" strike="noStrike">
                <a:solidFill>
                  <a:srgbClr val="b73209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CDRs</a:t>
            </a:r>
            <a:r>
              <a:rPr b="1" lang="en-US" sz="3600" spc="-1" strike="noStrike">
                <a:solidFill>
                  <a:srgbClr val="b73209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Important?</a:t>
            </a:r>
            <a:r>
              <a:rPr b="1" lang="en-US" sz="3600" spc="-1" strike="noStrike">
                <a:solidFill>
                  <a:srgbClr val="b73209"/>
                </a:solidFill>
                <a:latin typeface="Verdana"/>
                <a:ea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C:\Users\nichelle.alston\AppData\Local\Microsoft\Windows\Temporary Internet Files\Content.IE5\N1DDKA23\MP900442245[1].jpg"/>
          <p:cNvPicPr/>
          <p:nvPr/>
        </p:nvPicPr>
        <p:blipFill>
          <a:blip r:embed="rId1"/>
          <a:stretch/>
        </p:blipFill>
        <p:spPr>
          <a:xfrm>
            <a:off x="8026560" y="5181480"/>
            <a:ext cx="1117440" cy="167652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57E-5ABC-40EC-B099-E91739749C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E20-5627-4AD1-A6B5-FA2269197D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B8F1-4BD5-405C-ACA0-033BC3778A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143000" y="8380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eCDR Appeals Ques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447920" y="1981080"/>
            <a:ext cx="647676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rther information is avail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PC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View eCDR Appeals 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Registration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ebsite overview and 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5" descr="C:\Users\nichelle.alston\AppData\Local\Microsoft\Windows\Temporary Internet Files\Content.IE5\JA9Y724A\MC900434859[1].png"/>
          <p:cNvPicPr/>
          <p:nvPr/>
        </p:nvPicPr>
        <p:blipFill>
          <a:blip r:embed="rId1"/>
          <a:stretch/>
        </p:blipFill>
        <p:spPr>
          <a:xfrm>
            <a:off x="7238880" y="39625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09B7-776B-4129-ABF6-D293205ED5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828800" y="457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1295280"/>
            <a:ext cx="9144000" cy="38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AP website:  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http://www.ifap.ed.go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ault Prevention and Management website:  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http://www.ifap.ed.gov/DefaultManagement/DefaultManagement.ht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DR Appeals website:  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Verdana"/>
                <a:hlinkClick r:id="rId3"/>
              </a:rPr>
              <a:t>https://ecdrappeals.ed.gov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estions regarding Default Prevention Plans: Mark Walsh,  816-268-0412, email: mark.walsh@ed.gov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D218-C7D3-47F7-AD9E-7E2BC9F046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295280" y="6094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0" y="1628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202-377-425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OPD hot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Verdana"/>
              </a:rPr>
              <a:t>fsa.schools.default.management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    :  202-275-09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C:\Users\nichelle.alston\AppData\Local\Microsoft\Windows\Temporary Internet Files\Content.IE5\7M1T5EJ2\MPj04387020000[1].jpg"/>
          <p:cNvPicPr/>
          <p:nvPr/>
        </p:nvPicPr>
        <p:blipFill>
          <a:blip r:embed="rId1"/>
          <a:stretch/>
        </p:blipFill>
        <p:spPr>
          <a:xfrm>
            <a:off x="5715000" y="4114800"/>
            <a:ext cx="3429000" cy="227664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8D44-9063-4AF9-8E41-185FEAB054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1752480" y="609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FFEL and DL Cohort Defaul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027"/>
          <p:cNvSpPr/>
          <p:nvPr/>
        </p:nvSpPr>
        <p:spPr>
          <a:xfrm>
            <a:off x="609480" y="68580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27"/>
          <p:cNvSpPr/>
          <p:nvPr/>
        </p:nvSpPr>
        <p:spPr>
          <a:xfrm>
            <a:off x="304920" y="38088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hart 10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39432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1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3675-F854-4788-8567-0175B0F4F9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D22F-3D78-4444-92FB-EFF4A42CEB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80880" y="106668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110040" y="31989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OA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057400" y="609480"/>
            <a:ext cx="49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HEOA Changes</a:t>
            </a: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1600200"/>
            <a:ext cx="9144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s CDR monitoring period from two 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ye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s sanction threshold default rate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 percent to 30 perc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es transition period to implement san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62120" y="8380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3209"/>
                </a:solidFill>
                <a:latin typeface="Verdana"/>
                <a:ea typeface="Arial"/>
              </a:rPr>
              <a:t>HEOA  Changes (continued</a:t>
            </a:r>
            <a:r>
              <a:rPr b="1" lang="en-US" sz="3600" spc="-1" strike="noStrike">
                <a:solidFill>
                  <a:srgbClr val="b73209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09480" y="175248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s the participation rate ind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0.0375 to 0.0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a default prevention plan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year CDR is 30 percent 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s disbursement relie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shold  from 10 percent to 15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C3BC-113E-4CB1-98E8-6FBD8FBF7E0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5800" y="762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Low CDR Disbursement Relie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1447920"/>
            <a:ext cx="807732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enefit threshold will change from 10 percent to 15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ffective October 1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Will include FY 07, FY 08, and FY 09 two year official 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ows single disbursement of one-term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chools will not have to wait 30 days before making first disbursement for first-time, first-year borrow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61CC-940B-4247-A08B-F59709587F4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Times New Roman"/>
              </a:rPr>
              <a:t>CDR Calculation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  <a:ea typeface="Times New Roman"/>
              </a:rPr>
              <a:t>&amp; Calendar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369E-522F-4489-B242-41F08909EF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User</cp:lastModifiedBy>
  <dcterms:modified xsi:type="dcterms:W3CDTF">2010-12-01T03:25:11Z</dcterms:modified>
  <cp:revision>1392</cp:revision>
  <dc:subject/>
  <dc:title>PowerPoint Presentation</dc:title>
</cp:coreProperties>
</file>