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558B-587C-4398-88D0-D1155DE7B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5860-FB63-47FD-8DFE-023469C94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8811-4F94-44FA-9CDB-ACF6C7F17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3D109-F649-46BD-B2F8-C4E785761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ED226-121A-4A6E-835F-715A1D554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44F32-71DC-4125-A791-2C30F51AE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49CF-A6A7-495C-BC2A-F7B15CC17D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7982-94C8-4DB4-A7A6-EFE29861F7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1C2FE-C5A6-4440-847F-227178DBA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FC5D0-6888-4E0C-85C9-C8443DF3E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D8CF8-750D-4280-9000-F0E277F62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AA83-201D-48C1-B38F-4968D5D9B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AC82F-99E5-46CB-BEFA-AACDF077A4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F7AB7-6233-4BBA-99C2-E3E146811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657D5-5975-47F8-B852-464638A33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1311-9F33-438D-B5B4-43A26A15761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# 13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DESuite Hands-On Exercis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ob Martin           Ginger Klo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im Schreck         Jody Sear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F29D-C194-4761-96FC-5A7AF77C239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ere Can I Obtain Help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sit the PC Lab at the con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ww.ifap.ed.gov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inar Trai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Express Online Training (WB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SAtech (Listserv for technical discussions and questions)  http://www.ed.gov/offices/OSFAP/services/fsatechsubscribe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4BC3-FF4C-433F-B4EB-A7EE2054B82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ere Can I Obtain Help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PS/SAIG Technical Suppor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 800-330-5947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DD/TTY services:  800-511-5806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PSSAIG@ed.gov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atives are available Monday through Friday, 8 a.m. to 8 p.m. E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8F72-8620-47BC-8ADE-76CD5E6F862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85800" y="1447920"/>
            <a:ext cx="7162920" cy="45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  We can be reach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214-661-94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-mail: Bob.Martin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Let’s Get Into the Exercise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600" y="13716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Tra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ick tracks that interest yo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 at your own p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d directions careful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176"/>
              </a:spcBef>
              <a:spcAft>
                <a:spcPts val="176"/>
              </a:spcAft>
              <a:buClr>
                <a:srgbClr val="cc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Verdana"/>
              </a:rPr>
              <a:t>many steps need to be preformed in proper sequen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ise your hand for assi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el free to return throughout the Conference to complete additional exerci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4BD7-5E13-4473-9293-CB8CC0DE126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018A-BAAB-45FD-96C8-AA4797B64EF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genda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EDESuit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re Can I Obtain Help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erci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6738-46E5-4FDF-B1D3-FB6B06C87E6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is EDESuite? 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3352320"/>
            <a:ext cx="5486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ose products a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Expres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 Loan Too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SCR/Enrollment Repor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5105520" y="3429000"/>
            <a:ext cx="3379680" cy="206532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609480" y="1447920"/>
            <a:ext cx="7010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DESuit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a set of three software products provided free of charge to assist schools in managing their grant and loan ai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D22D-A668-417D-9DBD-5000E6634CE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is EDESuite? 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Express modu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lobal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s student demographic record, reporting, and default EDExpress settings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pp Express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faces with the FAA Access to CPS Online website; imports, stores, views, and print ISI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ckaging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ckages student financial aid awa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is EDESuite? 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920" y="2514240"/>
            <a:ext cx="8534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ACH Grant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TEACH Grant records and process data through C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rect Loan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irect Loan records and process data through C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ll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reate Pell Grant records and process data through COD. Note: Includes minimal Iraq and Afghanistan Service Grant function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430D-59FC-458D-A608-06963248307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62120" y="1752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Expres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odules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1AC9-E4A8-49F9-AE21-3950A972D38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is EDESuite? 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97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irect Loan Too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ables schools to compare and print the SAS in a readable format, track cash receipts, and rebuild the EDExpress Direct Loan module if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SCR/Enrollment Repor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, update and export the Student Status Confirmation Re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Where to find EDExpress?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1AC3-8339-426A-BEA8-BCA95623725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04920" y="1668600"/>
            <a:ext cx="8305560" cy="4054320"/>
          </a:xfrm>
          <a:prstGeom prst="rect">
            <a:avLst/>
          </a:prstGeom>
          <a:ln w="0">
            <a:noFill/>
          </a:ln>
        </p:spPr>
      </p:pic>
      <p:cxnSp>
        <p:nvCxnSpPr>
          <p:cNvPr id="72" name="Straight Arrow Connector 6"/>
          <p:cNvCxnSpPr/>
          <p:nvPr/>
        </p:nvCxnSpPr>
        <p:spPr>
          <a:xfrm flipH="1">
            <a:off x="3733560" y="1981080"/>
            <a:ext cx="1372320" cy="915120"/>
          </a:xfrm>
          <a:prstGeom prst="straightConnector1">
            <a:avLst/>
          </a:prstGeom>
          <a:ln w="38160">
            <a:solidFill>
              <a:srgbClr val="cc66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1648-0659-402C-A084-67E2C26C732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ere Can I Find EDExpress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Verdana"/>
              </a:rPr>
              <a:t>https://www.fsadownload.ed.gov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Expres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k Re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ver Let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allation Gui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 Tex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FSAdownload.ed.gov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7405-7847-4191-BC4C-DC16FD83409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960800" cy="2551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3505320" y="3048120"/>
            <a:ext cx="5257800" cy="326052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5562720" y="18288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Select the software you want to down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Straight Arrow Connector 8"/>
          <p:cNvCxnSpPr/>
          <p:nvPr/>
        </p:nvCxnSpPr>
        <p:spPr>
          <a:xfrm flipH="1" flipV="1">
            <a:off x="1751760" y="2361960"/>
            <a:ext cx="686520" cy="457920"/>
          </a:xfrm>
          <a:prstGeom prst="straightConnector1">
            <a:avLst/>
          </a:prstGeom>
          <a:ln w="38160">
            <a:solidFill>
              <a:srgbClr val="cc6600"/>
            </a:solidFill>
            <a:miter/>
            <a:tailEnd len="med" type="arrow" w="med"/>
          </a:ln>
        </p:spPr>
      </p:cxnSp>
      <p:sp>
        <p:nvSpPr>
          <p:cNvPr id="82" name="TextBox 9"/>
          <p:cNvSpPr/>
          <p:nvPr/>
        </p:nvSpPr>
        <p:spPr>
          <a:xfrm>
            <a:off x="380880" y="4419720"/>
            <a:ext cx="236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Select the item you need—Installation Guide, Cover Letter,  Technical Reference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Straight Arrow Connector 11"/>
          <p:cNvCxnSpPr/>
          <p:nvPr/>
        </p:nvCxnSpPr>
        <p:spPr>
          <a:xfrm flipV="1">
            <a:off x="2895480" y="5409360"/>
            <a:ext cx="1829520" cy="305640"/>
          </a:xfrm>
          <a:prstGeom prst="straightConnector1">
            <a:avLst/>
          </a:prstGeom>
          <a:ln w="38160">
            <a:solidFill>
              <a:srgbClr val="cc66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J&amp;B</cp:lastModifiedBy>
  <dcterms:modified xsi:type="dcterms:W3CDTF">2010-11-06T11:25:26Z</dcterms:modified>
  <cp:revision>340</cp:revision>
  <dc:subject/>
  <dc:title>PowerPoint Presentation</dc:title>
</cp:coreProperties>
</file>