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ED3A-EC8C-402D-8A79-6FC6A5E16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1E1B-EF0B-45C8-B538-4AC0E11D5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5C14-710B-4FB4-B60C-E29627853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4221-D29F-4EF8-A9DB-ACB91B304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D387-8EA1-4077-A752-C86450ED6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A533-7DD3-43DF-B213-E6FF29A04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4754-6073-4BBB-94D3-FAC6AF86A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B63D-3B40-4108-811C-F80687D62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4673-45EE-4CBF-B5EA-78E80DCA5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45C7-8F42-4E39-9047-9F3B24055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B456-8C05-4348-9EFC-9F5060AF8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CAF2-B852-4A04-A6F8-FAC5A0E2C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E984-8274-4A58-A395-7C0CE1FE9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FFE9-99A2-4308-B815-790CDBCD5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1998-1437-4269-81A6-0A6F13495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55CC-50CD-4E94-95C9-914F2850B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B660-CF67-4555-B10A-162A4F6E3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321F-881F-4A56-B1E3-C23436663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0CBE-79BB-4BB2-A0A1-53FEAE37F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6637-6AEE-4B73-8AEE-590DBDD8A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CA9D-0BDA-49A1-BAD4-C1775353B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30CD-C856-432E-8F54-563DDAA84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FDC4-18E5-4E65-8855-961B2957C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07D0-D8BC-47F4-9484-1837A3855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5154-2A0C-4EA8-BB98-B47B46C58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4D38-F936-4DFA-8B04-90621DC15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C843-0A3D-4963-91FA-F49B8D50F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FEAF-2FA1-44B2-8BEF-AF05B13C1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8D0D-7DB4-4715-824C-183907677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EE6E-711F-4BA2-9E3A-48A5A4883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D96F-AFE7-4130-9A9E-44937461C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26EB-AC47-4F02-A9A1-9B035978A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7102-99EE-41C9-AA48-7AE1C5340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406B-276A-47B4-A985-BC2B01CF3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6710-7B2F-48F1-86A7-93D7D7190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FB07-8516-450D-B6C2-3CDEC4BF6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D588-A7A3-4829-8D23-B81BE36E4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8377-75F3-46C1-ABAE-AB40CD797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375A-3123-4A15-AF9F-91A59B76F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4C149-AA6E-4F95-9179-DE48EF116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F9FBB-52A4-4CF0-BEBB-A1347818C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52352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922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53DB-5307-4CC6-A9E5-496E122073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9C099-1ABE-45F9-AACC-7E9ED1160A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5CF9-924E-40EA-9435-653E1834F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3EB0-51BE-4190-B79F-E65235DFA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B7F0D-94DC-4EB2-AB00-3F42E0E12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2F9B-5510-49D1-9AAD-F1BCD9F4E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B5DC-B191-4DF6-AEC4-31E4B194C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922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3366-DB5B-42C5-9870-26ED6AC68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60048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52352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922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38A3-FC3F-45D6-AECE-7C23AAD00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backdrop2007"/>
          <p:cNvPicPr/>
          <p:nvPr/>
        </p:nvPicPr>
        <p:blipFill>
          <a:blip r:embed="rId2"/>
          <a:srcRect l="0" t="0" r="0" b="88153"/>
          <a:stretch/>
        </p:blipFill>
        <p:spPr>
          <a:xfrm>
            <a:off x="0" y="-6336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540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69A9-D7C7-4A02-8614-528B03B4620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7251840" cy="38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4-color R Logo"/>
          <p:cNvPicPr/>
          <p:nvPr/>
        </p:nvPicPr>
        <p:blipFill>
          <a:blip r:embed="rId4"/>
          <a:stretch/>
        </p:blipFill>
        <p:spPr>
          <a:xfrm>
            <a:off x="304920" y="6168960"/>
            <a:ext cx="27432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ifap.ed.gov/" TargetMode="External"/><Relationship Id="rId2" Type="http://schemas.openxmlformats.org/officeDocument/2006/relationships/hyperlink" Target="http://www.ifap.ed.gov/" TargetMode="Externa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mailto:CPSSAIG@ed.gov" TargetMode="Externa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mailto:Bob.Martin@ed.gov" TargetMode="External"/><Relationship Id="rId2" Type="http://schemas.openxmlformats.org/officeDocument/2006/relationships/hyperlink" Target="mailto:Joellen.Sears@ed.g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ssion #12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5800"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Using EDExpr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xperienc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0" algn="ctr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A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0" algn="ct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ob Marti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Jody Se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im Schre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 algn="ctr"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5800" indent="0" algn="ctr"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Does a Query Work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8DE5-C509-445F-9337-2E57CD3378E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Content Placeholder 11" descr="Query dialog box example-updated.png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4764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85" name="Rectangle 14"/>
          <p:cNvGrpSpPr/>
          <p:nvPr/>
        </p:nvGrpSpPr>
        <p:grpSpPr>
          <a:xfrm>
            <a:off x="1279440" y="4632480"/>
            <a:ext cx="6737400" cy="1250640"/>
            <a:chOff x="1279440" y="4632480"/>
            <a:chExt cx="6737400" cy="1250640"/>
          </a:xfrm>
        </p:grpSpPr>
        <p:pic>
          <p:nvPicPr>
            <p:cNvPr id="86" name="Rectangle 14" descr=""/>
            <p:cNvPicPr/>
            <p:nvPr/>
          </p:nvPicPr>
          <p:blipFill>
            <a:blip r:embed="rId2"/>
            <a:stretch/>
          </p:blipFill>
          <p:spPr>
            <a:xfrm>
              <a:off x="1279440" y="4632480"/>
              <a:ext cx="6737400" cy="125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371600" y="4724280"/>
              <a:ext cx="655308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How Does a Query Work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89" name="Content Placeholder 6" descr=""/>
          <p:cNvPicPr/>
          <p:nvPr/>
        </p:nvPicPr>
        <p:blipFill>
          <a:blip r:embed="rId1"/>
          <a:stretch/>
        </p:blipFill>
        <p:spPr>
          <a:xfrm>
            <a:off x="298440" y="1279440"/>
            <a:ext cx="8852040" cy="4835520"/>
          </a:xfrm>
          <a:prstGeom prst="rect">
            <a:avLst/>
          </a:prstGeom>
          <a:ln w="0">
            <a:noFill/>
          </a:ln>
        </p:spPr>
      </p:pic>
      <p:sp>
        <p:nvSpPr>
          <p:cNvPr id="90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78A8-F56A-4B25-83AA-E7B2D563FA9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ere Can a Query Be Used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lection Crite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utton is enabled on a dialog box, a query can be u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nt, Export, and Multiple En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 in Packaging, DL, Pell, and TEA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es such as global packaging and global calculation of Pell award amou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90B4-186A-47A4-A251-5A6F3BA354C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ere Can a Query Be Used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B0A6-42D4-486E-90B6-1D81F1966F3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print with query.png"/>
          <p:cNvPicPr/>
          <p:nvPr/>
        </p:nvPicPr>
        <p:blipFill>
          <a:blip r:embed="rId1"/>
          <a:stretch/>
        </p:blipFill>
        <p:spPr>
          <a:xfrm>
            <a:off x="228600" y="1371600"/>
            <a:ext cx="6153120" cy="464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8" name="Oval 7" descr=""/>
          <p:cNvPicPr/>
          <p:nvPr/>
        </p:nvPicPr>
        <p:blipFill>
          <a:blip r:embed="rId2"/>
          <a:stretch/>
        </p:blipFill>
        <p:spPr>
          <a:xfrm>
            <a:off x="79200" y="1163520"/>
            <a:ext cx="811440" cy="652680"/>
          </a:xfrm>
          <a:prstGeom prst="rect">
            <a:avLst/>
          </a:prstGeom>
          <a:ln w="0">
            <a:noFill/>
          </a:ln>
        </p:spPr>
      </p:pic>
      <p:pic>
        <p:nvPicPr>
          <p:cNvPr id="99" name="Oval 9" descr=""/>
          <p:cNvPicPr/>
          <p:nvPr/>
        </p:nvPicPr>
        <p:blipFill>
          <a:blip r:embed="rId3"/>
          <a:stretch/>
        </p:blipFill>
        <p:spPr>
          <a:xfrm>
            <a:off x="231840" y="5353200"/>
            <a:ext cx="1341360" cy="657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import with query.png"/>
          <p:cNvPicPr/>
          <p:nvPr/>
        </p:nvPicPr>
        <p:blipFill>
          <a:blip r:embed="rId4"/>
          <a:stretch/>
        </p:blipFill>
        <p:spPr>
          <a:xfrm>
            <a:off x="3754440" y="2382840"/>
            <a:ext cx="5286240" cy="4219560"/>
          </a:xfrm>
          <a:prstGeom prst="rect">
            <a:avLst/>
          </a:prstGeom>
          <a:ln w="0">
            <a:noFill/>
          </a:ln>
        </p:spPr>
      </p:pic>
      <p:pic>
        <p:nvPicPr>
          <p:cNvPr id="101" name="Oval 8" descr=""/>
          <p:cNvPicPr/>
          <p:nvPr/>
        </p:nvPicPr>
        <p:blipFill>
          <a:blip r:embed="rId5"/>
          <a:stretch/>
        </p:blipFill>
        <p:spPr>
          <a:xfrm>
            <a:off x="4041720" y="2382840"/>
            <a:ext cx="81144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is Multiple Entry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can update various fields in Global, Packaging, Direct Loan (DL), Pell Grant (Pell), and TEACH Grant (TEACH) for multiple students at one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elds available to update depend on the module you s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ion Criteria (query or select records) can be used to choose specific records to up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1701-1333-4BFF-B7CC-BF6FA448D81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Using Multiple Entr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06" name="Content Placeholder 5" descr=""/>
          <p:cNvPicPr/>
          <p:nvPr/>
        </p:nvPicPr>
        <p:blipFill>
          <a:blip r:embed="rId1"/>
          <a:stretch/>
        </p:blipFill>
        <p:spPr>
          <a:xfrm>
            <a:off x="237960" y="1206360"/>
            <a:ext cx="8809200" cy="5018400"/>
          </a:xfrm>
          <a:prstGeom prst="rect">
            <a:avLst/>
          </a:prstGeom>
          <a:ln w="0">
            <a:noFill/>
          </a:ln>
        </p:spPr>
      </p:pic>
      <p:sp>
        <p:nvSpPr>
          <p:cNvPr id="107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9094-AAF0-499A-96EE-052BD073690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Using Multiple Entr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09" name="Content Placeholder 6" descr="TCH ME1.png"/>
          <p:cNvPicPr/>
          <p:nvPr/>
        </p:nvPicPr>
        <p:blipFill>
          <a:blip r:embed="rId1"/>
          <a:stretch/>
        </p:blipFill>
        <p:spPr>
          <a:xfrm>
            <a:off x="304920" y="1371600"/>
            <a:ext cx="5146560" cy="4343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1368-08FF-45CF-9356-47C647870EE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7" descr="GBL ME1.png"/>
          <p:cNvPicPr/>
          <p:nvPr/>
        </p:nvPicPr>
        <p:blipFill>
          <a:blip r:embed="rId2"/>
          <a:stretch/>
        </p:blipFill>
        <p:spPr>
          <a:xfrm>
            <a:off x="3586320" y="2057400"/>
            <a:ext cx="5252760" cy="4432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2" name="TextBox 8"/>
          <p:cNvSpPr/>
          <p:nvPr/>
        </p:nvSpPr>
        <p:spPr>
          <a:xfrm>
            <a:off x="5661000" y="1366920"/>
            <a:ext cx="2968200" cy="459720"/>
          </a:xfrm>
          <a:prstGeom prst="rect">
            <a:avLst/>
          </a:prstGeom>
          <a:solidFill>
            <a:srgbClr val="cc5407"/>
          </a:solidFill>
          <a:ln w="76320">
            <a:solidFill>
              <a:srgbClr val="cc5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Using Multiple Entr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D0D3-4F0F-4D4C-A0E7-A8618A2E346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7010280" y="1447920"/>
            <a:ext cx="1752840" cy="825480"/>
          </a:xfrm>
          <a:prstGeom prst="rect">
            <a:avLst/>
          </a:prstGeom>
          <a:solidFill>
            <a:srgbClr val="cc5407"/>
          </a:solidFill>
          <a:ln w="76320">
            <a:solidFill>
              <a:srgbClr val="cc5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2nd Di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Content Placeholder 17" descr="GBL ME2-value on 1st.png"/>
          <p:cNvPicPr/>
          <p:nvPr/>
        </p:nvPicPr>
        <p:blipFill>
          <a:blip r:embed="rId1"/>
          <a:stretch/>
        </p:blipFill>
        <p:spPr>
          <a:xfrm>
            <a:off x="228600" y="1371600"/>
            <a:ext cx="6477120" cy="3797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7" name="Picture 18" descr="GBL ME2-value not on 1st.png"/>
          <p:cNvPicPr/>
          <p:nvPr/>
        </p:nvPicPr>
        <p:blipFill>
          <a:blip r:embed="rId2"/>
          <a:stretch/>
        </p:blipFill>
        <p:spPr>
          <a:xfrm>
            <a:off x="2990880" y="2743200"/>
            <a:ext cx="5848200" cy="3429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8" name="TextBox 20"/>
          <p:cNvSpPr/>
          <p:nvPr/>
        </p:nvSpPr>
        <p:spPr>
          <a:xfrm>
            <a:off x="609480" y="2666880"/>
            <a:ext cx="1981440" cy="1922760"/>
          </a:xfrm>
          <a:prstGeom prst="rect">
            <a:avLst/>
          </a:prstGeom>
          <a:solidFill>
            <a:srgbClr val="cc5407"/>
          </a:solidFill>
          <a:ln w="76320">
            <a:solidFill>
              <a:srgbClr val="cc5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or Verification Status Co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lected on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21"/>
          <p:cNvSpPr/>
          <p:nvPr/>
        </p:nvSpPr>
        <p:spPr>
          <a:xfrm>
            <a:off x="4495680" y="4267080"/>
            <a:ext cx="2895840" cy="1191240"/>
          </a:xfrm>
          <a:prstGeom prst="rect">
            <a:avLst/>
          </a:prstGeom>
          <a:solidFill>
            <a:srgbClr val="cc5407"/>
          </a:solidFill>
          <a:ln w="76320">
            <a:solidFill>
              <a:srgbClr val="cc5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or Verification Status Co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s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lected on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Using Multiple Entry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evant edits are applied when records are upd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n update does not pass edits, the information is printed on a report after the process is finish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D0C3-BC16-44E1-B483-10B87FA3546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2514600" y="3886200"/>
            <a:ext cx="4267080" cy="1922760"/>
          </a:xfrm>
          <a:prstGeom prst="rect">
            <a:avLst/>
          </a:prstGeom>
          <a:solidFill>
            <a:srgbClr val="cc5407"/>
          </a:solidFill>
          <a:ln w="76320">
            <a:solidFill>
              <a:srgbClr val="cc5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for 2011-2012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 Multiple Entr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be abl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Loan Amount Ap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te a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is Browse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Browse to view data in a spreadshee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s ease of viewing, searching, printing, and exporting multiple rec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ry fields available for each module are also viewable in Brow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83A4-DB56-40C6-8228-D4376E96710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9399-B13E-4390-B0DD-C1746B49FDE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DBA1-5C23-4D0C-9D69-B9AF1776A2E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Agenda</a:t>
            </a: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 of EDExpr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-Saver Set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ls that Come to YOUR 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lights of What’s Coming in EDExpress 2011-20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re to Obtain Additional Help/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Using Brows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28" name="Content Placeholder 7" descr="browse righ click.png"/>
          <p:cNvPicPr/>
          <p:nvPr/>
        </p:nvPicPr>
        <p:blipFill>
          <a:blip r:embed="rId1"/>
          <a:stretch/>
        </p:blipFill>
        <p:spPr>
          <a:xfrm>
            <a:off x="4343400" y="1371600"/>
            <a:ext cx="4533840" cy="4572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228600" y="152352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Browse grid, click 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ight mouse butt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 a column heading to display a menu of options you can use to sort and find rec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6563-34BB-4695-9746-89DDF80F933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User-Defined Field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can create up to 200 fields for data specific to your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elds you define can be used in all mod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 ahead! User-defined fields cannot be mod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can delete a field unless it has been used as part of a query or file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ution—deleting a field will also delete any values you have added to student records for that fie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4195-CD9C-4509-A045-6F1A6A8915C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t Up User-Defined Field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A253-31E2-4753-BFFA-7C22D2F39B1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Diagram 5" descr=""/>
          <p:cNvPicPr/>
          <p:nvPr/>
        </p:nvPicPr>
        <p:blipFill>
          <a:blip r:embed="rId1"/>
          <a:stretch/>
        </p:blipFill>
        <p:spPr>
          <a:xfrm>
            <a:off x="371520" y="2328840"/>
            <a:ext cx="8370720" cy="38163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2743200" y="1447920"/>
            <a:ext cx="3657600" cy="703440"/>
          </a:xfrm>
          <a:prstGeom prst="rect">
            <a:avLst/>
          </a:prstGeom>
          <a:solidFill>
            <a:srgbClr val="cc5407"/>
          </a:solidFill>
          <a:ln w="76320">
            <a:solidFill>
              <a:srgbClr val="cc5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ypes of Fiel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Set Up User-Defined Field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40" name="Content Placeholder 9" descr="User-defined setup.png"/>
          <p:cNvPicPr/>
          <p:nvPr/>
        </p:nvPicPr>
        <p:blipFill>
          <a:blip r:embed="rId1"/>
          <a:stretch/>
        </p:blipFill>
        <p:spPr>
          <a:xfrm>
            <a:off x="2057400" y="1295280"/>
            <a:ext cx="4915080" cy="4784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41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6188-27B1-4F38-AD29-42D92E3C2CC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Oval 12" descr=""/>
          <p:cNvPicPr/>
          <p:nvPr/>
        </p:nvPicPr>
        <p:blipFill>
          <a:blip r:embed="rId2"/>
          <a:stretch/>
        </p:blipFill>
        <p:spPr>
          <a:xfrm>
            <a:off x="4425840" y="2840040"/>
            <a:ext cx="2328840" cy="579600"/>
          </a:xfrm>
          <a:prstGeom prst="rect">
            <a:avLst/>
          </a:prstGeom>
          <a:ln w="0">
            <a:noFill/>
          </a:ln>
        </p:spPr>
      </p:pic>
      <p:sp>
        <p:nvSpPr>
          <p:cNvPr id="143" name="Curved Up Arrow 13"/>
          <p:cNvSpPr/>
          <p:nvPr/>
        </p:nvSpPr>
        <p:spPr>
          <a:xfrm rot="9211200">
            <a:off x="3192480" y="2720880"/>
            <a:ext cx="1781280" cy="727200"/>
          </a:xfrm>
          <a:custGeom>
            <a:avLst/>
            <a:gdLst>
              <a:gd name="textAreaLeft" fmla="*/ 337680 w 1781280"/>
              <a:gd name="textAreaRight" fmla="*/ 1268280 w 1781280"/>
              <a:gd name="textAreaTop" fmla="*/ 97200 h 727200"/>
              <a:gd name="textAreaBottom" fmla="*/ 630000 h 7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89" hR="21600" stAng="10800000" swAng="-5400000"/>
                <a:lnTo>
                  <a:pt x="11283" y="21600"/>
                </a:lnTo>
                <a:arcTo wR="8189" hR="21600" stAng="5400000" swAng="-3344597"/>
                <a:lnTo>
                  <a:pt x="21340" y="5400"/>
                </a:lnTo>
                <a:lnTo>
                  <a:pt x="17925" y="0"/>
                </a:lnTo>
                <a:lnTo>
                  <a:pt x="13990" y="5400"/>
                </a:lnTo>
                <a:lnTo>
                  <a:pt x="16118" y="5400"/>
                </a:lnTo>
                <a:arcTo wR="8189" hR="21600" stAng="2055403" swAng="3094313"/>
                <a:lnTo>
                  <a:pt x="9736" y="21211"/>
                </a:lnTo>
                <a:arcTo wR="8189" hR="21600" stAng="5650284" swAng="5149716"/>
                <a:close/>
              </a:path>
              <a:path fill="darkenLess" w="21600" h="21600">
                <a:moveTo>
                  <a:pt x="0" y="0"/>
                </a:moveTo>
                <a:arcTo wR="8189" hR="21600" stAng="10800000" swAng="-5400000"/>
                <a:lnTo>
                  <a:pt x="11283" y="21600"/>
                </a:lnTo>
                <a:arcTo wR="8189" hR="21600" stAng="5400000" swAng="250284"/>
                <a:lnTo>
                  <a:pt x="9736" y="21211"/>
                </a:lnTo>
                <a:arcTo wR="8189" hR="21600" stAng="5650284" swAng="5149716"/>
                <a:close/>
              </a:path>
            </a:pathLst>
          </a:custGeom>
          <a:solidFill>
            <a:srgbClr val="0099cc"/>
          </a:solidFill>
          <a:ln w="25560">
            <a:solidFill>
              <a:srgbClr val="99cc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7086600" y="1447920"/>
            <a:ext cx="1905120" cy="1845360"/>
          </a:xfrm>
          <a:prstGeom prst="rect">
            <a:avLst/>
          </a:prstGeom>
          <a:solidFill>
            <a:srgbClr val="cc5407"/>
          </a:solidFill>
          <a:ln w="76320">
            <a:solidFill>
              <a:srgbClr val="cc5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e keyboard arrow keys to move from one column to anoth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16"/>
          <p:cNvSpPr/>
          <p:nvPr/>
        </p:nvSpPr>
        <p:spPr>
          <a:xfrm>
            <a:off x="152280" y="3929040"/>
            <a:ext cx="1752840" cy="1845360"/>
          </a:xfrm>
          <a:prstGeom prst="rect">
            <a:avLst/>
          </a:prstGeom>
          <a:solidFill>
            <a:srgbClr val="cc5407"/>
          </a:solidFill>
          <a:ln w="76320">
            <a:solidFill>
              <a:srgbClr val="cc5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to display another row for defining the next fiel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user data entry.png"/>
          <p:cNvPicPr/>
          <p:nvPr/>
        </p:nvPicPr>
        <p:blipFill>
          <a:blip r:embed="rId1"/>
          <a:stretch/>
        </p:blipFill>
        <p:spPr>
          <a:xfrm>
            <a:off x="814320" y="1359000"/>
            <a:ext cx="7448760" cy="37764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Update User-Defined Field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1408-4D5F-4C49-A92E-394749758B9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990720" y="5345280"/>
            <a:ext cx="7162560" cy="444240"/>
          </a:xfrm>
          <a:prstGeom prst="rect">
            <a:avLst/>
          </a:prstGeom>
          <a:solidFill>
            <a:srgbClr val="cc5407"/>
          </a:solidFill>
          <a:ln w="76320">
            <a:solidFill>
              <a:srgbClr val="cc5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ter values for user-defined fields on the User Data tab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Update User-Defined Field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update values for user-defined fields us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 Multiple En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 data from your school’s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 Layout found at Print|Global|RL – Import User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or Year Import of User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to Print|Global|User Data to print a report of user-defined fields and val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3895-1FB1-4D82-8B10-FC518F1C88C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xample for User-Defined Field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154" name="Content Placeholder 4" descr=""/>
          <p:cNvPicPr/>
          <p:nvPr/>
        </p:nvPicPr>
        <p:blipFill>
          <a:blip r:embed="rId1"/>
          <a:stretch/>
        </p:blipFill>
        <p:spPr>
          <a:xfrm>
            <a:off x="237960" y="1238400"/>
            <a:ext cx="8668080" cy="4863960"/>
          </a:xfrm>
          <a:prstGeom prst="rect">
            <a:avLst/>
          </a:prstGeom>
          <a:ln w="0">
            <a:noFill/>
          </a:ln>
        </p:spPr>
      </p:pic>
      <p:sp>
        <p:nvSpPr>
          <p:cNvPr id="155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FB53-FFA5-4D96-BE4A-E710E9FE6BD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Importing Prior Year Dat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4479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gin setting up EDExpress for the current year by importing information already in your prior year data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options on File|Import|Global ta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or Year User-Defined Queries, Setup, and File Form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or Year Demographic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or Year User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3B29-F446-4668-A889-714EA5FB847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ior Year User-Defined Queries, Setup, &amp; File Formats</a:t>
            </a:r>
            <a:br>
              <a:rPr sz="2800"/>
            </a:b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0749-AFCA-47EF-955D-32E53A1C5DB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s much flexibility to choose exactly what you want to im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ful to import in Release 1.0 and then again in Release 2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ries and setups for Global, Application Processing, and Packaging can be imported in Release 1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ries and setups for all modules can be imported in Release 2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ior Year User-Defined Queries, Setup, &amp; File Formats</a:t>
            </a:r>
            <a:br>
              <a:rPr sz="2800"/>
            </a:b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F8A8-5FD9-4A9D-9907-28015263933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Content Placeholder 11" descr="PYI 1.png"/>
          <p:cNvPicPr/>
          <p:nvPr/>
        </p:nvPicPr>
        <p:blipFill>
          <a:blip r:embed="rId1"/>
          <a:stretch/>
        </p:blipFill>
        <p:spPr>
          <a:xfrm>
            <a:off x="685800" y="1523880"/>
            <a:ext cx="5638680" cy="457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166" name="Group 23"/>
          <p:cNvGrpSpPr/>
          <p:nvPr/>
        </p:nvGrpSpPr>
        <p:grpSpPr>
          <a:xfrm>
            <a:off x="457200" y="1059840"/>
            <a:ext cx="8305920" cy="4764600"/>
            <a:chOff x="457200" y="1059840"/>
            <a:chExt cx="8305920" cy="4764600"/>
          </a:xfrm>
        </p:grpSpPr>
        <p:pic>
          <p:nvPicPr>
            <p:cNvPr id="167" name="Oval 12" descr=""/>
            <p:cNvPicPr/>
            <p:nvPr/>
          </p:nvPicPr>
          <p:blipFill>
            <a:blip r:embed="rId2"/>
            <a:stretch/>
          </p:blipFill>
          <p:spPr>
            <a:xfrm>
              <a:off x="457200" y="4943880"/>
              <a:ext cx="3595320" cy="88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Curved Up Arrow 19"/>
            <p:cNvSpPr/>
            <p:nvPr/>
          </p:nvSpPr>
          <p:spPr>
            <a:xfrm rot="12487200">
              <a:off x="5528520" y="1447560"/>
              <a:ext cx="1860120" cy="853920"/>
            </a:xfrm>
            <a:custGeom>
              <a:avLst/>
              <a:gdLst>
                <a:gd name="textAreaLeft" fmla="*/ 339120 w 1860120"/>
                <a:gd name="textAreaRight" fmla="*/ 1315800 w 1860120"/>
                <a:gd name="textAreaTop" fmla="*/ 114120 h 853920"/>
                <a:gd name="textAreaBottom" fmla="*/ 739800 h 85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878" hR="21600" stAng="10800000" swAng="-5400000"/>
                  <a:lnTo>
                    <a:pt x="11341" y="21600"/>
                  </a:lnTo>
                  <a:arcTo wR="7878" hR="21600" stAng="5400000" swAng="-3282141"/>
                  <a:lnTo>
                    <a:pt x="21350" y="5400"/>
                  </a:lnTo>
                  <a:lnTo>
                    <a:pt x="17487" y="0"/>
                  </a:lnTo>
                  <a:lnTo>
                    <a:pt x="13123" y="5400"/>
                  </a:lnTo>
                  <a:lnTo>
                    <a:pt x="15505" y="5400"/>
                  </a:lnTo>
                  <a:arcTo wR="7878" hR="21600" stAng="2117859" swAng="3000289"/>
                  <a:lnTo>
                    <a:pt x="9609" y="21072"/>
                  </a:lnTo>
                  <a:arcTo wR="7878" hR="21600" stAng="5681852" swAng="5118148"/>
                  <a:close/>
                </a:path>
                <a:path fill="darkenLess" w="21600" h="21600">
                  <a:moveTo>
                    <a:pt x="0" y="0"/>
                  </a:moveTo>
                  <a:arcTo wR="7878" hR="21600" stAng="10800000" swAng="-5400000"/>
                  <a:lnTo>
                    <a:pt x="11341" y="21600"/>
                  </a:lnTo>
                  <a:arcTo wR="7878" hR="21600" stAng="5400000" swAng="281852"/>
                  <a:lnTo>
                    <a:pt x="9609" y="21072"/>
                  </a:lnTo>
                  <a:arcTo wR="7878" hR="21600" stAng="5681852" swAng="5118148"/>
                  <a:close/>
                </a:path>
              </a:pathLst>
            </a:custGeom>
            <a:solidFill>
              <a:srgbClr val="0099cc"/>
            </a:solidFill>
            <a:ln w="25560">
              <a:solidFill>
                <a:srgbClr val="99cc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Box 18"/>
            <p:cNvSpPr/>
            <p:nvPr/>
          </p:nvSpPr>
          <p:spPr>
            <a:xfrm>
              <a:off x="6572520" y="2282760"/>
              <a:ext cx="2190600" cy="1191240"/>
            </a:xfrm>
            <a:prstGeom prst="rect">
              <a:avLst/>
            </a:prstGeom>
            <a:solidFill>
              <a:srgbClr val="cc5407"/>
            </a:solidFill>
            <a:ln w="76320">
              <a:solidFill>
                <a:srgbClr val="cc54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lect only Groups/Setup Options n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eft Arrow 21"/>
            <p:cNvSpPr/>
            <p:nvPr/>
          </p:nvSpPr>
          <p:spPr>
            <a:xfrm>
              <a:off x="4079880" y="5152680"/>
              <a:ext cx="2568240" cy="529920"/>
            </a:xfrm>
            <a:prstGeom prst="leftArrow">
              <a:avLst>
                <a:gd name="adj1" fmla="val 50000"/>
                <a:gd name="adj2" fmla="val 49744"/>
              </a:avLst>
            </a:prstGeom>
            <a:solidFill>
              <a:srgbClr val="0099cc"/>
            </a:solidFill>
            <a:ln w="25560">
              <a:solidFill>
                <a:srgbClr val="99cc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Box 20"/>
            <p:cNvSpPr/>
            <p:nvPr/>
          </p:nvSpPr>
          <p:spPr>
            <a:xfrm>
              <a:off x="6497280" y="3877200"/>
              <a:ext cx="2265840" cy="1922760"/>
            </a:xfrm>
            <a:prstGeom prst="rect">
              <a:avLst/>
            </a:prstGeom>
            <a:solidFill>
              <a:srgbClr val="cc5407"/>
            </a:solidFill>
            <a:ln w="76320">
              <a:solidFill>
                <a:srgbClr val="cc54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port all records for setup options selected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only specific recor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Modules of EDExpres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56" name="Slide Number Placeholder 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D1BB-46BE-4D21-8AA8-EA3755CF50D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Diagram 14" descr=""/>
          <p:cNvPicPr/>
          <p:nvPr/>
        </p:nvPicPr>
        <p:blipFill>
          <a:blip r:embed="rId1"/>
          <a:stretch/>
        </p:blipFill>
        <p:spPr>
          <a:xfrm>
            <a:off x="1139760" y="1238400"/>
            <a:ext cx="7175520" cy="54482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04C9-6B4C-4980-973F-CA789669D68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E0D8-6CB6-4D9D-A9A9-D36589AF804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ior Year User-Defined Queries, Setup, &amp; File Format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 query or file format contains a field that no longer exists in the current year, it will not im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the code for the query, file format, or setup option already exists in the current year, it will not import or be updated by the prior year im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 query, file format, or setup did not import, the reason is printed on a report after the import is finish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40C7-AA25-406B-ACC0-3E6EC0682D4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ior Year Demographic Dat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’s current SSN from the prior year becomes the original SSN in the current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record from the previous year doesn’t import if the current SSN equals the original SSN of a record in the current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7BD7-4A99-4B83-9D31-F990ADBF8EC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ior Year Demographic Dat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the records or use a query to narrow down the records that im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from 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evious year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displayed in a list for sel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 queries from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evious year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displayed for 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queries with fixed values for the criteria are available for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ve the Loan Entrance Interview Date if you cho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722C-03CD-453A-986B-DB588026814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ior Year User Dat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user data field has to exist in both prior year and previous yea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the records or use a query to narrow down the records that import (same as Prior Year Demographic Data impor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emographic record is created if one does not already exist (same logic as Prior Year Demographic Data impor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EEFC-3C5F-4657-B6DD-29C19BF193D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Prior Year User Data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274F-0FC9-44B8-AA37-D9E354CFF06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7" descr="py user data.png"/>
          <p:cNvPicPr/>
          <p:nvPr/>
        </p:nvPicPr>
        <p:blipFill>
          <a:blip r:embed="rId1"/>
          <a:stretch/>
        </p:blipFill>
        <p:spPr>
          <a:xfrm>
            <a:off x="304920" y="1311120"/>
            <a:ext cx="5257800" cy="4708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88" name="Picture 8" descr="py user data 2.png"/>
          <p:cNvPicPr/>
          <p:nvPr/>
        </p:nvPicPr>
        <p:blipFill>
          <a:blip r:embed="rId2"/>
          <a:stretch/>
        </p:blipFill>
        <p:spPr>
          <a:xfrm>
            <a:off x="3657600" y="2057400"/>
            <a:ext cx="5181480" cy="1362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89" name="Curved Up Arrow 9"/>
          <p:cNvSpPr/>
          <p:nvPr/>
        </p:nvSpPr>
        <p:spPr>
          <a:xfrm rot="17103000">
            <a:off x="4346640" y="3441240"/>
            <a:ext cx="2308320" cy="1123920"/>
          </a:xfrm>
          <a:custGeom>
            <a:avLst/>
            <a:gdLst>
              <a:gd name="textAreaLeft" fmla="*/ 410400 w 2308320"/>
              <a:gd name="textAreaRight" fmla="*/ 1626480 w 2308320"/>
              <a:gd name="textAreaTop" fmla="*/ 150480 h 1123920"/>
              <a:gd name="textAreaBottom" fmla="*/ 97344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86" hR="21600" stAng="10800000" swAng="-5400000"/>
                <a:lnTo>
                  <a:pt x="11376" y="21600"/>
                </a:lnTo>
                <a:arcTo wR="7686" hR="21600" stAng="5400000" swAng="-3241976"/>
                <a:lnTo>
                  <a:pt x="21356" y="5400"/>
                </a:lnTo>
                <a:lnTo>
                  <a:pt x="17216" y="0"/>
                </a:lnTo>
                <a:lnTo>
                  <a:pt x="12588" y="5400"/>
                </a:lnTo>
                <a:lnTo>
                  <a:pt x="15127" y="5400"/>
                </a:lnTo>
                <a:arcTo wR="7686" hR="21600" stAng="2158024" swAng="2940267"/>
                <a:lnTo>
                  <a:pt x="9531" y="20968"/>
                </a:lnTo>
                <a:arcTo wR="7686" hR="21600" stAng="5701709" swAng="5098291"/>
                <a:close/>
              </a:path>
              <a:path fill="darkenLess" w="21600" h="21600">
                <a:moveTo>
                  <a:pt x="0" y="0"/>
                </a:moveTo>
                <a:arcTo wR="7686" hR="21600" stAng="10800000" swAng="-5400000"/>
                <a:lnTo>
                  <a:pt x="11376" y="21600"/>
                </a:lnTo>
                <a:arcTo wR="7686" hR="21600" stAng="5400000" swAng="301709"/>
                <a:lnTo>
                  <a:pt x="9531" y="20968"/>
                </a:lnTo>
                <a:arcTo wR="7686" hR="21600" stAng="5701709" swAng="5098291"/>
                <a:close/>
              </a:path>
            </a:pathLst>
          </a:custGeom>
          <a:solidFill>
            <a:srgbClr val="0099cc"/>
          </a:solidFill>
          <a:ln w="25560">
            <a:solidFill>
              <a:srgbClr val="99cc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Oval 10" descr=""/>
          <p:cNvPicPr/>
          <p:nvPr/>
        </p:nvPicPr>
        <p:blipFill>
          <a:blip r:embed="rId3"/>
          <a:stretch/>
        </p:blipFill>
        <p:spPr>
          <a:xfrm>
            <a:off x="3279600" y="4516560"/>
            <a:ext cx="1573560" cy="73188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1"/>
          <p:cNvSpPr/>
          <p:nvPr/>
        </p:nvSpPr>
        <p:spPr>
          <a:xfrm>
            <a:off x="6324480" y="1295280"/>
            <a:ext cx="2133720" cy="1922760"/>
          </a:xfrm>
          <a:prstGeom prst="rect">
            <a:avLst/>
          </a:prstGeom>
          <a:solidFill>
            <a:srgbClr val="cc5407"/>
          </a:solidFill>
          <a:ln w="76320">
            <a:solidFill>
              <a:srgbClr val="cc5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only the User Data fields for which you want to impor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5867280" y="5105520"/>
            <a:ext cx="2514600" cy="1191240"/>
          </a:xfrm>
          <a:prstGeom prst="rect">
            <a:avLst/>
          </a:prstGeom>
          <a:solidFill>
            <a:srgbClr val="cc5407"/>
          </a:solidFill>
          <a:ln w="76320">
            <a:solidFill>
              <a:srgbClr val="cc5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not overwrite existing values unless you cho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Oval 13" descr=""/>
          <p:cNvPicPr/>
          <p:nvPr/>
        </p:nvPicPr>
        <p:blipFill>
          <a:blip r:embed="rId4"/>
          <a:stretch/>
        </p:blipFill>
        <p:spPr>
          <a:xfrm>
            <a:off x="536400" y="4133880"/>
            <a:ext cx="2030760" cy="730080"/>
          </a:xfrm>
          <a:prstGeom prst="rect">
            <a:avLst/>
          </a:prstGeom>
          <a:ln w="0">
            <a:noFill/>
          </a:ln>
        </p:spPr>
      </p:pic>
      <p:sp>
        <p:nvSpPr>
          <p:cNvPr id="194" name="Bent Arrow 16"/>
          <p:cNvSpPr/>
          <p:nvPr/>
        </p:nvSpPr>
        <p:spPr>
          <a:xfrm flipH="1" flipV="1" rot="5400000">
            <a:off x="3162240" y="3390840"/>
            <a:ext cx="1371600" cy="4038480"/>
          </a:xfrm>
          <a:custGeom>
            <a:avLst/>
            <a:gdLst/>
            <a:ahLst/>
            <a:rect l="l" t="t" r="r" b="b"/>
            <a:pathLst>
              <a:path w="1371600" h="4038600">
                <a:moveTo>
                  <a:pt x="0" y="4038600"/>
                </a:moveTo>
                <a:lnTo>
                  <a:pt x="0" y="705153"/>
                </a:lnTo>
                <a:lnTo>
                  <a:pt x="0" y="705153"/>
                </a:lnTo>
                <a:arcTo wR="600075" hR="600075" stAng="-10799994" swAng="5400000"/>
                <a:lnTo>
                  <a:pt x="1028700" y="105078"/>
                </a:lnTo>
                <a:lnTo>
                  <a:pt x="1028700" y="0"/>
                </a:lnTo>
                <a:lnTo>
                  <a:pt x="1371600" y="276528"/>
                </a:lnTo>
                <a:lnTo>
                  <a:pt x="1028700" y="553057"/>
                </a:lnTo>
                <a:lnTo>
                  <a:pt x="1028700" y="447978"/>
                </a:lnTo>
                <a:lnTo>
                  <a:pt x="600075" y="447978"/>
                </a:lnTo>
                <a:lnTo>
                  <a:pt x="600075" y="447978"/>
                </a:lnTo>
                <a:arcTo wR="257175" hR="257175" stAng="-5400000" swAng="-5400000"/>
                <a:lnTo>
                  <a:pt x="342900" y="4038600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99cc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560" y="129492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10-11, use a dialog box to open rec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 student record is already open, you must close it before opening another reco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11-12, use a new toolbar to open rec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 student record is already open, switch to a new record without first closing the current reco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5" descr="open-old.png"/>
          <p:cNvPicPr/>
          <p:nvPr/>
        </p:nvPicPr>
        <p:blipFill>
          <a:blip r:embed="rId1"/>
          <a:stretch/>
        </p:blipFill>
        <p:spPr>
          <a:xfrm>
            <a:off x="2895480" y="2590920"/>
            <a:ext cx="3279960" cy="1371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’s coming in 2011-12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19DB-E33D-4C88-A970-F53EC119DAA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0" descr="open new.png"/>
          <p:cNvPicPr/>
          <p:nvPr/>
        </p:nvPicPr>
        <p:blipFill>
          <a:blip r:embed="rId2"/>
          <a:stretch/>
        </p:blipFill>
        <p:spPr>
          <a:xfrm>
            <a:off x="914400" y="5148360"/>
            <a:ext cx="7238880" cy="947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’s coming in 2011-12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2189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L ISIR and Packaging Imports will create multiple loan types in a single im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8B36-CD3E-4F63-B508-0BDB4822A02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5" descr="DL_Import_ISIR.JPG"/>
          <p:cNvPicPr/>
          <p:nvPr/>
        </p:nvPicPr>
        <p:blipFill>
          <a:blip r:embed="rId1"/>
          <a:stretch/>
        </p:blipFill>
        <p:spPr>
          <a:xfrm>
            <a:off x="762120" y="2209680"/>
            <a:ext cx="7696080" cy="3886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’s coming in 2011-12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fields will be added to the Demo tab to allow entry of Ability to Benefit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entered, Ability to Benefit data will be sent to the COD System for all award types (DL, Pell, and TEACH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Demo tab fields will be reorganized to accommodate the addition of Ability to Benefit field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539F-03E5-4E58-BCA2-ED46B5960AF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’s coming in 2011-12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PLUS Application Acknowledgment fields will be displayed for PLUS and Grad PLUS loans on the DL Origination ta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PS Transaction # field will be required for Grad PLUS and PLUS loan rec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nt dialog boxes for the DL MPN and Disclosure Statements will be updated with an option to print labels in Spanis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D734-A6B4-4A1D-A878-ECD4A15B2FC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’s coming in 2011-12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mport edit reports of the following import types will be updated to print an indicator that an Iraq and Afghanistan Service Grant was included in the fil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-generated Common Record (CRWB12O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ll YTD Data (PGYR12O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raq and Afghanistan Service Grants will not be added to EDExpr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CD53-620A-471D-9AA0-AFC8614382A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9393-126A-4393-A9EF-FA873DCDA01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764E-DEAF-4D07-BABF-6323AFE5AD8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ime-Saver Setup Options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izable by EDExpress user 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system will you use the mos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 you usually print out multiple records or a single reco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you usually print to screen firs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7" descr="Global system setup.png"/>
          <p:cNvPicPr/>
          <p:nvPr/>
        </p:nvPicPr>
        <p:blipFill>
          <a:blip r:embed="rId1"/>
          <a:stretch/>
        </p:blipFill>
        <p:spPr>
          <a:xfrm>
            <a:off x="4556160" y="1392120"/>
            <a:ext cx="4206960" cy="5008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5" name="Oval 6"/>
          <p:cNvSpPr/>
          <p:nvPr/>
        </p:nvSpPr>
        <p:spPr>
          <a:xfrm>
            <a:off x="4419720" y="1219320"/>
            <a:ext cx="1676160" cy="609480"/>
          </a:xfrm>
          <a:prstGeom prst="ellipse">
            <a:avLst/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4DA2-6DF4-4CA5-9EDB-B762726BD84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raining and other Help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is Conferenc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ESuite Hands-On (EDExpress, DL Tools, SSCR): Session 1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EDExpress for New FAAs: Session 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Direct Loan Tools to Reconcile your Direct Loan Data with the Common Origination and Disbursement System: Session 1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C La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D76B-A394-40E6-92D0-9F484DCD297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raining and other Help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www.fsadownload.ed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Express Desk References/Cover Letters/Installation Gui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cal Refe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www.ifap.ed.go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Express Online Training for 2010–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bl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Express Help Tex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88B7-4EEE-4FD7-A6A3-A91D20FF335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EDExpress Technical Assistance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PS/SAIG Technical Suppor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 800-330-5947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DD/TTY services:  800-511-5806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-mail: 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CPSSAIG@ed.gov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atives are available Monday through Friday, 8 a.m. to 8 p.m. ET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1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ABAF-5BBE-4F72-BEA6-0A522A684A5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7886-66D6-4837-9207-61F69966DB1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Contact Information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533520" y="1447920"/>
            <a:ext cx="716256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reciate your feedback and comments.  We can be reach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b Mar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214-661-94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-mail: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1"/>
              </a:rPr>
              <a:t>Bob.Martin@ed.go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dy S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202-377-36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-mail: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Verdana"/>
                <a:hlinkClick r:id="rId2"/>
              </a:rPr>
              <a:t>Joellen.Sears@ed.gov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Tools That Come to YOUR Aid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pic>
        <p:nvPicPr>
          <p:cNvPr id="67" name="Content Placeholder 7" descr=""/>
          <p:cNvPicPr/>
          <p:nvPr/>
        </p:nvPicPr>
        <p:blipFill>
          <a:blip r:embed="rId1"/>
          <a:stretch/>
        </p:blipFill>
        <p:spPr>
          <a:xfrm>
            <a:off x="281160" y="1347840"/>
            <a:ext cx="8577000" cy="4767120"/>
          </a:xfrm>
          <a:prstGeom prst="rect">
            <a:avLst/>
          </a:prstGeom>
          <a:ln w="0">
            <a:noFill/>
          </a:ln>
        </p:spPr>
      </p:pic>
      <p:sp>
        <p:nvSpPr>
          <p:cNvPr id="68" name="Slide Number Placeholder 3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0CE1-A9AC-4DC4-A0C2-2306B706A62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is a Query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request for a subset of records from your EDExpress data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specify the criteria that describes the  subset of rec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s flexibility in locating and extracting information from your data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0CDB-0A77-417C-90B7-4A618124DF0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Makes Up a Query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152352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ls|Qu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uery statement has three main compon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fie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"/>
              </a:spcBef>
              <a:spcAft>
                <a:spcPts val="15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C5E8-B5CC-4471-AA0A-4A1E2F5FA6C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ontent Placeholder 7" descr="Query dialog box.png"/>
          <p:cNvPicPr/>
          <p:nvPr/>
        </p:nvPicPr>
        <p:blipFill>
          <a:blip r:embed="rId1"/>
          <a:stretch/>
        </p:blipFill>
        <p:spPr>
          <a:xfrm>
            <a:off x="3352680" y="1447920"/>
            <a:ext cx="56390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Makes Up a Query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oices for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mpt at Exec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To be prompted for the value at the time you use the query (creates a Parameter quer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urrent Dat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To use the PC’s system date at the time you use the qu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The valid value you always want to use in the query (Fixed value quer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Hel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plays the valid values for the selected fie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2E62-CA7E-4129-B026-0658343EE54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407"/>
                </a:solidFill>
                <a:latin typeface="Verdana"/>
              </a:rPr>
              <a:t>What Makes Up a Query?</a:t>
            </a:r>
            <a:endParaRPr b="1" lang="en-US" sz="3600" spc="-1" strike="noStrike">
              <a:solidFill>
                <a:srgbClr val="cc5407"/>
              </a:solidFill>
              <a:latin typeface="Verdan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920" y="15235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Parenthes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indicate the order that the query should be proces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segments of the query connected by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ust be true for a record to be selec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one of the segments connected by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ust be true for a record to be selec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28F1-61B4-4077-8452-717053C6AD3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8:31:25Z</dcterms:created>
  <dc:creator>andrew.jones</dc:creator>
  <dc:description/>
  <dc:language>en-US</dc:language>
  <cp:lastModifiedBy>Authorised User</cp:lastModifiedBy>
  <dcterms:modified xsi:type="dcterms:W3CDTF">2010-11-05T19:23:19Z</dcterms:modified>
  <cp:revision>6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15BE721CD390F48952E81333E8131C3</vt:lpwstr>
  </property>
</Properties>
</file>