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3.png" ContentType="image/png"/>
  <Override PartName="/ppt/media/image7.wmf" ContentType="image/x-wmf"/>
  <Override PartName="/ppt/media/image12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C3AA-94D4-453F-B943-FE68095F6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2AE2-483A-49C6-AB7B-3EE9B4255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7F5A-9E6F-4AAC-A39A-40D019ADA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1A84-5281-4659-9E4B-A43D969A57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1A94-3A56-4793-A402-F3735C3AD3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E1B0-F7E4-4FAA-B524-E7CAC69F3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7382-5A40-444C-808C-0A74C0575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FBEB-624D-45A9-9845-A1B6F7766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75DA-3D4E-4D09-8D3A-AAF320A97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801A-4DAA-4E07-B608-EBD0A061E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4150-8CE8-4DEA-9582-240D56A64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5E40-3355-43AA-8669-4EE579723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5907-D354-417A-8435-9B3C38E660D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 T5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SA Gateway and Portal Strateg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lu Balasubramany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ry Wo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0160" y="1447920"/>
            <a:ext cx="874368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Verdana"/>
              </a:rPr>
              <a:t>High-level functional capabilities identified:</a:t>
            </a:r>
            <a:endParaRPr b="1" lang="en-US" sz="2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3200" y="2133720"/>
            <a:ext cx="8155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batch-file transf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-3434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partner sends batch files to Gate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-3434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partner receives batch files from Gate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right-time data transf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-3434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partner sends right-time update to Gate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-3434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partner receives right-time update from Gate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shared services 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-3434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partner invokes Federal Student Aid shared service via Gate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-3434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application invokes external shared service via Gate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685800"/>
            <a:ext cx="7772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Gateway Requirements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3FEF-96D1-4FBC-A90C-16F894C408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5760" y="1752480"/>
            <a:ext cx="82310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atewa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Requirements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face Infrastruc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Integr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Application Architec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Integration Poi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Conceptual Desig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n Discuss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2666880"/>
            <a:ext cx="6019920" cy="457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533520"/>
            <a:ext cx="7010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1CC2-B66E-474D-9271-D785645F9F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533520"/>
            <a:ext cx="59403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Interface Infrastructure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1447920"/>
            <a:ext cx="8460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Verdana"/>
              </a:rPr>
              <a:t>The current Federal Student Aid external interface concerns ar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1981080"/>
            <a:ext cx="24242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"What problem needs to be solved?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Rectangle 3"/>
          <p:cNvGraphicFramePr/>
          <p:nvPr/>
        </p:nvGraphicFramePr>
        <p:xfrm>
          <a:off x="914400" y="4114800"/>
          <a:ext cx="71629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114800"/>
                    <a:ext cx="7162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1920" y="1981080"/>
            <a:ext cx="848016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lnSpc>
                <a:spcPct val="125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communication channels and entry points into Federal Student Aid are no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ntral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racked or man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25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right-time data inter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25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ity architecture is not being lever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70760" y="53352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What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needs to be solve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0986-80DD-41E8-9FA4-E194F21720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1280" y="990720"/>
            <a:ext cx="8460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SV Gateway solution will be the single communication channel between Federal Student Aid, external partners, and external service providers.</a:t>
            </a:r>
            <a:endParaRPr b="1" lang="en-US" sz="1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572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5407"/>
                </a:solidFill>
                <a:latin typeface="Verdana"/>
              </a:rPr>
              <a:t>Interface Infrastructure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Rectangle 3"/>
          <p:cNvGraphicFramePr/>
          <p:nvPr/>
        </p:nvGraphicFramePr>
        <p:xfrm>
          <a:off x="723960" y="2133720"/>
          <a:ext cx="769608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2133720"/>
                    <a:ext cx="76960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7FC9-5F4A-414A-B3A4-FEC82A1737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5760" y="1371600"/>
            <a:ext cx="8231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SV Gateway Requirement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SV Gateway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SV Applic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SV Integration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SV Gateway Conceptu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6019920" cy="457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09480"/>
            <a:ext cx="7010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6525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22A5-DC9C-47F0-97E0-9F5018017B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609480"/>
            <a:ext cx="7380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SV Technical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1280" y="1600200"/>
            <a:ext cx="8460000" cy="4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teway, Portal, ESB and internal applications are integrated within the enterprise target state vision</a:t>
            </a:r>
            <a:endParaRPr b="1" lang="en-US" sz="24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20760" y="2590920"/>
            <a:ext cx="6702480" cy="3504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21520" y="3386160"/>
            <a:ext cx="1933560" cy="128736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9889-C84F-4A61-9898-48E8A6F1C3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13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SV Gateway solution will integrate with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deral Student Aid's critical enabl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SV Enterprise Service Bus (ESB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urity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Aid Internet Gateway (SAI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SV Portal solu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deral Student Aid's business applications (e.g., COD, NSLDS, IPM, Information Framework, etc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Network Stor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57200"/>
            <a:ext cx="8229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SV Integration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4720" y="6176880"/>
            <a:ext cx="61232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 Integrating with Network Storage is an alternative technical architecture to support the processing of batch files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0796-48EF-498B-9AC4-AA4EA86ADC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5760" y="1600200"/>
            <a:ext cx="8231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V Gateway Requirements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face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V Gateway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V Application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V Integratio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V Gateway Conceptu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114800"/>
            <a:ext cx="6375240" cy="457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685800"/>
            <a:ext cx="7010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DB7E-C910-4391-97C9-83900A6BB0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762120"/>
            <a:ext cx="7010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6525"/>
                </a:solidFill>
                <a:latin typeface="Verdana"/>
              </a:rPr>
              <a:t>TSV Gateway Conceptual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6680" y="1828800"/>
            <a:ext cx="6469200" cy="426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9BF4-A154-4935-8D63-E570A7282D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09480"/>
            <a:ext cx="8229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SV Gateway Conceptual Design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3560" y="1447920"/>
            <a:ext cx="8155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0000"/>
          </a:bodyPr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TSV Gateway Component Descri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nterfaces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terfaces provide a way to establish systems-to-system communication.  Interfaces specify the appropriate method of communicating with a system, such as messaging and transport protoco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Messaging/Transport Protocols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pport the actual system-to-system communication.  The messaging protocol specifies the communication language understood by the receiving system or service, e.g. SOAP.  The transport protocol specifies the type transmission protocol supported for the system-to-system communication, e.g. HTTP or J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Service Registry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directory that contains information about available services, including web services and batch file transfer interface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*Network Storage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erves as a staging area to store all inbound and outbound batch files. Using Network Storage prevents the need to send batch files over the network and ESB, therefore reducing network overh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47456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5F09-813E-49A2-A091-C9D35C7C2D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5407"/>
                </a:solidFill>
                <a:latin typeface="Verdana"/>
              </a:rPr>
              <a:t>Enterprise Service Bus and Federal Student Aid Gateway Strategy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44197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lu Balasubramany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8459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SV Gateway Component Descriptions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ollowing capabilities are used to support the Gateway’s processing of batch files.</a:t>
            </a:r>
            <a:endParaRPr b="1" lang="en-US" sz="1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0"/>
            <a:ext cx="8229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981080"/>
            <a:ext cx="8155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Data Validation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Validates the schema and/or file format is in a readable and correct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Data Validat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es no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validate the actual data content, such as SSN has no dash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Data Transformation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ransforms data structure to necessary schema or file format between systems with different data struct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Data Transformat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es no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hange the data content.  Data Transformation is not business rule driv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XML Standardization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Validates and enforces the use of a standard data schema between systems.  Using a standard data format with a common data definition enables data consistency throughout data exchange process. This service should leverage the use of Federal Student Aid's XML reposito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9400" y="452520"/>
            <a:ext cx="43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SV Gateway Conceptual Designs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BAB3-BBDC-4D3B-8323-740066E943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280" y="380880"/>
            <a:ext cx="5029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5407"/>
                </a:solidFill>
                <a:latin typeface="Verdana"/>
              </a:rPr>
              <a:t>TSV Gateway Conceptual Design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949320"/>
            <a:ext cx="8154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210672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560" y="1066680"/>
            <a:ext cx="7848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SV Gateway Component Descriptions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 User GUI Components describe the functionality provided to gateway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 users.</a:t>
            </a:r>
            <a:endParaRPr b="1" lang="en-US" sz="1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93560" y="2133720"/>
            <a:ext cx="8155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7000"/>
          </a:bodyPr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Upload/Download Batch F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Provide the capability for an external partner to upload and download a file to the TSV Gate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Check Status of Batch F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Provide the capability to check the status of sent and received batch fi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Mailbox Management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Provide external partner’s administrators with the capability to manage the mailboxes for their organiz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Administrator Management Conso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Provide gateway administrators with administrative capabilities, such as reporting and operating the TSV Gatewa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Reference Center Documentation &amp; FSA Download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Provide the capability to download any necessary client software and supporting gateway  docum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90760" y="5638680"/>
            <a:ext cx="5548320" cy="60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TSV Gateway end users include external partners’ end users and administrators, Federal Student Aid employees, and TSV Gateway administrat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4FD5-6917-4393-8947-0F6766A2BB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6920" y="990360"/>
            <a:ext cx="87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re some key differences between a Gateway and Portal?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414504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teway           v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for system to system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ble of batch-file and right-time data trans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s as a proxy between external partners and Federal Student A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5120" y="2038320"/>
            <a:ext cx="426888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by end users to access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ble of real-time data trans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izable graphical user interface (GU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57200"/>
            <a:ext cx="7010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Gateway &amp; Portal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680" y="5029200"/>
            <a:ext cx="8701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th Gateway and Portal are applications to communicate between external partners and Federal Student 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B7AB-294D-4016-B132-6FCAAB5891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5760" y="1447920"/>
            <a:ext cx="8231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atewa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Requirements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face Infrastruc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Integr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Application Architec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Integration Poi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Conceptual Desig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n Discuss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4876920"/>
            <a:ext cx="6375600" cy="457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609480"/>
            <a:ext cx="7010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7B82-105B-417C-9994-8B7AC18BA0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1840" y="17524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4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problems do you anticipate with this approach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problems continue to be unresolved if Federal Student Aid implements this solu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should Federal Student Aid solve th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any supplemental requirements necessar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Gateway the right place to solve th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soon will this solution be useful?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are you benefited by using this solu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09480"/>
            <a:ext cx="8229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pen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1E47-F674-4486-899B-1E78D4A6A5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3120" y="2209680"/>
            <a:ext cx="853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6880" y="4591080"/>
            <a:ext cx="853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C369-54AF-48BC-949B-3596B304A0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-483192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lu Balasubraman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one: (202) 377-373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ail:Balu.balasubramanyam@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A931-D3F2-418B-9788-48597EC7494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ederal Student Aid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terprise Porta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rget State Vision (TSV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00200" y="1752480"/>
            <a:ext cx="5791320" cy="4343400"/>
            <a:chOff x="1600200" y="1752480"/>
            <a:chExt cx="5791320" cy="434340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rcRect l="25785" t="13957" r="1547" b="8607"/>
            <a:stretch/>
          </p:blipFill>
          <p:spPr>
            <a:xfrm>
              <a:off x="1600200" y="1752480"/>
              <a:ext cx="57913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534040" y="3501720"/>
              <a:ext cx="4857120" cy="241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69B2-832C-42FC-8F17-5486F672B7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SV Technical Architectur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1681200"/>
            <a:ext cx="6473880" cy="44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2C2B-5C39-481E-BFD5-037FD709EC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194292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review the vision and high-level requirements of Federal Student Aid's TSV Gateway s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information on the TSV Gateway's role in the target state and how customers can leverage its capabiliti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4272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6c2f"/>
                </a:solidFill>
                <a:latin typeface="Verdana"/>
              </a:rPr>
              <a:t>Objectiv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75C1-A01D-494E-BD35-A221CACD46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A Porta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295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9672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terprise Port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a Framework for Integrating Information, Applications, and Processes Across Organizational Boundari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kip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34290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rtals Prov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876"/>
              </a:spcBef>
              <a:spcAft>
                <a:spcPts val="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plified sign-on to back office applications and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876"/>
              </a:spcBef>
              <a:spcAft>
                <a:spcPts val="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sonalized information to deliver what users need when they need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876"/>
              </a:spcBef>
              <a:spcAft>
                <a:spcPts val="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reamlined and seamless access to information through a single user experience reducing the need to go from website to web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876"/>
              </a:spcBef>
              <a:spcAft>
                <a:spcPts val="88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inuous look and feel throughout allows for the appearance of integration before reengineering back end systems takes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657600" cy="32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73EB-D86D-417B-91AF-4A54ADD243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terprise Portal Infrastructure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867280" cy="470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BA71-2B2B-45FB-B042-B359CDFD73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sign Principl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ero impact to current Web site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lly support current FSA web design guide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ize user flexibility and personal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verage built-in portal capab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alize concepts of a 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clear development contract bounda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E262-C021-4BDE-AA9B-878940624B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terprise Portal Lay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75B4-E6D4-4A12-BAEC-465351B39B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a View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21932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9672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ivery of services and content from the perspective of a targeted user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209680"/>
            <a:ext cx="3429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2000"/>
          </a:bodyPr>
          <a:p>
            <a:pPr marL="207000" indent="-207000">
              <a:lnSpc>
                <a:spcPct val="90000"/>
              </a:lnSpc>
              <a:spcBef>
                <a:spcPts val="1125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ews Provi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broad spectrum of services to address a user population not just a particula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ows for seamless integration of information across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rages common reusable functionality enabling project teams to focus on business function unique to the user 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s one location to go to and one sign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800600" y="2243160"/>
            <a:ext cx="4267080" cy="38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AD8F-DE3E-450D-B44B-9AA0490D6F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ow Views Relate to Each Othe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3352680"/>
            <a:ext cx="2032200" cy="42876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SA.ED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4343400"/>
            <a:ext cx="2031840" cy="64296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ents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5943600"/>
            <a:ext cx="1959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4343400"/>
            <a:ext cx="2031840" cy="64296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mploye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0384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4343400"/>
            <a:ext cx="2032200" cy="64296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ing Partner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380988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40384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40384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2209680"/>
            <a:ext cx="2031840" cy="64296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ents and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2209680"/>
            <a:ext cx="2032200" cy="64296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mployee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tr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2209680"/>
            <a:ext cx="2666880" cy="64296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chool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ird Party Proces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819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895480"/>
            <a:ext cx="1447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410080" y="281952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0266-215F-47AE-AFFC-FDF764C226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5407"/>
                </a:solidFill>
                <a:latin typeface="Verdana"/>
              </a:rPr>
              <a:t>Views Are Fully Customizable</a:t>
            </a:r>
            <a:endParaRPr b="1" lang="en-US" sz="38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709720" cy="2415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283356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380880" y="1600200"/>
          <a:ext cx="2743200" cy="24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00200"/>
                    <a:ext cx="2743200" cy="24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3716-979E-4E05-A39B-FB0E1A0D2D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View Style - The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741320" y="148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Rectangle 3"/>
          <p:cNvGraphicFramePr/>
          <p:nvPr/>
        </p:nvGraphicFramePr>
        <p:xfrm>
          <a:off x="4405320" y="1684440"/>
          <a:ext cx="443376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5320" y="1684440"/>
                    <a:ext cx="443376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52280" y="14479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9672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mes Control the overall look and feel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220968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e header, footer, menu bar, side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the page level items that repeat on all pages in the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the color palette for the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3216-3561-4F3E-A97A-6BE7848ACD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ge Content - Portle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82" name="Rectangle 3"/>
          <p:cNvGraphicFramePr/>
          <p:nvPr/>
        </p:nvGraphicFramePr>
        <p:xfrm>
          <a:off x="4648320" y="2209680"/>
          <a:ext cx="418932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18932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52280" y="1371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9672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tlets are pluggable user interface component that represent a piece of functionality on a p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5146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rtle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ges are collections of port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usable content area of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person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custo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3323-DECD-415E-9814-B08E304F15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usable Portle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82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Alerts portle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Surve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Features portle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News portle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Featured links portle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Add a gadget portle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My book marks portle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My ne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Weather portle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Employee find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My to do’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778280" y="1676520"/>
          <a:ext cx="4365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8280" y="1676520"/>
                    <a:ext cx="4365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8E5E-7EE9-4A3C-A00E-8B4F5ABC3E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-1612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3200400" cy="457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85800"/>
            <a:ext cx="7010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6726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tew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SV Gateway Requirements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ace Infra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SV Gateway Integ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SV Application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SV Integration Po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SV Gateway Conceptu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 Discu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1ACD-4931-4587-9DC8-016892B214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Questions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52480" y="2286000"/>
            <a:ext cx="6934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ry W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ief Application Archit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ry.Woods@ed.g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53D3-95C4-4984-A798-8B072E1D5F5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A Gateway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3200" y="1447920"/>
            <a:ext cx="81550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5120" indent="-3506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ateway is part of an organization's technical architecture that facilitates the communication between internal applications and external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-3506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ateway provides separation and security between the outside world and an internal net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-3506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ateway acts as a proxy to broker requests between external partners and Federal Student Aid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33520"/>
            <a:ext cx="70106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761976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2F59-C8A5-41BC-B895-FCF515444B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lationship to TSV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03080" y="1647360"/>
            <a:ext cx="77626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ateway provides a communication channel between Federal Student Aid and external partn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341280" y="685800"/>
            <a:ext cx="846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Rectangle 3"/>
          <p:cNvGraphicFramePr/>
          <p:nvPr/>
        </p:nvGraphicFramePr>
        <p:xfrm>
          <a:off x="774720" y="2451240"/>
          <a:ext cx="7485120" cy="36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2451240"/>
                    <a:ext cx="7485120" cy="36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391520" y="3213000"/>
            <a:ext cx="1619280" cy="660600"/>
          </a:xfrm>
          <a:prstGeom prst="wedgeRectCallout">
            <a:avLst>
              <a:gd name="adj1" fmla="val -187254"/>
              <a:gd name="adj2" fmla="val 47837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ateway is an access point for external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6094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teway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4A41-DEE4-4423-81CF-5DC48BAC2B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739440"/>
            <a:ext cx="768348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Gateway’s role in TSV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will be a key enabler for external partners doing business with Federal Student Aid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452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will provide Federal Student Aid TSV enterprise business applications with a secure and reliable solution to communicate with external partne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533520"/>
            <a:ext cx="49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teway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50D5-DDAD-49DD-9532-25C97647C8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1447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are the benefits and impacts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2590920"/>
            <a:ext cx="8231040" cy="31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reates an enterprise view of all external interface information exchanged with Federal Student Ai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vides a layer of security between Federal Student Aid and external partne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reates well defined procedures for integrating with Federal Student Aid servic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ternal interfaces can be centrally managed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858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teway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8D67-D4DA-463A-8EA5-069F99AF46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600200"/>
            <a:ext cx="6375240" cy="457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57200"/>
            <a:ext cx="7010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6525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5760" y="1143000"/>
            <a:ext cx="8231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atewa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Requirements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face Infrastruc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Integr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Application Architec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Integration Poi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Conceptual Desig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n Discuss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A13C-F9CA-4496-BE6D-B9DC581025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6:35:40Z</dcterms:created>
  <dc:creator>James Burt</dc:creator>
  <dc:description/>
  <dc:language>en-US</dc:language>
  <cp:lastModifiedBy>Amy Luycx</cp:lastModifiedBy>
  <dcterms:modified xsi:type="dcterms:W3CDTF">2008-09-09T17:23:20Z</dcterms:modified>
  <cp:revision>164</cp:revision>
  <dc:subject/>
  <dc:title>PowerPoint Presentation</dc:title>
</cp:coreProperties>
</file>