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3.png" ContentType="image/png"/>
  <Override PartName="/ppt/media/image7.wmf" ContentType="image/x-wmf"/>
  <Override PartName="/ppt/media/image12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87D5-0613-4605-85B9-45C4C2CE0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ED22-A4AF-4F34-A248-3627FF9BB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E2EC-7A42-4257-AE66-416BB5C34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0958-35C9-4C5F-B98C-6CC6C2EEC4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BBB7-351A-46AB-8475-1DE68E92EE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A36C-6814-472D-8843-BB7593D30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2831-8BA1-422C-9E2A-3146D56EE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C4D1-B10F-4746-8AD3-80AA5CA45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1A40-8BB4-486A-8EBE-27B91BE90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4EBD-5EC1-40B6-9449-78533ECB1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85E14-5652-41EE-8B3F-E34704FE9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9F37-FFA5-4E4F-A578-860E9A2BB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8E4F-E1FD-4D81-B3C5-5B64FB32C46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 T5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440" y="205704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SA Gateway and Portal Strateg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lu Balasubramany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rry Wo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0160" y="1447920"/>
            <a:ext cx="874368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407"/>
                </a:solidFill>
                <a:latin typeface="Verdana"/>
              </a:rPr>
              <a:t>High-level functional capabilities identified:</a:t>
            </a:r>
            <a:endParaRPr b="1" lang="en-US" sz="2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3200" y="2133720"/>
            <a:ext cx="81550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batch-file transf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5760" indent="-34344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rnal partner sends batch files to Gate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5760" indent="-34344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rnal partner receives batch files from Gate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576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right-time data transf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5760" indent="-34344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rnal partner sends right-time update to Gate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5760" indent="-34344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rnal partner receives right-time update from Gate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576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shared services 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5760" indent="-34344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rnal partner invokes Federal Student Aid shared service via Gate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5760" indent="-34344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l application invokes external shared service via Gate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576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685800"/>
            <a:ext cx="7772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Gateway Requirements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6CB0-0F92-49B4-B225-F0B1A2CB0F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5760" y="1752480"/>
            <a:ext cx="82310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atewa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Gateway Requirements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face Infrastruc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Gateway Integr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Application Architec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Integration Poi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Gateway Conceptual Desig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pen Discuss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2666880"/>
            <a:ext cx="6019920" cy="457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533520"/>
            <a:ext cx="70102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E4449-5DF2-4B13-97FA-652AA263D4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533520"/>
            <a:ext cx="59403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Interface Infrastructure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1447920"/>
            <a:ext cx="8460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407"/>
                </a:solidFill>
                <a:latin typeface="Verdana"/>
              </a:rPr>
              <a:t>The current Federal Student Aid external interface concerns ar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1981080"/>
            <a:ext cx="24242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"What problem needs to be solved?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Rectangle 3"/>
          <p:cNvGraphicFramePr/>
          <p:nvPr/>
        </p:nvGraphicFramePr>
        <p:xfrm>
          <a:off x="914400" y="4114800"/>
          <a:ext cx="71629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114800"/>
                    <a:ext cx="7162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1920" y="1981080"/>
            <a:ext cx="848016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lnSpc>
                <a:spcPct val="125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communication channels and entry points into Federal Student Aid are no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ntral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racked or man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25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right-time data inter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25000"/>
              </a:lnSpc>
              <a:spcBef>
                <a:spcPts val="18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urity architecture is not being lever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70760" y="533520"/>
            <a:ext cx="20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What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needs to be solved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0490-B8B8-4FA9-A3E3-638A611D96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1280" y="990720"/>
            <a:ext cx="8460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SV Gateway solution will be the single communication channel between Federal Student Aid, external partners, and external service providers.</a:t>
            </a:r>
            <a:endParaRPr b="1" lang="en-US" sz="1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572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5407"/>
                </a:solidFill>
                <a:latin typeface="Verdana"/>
              </a:rPr>
              <a:t>Interface Infrastructure (cont’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Rectangle 3"/>
          <p:cNvGraphicFramePr/>
          <p:nvPr/>
        </p:nvGraphicFramePr>
        <p:xfrm>
          <a:off x="723960" y="2133720"/>
          <a:ext cx="769608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2133720"/>
                    <a:ext cx="76960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F04E-961A-4CD1-A6C1-E82874B751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5760" y="1371600"/>
            <a:ext cx="8231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SV Gateway Requirements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face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SV Gateway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SV Applic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SV Integration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SV Gateway Conceptu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6019920" cy="457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609480"/>
            <a:ext cx="7010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6525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2EB0B-A8EB-4A44-9331-B50DB20347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609480"/>
            <a:ext cx="7380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SV Technical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1280" y="1600200"/>
            <a:ext cx="8460000" cy="45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teway, Portal, ESB and internal applications are integrated within the enterprise target state vision</a:t>
            </a:r>
            <a:endParaRPr b="1" lang="en-US" sz="24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20760" y="2590920"/>
            <a:ext cx="6702480" cy="3504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221520" y="3386160"/>
            <a:ext cx="1933560" cy="128736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4044-E4CE-4344-9E76-C78766F6DC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13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SV Gateway solution will integrate with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deral Student Aid's critical enabl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SV Enterprise Service Bus (ESB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urity Archite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Aid Internet Gateway (SAIG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SV Portal solut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deral Student Aid's business applications (e.g., COD, NSLDS, IPM, Information Framework, etc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Network Stor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457200"/>
            <a:ext cx="8229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SV Integration Po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4720" y="6176880"/>
            <a:ext cx="61232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* Integrating with Network Storage is an alternative technical architecture to support the processing of batch files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31EB3-1267-4B79-875C-E22319AF68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5760" y="1600200"/>
            <a:ext cx="82310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SV Gateway Requirements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face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SV Gateway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SV Application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SV Integratio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SV Gateway Conceptu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114800"/>
            <a:ext cx="6375240" cy="457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685800"/>
            <a:ext cx="7010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D247-7797-4CD2-B0E1-0724F51F91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762120"/>
            <a:ext cx="70102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6525"/>
                </a:solidFill>
                <a:latin typeface="Verdana"/>
              </a:rPr>
              <a:t>TSV Gateway Conceptual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36680" y="1828800"/>
            <a:ext cx="6469200" cy="426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480A-BE02-4730-9A14-CEE7EF30AB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09480"/>
            <a:ext cx="8229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SV Gateway Conceptual Design (cont’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3560" y="1447920"/>
            <a:ext cx="8155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0000"/>
          </a:bodyPr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TSV Gateway Component Descrip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Interfaces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nterfaces provide a way to establish systems-to-system communication.  Interfaces specify the appropriate method of communicating with a system, such as messaging and transport protoco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Messaging/Transport Protocols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pport the actual system-to-system communication.  The messaging protocol specifies the communication language understood by the receiving system or service, e.g. SOAP.  The transport protocol specifies the type transmission protocol supported for the system-to-system communication, e.g. HTTP or J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Service Registry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directory that contains information about available services, including web services and batch file transfer interface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*Network Storage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erves as a staging area to store all inbound and outbound batch files. Using Network Storage prevents the need to send batch files over the network and ESB, therefore reducing network overhe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47456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F181-F4FF-4A08-A6BC-24D4FB48EA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5407"/>
                </a:solidFill>
                <a:latin typeface="Verdana"/>
              </a:rPr>
              <a:t>Enterprise Service Bus and Federal Student Aid Gateway Strategy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441972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alu Balasubramany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8459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SV Gateway Component Descriptions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ollowing capabilities are used to support the Gateway’s processing of batch files.</a:t>
            </a:r>
            <a:endParaRPr b="1" lang="en-US" sz="1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0"/>
            <a:ext cx="8229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981080"/>
            <a:ext cx="8155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Data Validation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Validates the schema and/or file format is in a readable and correct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Data Validatio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oes no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validate the actual data content, such as SSN has no dash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Data Transformation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ransforms data structure to necessary schema or file format between systems with different data structu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Data Transformatio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oes no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change the data content.  Data Transformation is not business rule driv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XML Standardization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Validates and enforces the use of a standard data schema between systems.  Using a standard data format with a common data definition enables data consistency throughout data exchange process. This service should leverage the use of Federal Student Aid's XML reposito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9400" y="452520"/>
            <a:ext cx="43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SV Gateway Conceptual Designs (cont’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9D42-146A-48A5-82E5-9F50E465D6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2280" y="380880"/>
            <a:ext cx="50292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5407"/>
                </a:solidFill>
                <a:latin typeface="Verdana"/>
              </a:rPr>
              <a:t>TSV Gateway Conceptual Design (cont’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949320"/>
            <a:ext cx="81547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210672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3560" y="1066680"/>
            <a:ext cx="7848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SV Gateway Component Descriptions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d User GUI Components describe the functionality provided to gateway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d users.</a:t>
            </a:r>
            <a:endParaRPr b="1" lang="en-US" sz="1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493560" y="2133720"/>
            <a:ext cx="8155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7000"/>
          </a:bodyPr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Upload/Download Batch Fil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Provide the capability for an external partner to upload and download a file to the TSV Gate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Check Status of Batch Fil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Provide the capability to check the status of sent and received batch fi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Mailbox Management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Provide external partner’s administrators with the capability to manage the mailboxes for their organiz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Administrator Management Consol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Provide gateway administrators with administrative capabilities, such as reporting and operating the TSV Gatewa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Reference Center Documentation &amp; FSA Download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Provide the capability to download any necessary client software and supporting gateway  docum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90760" y="5638680"/>
            <a:ext cx="5548320" cy="60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TSV Gateway end users include external partners’ end users and administrators, Federal Student Aid employees, and TSV Gateway administrat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1C0AC-C581-45A0-A888-578F9B3FD0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6920" y="990360"/>
            <a:ext cx="87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re some key differences between a Gateway and Portal?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4145040" cy="31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teway           v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for system to system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ble of batch-file and right-time data transmi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s as a proxy between external partners and Federal Student A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75120" y="2038320"/>
            <a:ext cx="426888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r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by end users to access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ble of real-time data transmi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izable graphical user interface (GU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457200"/>
            <a:ext cx="7010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Gateway &amp; Portal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680" y="5029200"/>
            <a:ext cx="87012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th Gateway and Portal are applications to communicate between external partners and Federal Student 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1E63-2F4B-43BB-9EFE-4890A74C7A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5760" y="1447920"/>
            <a:ext cx="8231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atewa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Gateway Requirements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face Infrastruc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Gateway Integr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Application Architec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Integration Poi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Gateway Conceptual Desig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pen Discuss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4876920"/>
            <a:ext cx="6375600" cy="457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609480"/>
            <a:ext cx="7010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3A7B-1063-49FD-96D3-C653A6C030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1840" y="17524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44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problems do you anticipate with this approach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problems continue to be unresolved if Federal Student Aid implements this solu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should Federal Student Aid solve the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any supplemental requirements necessar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Gateway the right place to solve the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soon will this solution be useful?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are you benefited by using this solu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09480"/>
            <a:ext cx="8229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pen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43B55-1277-451F-BED8-F1C8DFFBDC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3120" y="2209680"/>
            <a:ext cx="853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6880" y="4591080"/>
            <a:ext cx="853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7A7C-73BB-4B63-A886-4D73F80F12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-483192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lu Balasubramany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hone: (202) 377-373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ail:Balu.balasubramanyam@ed.g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1E00-4CD7-4000-B4CB-6AC8D3931CF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ederal Student Aid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terprise Portal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arget State Vision (TSV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00200" y="1752480"/>
            <a:ext cx="5791320" cy="4343400"/>
            <a:chOff x="1600200" y="1752480"/>
            <a:chExt cx="5791320" cy="434340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rcRect l="25785" t="13957" r="1547" b="8607"/>
            <a:stretch/>
          </p:blipFill>
          <p:spPr>
            <a:xfrm>
              <a:off x="1600200" y="1752480"/>
              <a:ext cx="579132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534040" y="3501720"/>
              <a:ext cx="4857120" cy="241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CD89-E063-4DDE-BE6C-5E2D1E1F80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SV Technical Architectur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47920" y="1681200"/>
            <a:ext cx="6473880" cy="44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432E-21E5-4FD8-BCEE-10BE2094E6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194292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review the vision and high-level requirements of Federal Student Aid's TSV Gateway sol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information on the TSV Gateway's role in the target state and how customers can leverage its capabiliti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4272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6c2f"/>
                </a:solidFill>
                <a:latin typeface="Verdana"/>
              </a:rPr>
              <a:t>Objectiv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B3AC-37BE-428A-836E-6846B79990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A Portal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295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96720" indent="-396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terprise Port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a Framework for Integrating Information, Applications, and Processes Across Organizational Boundari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kip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34290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ortals Prov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876"/>
              </a:spcBef>
              <a:spcAft>
                <a:spcPts val="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plified sign-on to back office applications and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876"/>
              </a:spcBef>
              <a:spcAft>
                <a:spcPts val="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sonalized information to deliver what users need when they need 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876"/>
              </a:spcBef>
              <a:spcAft>
                <a:spcPts val="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reamlined and seamless access to information through a single user experience reducing the need to go from website to web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876"/>
              </a:spcBef>
              <a:spcAft>
                <a:spcPts val="88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inuous look and feel throughout allows for the appearance of integration before reengineering back end systems takes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3657600" cy="32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9FF5-122E-4323-B168-E860EEE310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terprise Portal Infrastructure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867280" cy="470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C86FD-3E40-4CD0-B10F-393642A9541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sign Principl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ero impact to current Web site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lly support current FSA web design guide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ize user flexibility and personal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verage built-in portal capabi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alize concepts of a 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 clear development contract bounda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04AC-12C0-47AE-ABC2-A6275D24CE3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terprise Portal Laye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5627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BF59-21EA-4081-A047-CEF328B1E75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a View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219320"/>
            <a:ext cx="8381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96720" indent="-396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ivery of services and content from the perspective of a targeted user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209680"/>
            <a:ext cx="3429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2000"/>
          </a:bodyPr>
          <a:p>
            <a:pPr marL="207000" indent="-207000">
              <a:lnSpc>
                <a:spcPct val="90000"/>
              </a:lnSpc>
              <a:spcBef>
                <a:spcPts val="1125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ews Provi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broad spectrum of services to address a user population not just a particula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ows for seamless integration of information across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verages common reusable functionality enabling project teams to focus on business function unique to the user pop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vides one location to go to and one sign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800600" y="2243160"/>
            <a:ext cx="4267080" cy="380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39B7-0CF4-44FC-9801-3620DFAEBB3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ow Views Relate to Each Othe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3352680"/>
            <a:ext cx="2032200" cy="42876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SA.ED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4343400"/>
            <a:ext cx="2031840" cy="64296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udents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5943600"/>
            <a:ext cx="1959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4343400"/>
            <a:ext cx="2031840" cy="64296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mploye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0384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4343400"/>
            <a:ext cx="2032200" cy="64296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ing Partner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380988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40384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40384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2209680"/>
            <a:ext cx="2031840" cy="64296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udents and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2209680"/>
            <a:ext cx="2032200" cy="64296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mployee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tr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2209680"/>
            <a:ext cx="2666880" cy="64296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chool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ird Party Process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819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2895480"/>
            <a:ext cx="14475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410080" y="281952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2468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AA1D-BF07-4920-ACEC-220F8C7FA44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5407"/>
                </a:solidFill>
                <a:latin typeface="Verdana"/>
              </a:rPr>
              <a:t>Views Are Fully Customizable</a:t>
            </a:r>
            <a:endParaRPr b="1" lang="en-US" sz="38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709720" cy="24159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791320" y="4572000"/>
            <a:ext cx="2833560" cy="15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380880" y="1600200"/>
          <a:ext cx="2743200" cy="24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600200"/>
                    <a:ext cx="2743200" cy="24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9872-D09D-4CCD-8905-35DBF0DA5D2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View Style - Them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741320" y="148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Rectangle 3"/>
          <p:cNvGraphicFramePr/>
          <p:nvPr/>
        </p:nvGraphicFramePr>
        <p:xfrm>
          <a:off x="4405320" y="1684440"/>
          <a:ext cx="443376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5320" y="1684440"/>
                    <a:ext cx="443376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52280" y="144792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96720" indent="-396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mes Control the overall look and feel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2209680"/>
            <a:ext cx="342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ude header, footer, menu bar, side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the page level items that repeat on all pages in the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the color palette for the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73BC0-B47A-4BFB-A1F6-4CA0F92D6B3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ge Content - Portle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82" name="Rectangle 3"/>
          <p:cNvGraphicFramePr/>
          <p:nvPr/>
        </p:nvGraphicFramePr>
        <p:xfrm>
          <a:off x="4648320" y="2209680"/>
          <a:ext cx="4189320" cy="40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18932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152280" y="1371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96720" indent="-396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rtlets are pluggable user interface component that represent a piece of functionality on a pa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514600"/>
            <a:ext cx="342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rtle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ges are collections of port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usable content area of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person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custo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F8182-49F4-48CB-B67F-82D35E705DD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usable Portle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82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Alerts portle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Surve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Features portle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News portle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Featured links portle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Add a gadget portle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My book marks portle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My ne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Weather portle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Employee find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 Unicode MS"/>
              </a:rPr>
              <a:t>My to do’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778280" y="1676520"/>
          <a:ext cx="4365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8280" y="1676520"/>
                    <a:ext cx="4365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5420B-DB4E-4FC3-9F2D-7FB79733DA0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-1612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447920"/>
            <a:ext cx="3200400" cy="457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685800"/>
            <a:ext cx="7010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e6726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tew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SV Gateway Requirements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face Infra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SV Gateway Integ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SV Application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SV Integration Po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SV Gateway Conceptual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n Discu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268BE-874C-4FBB-8C1F-DEFAA1C69F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Questions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52480" y="2286000"/>
            <a:ext cx="6934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ry W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ief Application Archit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ry.Woods@ed.g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0189-2DBF-4870-B7FF-C53F19D45B2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Is A Gateway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3200" y="1447920"/>
            <a:ext cx="81550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5120" indent="-35064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ateway is part of an organization's technical architecture that facilitates the communication between internal applications and external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-35064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ateway provides separation and security between the outside world and an internal net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-35064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ateway acts as a proxy to broker requests between external partners and Federal Student Aid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533520"/>
            <a:ext cx="70106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761976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E4D1C-E2BA-4B76-B230-27984C36A3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lationship to TSV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03080" y="1647360"/>
            <a:ext cx="77626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ateway provides a communication channel between Federal Student Aid and external partn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341280" y="685800"/>
            <a:ext cx="8460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Rectangle 3"/>
          <p:cNvGraphicFramePr/>
          <p:nvPr/>
        </p:nvGraphicFramePr>
        <p:xfrm>
          <a:off x="774720" y="2451240"/>
          <a:ext cx="7485120" cy="36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2451240"/>
                    <a:ext cx="7485120" cy="36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7391520" y="3213000"/>
            <a:ext cx="1619280" cy="660600"/>
          </a:xfrm>
          <a:prstGeom prst="wedgeRectCallout">
            <a:avLst>
              <a:gd name="adj1" fmla="val -187254"/>
              <a:gd name="adj2" fmla="val 47837"/>
            </a:avLst>
          </a:prstGeom>
          <a:solidFill>
            <a:srgbClr val="ff0000"/>
          </a:soli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ateway is an access point for external part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60948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teway (cont’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1076-91F2-4498-8665-47FFB3707C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739440"/>
            <a:ext cx="768348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Gateway’s role in TSV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Gateway will be a key enabler for external partners doing business with Federal Student Aid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452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Gateway will provide Federal Student Aid TSV enterprise business applications with a secure and reliable solution to communicate with external partne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533520"/>
            <a:ext cx="49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teway (cont’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4B0E-047C-48DC-AF90-1B5DE69564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1447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are the benefits and impacts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2590920"/>
            <a:ext cx="8231040" cy="31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reates an enterprise view of all external interface information exchanged with Federal Student Ai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vides a layer of security between Federal Student Aid and external partne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reates well defined procedures for integrating with Federal Student Aid servic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13"/>
              </a:spcBef>
              <a:spcAft>
                <a:spcPts val="2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ternal interfaces can be centrally managed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858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teway (cont’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2C8E-CEE2-4A29-AF06-508D4925F0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600200"/>
            <a:ext cx="6375240" cy="457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57200"/>
            <a:ext cx="7010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6525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5760" y="1143000"/>
            <a:ext cx="8231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atewa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Gateway Requirements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face Infrastruc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Gateway Integr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Application Architec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Integration Poi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SV Gateway Conceptual Desig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862"/>
              </a:spcBef>
              <a:spcAft>
                <a:spcPts val="8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pen Discuss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E049-7CA7-4A9E-8A16-04051D38D2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6:35:40Z</dcterms:created>
  <dc:creator>James Burt</dc:creator>
  <dc:description/>
  <dc:language>en-US</dc:language>
  <cp:lastModifiedBy>Amy Luycx</cp:lastModifiedBy>
  <dcterms:modified xsi:type="dcterms:W3CDTF">2008-09-09T17:23:20Z</dcterms:modified>
  <cp:revision>164</cp:revision>
  <dc:subject/>
  <dc:title>PowerPoint Presentation</dc:title>
</cp:coreProperties>
</file>