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29ABE5-B740-4026-B4E3-7FAA95B461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4920" y="379224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BB6B9E-D1A7-429E-8065-A0B9BE5CF5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92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784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814137-22E5-4D14-84C1-1DE413EB11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90680" y="15235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76080" y="15235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4920" y="3792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90680" y="3792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76080" y="3792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5B67DC-058B-492E-B8A4-08E10DEF84D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4"/>
              </a:spcBef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DF6B4E-0453-4A5E-B6DC-66B312CA13C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754E02-85BC-4033-9F9F-325ADFA633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48F789-79C5-48E4-86A7-2ECBC9D5BC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190F99-CFFE-4E13-87C1-9A6C95A49F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04560" y="60912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4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5AA592-C57D-4D0C-951D-5A6E440495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492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3D2853-9560-4335-A62E-85626A6F2C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784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5B3AE0-FAAF-46C0-85D7-7EABFA1B00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79224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025BAB-5B90-44E3-900C-34698F42D3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0" descr="backdrop2007"/>
          <p:cNvPicPr/>
          <p:nvPr/>
        </p:nvPicPr>
        <p:blipFill>
          <a:blip r:embed="rId2"/>
          <a:srcRect l="0" t="0" r="0" b="88153"/>
          <a:stretch/>
        </p:blipFill>
        <p:spPr>
          <a:xfrm>
            <a:off x="0" y="-63360"/>
            <a:ext cx="9144000" cy="6238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224"/>
              </a:spcBef>
              <a:spcAft>
                <a:spcPts val="1125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646200" indent="-248400">
              <a:spcBef>
                <a:spcPts val="224"/>
              </a:spcBef>
              <a:spcAft>
                <a:spcPts val="1125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2" marL="994320" indent="-198720">
              <a:spcBef>
                <a:spcPts val="224"/>
              </a:spcBef>
              <a:spcAft>
                <a:spcPts val="1125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3" marL="1392120" indent="-198720">
              <a:spcBef>
                <a:spcPts val="224"/>
              </a:spcBef>
              <a:spcAft>
                <a:spcPts val="1125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4" marL="1789920" indent="-198720">
              <a:spcBef>
                <a:spcPts val="224"/>
              </a:spcBef>
              <a:spcAft>
                <a:spcPts val="1125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5" marL="1789920" indent="-198720">
              <a:spcBef>
                <a:spcPts val="224"/>
              </a:spcBef>
              <a:spcAft>
                <a:spcPts val="1125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6" marL="1789920" indent="-198720">
              <a:spcBef>
                <a:spcPts val="224"/>
              </a:spcBef>
              <a:spcAft>
                <a:spcPts val="1125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82275-61B9-4A42-9541-0F4A19FA6583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14" descr=""/>
          <p:cNvPicPr/>
          <p:nvPr/>
        </p:nvPicPr>
        <p:blipFill>
          <a:blip r:embed="rId3"/>
          <a:stretch/>
        </p:blipFill>
        <p:spPr>
          <a:xfrm>
            <a:off x="1143000" y="380880"/>
            <a:ext cx="7251840" cy="38160"/>
          </a:xfrm>
          <a:prstGeom prst="rect">
            <a:avLst/>
          </a:prstGeom>
          <a:ln w="0">
            <a:noFill/>
          </a:ln>
        </p:spPr>
      </p:pic>
      <p:pic>
        <p:nvPicPr>
          <p:cNvPr id="5" name="Picture 19" descr="4-color R Logo"/>
          <p:cNvPicPr/>
          <p:nvPr/>
        </p:nvPicPr>
        <p:blipFill>
          <a:blip r:embed="rId4"/>
          <a:stretch/>
        </p:blipFill>
        <p:spPr>
          <a:xfrm>
            <a:off x="304920" y="6168960"/>
            <a:ext cx="2743200" cy="536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1397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Session T-01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2552400"/>
            <a:ext cx="6400800" cy="28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24"/>
              </a:spcBef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Birds of a Feather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224"/>
              </a:spcBef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For IT Professional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224"/>
              </a:spcBef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224"/>
              </a:spcBef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1T18:31:25Z</dcterms:created>
  <dc:creator>andrew.jones</dc:creator>
  <dc:description/>
  <dc:language>en-US</dc:language>
  <cp:lastModifiedBy>Amy Luycx</cp:lastModifiedBy>
  <dcterms:modified xsi:type="dcterms:W3CDTF">2008-09-09T16:40:35Z</dcterms:modified>
  <cp:revision>253</cp:revision>
  <dc:subject/>
  <dc:title>PowerPoint Presentation</dc:title>
</cp:coreProperties>
</file>