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47CF-5576-4CEC-947F-3183F6339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F36C-CBF5-47EC-9F4B-2F186F03B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00C2-8231-43A0-87F4-7BCD01598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3744-F1CA-4F2F-884D-6B42AF89F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BFDD-939A-4770-BD83-7DD6A958C0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7761-E721-46B3-90BC-ADFA3D089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CF40-00CE-4BC5-8121-33C787475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DBA6-1F4F-4B0A-8D94-6B96910EF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5AF7-522D-44FD-A262-95BFC6DA3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CE45-E126-4951-8210-16D4DE678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C921-54DE-46D3-BD4F-7108DCA4A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0765-F19C-4490-AD74-DC94F746F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3921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1789920" indent="-198720">
              <a:spcBef>
                <a:spcPts val="224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9EF7-5C3D-422B-AF8E-0D53FF27B1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39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T-01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52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irds of a Feath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r IT Profession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09-09T16:40:35Z</dcterms:modified>
  <cp:revision>253</cp:revision>
  <dc:subject/>
  <dc:title>PowerPoint Presentation</dc:title>
</cp:coreProperties>
</file>