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ftr" idx="20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 type="sldNum" idx="21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5C42-79CF-41A1-96E8-2BC53B099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1EE7-24C8-443C-8DC9-9511DFF46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3884760" y="902628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fld id="{E853FCDE-FBB8-4AC4-A98D-9EBB5F13DE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3"/>
          <p:cNvSpPr/>
          <p:nvPr/>
        </p:nvSpPr>
        <p:spPr>
          <a:xfrm>
            <a:off x="0" y="9023400"/>
            <a:ext cx="2971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"/>
          <p:cNvSpPr/>
          <p:nvPr/>
        </p:nvSpPr>
        <p:spPr>
          <a:xfrm>
            <a:off x="0" y="0"/>
            <a:ext cx="2971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5"/>
          <p:cNvSpPr/>
          <p:nvPr/>
        </p:nvSpPr>
        <p:spPr>
          <a:xfrm>
            <a:off x="3884760" y="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fld id="{95CF8B28-D808-41CD-9834-F35054C06DD6}" type="datetime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6"/>
          <p:cNvSpPr/>
          <p:nvPr/>
        </p:nvSpPr>
        <p:spPr>
          <a:xfrm>
            <a:off x="1092240" y="685800"/>
            <a:ext cx="467352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body"/>
          </p:nvPr>
        </p:nvSpPr>
        <p:spPr>
          <a:xfrm>
            <a:off x="914400" y="4421160"/>
            <a:ext cx="5029200" cy="26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ximum award for 2007-2008 would remain at $4,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ell Grants would be made available year-round at eligible 2- and 4- year degree granting institutions, to encourage students to accelerate their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s an incentive for students to complete their programs on-time and to eliminate an area of potential abuse, Pell Grant eligibility would be limited to the equivalent of 16 sem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pose to eliminate the “third award rule” related to tuition sensitivity.  The rule currently limits the amount of support that students with greatest need receive while attending low-cost instit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Text Box 2"/>
          <p:cNvSpPr/>
          <p:nvPr/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259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2"/>
          <p:cNvSpPr/>
          <p:nvPr/>
        </p:nvSpPr>
        <p:spPr>
          <a:xfrm>
            <a:off x="1104840" y="698400"/>
            <a:ext cx="464832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body"/>
          </p:nvPr>
        </p:nvSpPr>
        <p:spPr>
          <a:xfrm>
            <a:off x="685800" y="4417560"/>
            <a:ext cx="54849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 Box 2"/>
          <p:cNvSpPr/>
          <p:nvPr/>
        </p:nvSpPr>
        <p:spPr>
          <a:xfrm>
            <a:off x="1143000" y="685800"/>
            <a:ext cx="457200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2"/>
          <p:cNvSpPr/>
          <p:nvPr/>
        </p:nvSpPr>
        <p:spPr>
          <a:xfrm>
            <a:off x="110484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259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F30D-EF64-4690-9BD1-AAF5778AC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FD1D-E212-46E3-BB66-E8913AE089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CD313-EB4A-4CC0-BEAD-8A3D492D555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D3073-2D7B-4C11-B2A8-0CF5E20AF74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6C53-C8D1-417A-9066-A2F53ECEC7E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9BCC-CE5F-49D8-9160-F577356BB14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7A903-9D25-4B04-9823-14A27B25A4C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217B-C51F-4930-866D-86EC917CDFD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4A30-4BE8-47EE-98A2-D695FFD1395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F4B8-DD64-4442-A668-DA8BC85F834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3C38C-15D6-45FB-BB24-075A7BA1B7A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64D022-88E0-4127-8E75-3C7E15812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4A90-73C1-45CB-8385-69C6E5443FB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BBD9A-D7A5-4BA2-9927-E4F31574CC8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EF740-0A5D-483A-B444-D9F5899DD8A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CABB0-ECC0-4439-9C90-06E8C145BA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96361B-9D8B-41C3-94F7-A39FE7DFA69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7BA22-4F22-49E3-B97E-49A74F63817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0BA6F-9263-427E-A622-BC3F1E897C5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66E8B5-4903-4741-A0FA-8BE669A4545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4093F-A83D-4D5D-95AA-FB21CF957E5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0DC6E-A28D-43D8-86D9-238B8CC879F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A07E13-D740-462D-BB17-B5DF1C668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66F2-4D60-4B40-9FAD-9CE3202B3EC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A3D8C-401B-44A6-B09F-7223A04614D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A6552-5E52-4F2F-9AB5-7684409B3EA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41366-3ADB-4A92-860D-CFE297F76A7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B6F141-E210-4DA9-BDBA-B188818E9BE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C06987-61A2-4C3C-9FA4-17545683754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E04CA-0CE3-4BFB-B09F-0E69E42C8CD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93DE1-FFD3-45D9-A8B4-DC5A3CF6BA9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78A08-13BC-4A1F-8D39-FFFB0C2EE98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61C5E-32EA-436C-8641-014853AB8EF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54F31-42ED-4D4B-94DD-20EB50003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4C50-0F1E-4D62-BC41-A84C58C8E91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0087D-0B86-4014-A3D7-84DC14CF64A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5AF6B-BE0E-44FB-9F0A-095E2BE4B63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CE362-2D29-448D-8705-635BF02CADD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A649-75B5-4F21-8B9A-F70DE1F25D9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1135E-F956-4333-AF2C-E6B5D8CA66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10BFA-1EA6-4E27-AE6A-10013F3BB80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9625C-A380-4E9F-8AB1-151CA38DA36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F75AD-A4BD-4DD1-9A04-A67423E9C56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E996-1D87-4DCB-9E0D-ADF99D513E5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F7C0-BA02-4181-91A0-1B85C9FB9C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089A-9D24-46C1-88B6-CB8556A6DE2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36D4A-1CC1-431C-AC32-A5A7FD3ED42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08BA-936A-41DA-8127-4B6C360BF49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57618-B148-4C44-8070-92F5BF821D4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9D9C-45E4-4A99-A5D5-0ABDD94FABC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D2600-2D6B-45DB-B505-AC2C3EEFFFC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2DBB1D-BE51-4F75-A781-B02500E16E1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B3A1D5-F7BE-41A1-AF3B-88D8C849322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B4D951-53CF-44A7-9882-0660884CA62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11C2D8-EE33-496F-8F52-D7F0435B9E8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C2B05C-BC87-4C50-8F8B-CA2E91F51A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C8CA-9F87-4C7F-865F-77F5112CB63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2F4E95-2A80-44E9-BCF6-DA9BCE08297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2429B1-2E54-459D-9C8C-94E46BD915E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DDBE9E-4DA6-43EF-A6D5-038F4BEAD92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642B5B-9BB8-4495-B017-CCF74087F02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5237FE-79D4-4580-9B0B-3DDDFDC6B6A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9D0DC6-93F9-4DCD-AA76-7D2517229BE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29E786-338F-43B0-884D-47F7CFD0109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C2EA9-9CE7-458A-B07C-6F8EA04376A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49E08-437B-4AA0-8B06-A8FE807108D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4947B-53C6-4C20-B9DF-D802340DF2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621B-ED75-4CED-B4C1-5793EC42690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2DF2D-C2FC-44A4-BB49-ECC21F429A9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54848-C15C-40E1-B7FE-5128EE275B3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A5097-310F-4F5D-A9EE-078585A4938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07AF7-4386-42CF-B122-E15DE938B83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5FE07-5240-47E5-85CC-851C2FDE7C6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B2196-FE34-4F2F-99FF-9727CAFF93C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2F14D-4331-4026-BCD8-5850084C78D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28BD2-38A0-41C6-BFCE-2EC550DFCE7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D4B5C-3804-4A24-A6F6-97B5F77D587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26A8-2B51-4F22-A0FA-5064E03235A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C502-DA38-4F20-BC47-F65C373FF2E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55796-B57D-47FC-A1D7-274F5A58E1C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CE3D7-0F19-4476-868F-53B26249D18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90CEF-EC84-40EB-97CD-1FD8DBD3EEA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20239-FAC5-4D65-B38D-A2C681CEDE5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F6437-74A1-44BA-80CE-27B1A3DFF17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D3D03-E9CB-49A6-8AFE-CD10CD2D7D8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E69D1-8C6C-4F24-B14E-5F82BE86804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9901C-1EA5-47D6-ABDE-6D11217911E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BE995-C43B-456B-A29B-76DFDA87DC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A3755-F4AD-4BAE-83A1-A27A9490653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A402A-E260-4E21-AB07-8B13EEEDE5F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1311A-5873-44A0-8EAC-60B278C0068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77FE3-1D4B-4C41-A9F0-913B055C830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8920F7-E75C-4ABC-9BD1-EF652A9B3F3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35A3FE-4C1F-4C1C-BCBD-F582F3B35A7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317C1E-9D7B-4F9A-8AC5-059A5308072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4CDACA-84EC-4026-887A-B03E921D20B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B8922-6609-457F-BA1A-5DA00C29A55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9A0E2A-64B7-4C6A-BDA0-AA1D3CE2B35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5E7B23-D8FA-4CB2-8536-5FF8A2063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8DC2-A4E1-4112-8E4A-9F54E19C9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C171-B4EA-496E-AE74-494B6293C55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BA82FA-3B9D-44EA-B581-B242DDA0D08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CB9AF6-F245-411C-BC79-6710C1D3FE4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71661F-D6E6-4B6A-85CD-D7902EDD55D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A88E01-1E84-4DDC-9D7F-E08F52F0CE6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75F737-73E3-48FD-80B8-ABA350A6249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85E2DF-3203-4791-BAFA-5DA116B42E6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930F7-81D3-4387-8E66-C46FE92BE7B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87859-73BD-455E-8679-89244457B35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7805DD-56D9-4053-AC09-33D64C80E1A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F4E1D-0C73-4028-B992-F7E9D9418C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428A-C316-4825-83F6-4CD35E37666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6BCB9-FBA9-4FA1-A76C-201E4F2A143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066DD-A086-4CF4-8978-7EDEE2CA2B0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64507-B635-4DD9-9706-A70BBB05A06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A343D-9942-40D7-AF9D-9DCD74CEDA9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C5196-0B29-4C0C-BA06-2EBFE1BDAA0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9F093-A8BE-4B9B-970A-2E76C06BD48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9F846-23F4-49E4-8244-565A0D4CBE9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E9D25-7ABA-48F3-BF48-5DB7B422898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B58DA-46B2-4A24-8C1F-C2FFA6702D3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EB2DD-33F1-4E72-9D75-D9C01EBC06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7523A-78F3-48FE-BE01-9289B134902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73154-6E60-44C4-B6D0-643AA17B240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B08FC-34E2-4226-801C-B8A77094E6F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D16AE-46FF-413C-A9D9-022E6AC1FC3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A89CB-08E8-40B6-BD83-81E82A2EFBC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B452B-48AA-4BED-8646-8EBBDC3E674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C28C5-AF18-47B6-8813-BDE30C7EDE7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CD76F-A91C-4B8E-B506-0D52343C412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5FB0E-9C2B-44FD-A07B-6E9BD92409C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EC5B3-EB2B-4EB1-9BCB-5DBFFF8EE0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3242-60A6-420C-B190-E77C13F49F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EE3D-9775-4B3B-B3CB-57A9D17B3F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339-1F68-48F2-B3EC-F137E81E24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511-E9E9-4A52-852C-2E68B58A6E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561-D8FB-4E66-8C2C-842011BB86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1A6-941E-49AE-9F32-8A6ADF1F7E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EC4-6760-4482-86AC-4ACF67F616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0986-2163-40EB-98F8-84E29B44EF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44F-6F90-4AED-A07A-3707DA1675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FF2-530A-428E-97BB-1C672FE7DC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D94-0212-4F75-B7E5-7F3F656DB4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57B-6914-4C79-949B-754EA2A317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B64-2201-4D38-8CE8-4D2E079120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90C-15FE-4364-843D-F640CA1B48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8BD-1B6C-46F9-87B2-53FB68BDE3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3F6C2-7811-488E-9A8F-DB409ECB3B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04FF2-1DCC-4D4D-934F-F294FED9C1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900CF-6CB5-459E-8887-BF3C7494C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68B9-4BB4-4497-A331-7690A94FAE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F55F9-E310-4882-A98D-49B8A9A63A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B39E4-0981-449C-98CF-DBD9F830B3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E1299-C60A-4D31-A34C-6574B79063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9CA61-7E90-4283-BD3A-513ABA70ED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D0D8F-46AE-412C-9614-AD6A24A6C1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06B8A-0924-4EAA-B2F9-D9DAC3E1FA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B874D-20F1-4DAE-9239-54D21FF017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7BD49-0109-459F-B7FB-744423F35D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D759E-4EE2-4272-83B7-2E6FD3883D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91C1A-32C4-48B7-81A0-95D01D2CC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513D-51D7-4DAB-8303-68C8A0B468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54B4C-3E5E-47E0-AAF7-E6824771230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00579-83F4-45E1-ABF6-9BDEC54CC1E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71BA4-C84C-4225-ACD8-CED3FD9CEAC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B24E1-ACB4-455F-8198-63B6C5CDD9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3DB95-3FD3-4439-B840-010F60289C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53A28-9BFC-4B5D-92EC-7E1EB0CA06B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4648B-AD50-4E84-AD68-554D9DF141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11367-5586-411D-BECF-6E76A87DDC6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F3DC9-505B-4020-A82A-7E8FA580271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E427F-C127-4471-9068-5A3A9157C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22AA-7E6D-4A27-B2B0-CD16F3A1DA8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657F6-7AAF-4958-8FAA-6EFBD81E526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938F-60FA-4ECF-BE08-6B7D452D6D7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8D10-48C0-43E9-AD0E-23D105AE73F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5E7B-B6C9-4C5B-A821-C09D07E9CA7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CFC7-94F3-4260-9A04-E47195B01CD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9AA0-73F3-41E1-B8AB-EEB7484413C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84CF-C302-4186-A515-82843964995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2390-36D2-4982-AD11-383C6226095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EC77-7446-48BD-AD53-6402A116803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76E5-CA80-4CCC-A573-98FB85221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D06E-2B9E-4F6D-A684-A811DCEC372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5535-8618-4918-BA52-09A4C16F70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0F85-1092-4186-886B-80C531EACFF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CACE-15BB-4B6A-8BA1-EA7EF39E2F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B752FC-9439-4459-AC2D-CFB0D03CDDE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B9F0FD-2E3C-4697-BC4B-8CE354B05DF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9A09C-E099-4E91-8B6C-DA3101FCC30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E6D0E9-5AB6-4F55-9270-8A3C76BF68F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B6DBC6-517D-4054-9882-EF02A7344DA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B699A-7577-4C56-BA98-B39DA46B254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011135-D6C7-479A-9405-BA41E38E2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3A32-DE50-4E4F-966A-6925B458D8B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F37D6-C48B-4361-AF21-F4EA0B193EE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BD0E9C-D644-4034-8F64-FAE71520E46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E5E4F4-4660-448E-9323-5C3B802A08D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E3ECB3-17DC-4B8A-AF60-9195787A41A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72A55B-FA4D-4072-A4DA-BEE123249B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98358-1AEA-4337-9155-E136BDCE1D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44652-9BC1-4204-AFCE-64A996F3FC2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C5F9B-E5C6-4E00-B7D7-423DE3598D4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59B4D-ADB7-476A-B081-560A768AB1E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E76C6-8E1F-4B9C-B370-DB55D907F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987C-C780-4317-BA11-F5D93F32CA0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71350-6B55-488D-99A3-A4387C5D6B7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C49BF-1081-40D7-9A27-86BB123B87E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26298-B337-4743-9354-F67D1F037AF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480D4-7075-4781-B905-46F957FDDA3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FA016-B4AC-4484-9B96-9B0F8965FB4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36378-26FB-426D-8D99-CEF7D242194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C3231-DC31-4366-89F6-18DE245E75D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29E7-0AFB-493F-BAA4-9ECCB2C4C8E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82CE-27CC-4997-A995-21465F8AC16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363D-AF7D-43E1-8E18-12A141259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2F55-E07E-4F2D-A01A-34E80A423D0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10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7BC4-A5D4-42EF-8727-AA991864283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7BE5-95A6-4685-9051-5BEDB91CC15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1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9F7F-48FE-43A0-93DB-CC5E7C121C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5CC0-954E-4882-9E61-84C55021923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Num" idx="14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00C1-260E-45DA-B846-2BFD080ED4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15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063F-D798-4795-BB15-030DE2C9A40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16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1D56-5BC9-475A-BD7E-D30F1E08735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17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5FC5-9BDF-4615-9BF5-BD8F450CD66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8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4C2C-AC4A-47F5-98C1-F782936018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8145-3216-42A0-953C-0171B9C953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777B-B35C-4347-ADCB-61ABB78176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51C6-23B3-4D87-B6FD-74B5ACE9EF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5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29B3-FED0-4C7D-BFA6-157E1020B44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6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6632-1EDD-45A3-8C91-CB215E4239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7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4D56-ED96-484C-8CA7-5A1959587F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E107-4B90-41FC-A5A0-7C0B519FE0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9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C6A6-E12D-4424-855F-B2623B1AC75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.gov/heoa" TargetMode="External"/><Relationship Id="rId2" Type="http://schemas.openxmlformats.org/officeDocument/2006/relationships/hyperlink" Target="http://www.ed.gov/heoa" TargetMode="External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29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5407"/>
                </a:solidFill>
                <a:latin typeface="Verdana"/>
              </a:rPr>
              <a:t>Higher Education Opportunity Act</a:t>
            </a:r>
            <a:endParaRPr b="1" lang="en-US" sz="4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vid Berge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 Madze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e of Postsecondary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479520"/>
            <a:ext cx="8839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c85107"/>
                </a:solidFill>
                <a:latin typeface="Verdana"/>
              </a:rPr>
              <a:t>Higher Education Opportunity Act</a:t>
            </a:r>
            <a:br>
              <a:rPr sz="3200"/>
            </a:br>
            <a:r>
              <a:rPr b="1" lang="en-GB" sz="3200" spc="-1" strike="noStrike">
                <a:solidFill>
                  <a:srgbClr val="c85107"/>
                </a:solidFill>
                <a:latin typeface="Verdana"/>
              </a:rPr>
              <a:t>(Public Law 110-315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04920" y="1803240"/>
            <a:ext cx="853416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mer Information and Disclo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tion for Federal Student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Gran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Loan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and Institutional Gran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C44C-F2FE-4C18-B9F6-0A4CB32D40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ater transparency in college co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 required to develop &amp; releas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 relevant to college cost &amp; net price by institu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llege cost &amp; net price watch li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net-based calculators of the net price of college for consu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7423-B234-463C-AFA9-D495128635C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mus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lose relationships with preferred lender arrang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opt “codes of conduct” to govern their relationships with financial instit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nders must comply with the Truth in Lending Act for “private label” education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97C5-403D-471A-A26A-9D3B728CA8D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: Textbook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shers must inform faculty of price and editorial chang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itutions mus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 the maximum extent practical, post ISBN numbers and retail prices of required and recommended textbooks and supplemental mater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A19F-5DEB-4087-8C51-FF336FC3AB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: Textbook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titutions must provide its college bookstore with the course schedule, the list of required and recommended textbooks and supplemental materials, and the average and maximum enrollment in each cour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B4A5-5F92-480A-AF51-934390874C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ree Application for Federal Student Aid (FAFSA)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ify the FAF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an EZ FAF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es limiting the Secretary’s authority to modify the formula used to calculate the expected family contribution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ED to report to Congress on simpl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es a study by GAO to examine alternative methodologies for calculating an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4F2B-B7CA-4766-B78F-65FFE19CD13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ree Application for Federal Student Aid (FAFSA)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04920" y="17524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es an early application demonstration program to allow dependent students to apply for aid during their junior year in high scho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zes the Secretary to use IRS data to prepopulate (with prior-prior year data) the FAFSA or verify income and other information on the FAFSA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:  No change to Internal Revenue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23B9-F8AD-4B05-8B82-A0ADC42FC2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ell Grant Program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with the 2009-2010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ear round” Pell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fetime limit - equivalent to 18 seme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um grant equal to 10% of the appropriated maximum gr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award for any Pell Grant eligible student whose parent or guardian was a member of the Armed Forces and died in Iraq or Afghanistan after September 11, 2001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44A0-A330-41BD-8C2F-EEA650533D6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ACG and National SMART Gran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ning with 2009-2010 award ye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nds eligibility to certain non-citize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nds eligibility to at least half-time student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igns grant awards and disbursements with Pell Gra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places academic year basis for awards with student’s grade leve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3A4F-361A-4644-88AF-395190D36C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ademic Competitive Grants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res appropriate State official to submit rigorous high school curriculum to 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arifies that rigorous curricula include those recognized by ED in current  reg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4716-D2BC-46CE-A757-110821CBE07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Background</a:t>
            </a:r>
            <a:br>
              <a:rPr sz="3200"/>
            </a:br>
            <a:r>
              <a:rPr b="1" lang="en-US" sz="2600" spc="-1" strike="noStrike">
                <a:solidFill>
                  <a:srgbClr val="cc5407"/>
                </a:solidFill>
                <a:latin typeface="Verdana"/>
              </a:rPr>
              <a:t>Higher Education Opportunity Act (HEOA)</a:t>
            </a:r>
            <a:endParaRPr b="1" lang="en-US" sz="2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Education Act of 1965 expired in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uthorized HEA after 16 exten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ed by the President on August 14,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me Public Law 110-3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use Bill (H.R. 4137) passed 2/7/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nate Bill (S. 1642) passed 7/24/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site: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ed.gov/heo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C7B3-C259-45FD-8A2F-C904CFF79E9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ademic Competitive Grants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orizes awards for one- and two-year certificate programs if the student is attending a two- or four-year degree granting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mends the provision regarding previous enrollment for first-year grant eligibility by creating an exception for students whose previous enrollment in an undergraduate program was part of a secondary school program of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38B4-9908-411E-9160-3DADB965F5F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National SMART Gran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orizes grants to students attending institutions offering a single liberal arts curriculum leading to a baccalaureate degree in which students are not permitted by the institution to declare a major in a particular subject 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orizes a fifth-year grant to students enrolled in the fifth year of a National SMART Grant-eligible program that requires five years to comple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349B-7D05-4CDD-B88A-3F17337982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4272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TEACH Grant Program</a:t>
            </a: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04920" y="1295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High need fields when agreement to serve was completed will remain valid even if field no longer approv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ategories of extenuating circumstances under which a recipient of a TEACH Grant may be excused from fulfilling the service obligation can be established by reg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9A9D-8EAF-4456-9B89-B89BA0754A9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ederal Work-Study Program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phasizes employment in civic edu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nue compensating disaster-affected stud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s new discretionary grant program for off-campus employment in community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nues the existing “Work College” program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3EC8-9833-4CF6-9E18-09B7EB8D73C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Perkins Loans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Increases annual and aggregate loan limits –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nual $5,500 for under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nual $8,000 for 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gregate $60,000 for 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gregate $27,500 for upper division under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$11,000 for all oth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53E7-411D-4AEE-B530-BF8D387DC4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4272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erkins Loan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cribes mandatory assign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s loan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cribes additional eligibility criteria for total and permanent disabilities dischar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amlines loan rehabil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ands loan forg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3848-F384-442F-9302-4D298CD10A1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s to provide a long-term solution to the current profitability, liquidity and capacity issues in the student loan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the Secretary to oversee private education loans made by FFELP lenders to students attending Title IV institu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114480" y="5335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ederal Family Education Loans (FF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B396-63DB-4EC7-BB90-65EDA580C6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457200" y="172224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es lender and guaranty agency induc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s for more consumer information from lenders, guaranty agencies, schools and 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1813-3CC2-4FEA-9C03-54B502AEE5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114480" y="5335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ederal Family Education Loans (FF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342720" y="12654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s Cohort Default Rate 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om two years to three ye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ransition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0% Penalty Thresho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7E29-87F8-499E-9226-3AA75116A62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s “disbursement relief” CDR to 1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ffective October 1, 20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s to Disability Discharge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iver of interest for military in combat z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E1F0-4688-42BC-AAE5-03132C9CB4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1257840"/>
            <a:ext cx="8458200" cy="27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6000"/>
            </a:br>
            <a:r>
              <a:rPr b="1" lang="en-GB" sz="5400" spc="-1" strike="noStrike">
                <a:solidFill>
                  <a:srgbClr val="cc3300"/>
                </a:solidFill>
                <a:latin typeface="Verdana"/>
              </a:rPr>
              <a:t>Recent Legislation</a:t>
            </a:r>
            <a:r>
              <a:rPr b="0" lang="en-GB" sz="5400" spc="-1" strike="noStrike">
                <a:solidFill>
                  <a:srgbClr val="cc3300"/>
                </a:solidFill>
                <a:latin typeface="Verdana"/>
              </a:rPr>
              <a:t> </a:t>
            </a:r>
            <a:br>
              <a:rPr sz="4200"/>
            </a:br>
            <a:r>
              <a:rPr b="1" lang="en-GB" sz="6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6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0B61-8022-46A9-BC44-6DDDF1B6D6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oves VA Educational Benefits from Estimated Financial As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so from “Resources” for campus-based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ffective with the 2010-11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C480-0B5A-46C7-9ED0-6E69518C79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endent students eligible for unsubsidized without parental FAFSA inform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ffective on enactment – August 14, 200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per FAFSA or EDE Submi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pecial process for Direct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476A-1742-43EE-9E3D-B3A02533B7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new loan forgiveness opportunities, if Congress appropriates funds, fo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1199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RLY CHILDHOOD EDUCA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R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EIGN LANGUAGE SPECIAL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BRARI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IGHLY QUALIFIED TEACHERS SERVING STUDENTS WHO ARE LIMITED ENGLISH PROFICIENT, LOW-INCOME COMMUNITIES, AND UNDERREPRESENTED POPUL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ILD WELFARE WORK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PEECH-LANGUAGE PATHOLOGISTS AND AUDIOLOG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HOOL COUNSEL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UBLIC SECTOR EMPLOY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CAL SPECIAL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TAL HEALTH PROFESSION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NT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EM EMPLOY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HYSICAL THERAP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PERINTENDENTS, PRINCIPALS, AND OTHER ADMINISTRA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CCUPATIONAL THERAP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LEGAL ASSISTANCE ATTORNE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0F14-B7C8-4C82-9409-5B265C24E5E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credit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olishes NACIQI (Secretarial appointe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s a new committee appointed by Congress and the Secretar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new appointments before February 1,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retary is prohibited from establishing criteria that specify, define, or prescribe the standards an accrediting agency uses to assess an institution’s success with respect to student achie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BB4E-9748-4D90-9CE6-1CB4C25DF4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419040" y="1294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zes 69 new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ory funding for three progra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moting Post-baccalaureate Opportunities for Hispanic Americ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ters Degree Programs at Historically Black Colleges and Universities (HBCU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ters Degree Programs at Predominantly Black Institutions (PB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831D-6BB2-4311-8D1F-6B3B9267C86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"/>
          <p:cNvSpPr/>
          <p:nvPr/>
        </p:nvSpPr>
        <p:spPr>
          <a:xfrm>
            <a:off x="343080" y="380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Institutional Grant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Institutional Grant Program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26676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TRIO Progra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dates an appeal process that could include a second peer 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blishes clear program performance expectations for funded projects related to the awarding of prior experience poi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vides program activities into required and permissible activities and places greater emphasis on financial literacy as a permissible activit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ives the Secretary authority to make a one-time synchronizing adjustment to grant peri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F387-A2AA-4893-845D-3055F4790F8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26676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uate Fellow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avits Fellowshi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ifies requirements related to the Javits Fellowship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aduate Assistance in Areas of National Ne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ult when determining areas of national n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arifies eligibility of master’s degree-granting I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P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hifts authority to make grants to the Secret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holarships for family members of veterans or members of the milit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3104-4B4B-4F01-A000-4BBEAAD5D06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"/>
          <p:cNvSpPr/>
          <p:nvPr/>
        </p:nvSpPr>
        <p:spPr>
          <a:xfrm>
            <a:off x="343080" y="380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Institutional Grant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28501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c85107"/>
                </a:solidFill>
                <a:latin typeface="Verdana"/>
                <a:ea typeface="Lucida Sans Unicode"/>
              </a:rPr>
              <a:t>Implementation</a:t>
            </a:r>
            <a:endParaRPr b="1" lang="en-US" sz="5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5107"/>
                </a:solidFill>
                <a:latin typeface="Verdana"/>
              </a:rPr>
              <a:t>Regul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 Hea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ohnson C. Smith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yahoga Community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exas Christia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iversity of Rhode Island, Providence Camp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pperdine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www.ed.gov/heo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6C35-0F64-40F0-95AE-B8C00D0572C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Regulations Subject to Negot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Announcing Formation of Committees and Solicitation of Nominations to Serve as Non-Federal Negoti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/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otiating Committees Establish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otiations E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M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Comment Period E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/1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17FC-DFD7-4468-A2A9-34A71E4E5E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17160" y="498240"/>
            <a:ext cx="863748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266760" y="450720"/>
            <a:ext cx="8610480" cy="59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1280" indent="-341280">
              <a:spcBef>
                <a:spcPts val="1001"/>
              </a:spcBef>
              <a:spcAft>
                <a:spcPts val="10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igher Education Reconciliation Act (HERA) – February 8, 200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587"/>
              </a:spcBef>
              <a:spcAft>
                <a:spcPts val="587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College Cost Reduction and Access Act (CCRAA) – September 7, 200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Ensuring Continued Access to Student Loans Act of 2008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ECASLA) – May 7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tended by HR 689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igher Education Opportunity Act (Reauthorization) – August 14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D023-C69C-4CAC-BF2C-3E49680DF9C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All Other Regulation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26676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NPRM Prepared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Now--1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M Submitted to OMB for Clea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M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Comment Period E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Regulation Prepar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/2009-5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Submitted to OMB for Clea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r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r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A657-17C2-4344-8AD9-9DDFC67A4CD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4D32-4484-4E43-8221-8AB901B6720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581280" cy="26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Higher Education Reconciliation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09-171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380880" y="1739880"/>
            <a:ext cx="83822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uthorized Student Loans Through 20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d Academic Competitiveness and National SMART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FFEL and DL Loan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Loan Origination F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d for Consistent Repayment Pl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1961-7BE8-4307-A472-A64C243A332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Higher Education Reconciliation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09-171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380880" y="1739880"/>
            <a:ext cx="83822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amline FAF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nalysis Formu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Insu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S Interest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e SAP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ge Access Initi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AF48-880A-49B7-BE57-04C7C5B153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College Cost Reduction and Access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10-84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uthorized Pell Grants Through 20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datory Increases for Pell and Upward Bo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duced Interest Ra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Analysis Formu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ome-based Repay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conomic Hardship Defermen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D01B-9A69-473A-871A-52254D808A7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College Cost Reduction and Access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10-84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 Service Loan Forg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ge Access Challenge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Lender Insu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SA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 PLUS Auction Pilot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462D-F50E-434B-8299-6BEBEF1040D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85107"/>
                </a:solidFill>
                <a:latin typeface="Verdana"/>
              </a:rPr>
              <a:t>Ensuring Continued Access to Student Loans Act </a:t>
            </a:r>
            <a:r>
              <a:rPr b="1" lang="en-US" sz="2800" spc="-1" strike="noStrike">
                <a:solidFill>
                  <a:srgbClr val="c85107"/>
                </a:solidFill>
                <a:latin typeface="Verdana"/>
              </a:rPr>
              <a:t>(ECASLA)(P.L. 110-227)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ded by HR 6899 (Public Law 110-35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CASLA Authorizes the Secret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 purchase FFEL loans, at 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net cost to the gover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der terms and conditions established by the Secretary in consultation with Treasury and OM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statutory authority to provide advance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4152-3D8A-4738-8024-1BBF84CA96D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RENTEX</cp:lastModifiedBy>
  <dcterms:modified xsi:type="dcterms:W3CDTF">2008-12-03T00:26:46Z</dcterms:modified>
  <cp:revision>248</cp:revision>
  <dc:subject/>
  <dc:title>PowerPoint Presentation</dc:title>
</cp:coreProperties>
</file>