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ftr" idx="2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 type="sldNum" idx="2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264-86DF-4642-BD63-C884B12D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C8F1-BEFA-4089-8DE5-7B18C834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3884760" y="90262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7F2BEDB1-1D6A-436E-931F-7E40D0DD54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0" y="902340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0" y="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884760" y="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1B74B1D8-D377-4987-912D-18FF4471EAD7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1092240" y="685800"/>
            <a:ext cx="46735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421160"/>
            <a:ext cx="5029200" cy="26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ximum award for 2007-2008 would remain at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ll Grants would be made available year-round at eligible 2- and 4- year degree granting institutions, to encourage students to accelerate their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 an incentive for students to complete their programs on-time and to eliminate an area of potential abuse, Pell Grant eligibility would be limited to the equivalent of 16 sem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pose to eliminate the “third award rule” related to tuition sensitivity.  The rule currently limits the amount of support that students with greatest need receive while attending low-cost instit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0227-A083-4A83-A062-398746FEC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4AB9-973E-4D86-B673-FE7758CA99B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41DA-702B-4042-A790-AFC2E679D3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E4A8-CE58-45F3-812C-A19EBCBA37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CE70-0120-4E1F-BEE2-F81971B89D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E0BE-91C9-4E12-BD59-780890F60D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4282-1B8F-4DE3-A172-7A963B2358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485F-F761-42C8-8E1F-8D312B1F2B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07C5-B66A-4090-BE2D-A5E4E3E7C4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D239-E7BC-4228-A9CB-462D6652E2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A0DB-0A5C-41E4-B9FE-C50A51D776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390E4-C27F-41CA-AF5D-D60FA7FBA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C7D-7F19-4ACA-B58A-3179293119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CD4B0-C71E-42FC-B3D5-5569503F02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870FF-0B58-4E9C-AAE7-DBF0153640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81D3A-ED22-439E-948B-9B80BC4FBE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F13FD-3632-41EB-A006-82A2D18AC5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797C3-648D-4942-98FD-5F332DBF2C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A03A1-7CF2-4AC3-B438-BAC13626DF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0C405-115A-45FE-A10D-6F19644CEE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5CB1C-B33F-47BC-B7B7-2F9BADC871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61AC3-F786-44AE-9584-8BBBB59D83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74942-1FF8-412A-891A-297329CD5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7EE0-0CA4-44B4-A445-90D48D46B7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DE2EB-0563-4AAD-8AA0-543C589435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43271-9B60-472F-A28B-D3C8CAEDF9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75882-50B4-4A2E-ABC5-2B9580D502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A8E30-9696-4CCF-99C8-853380935F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CE118-CD5C-4949-84B0-CA20965CC1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9D3F8-3C9B-4435-B343-5D6837C942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340E8-B5FD-4CC5-BE3F-34F1C38430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A879B-E54D-4B25-B4EA-E230F2B074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1419C-E3AA-4250-AA1A-5F011D576B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DE041-01C3-46C7-8122-771AFC64D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2578-CA1C-430A-B608-DA4486C590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4F004-6D7F-4107-A8B8-9655711DE0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E83B9-A8A4-4EA0-91D5-CF72DD1B07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FA149-48CC-4B78-970B-5A4C7EFBA8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B982-6B51-4381-B581-8A8CF59F2B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630C-29F7-4F21-9024-42A32FB950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7D5C-8E84-496B-9D24-90CB3203C6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FC8D-CDE3-4849-BE40-1D0F16A358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33CB-1FCE-4668-AE33-92D5D480BA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5797-ED15-4EFA-B195-3807C81F18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B96F-2648-49EC-BAED-998297DD04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70AE-3514-495B-8924-E7D0121568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D674-4EB2-4191-8ED4-C0F4F0D522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D6F5-CA2E-4E96-97CC-E03729947B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78FF-6AB5-406A-8D3F-F0F43C548E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B9160-E22C-46CD-9B10-94380615C6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E0CA-36EE-43A0-A62E-3AAA2629CA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31B66-8B8A-4A22-B869-8D8630D78CF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BF7891-B0B9-4E4A-B0C2-BC29FC4F047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B5FBD-BEBE-4523-BA59-B14B72DB15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FCAD8-A536-4B73-825E-32C0ECFBA0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BDFFC-9C95-4D36-A7E9-8792288B1D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B86F-361A-4065-9F64-CE6B9E2C354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47C3D-965B-4E84-A0D0-E21A111E3B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1B50A-829D-4556-A41A-ECEF88A0354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D1F8B-012C-42DE-B580-CDBCABCAF8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CA26B-E35E-4F32-8A10-349859F84A8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9EDDD-2A80-465C-A473-FF2BF5FEF5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0F2B3-1093-4F00-8773-33F0DEFB97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FC2E3-541C-4176-A261-A5F738B5703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3E43F-AAC4-417F-B9A6-D9E0DFCF62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B55A0-8579-4293-B1E5-4C0C1351B54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AB871-98BE-4DEF-8620-086624DABD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E430-3560-43A3-8B46-595BB20EB4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99C34-1E1B-4E68-A749-89D4C8BD69F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F5E5E-1EC9-4610-AB4F-BA9754D631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7078B-3873-4003-9262-AB8E6FB56D2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2A34F-EBB4-4DEF-8AA6-B99AD82EF1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18BB1-9AF8-4C60-B8D0-75E43862D8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2B59F-E4A7-4CCC-8919-D12966646F6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D347B-FEB0-44B7-82DB-01283AC326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E09E7-8B21-4E4C-A6B3-4F5517ED2BA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5E70E-FA12-420F-BCFF-0197CBB909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8A85-259B-418A-91E4-030991BAECA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A02F-4FD6-42C7-A35F-2AB90B9BDC7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7D2C-B686-458A-83E1-8F5BAB33CE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16E9-EF54-4FA7-8EAA-504CC224C24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FF6D-8006-4225-8484-79BB75BC747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79DD-2C2D-476B-9909-B4E43FFA2B9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74408-9658-4A39-983F-73560A0A826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D7FE-A0C9-4F8B-A9C5-E4D1B46F6FB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FD5D-0836-46AB-8CF9-EAD798A44AE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297D-FFE5-4698-AC6F-CEF75964F1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E50C-BBF9-445F-BE90-091A925465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5FEB-319F-4EEA-8B34-4E4A2CA30E8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89BC-A04B-49ED-87A4-F90FBB9F581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0A293-8DEB-49B4-876C-3C51BDC1A44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C9A7-63C7-43FD-B36E-46DD2055ACD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57A65B-DA4E-4719-84B0-7E5A8068B30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1B827-1C0F-4FE4-B6D7-08C7BC0D4D3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FD36C6-C588-4C88-8F1A-490B009FEFF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13C6C8-56D8-4134-A165-594A001F102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FE2C7-F6F5-42FF-91AC-523D59DFDEC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90D9E7-7D65-48A0-9F11-597FFCAC1E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F0BBB-8826-48BE-B210-C4D1A4232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F515-C67E-4402-A340-793432928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7F27-15CD-4C2F-BEE0-78ECC69D8CC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C4FF1-A42F-44AC-9592-42DB4E9AF41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89294D-9AB5-4F2D-9274-452A7918632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43543-CD4F-48A2-AE3F-BEA9C27D88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39619-EAB4-4387-ACE0-5F867CFE52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4672D6-EA10-43CF-84B6-9B7266E9929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924E4-0614-4C33-AD86-7B66A9AB9B6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17EB1-08AB-4A5F-B461-004765FCC9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B2EC6-3B16-4029-A61E-7AF077538EA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1F023-37C1-44BF-8D77-EE4B39FFF09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554F4-516D-4B72-8CF8-8E72261682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E8B1-3AEA-450B-A0D8-3263EA83CF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DDF57-C05F-4183-943E-405E79073E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7BCB4-F37A-44E0-A2FC-545703E34F8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FFFE3-3378-4185-B852-4CD1219922F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02921-4B77-48E3-A7A9-A490583E0A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0D8CD-01C4-4C84-99A9-C165393ED7F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A285-F366-4555-A690-BF13BE34EE7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1AB56-6E4F-4566-900D-854DC71F75E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9386-A6B8-4325-A5C1-570872D621F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23B5E-829B-45AA-BFCD-4D7C90147EE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4812-B6FB-4FF4-B0A5-679D0BAF53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B364-356A-40F3-BD45-6519C1C0D5F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69BC-05F5-42C7-BCE3-DE55C630A6E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4F51-EECD-42E3-A62E-CB01F399D15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A5D6-33F4-4DAD-998D-D3A347ED8C2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C2C6-6B26-4A35-A156-6532A35C57B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B37D-A371-4E87-9CFD-A787D965150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ECE76-F425-4A8E-9463-55FB5571764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2723-313D-43BC-BD89-DD7EF4DA4E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FCBC-13F5-46E6-9879-6BEC568C9F2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C81A-2F44-4DCB-A387-F8B85BF51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8F0-1FAE-4E06-95FE-2F4E89EF2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BFED-2218-4F32-88DD-4055AA650B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F0D-3909-4D3C-970A-54214774AA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621-CFBA-4CAE-AD7C-76A514F168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D23-BE47-4A0E-A8F2-BFBC6C1815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097-9747-459D-9F66-7588A21544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660-AD6F-4A04-8219-26B649BD5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AD7B-E544-4FA1-8F43-34D59BED24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7CC-CA88-43A5-B81C-4E0D49B8D5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861-0F37-4F02-9935-663C2D8F30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BE4-B597-4155-AC58-77454699D1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EEE-71CD-4440-AF9F-7003EC9DCC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C88-F0A5-429C-9D36-0374C209F0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6F5-0337-4A29-A51C-DAB887CF88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BEE-6838-4091-AA20-4C2E010A52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850F-46BB-4CC1-BB87-121838B436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75386-3CA4-4055-A249-2CCDE20E44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DDA9-5984-4CBC-A900-4F45254E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CEA1-CF9F-4694-B320-B7DE5FEFFB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40379-975E-40C7-9D22-FF8FBE0535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867A1-0DD7-48AA-9685-0EB6485706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EEAE-0909-4552-8BC6-0C0BF9220E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1663-2E89-4554-94D6-98546AAD72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F757F-AE5B-4AE5-A1E4-843D3F14CD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601FE-966B-4C04-AABE-FFE9B5AE6E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C4EDA-5D53-4859-B38F-9BA937EF65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149A-11F6-4000-B2C3-DFD8CE4242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DC3CF-4092-41B2-9AFC-844F1A028B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891E4-E648-4119-95D5-2C732E297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8BCE-CBF8-4F7B-95A7-841ADF29FA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92E6-F70F-42E0-9279-29FFC65A07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BC1E2-BD4B-4566-8164-283EAE2743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ECC9-5EE1-4A5C-8F1E-FBC89E17D8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16563-8D27-4749-BD90-8D4746E8CD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6B966-6306-4A7D-9057-12BD404E54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587B-A30A-4F0E-9709-09F678B278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F181-EAC9-4DBE-9288-84DD7DFFB8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C8F2F-0CF3-4E67-AD9B-16AE58064D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C690-878D-47DE-9BE3-8A01D4EBC2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715DE-0DE7-4879-B104-35ADF8829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C9FC-22EF-4ADB-B3CC-79855A631D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72E31-9AB4-4AC0-B569-87079F608E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6C66-2F7B-4888-8DC4-B6C7D910DD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80BA-7626-4F03-88C8-464B76843E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82A-4632-4559-B529-87CF75FC1B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F52-01B7-48C2-B637-205BC9EB48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516-ED38-42AD-AD5C-48497C3A44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250B-9173-42D3-BCB7-40A0494800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4C6-2D77-4EA5-817A-F5B1B23584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9066-E87F-4942-881A-9A61A02E3E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2F1B-1208-4EAC-A5ED-27A6D6388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2CB6-FD85-44B8-A6C3-DED6E3E8B2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323-28EB-4677-88BC-F2073DE165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64DE-70AF-4438-87D1-A55AE7476F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439-2B7E-4099-80DE-A51D10A9D7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DC2AC-1C38-478F-9F09-09ED98718B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934D4-A559-4C28-A7D6-93BA4165CD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63EA3-8690-4E29-838A-6CFC52B83A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6F7A8-06D8-430A-A1DB-6489E21B3D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0A3A6-05B6-4B99-8E17-47D68A0549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7AED6-AB1E-432C-B795-1C9165217E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80D7D-5B43-4257-B087-40A8CD889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0B9A-6049-4717-A831-21D9C954C8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40B05-939B-4B3B-A655-2D341BCCB3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8E94C-2817-4564-84B8-E72D71B96B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C41E2D-742B-4AEB-B021-0CA8D8F3D1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6B778-0FD1-4983-961F-2376200915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E21F3-A110-4E08-8C54-0E05CFECA8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F9251-7CCF-4CFA-ABF5-76080FA4A5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B4FC1-3F8D-4873-BB19-0398F338C0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93AD9-87AC-42FD-90E4-39C0256B002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D25B0-0DE6-4CDC-80C6-DFB19DD30B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65250-45A7-4C8F-92EF-CB30D6517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6580-F992-4944-B11B-A70C4CFD57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B6B19-BC16-4A4A-8256-ABF7EC849F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FA490-2EE4-4F97-A85E-2E41DA3384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B1F7A-5775-46AF-9D9F-BAD273C694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7C526-1736-46BA-9FEB-8834C1410F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722C7-8C5A-401C-9837-716F9C8B04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9B280-A24D-4655-86CE-27420CAF96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AC9D9-0234-4327-872B-348E6B11CB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6826-802B-403F-8BF7-7728C82BC7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12EE-CC4C-4AE6-86A6-1FBFC01EE2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953F-A201-46FA-BFAA-47737FA35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06B-382E-48CA-990E-702C55238D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1F68-065A-4E34-AE03-A75A343BA5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787-AB8B-441B-BDBC-EB19AD11CC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99B-08C8-490B-9318-94CCF6BC83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3755-B95F-47ED-AE58-45ABDAD26A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1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A79F-1A0D-47A6-829F-6094A60D5A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3309-641F-4F16-8D0F-2CB3B14366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5DB-BA74-46ED-A3B9-B481CA59A5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1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146F-5A30-4310-8801-E1DFD1346E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192C-B5CC-4D68-BD2F-A456B7A641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F2C-E1BD-4FAB-A04D-EF146F728C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03E9-C768-46F6-B708-85E8C01D03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C33-B0AB-496F-9A78-5D54E864E3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DB6E-249B-4707-A9B4-CD6A75FCE9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BD0-F353-4196-91A8-ECDFA90DD0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20B-312B-4D5F-85E2-67A6320CB1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8E20-D999-44BB-B299-541B8E162E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C401-566E-43FF-AD3A-EB0A6F2C17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.gov/heoa" TargetMode="External"/><Relationship Id="rId2" Type="http://schemas.openxmlformats.org/officeDocument/2006/relationships/hyperlink" Target="http://www.ed.gov/heoa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Higher Education Opportunity Act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vid Berge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79520"/>
            <a:ext cx="883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Higher Education Opportunity Act</a:t>
            </a:r>
            <a:br>
              <a:rPr sz="3200"/>
            </a:b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(Public Law 110-315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4920" y="1803240"/>
            <a:ext cx="853416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and Dis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for 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and Institutional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1F9-C06B-4212-8A45-C114A5001F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transparency in college co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 required to develop &amp; rele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relevant to college cost &amp; net price by institu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ge cost &amp; net price watch li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net-based calculators of the net price of college for consu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5255-DA16-4F3F-8391-BCD8E9F7BD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lose relationships with preferred lender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opt “codes of conduct” to govern their relationships with financial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s must comply with the Truth in Lending Act for “private label”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547-9FCC-41B5-B6E2-3574FA251F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shers must inform faculty of price and editorial chang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the maximum extent practical, post ISBN numbers and retail prices of required and recommended textbooks and supplemental mater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9272-24CD-4D3B-BAE8-438F411131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must provide its college bookstore with the course schedule, the list of required and recommended textbooks and supplemental materials, and the average and maximum enrollment in each cou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1C4D-F0FF-40BE-8ECD-6DCFC71168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ree Application for Federal Student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y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n EZ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s limiting the Secretary’s authority to modify the formula used to calculate the expected family contribution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ED to report to Congress on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 study by GAO to examine alternative methodologies for calculating an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D660-98A5-4301-9DB4-AB46C70E5D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ree Application for Federal Student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n early application demonstration program to allow dependent students to apply for aid during their junior year in high sch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the Secretary to use IRS data to prepopulate (with prior-prior year data) the FAFSA or verify income and other information on the FAFS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 No change to Internal Revenu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C73B-4471-4E07-B81B-63EC32CC40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ll Grant Program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with the 2009-2010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round” 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time limit - equivalent to 18 seme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grant equal to 10% of the appropriated maximum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for any Pell Grant eligible student whose parent or guardian was a member of the Armed Forces and died in Iraq or Afghanistan after September 11, 200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8D0-7AE5-4D34-A9B1-A3707F9700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CG and 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ning with 2009-2010 award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certain non-citiz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at least half-time studen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igns grant awards and disbursements with Pell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laces academic year basis for awards with student’s grade leve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8905-9EDC-4515-8645-A954E7552B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res appropriate State official to submit rigorous high school curriculum to 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that rigorous curricula include those recognized by ED in current 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093-87EC-49E9-AAF8-CC4B5CEEDA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Background</a:t>
            </a:r>
            <a:br>
              <a:rPr sz="3200"/>
            </a:b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Higher Education Opportunity Act (HEOA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 Act of 1965 expired in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uthorized HEA after 16 ext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by the President on August 1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Public Law 110-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use Bill (H.R. 4137) passed 2/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nate Bill (S. 1642) passed 7/24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ed.gov/he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7546-99A2-4D2E-A19A-A2904D53A0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wards for one- and two-year certificate programs if the student is attending a two- or four-year degree granting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mends the provision regarding previous enrollment for first-year grant eligibility by creating an exception for students whose previous enrollment in an undergraduate program was part of a secondary school program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E54-C795-4A9B-AD47-C79AFD34C8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grants to students attending institutions offering a single liberal arts curriculum leading to a baccalaureate degree in which students are not permitted by the institution to declare a major in a particular subject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 fifth-year grant to students enrolled in the fifth year of a National SMART Grant-eligible program that requires five years to compl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58D-37F3-4E1E-9318-30D61822E0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TEACH Grant Program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eed fields when agreement to serve was completed will remain valid even if field no longer appro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ategories of extenuating circumstances under which a recipient of a TEACH Grant may be excused from fulfilling the service obligation can be established by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E5CE-4092-49BC-A2C0-4963BFE75C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Work-Study Program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phasizes employment in civic 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 compensating disaster-affected stud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s new discretionary grant program for off-campus employment in community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s the existing “Work College” progr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6D7-C4AD-4799-9AAB-40879FE142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Perkins Loans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s annual and aggregate loan limits 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5,500 for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8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60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27,500 for upper division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$11,000 for all oth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06DE-C0F1-461B-A983-EB443B5BD3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rkins Loa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mandatory assign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additional eligibility criteria for total and permanent disabilities dis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s loan rehabil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ands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5CE9-3306-4AE8-9049-2A8DC1118C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s to provide a long-term solution to the current profitability, liquidity and capacity issues in the student loan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the Secretary to oversee private education loans made by FFELP lenders to students attending Title IV instit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DB7-5AA8-4729-9C8D-9C50E17CAE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es lender and guaranty agency induc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for more consumer information from lenders, guaranty agencies, schools and 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BD85-B22E-4441-ACEE-ABD129FF59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42720" y="12654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Cohort Default Rat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two years to three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si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0% Penalty Thres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257A-AAC8-4112-88F9-751F6FFC7F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“disbursement relief” CDR to 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ctober 1, 20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to Disability Dischar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iver of interest for military in combat z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115-4AE9-4A83-8811-97AA7A77A7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1257840"/>
            <a:ext cx="8458200" cy="27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r>
              <a:rPr b="1" lang="en-GB" sz="5400" spc="-1" strike="noStrike">
                <a:solidFill>
                  <a:srgbClr val="cc3300"/>
                </a:solidFill>
                <a:latin typeface="Verdana"/>
              </a:rPr>
              <a:t>Recent Legislation</a:t>
            </a:r>
            <a:r>
              <a:rPr b="0" lang="en-GB" sz="54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4200"/>
            </a:br>
            <a:r>
              <a:rPr b="1" lang="en-GB" sz="6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B0C-923C-4F21-8BCE-32A8432BBE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ves VA Educational Benefits from Estimated Financial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 from “Resources” for 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with the 2010-11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E99D-C745-4518-9EC3-2901E8CE18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 eligible for unsubsidized without parental FAFSA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n enactment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per FAFSA or EDE Subm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cial process for 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32D-B8F7-418B-BFF4-9B5F715487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new loan forgiveness opportunities, if Congress appropriates funds, f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1199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LY CHILDHOOD EDUC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R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EIGN LANGUAGE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BRARI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IGHLY QUALIFIED TEACHERS SERVING STUDENTS WHO ARE LIMITED ENGLISH PROFICIENT, LOW-INCOME COMMUNITIES, AND UNDERREPRESENTED POPU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 WOR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ECH-LANGUAGE PATHOLOGISTS AND AUDIOLOG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OL COUNSEL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 SECTOR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CAL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TAL HEALTH PROFESSIO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NT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M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YSIC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PERINTENDENTS, PRINCIPALS, AND OTHER ADMINISTR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PATION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LEGAL ASSISTANCE ATTORNE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ED8F-5F9F-4BBC-8B8D-360FC5190C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credit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lishes NACIQI (Secretarial appointe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new committee appointed by Congress and the Secret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w appointments before February 1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retary is prohibited from establishing criteria that specify, define, or prescribe the standards an accrediting agency uses to assess an institution’s success with respect to student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AC7-A921-4719-AE59-C9F4C98690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1904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69 new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funding for three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moting Post-baccalaureate Opportunities for Hispanic Americ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Historically Black Colleges and Universities (HBC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Predominantly Black Institutions (PB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A09-CCD3-4EF2-B55D-43103582B2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676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IO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dates an appeal process that could include a second peer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es clear program performance expectations for funded projects related to the awarding of prior experience 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vides program activities into required and permissible activities and places greater emphasis on financial literacy as a permissible activi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the Secretary authority to make a one-time synchronizing adjustment to grant peri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B83-5710-4F1A-95DD-5909EDD25E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6676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vits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ifies requirements related to the Javits Fellowship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aduate Assistance in Areas of National N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ult when determining areas of national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eligibility of master’s degree-granting I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P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ifts authority to make grants to the Secre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larships for family members of veterans or members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2E5D-4FB2-4434-B635-56F2A8BBA3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8501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Implementation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Reg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Hea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ohnson C. Smith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yahoga Community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as Christia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iversity of Rhode Island, Providence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pperdine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ed.gov/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13ED-DA05-470C-8657-23A2A45F2E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Regulations Subject to Negot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Announcing Formation of Committees and Solicitation of Nominations to Serve as Non-Federal Negoti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ng Committees Establis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ons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/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37E9-B68B-451D-A64E-EB4C2A45FC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266760" y="450720"/>
            <a:ext cx="8610480" cy="59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tended by HR 689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1497-7AFB-4988-833E-A89E0E3962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ll Other Regula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6676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NPRM Prepared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Now--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gulation Prepar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2009-5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8119-C706-4D90-AAAE-2DB61C14A6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1C4-6206-4CC7-8DA6-55F7CB0A31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812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uthorized Student Loans Through 20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Academic Competitiveness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oan Originatio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d for Consistent Repayment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C296-9AEE-4C48-9177-461B5B0EAA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Interest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SAP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Initi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874B-A3FE-436A-A047-8F9839F8AB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uthorized Pell Grants Through 20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datory Increases for Pell and Upward B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uced Interest R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ome-based Repay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conomic Hardship Deferm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0DA-9969-49C3-B4D1-616FC47FC5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ender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S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 PLUS Auction Pilot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E0A-17F4-4738-80E5-CBABC4DCDF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85107"/>
                </a:solidFill>
                <a:latin typeface="Verdana"/>
              </a:rPr>
              <a:t>Ensuring Continued Access to Student Loans Act </a:t>
            </a:r>
            <a:r>
              <a:rPr b="1" lang="en-US" sz="2800" spc="-1" strike="noStrike">
                <a:solidFill>
                  <a:srgbClr val="c85107"/>
                </a:solidFill>
                <a:latin typeface="Verdana"/>
              </a:rPr>
              <a:t>(ECASLA)(P.L. 110-227)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y HR 6899 (Public Law 110-3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ASLA Authorizes the Secre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purchase FFEL loans, a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t cost to the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der terms and conditions established by the Secretary in consultation with Treasury and O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tutory authority to provide advance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EB91-3CB9-4D8A-93A5-0A6670E74B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3T00:26:46Z</dcterms:modified>
  <cp:revision>248</cp:revision>
  <dc:subject/>
  <dc:title>PowerPoint Presentation</dc:title>
</cp:coreProperties>
</file>