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ftr" idx="2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 type="sldNum" idx="2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ED9-876A-4A4F-9342-4F8A2CBA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103-C66F-4B3E-B32D-6A1518D1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3884760" y="902628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C688D1BA-E821-4B10-AEE0-FB122A3FF4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"/>
          <p:cNvSpPr/>
          <p:nvPr/>
        </p:nvSpPr>
        <p:spPr>
          <a:xfrm>
            <a:off x="0" y="902340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0" y="0"/>
            <a:ext cx="29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884760" y="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fld id="{ABBB73E4-C7A3-4D2E-A7E1-10AD39D81072}" type="datetime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1092240" y="685800"/>
            <a:ext cx="46735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body"/>
          </p:nvPr>
        </p:nvSpPr>
        <p:spPr>
          <a:xfrm>
            <a:off x="914400" y="4421160"/>
            <a:ext cx="5029200" cy="26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ximum award for 2007-2008 would remain at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ll Grants would be made available year-round at eligible 2- and 4- year degree granting institutions, to encourage students to accelerate their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s an incentive for students to complete their programs on-time and to eliminate an area of potential abuse, Pell Grant eligibility would be limited to the equivalent of 16 seme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pose to eliminate the “third award rule” related to tuition sensitivity.  The rule currently limits the amount of support that students with greatest need receive while attending low-cost instit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1104840" y="698400"/>
            <a:ext cx="464832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body"/>
          </p:nvPr>
        </p:nvSpPr>
        <p:spPr>
          <a:xfrm>
            <a:off x="685800" y="4417560"/>
            <a:ext cx="54849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2"/>
          <p:cNvSpPr/>
          <p:nvPr/>
        </p:nvSpPr>
        <p:spPr>
          <a:xfrm>
            <a:off x="1143000" y="685800"/>
            <a:ext cx="457200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2"/>
          <p:cNvSpPr/>
          <p:nvPr/>
        </p:nvSpPr>
        <p:spPr>
          <a:xfrm>
            <a:off x="1104840" y="696960"/>
            <a:ext cx="464832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259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6C50-5E26-4DCB-988C-7079F6F64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F731-A14C-4B6F-8272-BFF6E7C2A8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AD7A-490A-4A1A-9A83-A8D6EB3E63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0D8B-3945-4558-9BA6-088B10D390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F73E-550F-40F2-A000-DB5D5ADAF5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225A-6F00-4F3A-A87A-B3E3E70CE8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63AF-8EED-4ED5-AE5E-2E58AED37D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C551-C936-4996-9C51-B8EFC13AB8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060E-26C9-442E-9DDC-2C11D42571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E58B-F69E-47D1-84D0-F3986A7067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DF8B-F7D2-4B78-B37A-775EAE0129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5524D-9FD7-4E71-BCCF-C136AB2AC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3CB4-AA18-482E-B218-A1E45E26B9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165C0-148A-4C9A-9EB8-7371D8B15E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B76E3-FD3A-42FE-A244-546349EFD2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B9F6D-9BB2-49F6-B2A7-7C021C5F6D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3CCC1-6FAF-4678-9E00-AE1809CC45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4D7FE-8724-45B0-A863-E017A3133E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5CF9E-B276-4810-B7AA-EED1C0384A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1AF8B-84A8-4BF1-8F4E-E34C49A1D0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0F0BB-D238-4AC8-87D1-A1ABB23092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91B5D-E9A7-4602-A445-2B34419EB3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11B86-5FF9-4BE8-849A-0A047F02E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18C0-3518-49C7-9B36-0E2CF1164C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603C0-A535-4144-A324-8CD4DB9EC4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494AE-4958-4B79-BCC3-54FE11E0836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064AF-0245-4067-A2A0-DED29B043C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F6E9E-E6D4-433E-97A0-07CFFB4D99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4FCD4-B12D-4091-9B36-54AB7390F9D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DB5C9-B0F9-4A3A-A977-4DE94A7183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6536B-3B9C-4D51-A4AD-2A2B64D17D5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0E6F1-854C-4BE4-893E-A927F417E6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BF224-BCA6-4115-AC65-B379CC5021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16773-6AAB-4E7E-AFC6-CBC21EE3A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12F9-4CC9-4166-AA17-73421B6D0B9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B19CF-FA0E-4DA9-BE76-A10646AE07E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3E387-2F1F-49B4-986B-4B9CE20D98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4312B-16FA-4028-A8F7-AC6D121C68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7237E-6158-4314-B951-2DDB44CC99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7AD7-D560-4D3B-9B63-0A5BA21268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CCC3-805B-4668-A408-27861A2D5F0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DA5C-C035-47C9-BBC2-2970A41A6A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6249-DB42-42B6-A185-5B6639D9A5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3DDA-74FF-422E-B9A7-F170948A36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55D2-B3F8-482F-B331-F992507EE1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28D8-340B-48E9-9323-D3BFAE6A63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151B-B38D-4AFF-BF6C-0B83F4D502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21CD-40DA-409A-84AB-7DB63F9D83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D8EB-F0BB-485C-8010-E083EAA1E7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3205-898A-4467-93A1-22D499FBB8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6F9A-9003-48B0-9209-2C6EEB9FD0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9FF069-5BF5-4363-A067-C300B86D6B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4DB8E-54AF-4F8D-A648-A46A6B9C38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5DD9F-827D-47AC-A34D-01FA82A85BD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25A76-A6AA-4472-B970-E2E98B1FE2A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DCCE9B-AC03-4FEF-A671-0D961477F2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2068-1BC1-47F6-A55A-6C08B87D3C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37DCB-8ECE-4650-869A-A9ED6DB760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D5F33-C808-4722-A209-C42C9D9C5D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8F6BE-588F-46A0-AAE7-20C8D1811B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51B34-0DB2-466B-B764-414A060820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0E5E6-50C7-41B0-B9D5-7ED2078E081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5E95C9-88F3-42D3-BC03-91CC1D83FC2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FDE0C-303B-4785-BC14-4DE8F47328D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A7322-55AE-4E13-ACDB-F22A4D71A85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DB496-9686-44E6-A776-A7C3E43C61A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F4A46-5388-4007-B676-C3BEDF5C5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D412-D2E7-4D79-8102-A94969BD1F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C57BD-4FF6-4FF5-9D02-89EAE2274F5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665B1-AA0A-4EFD-81D5-CB655F1339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DA35E-6955-4485-B04E-ACBECCB7DE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40F42-C561-4B6D-81E8-DBB0A8DC0D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0F5CD-D2D2-427A-869A-2BBD0B4C8EF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8F1A2-3753-4142-87C3-016A709144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70FF4-1341-4841-876B-DFBBA92E542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66FBB-369B-42EC-BBED-4101D7F13E0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5CDF1-4F54-4FFA-87C4-299DA362C4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6497-2F3A-448F-BF60-0DD62F2639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04C6-C5BD-412B-9CC7-ADF2AA79012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9DB88-B414-409E-8BAA-C77C8CF0F18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E32C-C3A3-41A2-A254-17C8A8A493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29631-27A5-4CE1-96F5-EBFFF5490F6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3CDF-95C9-4F9F-9917-6E9CCECDBD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4780-E13E-4286-ADDD-3F32C39AC9F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A699-1D3F-4DBE-AEFA-BD2D574607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7C3F-63CC-4A2F-9C4C-35488FBAC53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F49E-88B6-4469-A5D0-02DAABC6202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FB8B-B657-4629-AAFD-E882BD108A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6365-10B5-4B5D-918D-D1897C804C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FE0C-A88B-4FEB-97D6-0C66305CEA1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69AA-93F6-4506-9E15-12D9077EF96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9E3A-C671-4E90-B8CF-5B3587E6864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C2342-B4DB-45C8-AC3C-D3615626A50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C1656B-13CE-4D6D-BC23-B923B7F11CF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C3A62F-D508-4357-80B6-888EB73C7D1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225221-0A32-422B-BE97-7E797BD352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C5CC6-01A7-4B03-B592-69B5CDEF896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2FD1D-768A-468B-8ABE-C5F4BF235EB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E2F941-6383-418E-88F1-39D4715EF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E4E8-41D5-480E-9B0B-34329AD50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1A6B-431B-4CDC-95BF-B4C0074544E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3EC4E-3A53-4912-80D1-73348C42776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BADF6-976E-49EF-A180-7AB8DBF3F0D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B60FB-1918-436C-8702-2548CC93E70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6C10E-7BA8-42D2-A238-5749AD37014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953D7-57DC-4FD0-A24E-BFD7E582A6E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02AB8-6CA9-42DB-B574-E8736CA3F4F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14603-406A-4593-A443-47A8BB2C77F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FCFF4-E399-4F14-A436-3C2DF2F4FDB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44683-DD6A-412C-A03D-2377049B605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A89BE-90A7-4A11-8AA8-AC4CB552A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1A18-2402-4838-BC82-8B18B06561C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23F6E-2D53-43D6-AB16-6FFCED88942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BFE4D-5A28-4A69-AFDF-7D68F659F30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7F44C-9425-45D8-B5BB-797A4E73F95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6B792-48BC-4207-85A6-B3A30217867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13B64-08AF-4F7E-BE62-D91111374D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E95B6-1BC2-4307-9896-B703DC48643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A1B4D-D5B2-4B10-AB9A-724EA601ECB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2C3C-F07E-4421-9792-A1BA1EFFEA6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01B8-94D4-47C2-9F98-138978785E7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DB7B-E011-4EFE-95E7-CA221BDA2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3FF5-6814-4679-AD01-5256471294B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DC76-977D-43CE-AD2D-53307120F9B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6999-1496-470E-BB04-1B83904B7BC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9190-883D-4446-B660-E6BA624A94B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9E8D-DC58-43D9-A42A-A32469C6EE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F087-45E3-4D42-B798-4F07F4F3CAC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B38ED-1173-4E13-B03E-53097E23308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8B8A-0D2D-4C5F-85EF-8FC6DD1D55F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83B6-831C-4BC5-95B5-ACE188030D9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36A8-AFC3-412A-B8A1-29D95C0F1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5864-ACED-4CD6-B812-9A006BD17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4C14-3645-40E6-9902-8159E3619B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32C-BCC9-4297-B177-D2FC7DD63E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4D5-10BD-44CE-81F3-95A8C61115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58E-7E7A-4994-8104-7D2BE7EDF5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FE7-D539-4CCE-BFB0-37D409DF04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3D8-9C87-4DAE-A225-0167D42BE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D6E5-9237-402B-9BC0-28193C1612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26D-BC45-470C-9B93-3E85F9C836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2BC-F645-482D-A27E-390AA882E3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C16-403F-44DC-8547-E97C7D5C2F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185-E03E-4BDA-A1D5-A1BF40948D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19F-F2CB-4674-99C7-C731234C27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602-F718-4499-A7D9-85DBE20F18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0D2-E702-4580-BA45-7FDE07F281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E9195-B5FC-470D-9826-2D81E1A2A0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CDDF-DFCA-43E9-A6CA-3FE77D74F7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C19B-C308-4A75-BF78-0D06E8A58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195D-7956-4F70-9D77-14C9EFBC6D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9FCB7-570D-41C6-909C-14214CCD54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573F3-145E-4975-B372-2428EF272A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D47A7-DFE8-4A8B-9E5A-2858157ADB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B3F5B-9F3D-4D08-8CCE-1E20541EEB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2936D-B32B-4028-9F63-254E5A8375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EBE62-06A5-423A-94EF-F95BD0DAA0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A114C-8D16-4492-AFD8-F282E574B5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6FCE-8BF9-48E1-9C98-48397AFD80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21EC3-B067-4848-9DE4-9CACD2AE81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C298C-6CB4-40AA-8926-118C364A6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0CAA-A219-4926-A2E3-4928222534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EF71-BF8E-4919-A456-AA03907771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AC68F-9957-4C38-BE4F-43D3645BBB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E810-D083-4090-B4A3-0F9810D53C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9883-1540-4BA1-B85A-A7DBBE0DE8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A6111-B4A6-45BD-A611-1F2A182D5D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2797-1C7D-44F7-9BFD-40E003FFED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29137-D5C8-4C8D-A5E2-C8BF6AF29F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965B9-F157-4FE7-8BA9-C110C76391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CFB3-645A-499D-82C1-FAB23518FF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0105F-7BCB-4D39-99F8-FB1DC601F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69A2-DD70-4FFA-8B76-982F4034C0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C0879-9265-4468-B74E-BC95D93249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FCD9-779F-41BB-B708-5D0BF3AED4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A18-1851-4AAD-9F5E-27DF48C159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A9B-623F-4C3E-911D-C35BBDD306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57A1-7CCE-45BA-868C-F9BCF04DBA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BDD3-7F7A-407F-8014-FE0368CB6C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5727-7560-43F0-B55E-0A6820DC80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D1BE-264F-45A4-8ACC-85F286BEC1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B88D-0BAB-4A5D-8A42-C222A922B2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46BD-916C-4A5C-A6AB-598723E5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838C-67ED-4976-9EC7-1B0B0F5105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5A0B-BA08-4362-9C11-2AAC9B7F4F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E6FA-1C06-4EAD-88FB-886D3F9A74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F51-E360-476B-984D-7A9DC2656A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FC3D5-C5EB-4680-873C-E28F31F57B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E7E21-3E61-4A87-8BCF-C1EE2757BB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3351C-8959-4902-9BD2-6AC9ED0B84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14E4B-C96E-494D-A307-4F3A235C53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A54A1-EEA9-4E8F-8107-C232ACAC50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E0B12-BFDB-4494-90EF-0DAFE71313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6A47B-40B9-49A2-9A3C-087C28848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EBC3-8228-47A2-9FFA-DE5A84909E5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76782-D72C-4C03-8559-F9731A8813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14478-1113-47AD-AB81-6527203FC5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EA3D2-714A-4F45-A38B-728CCABA1C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57361-858F-4B8C-ADA9-07AE3D68A4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F6DA1-6A8C-4B42-92B3-0F1C26A444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D2FA0-69FE-4F4C-8A7B-C8626FED217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7E8AB-C278-4AF6-B7FA-F98189DF3D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815A8-23B6-483C-A721-9D1081E40A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05245-A4A2-4011-8DB7-292976B92A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25680-DB8F-4ED2-BBC1-C8A8DE4FF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0108-95FF-4904-8185-FA427CAE38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396EF-80A3-4A69-9ECC-16FCAFFBA5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68DD6-2BD1-4375-8BBA-0CF553A104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970D2-FD11-4AB3-B1CA-B245522F79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5FD42-9A06-4588-9817-38B1F1CDD4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2D9C7-5370-4152-A33C-4EBE9F4CA3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9F024-C096-4325-8252-2128BAF686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37D11-1B9E-4422-BADC-58F252FBB2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46D6-F3C6-4274-A082-7497973E8C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8758-6187-489C-8E62-033638D775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D9EC-AC63-4FB5-9D9B-33C4763D1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587E-6FF1-4ED2-87FD-49DE8C2C8F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0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C869-C4E7-4CD9-949C-1F07CF3792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3A8-1D13-4D56-86BB-7B08300284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52D-54CB-446F-8804-65A83C7DDC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A1D-A0F6-47B9-807A-C20DE881FE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1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297E-5512-476B-B6EB-429E21C203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6CF-F3A0-480B-A011-2FE06C61D8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DB5-ACDC-409D-89B2-7191D25531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1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F6A7-ED7F-409F-AC3E-1C9EA8C5B6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1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B969-A157-432E-8C22-5D7A1B05DBE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4C40-F2DE-4B03-B617-6ADD6A9EA8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55C9-3627-4D5C-A658-7C49529AB1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5CB6-F4BD-46C0-9E5B-CEB32D1281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5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F6D-E268-4D16-B3F9-7C97ACE872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6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9D11-9E02-46E4-8E81-7F1C87F6FF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7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DAA-35DF-460B-979E-50CEFD0C192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D197-F94C-438A-B9E9-D428030BC4A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FSA_Logo_4C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9BD-C146-471C-B4E8-17FA365088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.gov/heoa" TargetMode="External"/><Relationship Id="rId2" Type="http://schemas.openxmlformats.org/officeDocument/2006/relationships/hyperlink" Target="http://www.ed.gov/heoa" TargetMode="Externa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Higher Education Opportunity Act</a:t>
            </a:r>
            <a:endParaRPr b="1" lang="en-US" sz="4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vid Berge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79520"/>
            <a:ext cx="883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Higher Education Opportunity Act</a:t>
            </a:r>
            <a:br>
              <a:rPr sz="3200"/>
            </a:br>
            <a:r>
              <a:rPr b="1" lang="en-GB" sz="3200" spc="-1" strike="noStrike">
                <a:solidFill>
                  <a:srgbClr val="c85107"/>
                </a:solidFill>
                <a:latin typeface="Verdana"/>
              </a:rPr>
              <a:t>(Public Law 110-315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304920" y="1803240"/>
            <a:ext cx="853416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and Dis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for Federal Stude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l" pos="79380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and Institutional Gra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9B0-0463-4D06-97E2-085C00F580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ater transparency in college co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 required to develop &amp; rele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formation relevant to college cost &amp; net price by institu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ge cost &amp; net price watch li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net-based calculators of the net price of college for consu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BEA-A0F4-4563-92E9-75F5989C54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lose relationships with preferred lender arrang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opt “codes of conduct” to govern their relationships with financial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s must comply with the Truth in Lending Act for “private label”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800-153D-46F3-A15E-EFA4546E33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shers must inform faculty of price and editorial chang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s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the maximum extent practical, post ISBN numbers and retail prices of required and recommended textbooks and supplemental mater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E6B-2EC6-49F2-9005-46F308D337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Consumer Information and Disclosure: Textbook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628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itutions must provide its college bookstore with the course schedule, the list of required and recommended textbooks and supplemental materials, and the average and maximum enrollment in each cour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63DC-E383-4283-91B2-3B640B2D11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pplication for Federal Student Financial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y the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n EZ FAF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s limiting the Secretary’s authority to modify the formula used to calculate the expected family contribution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ED to report to Congress on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 study by GAO to examine alternative methodologies for calculating an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503-F826-4D1A-BEC7-892B6EC335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pplication for Federal Student Financial Aid (FAFSA)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04920" y="1752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es an early application demonstration program to allow dependent students to apply for aid during their junior year in high sch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the Secretary to use IRS data to prepopulate (with prior-prior year data) the FAFSA or verify income and other information on the FAFSA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 No change to Internal Revenu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4EB-F0AA-4C9E-B3C5-4C164194D1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ll Grant Program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with the 2009-2010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round” 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time limit - equivalent to 18 seme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grant equal to 10% of the appropriated maximum gr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for any Pell Grant eligible student whose parent or guardian was a member of the Armed Forces and died in Iraq or Afghanistan after September 11, 200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144-B43B-45E0-A6AE-4D87C9FA79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CG and 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ning with 2009-2010 award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certain non-citiz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nds eligibility to at least half-time studen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igns grant awards and disbursements with Pell Gr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laces academic year basis for awards with student’s grade leve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0ACF-AE62-4669-9B2D-1470EE377A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res appropriate State official to submit rigorous high school curriculum to 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that rigorous curricula include those recognized by ED in current 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1FC-2161-4F19-B598-2E76783F7E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Background</a:t>
            </a:r>
            <a:br>
              <a:rPr sz="3200"/>
            </a:b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Higher Education Opportunity Act (HEOA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 Act of 1965 expired in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uthorized HEA after 16 exten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by the President on August 14,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Public Law 110-3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use Bill (H.R. 4137) passed 2/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nate Bill (S. 1642) passed 7/24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ed.gov/he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5A94-19A0-45C5-9C1A-7AA3CCFA67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 Grants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wards for one- and two-year certificate programs if the student is attending a two- or four-year degree granting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mends the provision regarding previous enrollment for first-year grant eligibility by creating an exception for students whose previous enrollment in an undergraduate program was part of a secondary school program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05B-2054-41A7-B0D3-B00B3825D3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National SMART Gra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grants to students attending institutions offering a single liberal arts curriculum leading to a baccalaureate degree in which students are not permitted by the institution to declare a major in a particular subject 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thorizes a fifth-year grant to students enrolled in the fifth year of a National SMART Grant-eligible program that requires five years to comple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8A0-BE5B-4544-B9AC-A4E3B3FE84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TEACH Grant Program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 need fields when agreement to serve was completed will remain valid even if field no longer appro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ategories of extenuating circumstances under which a recipient of a TEACH Grant may be excused from fulfilling the service obligation can be established by reg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9826-9546-469F-856B-2CF6DC0426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Work-Study Program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phasizes employment in civic 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 compensating disaster-affected stud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s new discretionary grant program for off-campus employment in community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nues the existing “Work College” progr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875-CAB0-432D-8DDD-4683EBA8D0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Perkins Loans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reases annual and aggregate loan limits 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5,500 for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nual $8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60,000 for 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ggregate $27,500 for upper division undergr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$11,000 for all oth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A64-01C4-426F-8449-4E307F5E4B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erkins Loa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mandatory assign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scribes additional eligibility criteria for total and permanent disabilities dischar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s loan rehabil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ands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AECA-00CF-4CEB-BAD1-925DD2324B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s to provide a long-term solution to the current profitability, liquidity and capacity issues in the student loan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the Secretary to oversee private education loans made by FFELP lenders to students attending Title IV instit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541-3B31-431E-8016-CFF6008924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17222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es lender and guaranty agency induc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for more consumer information from lenders, guaranty agencies, schools and 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9D93-959E-4BF4-BC80-09F37D4771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"/>
          <p:cNvSpPr/>
          <p:nvPr/>
        </p:nvSpPr>
        <p:spPr>
          <a:xfrm>
            <a:off x="114480" y="5335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ederal Family Education Loans (FF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342720" y="12654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Cohort Default Rat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om two years to three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si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30% Penalty Thres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EB8-D0BD-4746-8E14-8439889493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“disbursement relief” CDR to 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ctober 1, 20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s to Disability Dischar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iver of interest for military in combat z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82DE-9905-4F11-AB34-2E016C5E39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1257840"/>
            <a:ext cx="8458200" cy="27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r>
              <a:rPr b="1" lang="en-GB" sz="5400" spc="-1" strike="noStrike">
                <a:solidFill>
                  <a:srgbClr val="cc3300"/>
                </a:solidFill>
                <a:latin typeface="Verdana"/>
              </a:rPr>
              <a:t>Recent Legislation</a:t>
            </a:r>
            <a:r>
              <a:rPr b="0" lang="en-GB" sz="5400" spc="-1" strike="noStrike">
                <a:solidFill>
                  <a:srgbClr val="cc3300"/>
                </a:solidFill>
                <a:latin typeface="Verdana"/>
              </a:rPr>
              <a:t> </a:t>
            </a:r>
            <a:br>
              <a:rPr sz="4200"/>
            </a:br>
            <a:r>
              <a:rPr b="1" lang="en-GB" sz="6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C64-17ED-4A29-B345-C7346AE594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oves VA Educational Benefits from Estimated Financial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 from “Resources” for 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with the 2010-11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603F-40C7-44FA-B887-68E62F1CDE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 eligible for unsubsidized without parental FAFSA inform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ffective on enactment – August 14, 200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per FAFSA or EDE Submi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cial process for 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BCE-C441-41C3-93F1-8D3845BFFF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new loan forgiveness opportunities, if Congress appropriates funds, f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1199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LY CHILDHOOD EDUC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R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EIGN LANGUAGE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BRARI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IGHLY QUALIFIED TEACHERS SERVING STUDENTS WHO ARE LIMITED ENGLISH PROFICIENT, LOW-INCOME COMMUNITIES, AND UNDERREPRESENTED POPU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 WORK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PEECH-LANGUAGE PATHOLOGISTS AND AUDIOLOG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OL COUNSEL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 SECTOR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DICAL SPECIAL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TAL HEALTH PROFESSION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NT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EM EMPLOY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HYSIC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PERINTENDENTS, PRINCIPALS, AND OTHER ADMINISTR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PATIONAL THERAPI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5840">
              <a:lnSpc>
                <a:spcPct val="90000"/>
              </a:lnSpc>
              <a:spcBef>
                <a:spcPts val="300"/>
              </a:spcBef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LEGAL ASSISTANCE ATTORNE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F68B-4E6B-4F75-ADDF-77375DDF6D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FFEL &amp; Direct Loans</a:t>
            </a:r>
            <a:r>
              <a:rPr b="0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credit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lishes NACIQI (Secretarial appointe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new committee appointed by Congress and the Secret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w appointments before February 1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retary is prohibited from establishing criteria that specify, define, or prescribe the standards an accrediting agency uses to assess an institution’s success with respect to student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977-3097-4457-9FD6-01B59DBDA1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1904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es 69 new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datory funding for three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moting Post-baccalaureate Opportunities for Hispanic Americ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Historically Black Colleges and Universities (HBC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sters Degree Programs at Predominantly Black Institutions (PB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207-4F6D-4144-AB54-15D7C4ED3B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26676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IO Progra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dates an appeal process that could include a second peer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blishes clear program performance expectations for funded projects related to the awarding of prior experience 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vides program activities into required and permissible activities and places greater emphasis on financial literacy as a permissible activi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the Secretary authority to make a one-time synchronizing adjustment to grant peri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1D49-A7CA-4967-9F1B-D1D4997D9E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6676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avits Fellowshi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ifies requirements related to the Javits Fellowship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aduate Assistance in Areas of National Ne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ult when determining areas of national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rifies eligibility of master’s degree-granting I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P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ifts authority to make grants to the Secre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holarships for family members of veterans or members of the milita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613-6223-49A1-B328-5C8420B3B3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34308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Institutional Grant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28501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c85107"/>
                </a:solidFill>
                <a:latin typeface="Verdana"/>
                <a:ea typeface="Lucida Sans Unicode"/>
              </a:rPr>
              <a:t>Implementation</a:t>
            </a:r>
            <a:endParaRPr b="1" lang="en-US" sz="5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5107"/>
                </a:solidFill>
                <a:latin typeface="Verdana"/>
              </a:rPr>
              <a:t>Reg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Hea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ohnson C. Smith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yahoga Community Colle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exas Christia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iversity of Rhode Island, Providence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pperdine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ed.gov/he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A5E-92A2-4052-B8C8-ADFD9475960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Regulations Subject to Negot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Announcing Formation of Committees and Solicitation of Nominations to Serve as Non-Federal Negotia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ng Committees Establish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ions 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/1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FC7F-0398-42B1-9510-8A9291C1E2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17160" y="498240"/>
            <a:ext cx="863748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266760" y="450720"/>
            <a:ext cx="8610480" cy="59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1280" indent="-341280">
              <a:spcBef>
                <a:spcPts val="1001"/>
              </a:spcBef>
              <a:spcAft>
                <a:spcPts val="100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Reconciliation Act (HERA) – February 8, 200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587"/>
              </a:spcBef>
              <a:spcAft>
                <a:spcPts val="587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ollege Cost Reduction and Access Act (CCRAA) – September 7,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nsuring Continued Access to Student Loans Act of 200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ECASLA) – May 7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tended by HR 689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Education Opportunity Act (Reauthorization) – August 14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cc540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DC96-4B4E-468F-AEB1-B026D6844B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All Other Regula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6676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NPRM Prepared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Now--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RM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Comment Period E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gulation Prepar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/2009-5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Submitted to OMB for Clea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buClr>
                <a:srgbClr val="c85107"/>
              </a:buClr>
              <a:buFont typeface="Wingdings" charset="2"/>
              <a:buChar char=""/>
              <a:tabLst>
                <a:tab algn="r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Published in the Federal Regis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/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9A9C-6E96-4F1C-93B3-A92E8AA0B0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5FA6-C6F6-42E7-898E-01F3E9F21D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5812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uthorized Student Loans Through 20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d Academic Competitiveness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FFEL and DL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oan Originatio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d for Consistent Repayment P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172-17A0-4241-B09C-F804EAA5A8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Higher Education Reconciliation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09-171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80880" y="1739880"/>
            <a:ext cx="83822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eamlin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Interest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e SAP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Initi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3C6C-A328-4C37-B495-1ECBFBDACC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uthorized Pell Grants Through 20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datory Increases for Pell and Upward B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uced Interest R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Analysis Formu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ome-based Repay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conomic Hardship Deferm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CDF-D16D-48AD-8C6F-3FCD760E1B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5107"/>
                </a:solidFill>
                <a:latin typeface="Verdana"/>
                <a:ea typeface="Times New Roman"/>
              </a:rPr>
              <a:t>College Cost Reduction and Access Act (</a:t>
            </a:r>
            <a:r>
              <a:rPr b="1" lang="en-US" sz="3200" spc="-1" strike="noStrike">
                <a:solidFill>
                  <a:srgbClr val="c85107"/>
                </a:solidFill>
                <a:latin typeface="Verdana"/>
              </a:rPr>
              <a:t>Public Law 110-84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ervice Loan Forg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Lender Insur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d S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 PLUS Auction Pilot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8FF2-4CD7-4F5F-93C3-861CB96627A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85107"/>
                </a:solidFill>
                <a:latin typeface="Verdana"/>
              </a:rPr>
              <a:t>Ensuring Continued Access to Student Loans Act </a:t>
            </a:r>
            <a:r>
              <a:rPr b="1" lang="en-US" sz="2800" spc="-1" strike="noStrike">
                <a:solidFill>
                  <a:srgbClr val="c85107"/>
                </a:solidFill>
                <a:latin typeface="Verdana"/>
              </a:rPr>
              <a:t>(ECASLA)(P.L. 110-227)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y HR 6899 (Public Law 110-35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CASLA Authorizes the Secret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purchase FFEL loans, a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net cost to the gover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der terms and conditions established by the Secretary in consultation with Treasury and O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tutory authority to provide advance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508B-49DD-47EA-8CB4-DC7564A5DE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11-29T22:43:50Z</dcterms:modified>
  <cp:revision>247</cp:revision>
  <dc:subject/>
  <dc:title>PowerPoint Presentation</dc:title>
</cp:coreProperties>
</file>