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  <p:sldId id="290" r:id="rId56"/>
    <p:sldId id="291" r:id="rId57"/>
    <p:sldId id="292" r:id="rId58"/>
    <p:sldId id="293" r:id="rId59"/>
    <p:sldId id="294" r:id="rId60"/>
    <p:sldId id="295" r:id="rId61"/>
    <p:sldId id="296" r:id="rId6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slide" Target="slides/slide35.xml"/><Relationship Id="rId57" Type="http://schemas.openxmlformats.org/officeDocument/2006/relationships/slide" Target="slides/slide36.xml"/><Relationship Id="rId58" Type="http://schemas.openxmlformats.org/officeDocument/2006/relationships/slide" Target="slides/slide37.xml"/><Relationship Id="rId59" Type="http://schemas.openxmlformats.org/officeDocument/2006/relationships/slide" Target="slides/slide38.xml"/><Relationship Id="rId60" Type="http://schemas.openxmlformats.org/officeDocument/2006/relationships/slide" Target="slides/slide39.xml"/><Relationship Id="rId61" Type="http://schemas.openxmlformats.org/officeDocument/2006/relationships/slide" Target="slides/slide40.xml"/><Relationship Id="rId62" Type="http://schemas.openxmlformats.org/officeDocument/2006/relationships/slide" Target="slides/slide41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dt" idx="19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ftr" idx="20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 type="sldNum" idx="21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52F3-E75E-4713-B1F6-0324EED87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ECEA-E373-4F1B-9C1E-306BAB065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Text Box 2"/>
          <p:cNvSpPr/>
          <p:nvPr/>
        </p:nvSpPr>
        <p:spPr>
          <a:xfrm>
            <a:off x="3884760" y="9026280"/>
            <a:ext cx="297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fld id="{1E76B07C-2611-4A6E-AA6F-DC218DF75FC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3"/>
          <p:cNvSpPr/>
          <p:nvPr/>
        </p:nvSpPr>
        <p:spPr>
          <a:xfrm>
            <a:off x="0" y="9023400"/>
            <a:ext cx="29718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4"/>
          <p:cNvSpPr/>
          <p:nvPr/>
        </p:nvSpPr>
        <p:spPr>
          <a:xfrm>
            <a:off x="0" y="0"/>
            <a:ext cx="29718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5"/>
          <p:cNvSpPr/>
          <p:nvPr/>
        </p:nvSpPr>
        <p:spPr>
          <a:xfrm>
            <a:off x="3884760" y="0"/>
            <a:ext cx="297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fld id="{27175074-F86C-4FE4-8EFC-95802EF88DF8}" type="datetime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6"/>
          <p:cNvSpPr/>
          <p:nvPr/>
        </p:nvSpPr>
        <p:spPr>
          <a:xfrm>
            <a:off x="1092240" y="685800"/>
            <a:ext cx="4673520" cy="35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body"/>
          </p:nvPr>
        </p:nvSpPr>
        <p:spPr>
          <a:xfrm>
            <a:off x="914400" y="4421160"/>
            <a:ext cx="5029200" cy="26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Maximum award for 2007-2008 would remain at $4,0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ell Grants would be made available year-round at eligible 2- and 4- year degree granting institutions, to encourage students to accelerate their stud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s an incentive for students to complete their programs on-time and to eliminate an area of potential abuse, Pell Grant eligibility would be limited to the equivalent of 16 semes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ropose to eliminate the “third award rule” related to tuition sensitivity.  The rule currently limits the amount of support that students with greatest need receive while attending low-cost institu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Text Box 2"/>
          <p:cNvSpPr/>
          <p:nvPr/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259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Text Box 2"/>
          <p:cNvSpPr/>
          <p:nvPr/>
        </p:nvSpPr>
        <p:spPr>
          <a:xfrm>
            <a:off x="1104840" y="698400"/>
            <a:ext cx="464832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body"/>
          </p:nvPr>
        </p:nvSpPr>
        <p:spPr>
          <a:xfrm>
            <a:off x="685800" y="4417560"/>
            <a:ext cx="54849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Text Box 2"/>
          <p:cNvSpPr/>
          <p:nvPr/>
        </p:nvSpPr>
        <p:spPr>
          <a:xfrm>
            <a:off x="1143000" y="685800"/>
            <a:ext cx="457200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Text Box 2"/>
          <p:cNvSpPr/>
          <p:nvPr/>
        </p:nvSpPr>
        <p:spPr>
          <a:xfrm>
            <a:off x="1104840" y="696960"/>
            <a:ext cx="46483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259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A1367-CE45-44F8-B625-1A25B3379B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4187A-F6AB-42D3-9E3D-0A58E44DD5B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47F2C-FDA1-4A22-A5CE-FF0FF663714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E6758-D760-4050-A2EA-8F553CAFB6D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FA160-BC48-4B08-8DD7-C674B16C60F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2B0FE-6DBD-495B-816A-BE5D84E2C2B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E3C20-4BA4-4CB2-B772-3B388548487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593FE-5C5E-4B8D-B9E7-4914EB26C72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002A6-C86E-41D3-A8B3-36242BAE89B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C5DCF-C6A3-4388-AFB8-82529D46723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77F8B-11F6-4717-9FA6-64C796445F4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59E11B-3A55-4F8A-8C5C-86E10D7F57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A1063-A45D-4C97-934B-D26B3785DF9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45ACEE-65C6-4A32-934D-197DACF41B3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87A179-DDB0-4611-91A9-5D574306140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42BAB0-0EF8-4FB2-A99C-C213806B2F3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9B2377-0998-4CB9-A194-4881199290C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933421-E2D6-449D-85D9-FFB55968E63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21935F-25E8-4AB4-A57A-2978F147DCC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4487EF-0150-4383-90F3-BAD5E015834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21D251-A681-497A-B166-C2EBF22D2BA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CFCF89-D099-43E0-8707-AD95488BFC2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58736A-B391-4161-B8A4-B2ACA8195D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B3536-9953-4C7D-BE9C-1FFF5107E1C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438807-5F48-4024-BB46-B0A9CC3AC4E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DAC073-4513-4056-95B6-46658DF6A44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57B95D-C2F0-4D65-B51B-C1AA06C1090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4C799F-6AE8-4ACE-92F3-15AD99C32DD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389C41-6906-4437-8B1D-F798A57446E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9147F1-66C7-401B-A206-831E4C9297D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84D33B-3207-4D49-B877-BB5896F953F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268301-BE0C-45AB-9815-B5AFF2DB058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FA4CD5-5C55-4584-B2E3-FB1FFEA158A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EBB8FD-A842-43CA-9A03-39118C4B72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BA1CE-2756-4014-818D-51660AB6FDF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96226B-8B5E-4D92-8F89-EB0EBE770AF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F07C6E-58DD-483A-9323-DCDF9DA3C72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E57DE5-FF35-43FF-9967-945B3E9703B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75076-AD18-4B58-B3B1-7DAA610EB20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4E72A-6FC8-4CC0-A54D-9D868285EE8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F0CBF-0916-4274-8CF5-99DE20FE962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0A48D-145C-4849-A136-8A9B3BCD9E7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1C3B9-244A-4859-9A9B-2B1DCE89C83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3F2C6-5AC5-46A6-ABBE-EF0A5F4E73C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D9079-5B4C-44B0-A101-C9C458288D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4DA44-5E99-40AC-8CCD-CDAFFED57C7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9DDD7-C47D-4D2B-9AFC-15CE7E6595F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BBB36-7A9E-4FBC-A203-9D61E00FBC4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92200-97D2-4373-A8D8-A5BEFC79E4A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78A60-2F7E-4B8D-9E2E-CD0601FCD69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F213F-E162-41DA-A12A-91823F1248D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473876-BCAB-4FB6-9F4F-883702E47AD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5DD0D4-5002-4C9B-BA54-750F290B33F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B04FCF-2376-442A-B2CF-9F0308C2BCE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4B6CBF-C3BF-4470-BF9C-67F03DFF1AE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454735-D9B8-4C8D-9FC2-789A491105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6C483-0DBF-45BF-8ED1-E70D986C611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11C4B5-1F62-4FF8-9693-334FABF3FAF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7E79C3-A9B8-48E1-BA79-D46FA383403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4EC084-62D9-4BCD-B8DF-FD98E8956BB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3F1CC4-3EC6-4B82-BA64-466E8B6556F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DAD49B-1F34-47C2-86DE-36658BBF1A0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898270-0BFE-4BC9-B891-9D9CE4A52F1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BC6173-C797-4DD8-B3B8-1285C9DF392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E4F150-6017-4578-A4D4-48253AE3500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E5B380-95C8-447E-9913-7497406BFF8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B13535-5F58-4660-AF2F-3FF40A6A5D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334B6-7A0B-4DF7-9B7C-9AD6F5FA8FE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8F3F49-358E-44F9-B353-0EFD0727D5B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632B88-8D79-4A3B-B873-4A41C441B0D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BBC9FC-E3B5-499B-8D34-BDB64FD5323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5A2296-B6E7-4485-8FE5-3EFEB4D550D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BF3FD3-DA98-411E-B46E-8CAB0DE1B6B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70301A-06E5-49D0-8803-326BE44BC87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2388D0-EB5F-46D6-972F-E6B7232668C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DDAD76-01BF-43A7-A7AB-869EA689B63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8B9A87-3FEA-4C2A-9855-DA56FF7CEE0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E9C43-E795-47C3-931D-CC0F4D8D66E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B24F9-82DE-4CA1-B5B5-D533731EF9C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11983-0565-4CE8-9D96-8719E7B6EB4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7E2C4-FB5F-4D10-BD2E-32658FF1F3D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695FB-CBBB-40ED-9C52-3B6F3141F61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DBE0B-8B68-4635-AABC-2135DF79CBB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BA60F-56E4-4167-987D-9E61E3AB06E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34FDA-A02B-4C67-B3EE-D8A7CA039BB9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0A0B9-F624-4A2B-9AFB-8AE860A74D4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6E529-C9FA-46B6-AD74-08211770B60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DF9D0-865B-41F5-881C-BBF301C2B3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D22ED-6364-4AC8-846F-813B63CAFD5F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71D79-171D-4D91-B7D2-0254552E23DB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E8B36-C408-4932-A3DF-DCD73E0F030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FFBEF-58B7-4ACD-B55E-503BE45C910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91F601-4AA3-4A42-99A3-D85CC404F5D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6CAB89-B053-4D91-89A2-D11F5908576D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E66385-5BE7-4E31-A3DD-D44E1EB6800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359EC8-EB53-4786-97F4-242E5948641E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8CCECA-ECB4-434F-9A75-5BD0AB48EF5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2D1830-2667-4AA6-9D85-2B062D2FCD6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E65F31-C3E6-49F1-B996-2DF9343603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06F6B-F54E-4C8C-A321-F511F6A19D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62212-EF45-4F10-94F2-6670A9F92F93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396CD5-5F07-44E1-A07C-C04A4C527536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5308FD-7FD0-4629-8635-D48788A2A560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BA2155-A58B-4847-817F-95F8BB217ECB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A563F2-A9F5-4283-ADA8-85DBA2DB65BE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F15A3D-CF0F-4717-AE08-83CC44D1AE5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001903-1782-4F47-B8FD-40666E6CD9EE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34E7FA-E3C0-491C-8C3F-D97C5EC51DAD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547DB3-51B2-465C-B00E-438EBDDA4758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921013-04E4-4158-8355-FB4FC3627C7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3F7305-F3CA-44AF-89AB-4EEBD138F0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A1673-16F9-414F-9BBC-CB39782972B6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1F63CE-4129-4C5E-8114-461C6D0CCC07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1B1484-27E1-44C0-887D-04196EE2C549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3ECB55-3846-4E8A-92A3-1570BC92CC5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2D1CAF-3E86-418C-B488-65A1D1665D9F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4EF51B-2EA7-4306-8813-DA8614CCC9B2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63618F-45A9-4642-A50A-70B174FD8FED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1E8DD7-210D-4FE9-BE97-472514C1ACA9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54741-45E1-474A-A2EB-8C897CA300DB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0936E-FA6B-4D15-BF4E-F79EA2151BED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BA73E-ECA9-4E51-AB76-AC987461CA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2EB1C-C740-4B71-BF68-8F63C25880F8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1D8F0-CDA0-4511-ACD8-D8E9CD3B7E0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40D55-4C7A-473C-B0A3-FDE633FAF4A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005C0-EF00-44E6-AF14-F02D48A3B02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61F83-1056-4872-8439-488AB110AE0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844F8-AF9B-47AF-A115-E922AD353AF6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E0F4C-DFF0-41EE-AC65-ADE4F424E133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32247-35F3-43D8-AD9B-BEACFB23ACB0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172B5-3335-4906-8621-5B1AE52A9A1D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86C3D-5476-4C11-ACEF-7552F2BCF3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51953-50F0-44B6-9881-90935F0318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A808F-3615-49B5-84AC-65603D41DFF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F771-22A1-41E1-B3A0-0634B4BE882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090F-BE48-45FD-8DEE-EC236B7A279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EEF1-DAD4-4F4A-91B3-EF4D770F517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D31E-93EB-4A7D-9C10-494339BC39D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A2FD-98D1-472C-BCFF-864A6AACB1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9EEAA-11AF-4316-B1D8-85AFA6949B8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9C58-D2AB-405D-A72C-6B62285A5D7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83C4-DB46-4A9E-811A-F0B4FCD3918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010E-9E13-4CDE-BE53-C3D09339068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08C9-56AE-4D4E-BA1B-1DF767CE59B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7136-9416-4AFC-98B8-3DF89821B78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3384-3EC4-42D6-A065-4D20D2D6DF4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4D12-25CF-4C3C-A190-09D908F5F8C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94127-E47D-4B6D-98F4-AE2F083F417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6DCE17-22AA-4552-A66D-8AEEE867C81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DB672-5D79-4054-9FAD-F69995C536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674CC-99B7-4A83-AC30-B9355A90959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802C7-50AC-472C-9E7E-E6CD8C10409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FFE86-1F4D-496D-B605-62A315BC4F9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65E0EE-4655-4729-8832-5C44DE98861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617BEF-4CB9-4899-917A-F97C6880DA7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83D56-1042-4A67-A887-A522F2BAAD5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7C97B-4035-4021-9BBD-E0D5465991E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15775-2C54-4D08-A111-AE6B3265F56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41D34A-4B2D-41B7-B35A-339DB568ACF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39CF6-2A93-40D6-A3CE-901EE27D325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CC1C6-8EEB-41F5-83C8-1E17672D18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084AB-A225-4B07-947B-F4967F0BFE5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BB980-8095-462B-8EF3-E6394649F8F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D7141-FA24-4407-826E-35A272668EC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4AEA1-D751-41D8-AED1-F6B129E79BC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CA6CD-8840-4E49-872A-F16ABE2433F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CC535-D52C-426F-AA30-3FB4369FFCE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F2232-177F-49BB-95F5-E7FC1A9B9AA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E7C4D-28E7-4052-A1E7-32440BFA23A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DDEA6-8F85-4780-A888-55EE4D45E0C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6AC97-F755-4BBC-A6FD-043879D8C31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6DACA-7156-4798-9A90-E113323601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69E3E-83C8-4275-A9C6-C8008EE7CD7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C884A-6812-4D71-BD0D-DF3025EF6D6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F9EA-00AF-40F8-B6E9-1D816B32FBC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5DC4-4EFB-4219-A57C-F9BA76CD83F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E36F-103D-42A2-ADD8-0E4B05E7707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71D3-E207-4603-A0F5-CF658B84B80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6999-07D8-4478-83A1-4FAC9103420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9689-EA6A-40E5-A219-A2E105EBE00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19FF-4329-4758-BB44-CFB4F11C9F6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44DA-D7D9-4F4D-B862-8768133922D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925E-DA74-4D4B-944B-2A76518C45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8B95C-C735-436D-B706-65A130B68BE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EED2-63DD-470C-97C7-3FFDE521030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CE46-F803-4EF6-8A65-8EAC9CE25E7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193E-32E0-4882-881B-E25D42334B0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718A88-EB52-42E0-9378-BE8428F1D32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96EE40-41D7-4BC9-8BE5-9D4BDB52D22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44F113-EC79-4345-87AB-57058E1CD59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8CA2F9-6136-4176-9722-0DB6761EBD1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F08A4A-0F4C-4F42-B135-24212B92442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D7E404-C94F-47E0-A4E5-4F4DD85EA65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E2BA52-2A44-4BE6-8DA9-DC72454CDC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5ACB5-05DF-47BE-91AB-18E6DF19C45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A9D973-ED0A-4EE0-9AA7-F8AC0C0402F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FAEEBA-2136-45DE-B182-ABB166FDC3D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98FB25-ACAA-46F3-82FE-DDD29D00C13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704616-ADAC-476F-800B-1FF1BDEFFE5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9E0933-698A-41A7-B5A8-F8A72155AD9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769151-272B-4649-B004-AE21D8A4F3E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20CA21-B071-48B9-BEF4-5C502B49B3C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3EDDD1-914D-4182-8281-60AE1535AD1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E0CBDE-D8EA-4771-A89A-45189BC88DF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9BEA47-5C61-455B-B57F-7D744BE419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76848-2B4F-4556-B43D-641B6937CB5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3015BF-ADE5-46AB-B3EB-5D9AFB44434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64EA5F-4101-4157-B70A-43DD0CAFF0C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600950-8D83-41E7-BCEF-1662FFA5702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7B924F-8D88-4B97-9E67-8C5D8F510C4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23DD74-B399-4FE5-AF23-BBA879B5F6B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EEE480-907D-4CF2-A841-24A763A6FAC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81D1DB-9F72-4075-AC15-A0159B943FE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E4924-55B2-46CB-AF6B-B3B027F9323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3E342-35CD-423D-81E2-DBCEFA0DAA5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942ED-A118-4ACD-A4D1-871861FF2D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B435-BE32-47FE-BD4E-4401A93744A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10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44C6-D137-478B-83DC-58E07FCE608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1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DBFA-DDD1-4F3F-9D00-45851F2A11A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12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EBEF-22FF-4C69-B020-AA8D9BC48C8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Num" idx="13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6443-BA04-43A0-9CAC-78904A7AFE6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sldNum" idx="14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8530-4313-4C25-9481-03A750BE928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sldNum" idx="15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2E96-082F-4658-8423-87A543C21BA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sldNum" idx="16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526E-64C3-476D-824F-9B37AE338BA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sldNum" idx="17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2E30-8C33-4942-8E93-040DC2F74CB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8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04B7-3574-43E8-9B3D-29FAA604C03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963C-0BAD-4D53-9324-9DA981FE87C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3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CB3A-E668-4428-BE54-18B085841E3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5C0C-F3F7-47AA-A3B4-1C46A568429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5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1556-9317-46EB-8836-04FCAB6F15D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6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B889-69B5-484D-8388-6D9A16ACDD9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7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FE3D-6AD9-4857-A401-99E70728A5D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7546-72B6-4E12-93E0-0DBBF3F8462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Num" idx="9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DA94-2F18-4A56-8C23-5C4107A258E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d.gov/heoa" TargetMode="External"/><Relationship Id="rId2" Type="http://schemas.openxmlformats.org/officeDocument/2006/relationships/hyperlink" Target="http://www.ed.gov/heoa" TargetMode="External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620120" cy="29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5407"/>
                </a:solidFill>
                <a:latin typeface="Verdana"/>
              </a:rPr>
              <a:t>Higher Education Opportunity Act</a:t>
            </a:r>
            <a:endParaRPr b="1" lang="en-US" sz="48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eff Bak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deral Student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vid Berger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n Madzel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fice of Postsecondary Edu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52280" y="479520"/>
            <a:ext cx="88394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c85107"/>
                </a:solidFill>
                <a:latin typeface="Verdana"/>
              </a:rPr>
              <a:t>Higher Education Opportunity Act</a:t>
            </a:r>
            <a:br>
              <a:rPr sz="3200"/>
            </a:br>
            <a:r>
              <a:rPr b="1" lang="en-GB" sz="3200" spc="-1" strike="noStrike">
                <a:solidFill>
                  <a:srgbClr val="c85107"/>
                </a:solidFill>
                <a:latin typeface="Verdana"/>
              </a:rPr>
              <a:t>(Public Law 110-315)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304920" y="1803240"/>
            <a:ext cx="8534160" cy="39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4520" indent="-34452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l" pos="79380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umer Information and Disclos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l" pos="79380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ication for Federal Student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l" pos="79380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Grant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l" pos="79380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Loan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l" pos="79380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itutions and Institutional Grant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71C0-175D-41E7-98B3-02C31800645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Consumer Information and Disclosure</a:t>
            </a:r>
            <a:r>
              <a:rPr b="0" lang="en-US" sz="32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ater transparency in college cos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 required to develop &amp; releas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formation relevant to college cost &amp; net price by institutio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llege cost &amp; net price watch lis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ternet-based calculators of the net price of college for consum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8CA4-8A5C-4E0B-B88D-56736DBB871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Consumer Information and Disclosure</a:t>
            </a:r>
            <a:r>
              <a:rPr b="0" lang="en-US" sz="32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itutions mus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isclose relationships with preferred lender arrang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opt “codes of conduct” to govern their relationships with financial instit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nders must comply with the Truth in Lending Act for “private label” education lo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0C09-639C-444D-8C2A-9888ACBD965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Consumer Information and Disclosure: Textbook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ublishers must inform faculty of price and editorial chang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itutions mus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 the maximum extent practical, post ISBN numbers and retail prices of required and recommended textbooks and supplemental mater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4546-418D-47F2-A51C-8A30FC0603F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Consumer Information and Disclosure: Textbook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6280" indent="-28584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stitutions must provide its college bookstore with the course schedule, the list of required and recommended textbooks and supplemental materials, and the average and maximum enrollment in each cour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7867-6B09-48FC-9CA5-E0085A2FDAB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Application for Federal Student Financial Aid (FAFSA)</a:t>
            </a: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ply the FAFS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an EZ FAFS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inues limiting the Secretary’s authority to modify the formula used to calculate the expected family contribution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s ED to report to Congress on simpl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dates a study by GAO to examine alternative methodologies for calculating an EF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6608-B8D3-4990-99E3-70E5A6EB095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Application for Federal Student Financial Aid (FAFSA)</a:t>
            </a: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304920" y="17524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dates an early application demonstration program to allow dependent students to apply for aid during their junior year in high scho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thorizes the Secretary to use IRS data to prepopulate (with prior-prior year data) the FAFSA or verify income and other information on the FAFSA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e:  No change to Internal Revenue Co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19AF-EC1D-4664-B2FB-1A82BA54DB7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42720" y="304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Pell Grant Program</a:t>
            </a:r>
            <a:r>
              <a:rPr b="0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with the 2009-2010 award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ear round” Pell Gr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fetime limit - equivalent to 18 semes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nimum grant equal to 10% of the appropriated maximum gran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ximum award for any Pell Grant eligible student whose parent or guardian was a member of the Armed Forces and died in Iraq or Afghanistan after September 11, 2001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BDBB-1EBC-46C3-B1C0-9ABCF639032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ACG and National SMART Grant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ning with 2009-2010 award ye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tends eligibility to certain non-citize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tends eligibility to at least half-time student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ligns grant awards and disbursements with Pell Gra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places academic year basis for awards with student’s grade level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B2C8-2F45-4A9B-A2D1-8598352098D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427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Academic Competitive Grants</a:t>
            </a:r>
            <a:r>
              <a:rPr b="0" lang="en-US" sz="32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2286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quires appropriate State official to submit rigorous high school curriculum to 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2286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larifies that rigorous curricula include those recognized by ED in current  regul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BBF6-70F2-48AD-8E70-D46CE37893C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Background</a:t>
            </a:r>
            <a:br>
              <a:rPr sz="3200"/>
            </a:br>
            <a:r>
              <a:rPr b="1" lang="en-US" sz="2600" spc="-1" strike="noStrike">
                <a:solidFill>
                  <a:srgbClr val="cc5407"/>
                </a:solidFill>
                <a:latin typeface="Verdana"/>
              </a:rPr>
              <a:t>Higher Education Opportunity Act (HEOA)</a:t>
            </a:r>
            <a:endParaRPr b="1" lang="en-US" sz="2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er Education Act of 1965 expired in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uthorized HEA after 16 exten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ed by the President on August 14, 200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came Public Law 110-31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ouse Bill (H.R. 4137) passed 2/7/200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nate Bill (S. 1642) passed 7/24/200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 site: 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www.ed.gov/heo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A8DE-974C-492D-B944-7BCDB2EA763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427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Academic Competitive Grants</a:t>
            </a:r>
            <a:r>
              <a:rPr b="0" lang="en-US" sz="32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2286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thorizes awards for one- and two-year certificate programs if the student is attending a two- or four-year degree granting instit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2286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mends the provision regarding previous enrollment for first-year grant eligibility by creating an exception for students whose previous enrollment in an undergraduate program was part of a secondary school program of stu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EBB5-0215-429F-BDEE-8C6E8D621EF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National SMART Grant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2286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thorizes grants to students attending institutions offering a single liberal arts curriculum leading to a baccalaureate degree in which students are not permitted by the institution to declare a major in a particular subject are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2286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thorizes a fifth-year grant to students enrolled in the fifth year of a National SMART Grant-eligible program that requires five years to comple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083A-1F6F-42E9-93A4-E0CA2E23AE9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42720" y="5335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TEACH Grant Program</a:t>
            </a: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304920" y="12952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High need fields when agreement to serve was completed will remain valid even if field no longer approv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Categories of extenuating circumstances under which a recipient of a TEACH Grant may be excused from fulfilling the service obligation can be established by regul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D1B6-0276-41A4-A3EF-162880FF798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427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Federal Work-Study Program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mphasizes employment in civic educ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inue compensating disaster-affected stud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reates new discretionary grant program for off-campus employment in community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inues the existing “Work College” program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6E9F-4831-4F3C-82D1-B5845B15C32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  <a:ea typeface="Times New Roman"/>
              </a:rPr>
              <a:t>Perkins Loans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  <a:ea typeface="Times New Roman"/>
              </a:rPr>
              <a:t> 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Increases annual and aggregate loan limits –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nnual $5,500 for undergr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nnual $8,000 for gr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ggregate $60,000 for gr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ggregate $27,500 for upper division undergr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$11,000 for all oth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8EF8-45E0-4C9F-BE51-40F07917A8F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4272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Perkins Loan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scribes mandatory assign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s loan lim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scribes additional eligibility criteria for total and permanent disabilities dischar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reamlines loan rehabili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pands loan forg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9786-FD1A-4DB2-B6F0-C4CD31DA8F0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s to provide a long-term solution to the current profitability, liquidity and capacity issues in the student loan pro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the Secretary to oversee private education loans made by FFELP lenders to students attending Title IV institu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Rectangle 2"/>
          <p:cNvSpPr/>
          <p:nvPr/>
        </p:nvSpPr>
        <p:spPr>
          <a:xfrm>
            <a:off x="114480" y="5335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Federal Family Education Loans (FF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5A3A-AE9F-40C9-8588-F74F4CC785C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/>
          </p:nvPr>
        </p:nvSpPr>
        <p:spPr>
          <a:xfrm>
            <a:off x="457200" y="1722240"/>
            <a:ext cx="8229600" cy="32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es lender and guaranty agency induc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s for more consumer information from lenders, guaranty agencies, schools and 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B7C5-8E67-4C8E-8FC3-74C44C79678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2"/>
          <p:cNvSpPr/>
          <p:nvPr/>
        </p:nvSpPr>
        <p:spPr>
          <a:xfrm>
            <a:off x="114480" y="5335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Federal Family Education Loans (FF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/>
          </p:nvPr>
        </p:nvSpPr>
        <p:spPr>
          <a:xfrm>
            <a:off x="342720" y="1265400"/>
            <a:ext cx="84582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nges Cohort Default Rate Calcul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rom two years to three yea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ransition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30% Penalty Threshol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Rectangle 2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FFEL &amp; Direct Loans</a:t>
            </a:r>
            <a:r>
              <a:rPr b="0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AA58-1F1C-46E0-935A-6012279BA05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/>
          </p:nvPr>
        </p:nvSpPr>
        <p:spPr>
          <a:xfrm>
            <a:off x="457200" y="126540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s “disbursement relief” CDR to 15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ffective October 1, 201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nges to Disability Discharge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iver of interest for military in combat zo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Rectangle 2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FFEL &amp; Direct Loans</a:t>
            </a:r>
            <a:r>
              <a:rPr b="0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43DF-CDBF-461B-83A6-57E795FE966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51120" y="852480"/>
            <a:ext cx="5387760" cy="5219640"/>
          </a:xfrm>
          <a:prstGeom prst="rect">
            <a:avLst/>
          </a:prstGeom>
          <a:ln w="0">
            <a:noFill/>
          </a:ln>
        </p:spPr>
      </p:pic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80520" y="1257840"/>
            <a:ext cx="8458200" cy="274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6000"/>
            </a:br>
            <a:r>
              <a:rPr b="1" lang="en-GB" sz="5400" spc="-1" strike="noStrike">
                <a:solidFill>
                  <a:srgbClr val="cc3300"/>
                </a:solidFill>
                <a:latin typeface="Verdana"/>
              </a:rPr>
              <a:t>Recent Legislation</a:t>
            </a:r>
            <a:r>
              <a:rPr b="0" lang="en-GB" sz="5400" spc="-1" strike="noStrike">
                <a:solidFill>
                  <a:srgbClr val="cc3300"/>
                </a:solidFill>
                <a:latin typeface="Verdana"/>
              </a:rPr>
              <a:t> </a:t>
            </a:r>
            <a:br>
              <a:rPr sz="4200"/>
            </a:br>
            <a:r>
              <a:rPr b="1" lang="en-GB" sz="6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6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1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563D-7A4B-4DD0-919C-18199A4F038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moves VA Educational Benefits from Estimated Financial Assist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lso from “Resources” for campus-based a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ffective with the 2010-11 award ye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02E2-607C-4C2E-AD88-A355E66AC7F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FFEL &amp; Direct Loans</a:t>
            </a:r>
            <a:r>
              <a:rPr b="0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pendent students eligible for unsubsidized without parental FAFSA informatio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ffective on enactment – August 14, 200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per FAFSA or EDE Submis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pecial process for Direct Lo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C326-5157-47FE-B53D-0C08575D0A5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FFEL &amp; Direct Loans</a:t>
            </a:r>
            <a:r>
              <a:rPr b="0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vides new loan forgiveness opportunities, if Congress appropriates funds, for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1199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ARLY CHILDHOOD EDUCA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UR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REIGN LANGUAGE SPECIALIS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IBRARI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IGHLY QUALIFIED TEACHERS SERVING STUDENTS WHO ARE LIMITED ENGLISH PROFICIENT, LOW-INCOME COMMUNITIES, AND UNDERREPRESENTED POPUL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ILD WELFARE WORK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PEECH-LANGUAGE PATHOLOGISTS AND AUDIOLOGIS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CHOOL COUNSEL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UBLIC SECTOR EMPLOYE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DICAL SPECIALIS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NTAL HEALTH PROFESSIONA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NTIS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TEM EMPLOYE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HYSICAL THERAPIS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UPERINTENDENTS, PRINCIPALS, AND OTHER ADMINISTRA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CCUPATIONAL THERAPIS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IVIL LEGAL ASSISTANCE ATTORNEY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2D44-6A42-4051-B7EA-1C688282F98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FFEL &amp; Direct Loans</a:t>
            </a:r>
            <a:r>
              <a:rPr b="0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Accredit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olishes NACIQI (Secretarial appointee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s a new committee appointed by Congress and the Secretar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 new appointments before February 1,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retary is prohibited from establishing criteria that specify, define, or prescribe the standards an accrediting agency uses to assess an institution’s success with respect to student achie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7C71-C85F-46FF-93E0-668306286ED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 txBox="1"/>
          <p:nvPr/>
        </p:nvSpPr>
        <p:spPr>
          <a:xfrm>
            <a:off x="419040" y="1294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thorizes 69 new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datory funding for three program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moting Post-baccalaureate Opportunities for Hispanic Americ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sters Degree Programs at Historically Black Colleges and Universities (HBCU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sters Degree Programs at Predominantly Black Institutions (PBI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634A-797E-4D47-95F5-C9FDB9438AE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2"/>
          <p:cNvSpPr/>
          <p:nvPr/>
        </p:nvSpPr>
        <p:spPr>
          <a:xfrm>
            <a:off x="343080" y="38088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Institutional Grant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Institutional Grant Program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266760" y="10663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deral TRIO Program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ndates an appeal process that could include a second peer revie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ablishes clear program performance expectations for funded projects related to the awarding of prior experience poi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ivides program activities into required and permissible activities and places greater emphasis on financial literacy as a permissible activity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ives the Secretary authority to make a one-time synchronizing adjustment to grant period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7DA1-2EA0-4FFD-A16F-EE4A4536A34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 txBox="1"/>
          <p:nvPr/>
        </p:nvSpPr>
        <p:spPr>
          <a:xfrm>
            <a:off x="26676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duate Fellowshi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Javits Fellowship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8510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difies requirements related to the Javits Fellowship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raduate Assistance in Areas of National Ne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8510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sult when determining areas of national ne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8510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larifies eligibility of master’s degree-granting IH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P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hifts authority to make grants to the Secreta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cholarships for family members of veterans or members of the milita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FB71-A0BA-4F84-B668-8F0C59CD963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2"/>
          <p:cNvSpPr/>
          <p:nvPr/>
        </p:nvSpPr>
        <p:spPr>
          <a:xfrm>
            <a:off x="343080" y="38088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Institutional Grant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285012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c85107"/>
                </a:solidFill>
                <a:latin typeface="Verdana"/>
                <a:ea typeface="Lucida Sans Unicode"/>
              </a:rPr>
              <a:t>Implementation</a:t>
            </a:r>
            <a:endParaRPr b="1" lang="en-US" sz="54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427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85107"/>
                </a:solidFill>
                <a:latin typeface="Verdana"/>
              </a:rPr>
              <a:t>Regulatio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ublic Hear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Johnson C. Smith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uyahoga Community Colle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exas Christia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niversity of Rhode Island, Providence Camp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epperdine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.S. Department of Edu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www.ed.gov/heo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DAED-F779-4F91-98EB-8D04719C26E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Regulations Subject to Negot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304920" y="13716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ice Announcing Formation of Committees and Solicitation of Nominations to Serve as Non-Federal Negotiato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/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gotiating Committees Establish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/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gotiations En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/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PRM Published in the Federal Regis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/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Comment Period End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/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al Published in the Federal Regis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1/1/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A345-146D-41D3-AEC7-9437C6BBBE7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17160" y="498240"/>
            <a:ext cx="8637480" cy="12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000"/>
            </a:b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266760" y="450720"/>
            <a:ext cx="8610480" cy="59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1280" indent="-341280">
              <a:spcBef>
                <a:spcPts val="1001"/>
              </a:spcBef>
              <a:spcAft>
                <a:spcPts val="100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Higher Education Reconciliation Act (HERA) – February 8, 200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587"/>
              </a:spcBef>
              <a:spcAft>
                <a:spcPts val="587"/>
              </a:spcAft>
              <a:buClr>
                <a:srgbClr val="cc540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College Cost Reduction and Access Act (CCRAA) – September 7, 200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Ensuring Continued Access to Student Loans Act of 2008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ECASLA) – May 7, 2008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tended by HR 689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Higher Education Opportunity Act (Reauthorization) – August 14, 2008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8678-4A54-4A16-93E2-0394E1B5308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All Other Regulation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266760" y="12952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ft NPRM Prepared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Now--1/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PRM Submitted to OMB for Clear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/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PRM Published in the Federal Regis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/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Comment Period End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/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al Regulation Prepar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/2009-5/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al Submitted to OMB for Clear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/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al Published in the Federal Regis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/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Verdana"/>
              <a:buChar char="–"/>
              <a:tabLst>
                <a:tab algn="r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r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912A-C091-40FA-81C8-9CAAA24BF95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Slide Number Placeholder 2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E9A9-9F63-45BA-AFA6-8A07AB83F68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2" name="" descr=""/>
          <p:cNvPicPr/>
          <p:nvPr/>
        </p:nvPicPr>
        <p:blipFill>
          <a:blip r:embed="rId1"/>
          <a:stretch/>
        </p:blipFill>
        <p:spPr>
          <a:xfrm>
            <a:off x="2590920" y="2057400"/>
            <a:ext cx="3581280" cy="268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  <a:ea typeface="Times New Roman"/>
              </a:rPr>
              <a:t>Higher Education Reconciliation Act (</a:t>
            </a: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Public Law 109-171)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380880" y="1739880"/>
            <a:ext cx="83822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authorized Student Loans Through 201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eated Academic Competitiveness and National SMART Gra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FFEL and DL Loan Lim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duced Loan Origination Fe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d for Consistent Repayment Pl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E69E-8876-43ED-9901-49D52A96D4A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  <a:ea typeface="Times New Roman"/>
              </a:rPr>
              <a:t>Higher Education Reconciliation Act (</a:t>
            </a: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Public Law 109-171)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subTitle"/>
          </p:nvPr>
        </p:nvSpPr>
        <p:spPr>
          <a:xfrm>
            <a:off x="380880" y="1739880"/>
            <a:ext cx="83822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reamline FAFS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nalysis Formul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duced Insur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US Interest 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gative SAP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ge Access Initia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5C80-5134-42F7-B3E9-6EFF0531C9C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  <a:ea typeface="Times New Roman"/>
              </a:rPr>
              <a:t>College Cost Reduction and Access Act (</a:t>
            </a: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Public Law 110-84)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380880" y="16765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5360" indent="-2253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authorized Pell Grants Through 201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ndatory Increases for Pell and Upward Boun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duced Interest Ra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ed Analysis Formul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come-based Repay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conomic Hardship Defermen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1B4C-05DF-40AE-8135-267DC43A72F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  <a:ea typeface="Times New Roman"/>
              </a:rPr>
              <a:t>College Cost Reduction and Access Act (</a:t>
            </a: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Public Law 110-84)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380880" y="16765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5360" indent="-2253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ACH Gra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ublic Service Loan Forg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ge Access Challenge Gra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duced Lender Insur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duced SA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ent PLUS Auction Pilot Pro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B89B-55C8-41E8-9364-92FF6335178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85107"/>
                </a:solidFill>
                <a:latin typeface="Verdana"/>
              </a:rPr>
              <a:t>Ensuring Continued Access to Student Loans Act </a:t>
            </a:r>
            <a:r>
              <a:rPr b="1" lang="en-US" sz="2800" spc="-1" strike="noStrike">
                <a:solidFill>
                  <a:srgbClr val="c85107"/>
                </a:solidFill>
                <a:latin typeface="Verdana"/>
              </a:rPr>
              <a:t>(ECASLA)(P.L. 110-227)</a:t>
            </a:r>
            <a:endParaRPr b="1" lang="en-US" sz="28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ded by HR 6899 (Public Law 110-35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CASLA Authorizes the Secret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 purchase FFEL loans, at 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 net cost to the gover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nder terms and conditions established by the Secretary in consultation with Treasury and OM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statutory authority to provide advance fun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6A42-1E6E-4A6F-8A77-E5834DA595C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#Administrator</cp:lastModifiedBy>
  <dcterms:modified xsi:type="dcterms:W3CDTF">2008-11-29T22:43:50Z</dcterms:modified>
  <cp:revision>247</cp:revision>
  <dc:subject/>
  <dc:title>PowerPoint Presentation</dc:title>
</cp:coreProperties>
</file>