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757BC-7623-452E-812C-50F02D1C83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19BD6-BFE6-4868-AFD7-E15925EF0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B28BF-BF20-43C7-92EA-BB097F14E3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A85E1-DC84-4DEA-8BBB-7AA75E3C7B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C8D74-00B4-42C8-A809-5DA4F0F1D7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A13FB-39B8-41AC-8A9F-C8E815CEDD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397D3-93A7-4B3F-A807-CD5376599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41790-797B-4AE3-833A-3E79F010B7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B8D41-BE32-4A8C-BDFC-A921A556F0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F5DF3-470E-447F-8BEF-60FFD43F2E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C84DD-8291-487C-88E6-8E01E59BE7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ACB63-9B48-4AB1-98AE-BE2A662FD3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6A39-41CD-4772-842E-6981958A968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p.ed.gov/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Carolyn.Washington@ed.gov" TargetMode="External"/><Relationship Id="rId2" Type="http://schemas.openxmlformats.org/officeDocument/2006/relationships/hyperlink" Target="mailto:Ben.Chiu@ed.gov" TargetMode="External"/><Relationship Id="rId3" Type="http://schemas.openxmlformats.org/officeDocument/2006/relationships/hyperlink" Target="mailto:Valerie.Sherrer@ed.gov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GA-08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18284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Partners Systems (hands-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olyn Washingt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 Chi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erie Sher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mmonly asked questions: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Financial Partners Datamar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I log into FP Datamar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nformation can I view in FP Datamar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I run a repor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can I share a repor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I obtain access to FP Datamart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6933D-4FEE-431E-8948-D79E7A88C2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at is Financial Partners Datamart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Data from several FSA systems are consolidated into the FP Data Mart to provide multi-dimensional analysis capabiliti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FPDM provides executive/summary information and decision support capabilities around several key business functions that include Risk Management, Customer Relationship Management, Compliance Management, and Portfolio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Accessible over the web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C8EA6-8774-4041-846D-4C502139C8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information can I view in FP Datamart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A access is restricted to their respective dat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As have access to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a3139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1392"/>
                </a:solidFill>
                <a:latin typeface="Verdana"/>
              </a:rPr>
              <a:t>GA Analysis Rep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a3139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1392"/>
                </a:solidFill>
                <a:latin typeface="Verdana"/>
              </a:rPr>
              <a:t>GA Financial Rep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a3139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31392"/>
                </a:solidFill>
                <a:latin typeface="Verdana"/>
              </a:rPr>
              <a:t>GA 1189 and 113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a3139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31392"/>
                </a:solidFill>
                <a:latin typeface="Verdana"/>
              </a:rPr>
              <a:t>ED FORM 20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a3139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31392"/>
                </a:solidFill>
                <a:latin typeface="Verdana"/>
              </a:rPr>
              <a:t>GA SO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a3139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1392"/>
                </a:solidFill>
                <a:latin typeface="Verdana"/>
              </a:rPr>
              <a:t>GA Scorecard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a3139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1392"/>
                </a:solidFill>
                <a:latin typeface="Verdana"/>
              </a:rPr>
              <a:t>LARS Rep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a3139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1392"/>
                </a:solidFill>
                <a:latin typeface="Verdana"/>
              </a:rPr>
              <a:t>Lender Portfolio Analy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a3139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1392"/>
                </a:solidFill>
                <a:latin typeface="Verdana"/>
              </a:rPr>
              <a:t>Lender Scorecar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FBD16-DAE8-422A-80FD-4665434F78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6320" y="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information can I view in FP Datamar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685800" y="9144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nder access is restricted to their respective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nders have access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a3139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1392"/>
                </a:solidFill>
                <a:latin typeface="Verdana"/>
              </a:rPr>
              <a:t>GA Analysis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a3139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1392"/>
                </a:solidFill>
                <a:latin typeface="Verdana"/>
              </a:rPr>
              <a:t>LARS Reports (special allowance, interest benefit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a3139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1392"/>
                </a:solidFill>
                <a:latin typeface="Verdana"/>
              </a:rPr>
              <a:t>Lender Portfolio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a3139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1392"/>
                </a:solidFill>
                <a:latin typeface="Verdana"/>
              </a:rPr>
              <a:t>Lender Scorecard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1836C-72AB-4424-82BE-58E35F8FB8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How do I log into FP Datamart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16002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to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www.fp.ed.gov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Financial Partners Datam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I am a current us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2"/>
          <a:stretch/>
        </p:blipFill>
        <p:spPr>
          <a:xfrm>
            <a:off x="4764240" y="1143000"/>
            <a:ext cx="186516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3"/>
          <a:stretch/>
        </p:blipFill>
        <p:spPr>
          <a:xfrm>
            <a:off x="6973920" y="2743200"/>
            <a:ext cx="1865160" cy="1371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4"/>
          <a:stretch/>
        </p:blipFill>
        <p:spPr>
          <a:xfrm>
            <a:off x="5526000" y="4267080"/>
            <a:ext cx="1865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9821E-9DD0-4526-B8BF-AD796468FF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447920"/>
            <a:ext cx="7162560" cy="36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reciate your feedback and comments.  We can be reached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Carolyn.Washington@ed.g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202) 377-35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Ben.Chiu@ed.g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415) 486-56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Verdana"/>
                <a:hlinkClick r:id="rId3"/>
              </a:rPr>
              <a:t>Valerie.Sherrer@ed.g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202) 377-354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E859A-4A14-43B2-86FD-B0C08CAF4A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RENTEX</cp:lastModifiedBy>
  <dcterms:modified xsi:type="dcterms:W3CDTF">2008-12-02T19:22:14Z</dcterms:modified>
  <cp:revision>236</cp:revision>
  <dc:subject/>
  <dc:title>PowerPoint Presentation</dc:title>
</cp:coreProperties>
</file>