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DF88-49B0-4400-9AFC-0FE1264F8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695B-2D84-4DAC-8214-6AF322B42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12AD-82C0-41B6-98E1-0D8234E48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697E-762A-4B41-BF80-728055E3D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C62B-F29D-4BCA-A918-6570DF0F67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9F4F-85C0-47F9-BDC7-2B3D62637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4B58-51CF-4575-BFD4-BDC724183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3A0D-818F-4B1B-916D-52031736C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AED2-462D-4C8C-B019-791F8194A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5C01-B225-48E7-96F9-EDAFA2EBE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E584-AE1D-4BDD-842A-530A37DEE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1AD2-8334-49DD-94A4-B8BEC9502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6A79-A88C-4082-83A4-34874802FB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p.ed.gov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arolyn.Washington@ed.gov" TargetMode="External"/><Relationship Id="rId2" Type="http://schemas.openxmlformats.org/officeDocument/2006/relationships/hyperlink" Target="mailto:Ben.Chiu@ed.gov" TargetMode="External"/><Relationship Id="rId3" Type="http://schemas.openxmlformats.org/officeDocument/2006/relationships/hyperlink" Target="mailto:Valerie.Sherrer@ed.go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GA-08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Partners Systems (hands-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olyn Washingt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 Chi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erie Sher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mmonly asked questions: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Financial Partners Datama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log into FP Datama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nformation can I view in FP Datama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run a repo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I share a repo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obtain access to FP Datamart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057C-6230-4942-BAF5-1AA80DED02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Financial Partners Datamart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Data from several FSA systems are consolidated into the FP Data Mart to provide multi-dimensional analysis capabiliti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FPDM provides executive/summary information and decision support capabilities around several key business functions that include Risk Management, Customer Relationship Management, Compliance Management, and Portfolio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ccessible over the web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57FE-DF45-4E42-A6FD-2F2743B846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nformation can I view in FP Datamart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A access is restricted to their respective da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As have access t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GA Analysis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GA Financial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a3139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1392"/>
                </a:solidFill>
                <a:latin typeface="Verdana"/>
              </a:rPr>
              <a:t>GA 1189 and 11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a3139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1392"/>
                </a:solidFill>
                <a:latin typeface="Verdana"/>
              </a:rPr>
              <a:t>ED FORM 2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a3139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1392"/>
                </a:solidFill>
                <a:latin typeface="Verdana"/>
              </a:rPr>
              <a:t>GA SO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GA Scorecar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LARS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Lender Portfolio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Lender Scorecar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8D80-68D2-466D-8B75-3C07769EAA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320" y="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nformation can I view in FP Datama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nder access is restricted to their respectiv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nders have acces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GA Analysis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LARS Reports (special allowance, interest benefi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Lender Portfolio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Lender Scorecar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6FD2-83E2-4208-9D0B-DB7722CDA1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ow do I log into FP Datamart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6002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fp.ed.go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Financial Partners Datam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I am a current us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4764240" y="1143000"/>
            <a:ext cx="186516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6973920" y="2743200"/>
            <a:ext cx="186516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5526000" y="4267080"/>
            <a:ext cx="1865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EAC6-F89C-4FED-8073-C2D2183ED1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447920"/>
            <a:ext cx="716256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Carolyn.Washington@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02) 377-3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Ben.Chiu@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415) 486-56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Valerie.Sherrer@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02) 377-35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F3E4-C422-4A75-A85A-97B02EAC83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RENTEX</cp:lastModifiedBy>
  <dcterms:modified xsi:type="dcterms:W3CDTF">2008-12-02T19:22:14Z</dcterms:modified>
  <cp:revision>236</cp:revision>
  <dc:subject/>
  <dc:title>PowerPoint Presentation</dc:title>
</cp:coreProperties>
</file>