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91EB-3111-4B35-B2F9-4B0B91BB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0434-0FA0-4822-9CDD-1B2204FC3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C1EA-2073-497D-8A84-0B1211144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EAE5-144D-4F81-9F9A-DD0373634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5F0A-F1C8-48C1-B8C1-3EA478F4E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D988-8ED4-4820-9411-A71DF6B0B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079F-E2E5-49B7-B9BF-583CE2D9A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A132-AB17-43C3-8FBC-C8F11A4CE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78DB-35D8-4B44-A886-AE9BA36CB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D9AF-24B8-4C31-8898-241CD150A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13B4-9B0A-4325-ACF0-CB7F7BB24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8916-2A65-4123-B39E-7C761F22B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3921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EE3E-1FFC-4471-9217-C5E5A80DD6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GA-07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946160"/>
            <a:ext cx="64008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k A F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 GA’s and Len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m Mo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n Bennet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wight Vig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m Eliad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0">
              <a:lnSpc>
                <a:spcPct val="80000"/>
              </a:lnSpc>
              <a:spcBef>
                <a:spcPts val="150"/>
              </a:spcBef>
              <a:spcAft>
                <a:spcPts val="7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ricia Tru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3T19:45:58Z</dcterms:modified>
  <cp:revision>255</cp:revision>
  <dc:subject/>
  <dc:title>PowerPoint Presentation</dc:title>
</cp:coreProperties>
</file>