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2778-B94C-4AFB-AF5F-74DCA0B70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7563-0899-43AD-9761-2D3C9893D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EC6E-44A0-48F9-BD55-CEF8241B6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BC59-62AA-4B40-A778-23AF6B5F7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9009-65C4-4B45-B92C-1CB24AA3A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B578-B81F-4424-9ED9-1D8D163B1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7AEA-54B4-4525-A501-C42210689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52C8-96AF-407A-9E67-B03504C24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5DAA-32DD-4D58-9EB7-66D788E5A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5E90-2174-42A2-8E27-46005BE4D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2BD-C97D-4140-91F8-E0FAB3E11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710B-FA1E-4570-8A14-A12A74FB8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3921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28D6-6B2C-4C44-8FF0-305C8572EE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GA-07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946160"/>
            <a:ext cx="64008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k A F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 GA’s and Len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m Mo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n Bennet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wight Vig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m Eliad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ricia Tru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3T19:45:58Z</dcterms:modified>
  <cp:revision>255</cp:revision>
  <dc:subject/>
  <dc:title>PowerPoint Presentation</dc:title>
</cp:coreProperties>
</file>