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07F0AF4-9378-4662-A3E6-A4384AB284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971800" y="549360"/>
            <a:ext cx="3657600" cy="2743200"/>
          </a:xfrm>
          <a:prstGeom prst="rect">
            <a:avLst/>
          </a:prstGeom>
          <a:ln w="0">
            <a:noFill/>
          </a:ln>
        </p:spPr>
      </p:sp>
      <p:sp>
        <p:nvSpPr>
          <p:cNvPr id="106"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of Intent to Participate is submitted by an eligible lender once.  For loans as of 5/1/08, the Department must have a receipt date of the NOI no later than 7/31/08.  VERIFY SUBMI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can be submitted via a PDF format to ffel.agreementprocess@ed.g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ocuments/exhibits can be found in Announcement #1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option Agreement – Executed by the following Sponsor, Trustee Lender, Custodian and ED.   Submission type Hardcopy originals with pen/ink sign.  May submit in PDF format with hardcopy originals to fol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eu of the Certificate of Good Standing of the Sponsor the Sponsor can submit State Stature (if a state 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971800" y="549360"/>
            <a:ext cx="3657600" cy="2743200"/>
          </a:xfrm>
          <a:prstGeom prst="rect">
            <a:avLst/>
          </a:prstGeom>
          <a:ln w="0">
            <a:noFill/>
          </a:ln>
        </p:spPr>
      </p:sp>
      <p:sp>
        <p:nvSpPr>
          <p:cNvPr id="108"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dian LID are issued based on a one to one ratio. (Entity ba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sor Name (ie Bank ABC) XXXXXX Approved Custodian Name (ie Bank of US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971800" y="549360"/>
            <a:ext cx="3657600" cy="2743200"/>
          </a:xfrm>
          <a:prstGeom prst="rect">
            <a:avLst/>
          </a:prstGeom>
          <a:ln w="0">
            <a:noFill/>
          </a:ln>
        </p:spPr>
      </p:sp>
      <p:sp>
        <p:nvSpPr>
          <p:cNvPr id="110"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eekly Loan Schedule File submitted for Participation Purchase Funding Reques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971800" y="549360"/>
            <a:ext cx="3657600" cy="2743200"/>
          </a:xfrm>
          <a:prstGeom prst="rect">
            <a:avLst/>
          </a:prstGeom>
          <a:ln w="0">
            <a:noFill/>
          </a:ln>
        </p:spPr>
      </p:sp>
      <p:sp>
        <p:nvSpPr>
          <p:cNvPr id="112"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day notice of Intent to Sell Loans includes a Projected Loan Schedule of Loans to be sold .   Needed for straight PUT, PUT from a Participation Interest, Loans for each third party lien hold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 will schedule Purchase Date – if doing black-out period the next date will be used or high volume could result in a different da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Within 48 hours of 45 day notice the seller will receive an acknowledgement of receipt with a scheduled purchase date.  Seller will be requested to give servicer contact info, secured lender info if applicable and third party pmt instructions if applicab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Nine Business Days prior to Purchase Date – Seller’s Servicer will provide ED Servicer the Transfer/Conversion File (EA27)  Must be same loans as reported in the 45-day notic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 Servicer will perform eligibility and data integrity edits.  Will contact Seller’s servicer within 3 business days after receipt of conversion file to work out loan eligibility and data exemptions.  If needed – revised sales totals will be calcula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 Servicer will deliver final pre-sale report 6-days prior to Sale. Will include a calculation of final sale purchase price (P&amp;I), return of 1% O-fee and $75 per loan.  Will include detail listing of loans in sa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ler prepare Bill of Sale Documents  5-days prior to Purchase data.  Formal Bill of Sale, Finals Loan Schedule Summary, Loan Schedule, Security Release Certification if applicable and Notice of Assignment and Designation of Payee Financial Institution Form (optional) or a subsequent notification of receipt of funds by the Secured Lend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forms of Bill of sale – those in Loan Participation and those outside a participation (EA 27)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 sale – ED servicer will report to GA loan sales.  GA no longer holds Guaranty. Report to transfer to NSLDS and GAF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971800" y="549360"/>
            <a:ext cx="3657600" cy="2743200"/>
          </a:xfrm>
          <a:prstGeom prst="rect">
            <a:avLst/>
          </a:prstGeom>
          <a:ln w="0">
            <a:noFill/>
          </a:ln>
        </p:spPr>
      </p:sp>
      <p:sp>
        <p:nvSpPr>
          <p:cNvPr id="98"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HR 57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only purchase loans – cannot provide advance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Register is required by sta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 posted on ifap June 24 and final on Jul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971800" y="549360"/>
            <a:ext cx="3657600" cy="2743200"/>
          </a:xfrm>
          <a:prstGeom prst="rect">
            <a:avLst/>
          </a:prstGeom>
          <a:ln w="0">
            <a:noFill/>
          </a:ln>
        </p:spPr>
      </p:sp>
      <p:sp>
        <p:nvSpPr>
          <p:cNvPr id="100"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the FFEL Program as a successful private/public partnershi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971800" y="549360"/>
            <a:ext cx="3657600" cy="2743200"/>
          </a:xfrm>
          <a:prstGeom prst="rect">
            <a:avLst/>
          </a:prstGeom>
          <a:ln w="0">
            <a:noFill/>
          </a:ln>
        </p:spPr>
      </p:sp>
      <p:sp>
        <p:nvSpPr>
          <p:cNvPr id="102"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 commits to purchase participation interests in eligible 2008-2009 FFEL loans through Sept  30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ion occurs when lender repays ED with defined yield through redemption or loan is sold to 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OTH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le loans = FFL sub/ unsub / PLUS.  Loan periods that include or begin on or after July 1, 2008.  First disbursed on or after May , 2008 but no later than July 1, 2009  (NON ELIGIBLE LOANS = CL, LLR, loans with a default claim filed, loans with borrower benefits other than updrom borrower fee payments, off of .25% interest rate reduction for  automatic re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sor must commit to participation at least $50 mm.  Smaller lenders may aggregate with each other or larger lender by transferring tit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971800" y="549360"/>
            <a:ext cx="3657600" cy="2743200"/>
          </a:xfrm>
          <a:prstGeom prst="rect">
            <a:avLst/>
          </a:prstGeom>
          <a:ln w="0">
            <a:noFill/>
          </a:ln>
        </p:spPr>
      </p:sp>
      <p:sp>
        <p:nvSpPr>
          <p:cNvPr id="104"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Announcement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pproved Custodian Electronic Announcement #1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DF472-1C63-4BD4-8B36-142D51D805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2C478E3-CC77-4877-B44D-470C0E133D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4D32F37F-F09B-4233-8407-FF6DF8FAAE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A6BFB1BE-5DA0-4655-AEF4-1F6A9E13F4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2F51A9E-2C0B-4B37-A8E6-6101068DF7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035247C-C943-46DE-B4A6-B7C033AFD0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3650F60-D797-4857-9DE2-5E189AA5F9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883442A-D01E-4241-A04C-5D799CDAD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A88C5F4A-36A7-4996-8624-14A29032AE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D3F77E8-E91D-4602-8D41-ED66373F6F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877BAD2-15D1-4F43-8E04-7E74D67C66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0777EC8-360E-4C25-9F87-41141A78A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C522-722C-40BA-85E6-815AEE1D3C9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Pam.Eliadis@ed.gov" TargetMode="External"/><Relationship Id="rId2" Type="http://schemas.openxmlformats.org/officeDocument/2006/relationships/hyperlink" Target="mailto:Katrina.Turner@ed.gov"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GA-06</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rational Flows &amp; Reporting for New Loan Program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atrina Turne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m Eliadis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FE88-E0AD-4D18-8460-B11F570E94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Operational Flows:  Loan Participation Purchase Program (LPPP)</a:t>
            </a:r>
            <a:endParaRPr b="1" lang="en-US" sz="3600" spc="-1" strike="noStrike">
              <a:solidFill>
                <a:srgbClr val="cc5407"/>
              </a:solidFill>
              <a:latin typeface="Verdana"/>
            </a:endParaRPr>
          </a:p>
        </p:txBody>
      </p:sp>
      <p:sp>
        <p:nvSpPr>
          <p:cNvPr id="6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o participate, each Eligible Lender must have a Notice of Intent to Participate on file with the Department of Education (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ubmit their Master Participation Agreement an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Receive approval from ED</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56A669B-5CE2-427D-B488-97CED16381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457E-CB3A-479F-826D-6B06437681C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Operational Flows:  Master Participation Agreement (LPPP)</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2" name="PlaceHolder 2"/>
          <p:cNvSpPr>
            <a:spLocks noGrp="1"/>
          </p:cNvSpPr>
          <p:nvPr>
            <p:ph/>
          </p:nvPr>
        </p:nvSpPr>
        <p:spPr>
          <a:xfrm>
            <a:off x="304920" y="1523520"/>
            <a:ext cx="7975440" cy="4343400"/>
          </a:xfrm>
          <a:prstGeom prst="rect">
            <a:avLst/>
          </a:prstGeom>
          <a:noFill/>
          <a:ln w="0">
            <a:noFill/>
          </a:ln>
        </p:spPr>
        <p:txBody>
          <a:bodyPr anchor="t">
            <a:normAutofit fontScale="90000"/>
          </a:bodyPr>
          <a:p>
            <a:pPr marL="30852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08520" indent="-3085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Notice of Intent to Participate</a:t>
            </a:r>
            <a:endParaRPr b="0" lang="en-US" sz="3200" spc="-1" strike="noStrike">
              <a:solidFill>
                <a:srgbClr val="000000"/>
              </a:solidFill>
              <a:latin typeface="Verdana"/>
            </a:endParaRPr>
          </a:p>
          <a:p>
            <a:pPr marL="308520" indent="-3085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doption Agreement (Exhibit A)</a:t>
            </a:r>
            <a:endParaRPr b="0" lang="en-US" sz="3200" spc="-1" strike="noStrike">
              <a:solidFill>
                <a:srgbClr val="000000"/>
              </a:solidFill>
              <a:latin typeface="Verdana"/>
            </a:endParaRPr>
          </a:p>
          <a:p>
            <a:pPr marL="308520" indent="-3085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fficer’s Certificate (Exhibit E) which includes the following:</a:t>
            </a:r>
            <a:endParaRPr b="0" lang="en-US" sz="3200" spc="-1" strike="noStrike">
              <a:solidFill>
                <a:srgbClr val="000000"/>
              </a:solidFill>
              <a:latin typeface="Verdana"/>
            </a:endParaRPr>
          </a:p>
          <a:p>
            <a:pPr lvl="1" marL="668520" indent="-257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corporation and by-laws (Attachment I)</a:t>
            </a:r>
            <a:endParaRPr b="0" lang="en-US" sz="3200" spc="-1" strike="noStrike">
              <a:solidFill>
                <a:srgbClr val="000000"/>
              </a:solidFill>
              <a:latin typeface="Verdana"/>
            </a:endParaRPr>
          </a:p>
          <a:p>
            <a:pPr lvl="1" marL="668520" indent="-257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esolutions (Attachment II)</a:t>
            </a:r>
            <a:endParaRPr b="0" lang="en-US" sz="3200" spc="-1" strike="noStrike">
              <a:solidFill>
                <a:srgbClr val="000000"/>
              </a:solidFill>
              <a:latin typeface="Verdana"/>
            </a:endParaRPr>
          </a:p>
          <a:p>
            <a:pPr lvl="1" marL="668520" indent="-257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od Standing of the Sponsor (Attachment III)</a:t>
            </a:r>
            <a:endParaRPr b="0" lang="en-US" sz="3200" spc="-1" strike="noStrike">
              <a:solidFill>
                <a:srgbClr val="000000"/>
              </a:solidFill>
              <a:latin typeface="Verdana"/>
            </a:endParaRPr>
          </a:p>
          <a:p>
            <a:pPr lvl="1" marL="66852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4880B18-C4E6-40FA-B555-8273588FCF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990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Master Participation Agreement  (LPPP)</a:t>
            </a:r>
            <a:endParaRPr b="1" lang="en-US" sz="3600" spc="-1" strike="noStrike">
              <a:solidFill>
                <a:srgbClr val="cc5407"/>
              </a:solidFill>
              <a:latin typeface="Verdana"/>
            </a:endParaRPr>
          </a:p>
        </p:txBody>
      </p:sp>
      <p:sp>
        <p:nvSpPr>
          <p:cNvPr id="74"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inion of Counsel to the Sponsor (Exhibit F</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Monthly Forecasting Report (Option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Initial Funding Request and Amoun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3EBB87D-6FF8-40C9-BE99-23271FE5AD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Loan Purchase Commitment Program (LPCP)</a:t>
            </a:r>
            <a:endParaRPr b="1" lang="en-US" sz="3600" spc="-1" strike="noStrike">
              <a:solidFill>
                <a:srgbClr val="cc5407"/>
              </a:solidFill>
              <a:latin typeface="Verdana"/>
            </a:endParaRPr>
          </a:p>
        </p:txBody>
      </p:sp>
      <p:sp>
        <p:nvSpPr>
          <p:cNvPr id="76"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o participate, each Eligible Lender must have a Notice of Intent to Participate on file with the Department of Education (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ubmit their Master Loan Sales Agreement an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Receive approval from ED</a:t>
            </a:r>
            <a:endParaRPr b="0" lang="en-US" sz="2800" spc="-1" strike="noStrike">
              <a:solidFill>
                <a:srgbClr val="000000"/>
              </a:solidFill>
              <a:latin typeface="Verdana"/>
            </a:endParaRPr>
          </a:p>
          <a:p>
            <a:pPr lvl="1" marL="74304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CE78256-096F-4623-9E58-928E317CF4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cc5407"/>
                </a:solidFill>
                <a:latin typeface="Verdana"/>
              </a:rPr>
              <a:t>Operational Flows:</a:t>
            </a:r>
            <a:r>
              <a:rPr b="1" lang="en-US" sz="3200" spc="-1" strike="noStrike">
                <a:solidFill>
                  <a:srgbClr val="cc5407"/>
                </a:solidFill>
                <a:latin typeface="Verdana"/>
              </a:rPr>
              <a:t>  </a:t>
            </a:r>
            <a:r>
              <a:rPr b="1" lang="en-US" sz="3600" spc="-1" strike="noStrike">
                <a:solidFill>
                  <a:srgbClr val="cc5407"/>
                </a:solidFill>
                <a:latin typeface="Verdana"/>
              </a:rPr>
              <a:t>Master Loan Sales Agreement (LPCP)</a:t>
            </a:r>
            <a:br>
              <a:rPr sz="3600"/>
            </a:b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1000"/>
          </a:bodyPr>
          <a:p>
            <a:pPr marL="31212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Notice of Intent to Participate</a:t>
            </a:r>
            <a:endParaRPr b="0" lang="en-US" sz="2800" spc="-1" strike="noStrike">
              <a:solidFill>
                <a:srgbClr val="000000"/>
              </a:solidFill>
              <a:latin typeface="Verdana"/>
            </a:endParaRPr>
          </a:p>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doption Agreement (Exhibit A)</a:t>
            </a:r>
            <a:endParaRPr b="0" lang="en-US" sz="2800" spc="-1" strike="noStrike">
              <a:solidFill>
                <a:srgbClr val="000000"/>
              </a:solidFill>
              <a:latin typeface="Verdana"/>
            </a:endParaRPr>
          </a:p>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fficer’s Certificate (Exhibit C) which includes the following: </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corporation and by-laws (Attachment I)</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solutions (Attachment II)</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od Standing of the Seller </a:t>
            </a:r>
            <a:endParaRPr b="0" lang="en-US" sz="2800" spc="-1" strike="noStrike">
              <a:solidFill>
                <a:srgbClr val="000000"/>
              </a:solidFill>
              <a:latin typeface="Verdana"/>
            </a:endParaRPr>
          </a:p>
          <a:p>
            <a:pPr lvl="1" marL="676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tachment III)</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inion of Counsel to the Seller </a:t>
            </a:r>
            <a:endParaRPr b="0" lang="en-US" sz="2800" spc="-1" strike="noStrike">
              <a:solidFill>
                <a:srgbClr val="000000"/>
              </a:solidFill>
              <a:latin typeface="Verdana"/>
            </a:endParaRPr>
          </a:p>
          <a:p>
            <a:pPr lvl="1" marL="676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xhibit 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B0FB7DF-218A-4F26-9990-D71D135A49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761760"/>
            <a:ext cx="8458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Intake and Approval Process of the Custodian  and Agreements</a:t>
            </a:r>
            <a:endParaRPr b="1" lang="en-US" sz="3600" spc="-1" strike="noStrike">
              <a:solidFill>
                <a:srgbClr val="cc5407"/>
              </a:solidFill>
              <a:latin typeface="Verdana"/>
            </a:endParaRPr>
          </a:p>
        </p:txBody>
      </p:sp>
      <p:sp>
        <p:nvSpPr>
          <p:cNvPr id="80"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ake Proces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 of submission of all required docu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est for additional documents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applic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ance of Custodian LI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732A2CF-642C-44C8-B5AD-F6DFC4D1EA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Operational Flows:  </a:t>
            </a:r>
            <a:r>
              <a:rPr b="1" lang="en-US" sz="3600" spc="-1" strike="noStrike">
                <a:solidFill>
                  <a:srgbClr val="cc5407"/>
                </a:solidFill>
                <a:latin typeface="Verdana"/>
              </a:rPr>
              <a:t>Intake and Approval Process of the Custodian and Agreements</a:t>
            </a:r>
            <a:endParaRPr b="1" lang="en-US" sz="3600" spc="-1" strike="noStrike">
              <a:solidFill>
                <a:srgbClr val="cc5407"/>
              </a:solidFill>
              <a:latin typeface="Verdana"/>
            </a:endParaRPr>
          </a:p>
        </p:txBody>
      </p:sp>
      <p:sp>
        <p:nvSpPr>
          <p:cNvPr id="82" name="PlaceHolder 2"/>
          <p:cNvSpPr>
            <a:spLocks noGrp="1"/>
          </p:cNvSpPr>
          <p:nvPr>
            <p:ph/>
          </p:nvPr>
        </p:nvSpPr>
        <p:spPr>
          <a:xfrm>
            <a:off x="304920" y="2209680"/>
            <a:ext cx="8534160" cy="36576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to Sponsor, Custodian and Seller of the Department’s approval of their agreement packag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ed executed Adoption agreement is sent via FEDEX to Sponsor, Custodian and or Selle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7814C80-6641-457F-A3F1-91DB9F79F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83822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Operational Flows:  Lender of Last Resort (LLR) for GA’s</a:t>
            </a:r>
            <a:endParaRPr b="1" lang="en-US" sz="3600" spc="-1" strike="noStrike">
              <a:solidFill>
                <a:srgbClr val="cc5407"/>
              </a:solidFill>
              <a:latin typeface="Verdana"/>
            </a:endParaRPr>
          </a:p>
        </p:txBody>
      </p:sp>
      <p:sp>
        <p:nvSpPr>
          <p:cNvPr id="84" name="PlaceHolder 2"/>
          <p:cNvSpPr>
            <a:spLocks noGrp="1"/>
          </p:cNvSpPr>
          <p:nvPr>
            <p:ph/>
          </p:nvPr>
        </p:nvSpPr>
        <p:spPr>
          <a:xfrm>
            <a:off x="-360" y="2590560"/>
            <a:ext cx="8534520" cy="38862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articipate each GA must submit an LLR Agreement to ED Agenc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 may request an LLR LID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1F94E43-99B8-4DC9-AEB3-C2C564B878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cc5407"/>
                </a:solidFill>
                <a:latin typeface="Verdana"/>
              </a:rPr>
              <a:t>Compliance Audit:  Lenders Participating in the Loan Participation Purchase Program</a:t>
            </a:r>
            <a:br>
              <a:rPr sz="3600"/>
            </a:br>
            <a:endParaRPr b="1" lang="en-US" sz="3600" spc="-1" strike="noStrike">
              <a:solidFill>
                <a:srgbClr val="cc5407"/>
              </a:solidFill>
              <a:latin typeface="Verdana"/>
            </a:endParaRPr>
          </a:p>
        </p:txBody>
      </p:sp>
      <p:sp>
        <p:nvSpPr>
          <p:cNvPr id="86" name="PlaceHolder 2"/>
          <p:cNvSpPr>
            <a:spLocks noGrp="1"/>
          </p:cNvSpPr>
          <p:nvPr>
            <p:ph/>
          </p:nvPr>
        </p:nvSpPr>
        <p:spPr>
          <a:xfrm>
            <a:off x="228240" y="2514240"/>
            <a:ext cx="8534520" cy="39625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ty: Section 8(a)(5) of the Master Participation Agreement (MP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 Type: Due Diligence Aud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 Guide: Agreed Upon Procedures Attestation Engagement Guide issued October 17, 2008 by ED OIG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9E46136-089D-4E47-9C76-44D8E89CA1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Reporting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8"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articipation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ekly Loan Sche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End Loan Sche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gov Remittance Activity</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Reporting</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78671B3-99A0-4EF0-8627-2712381993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Goals and Backgroun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al Flow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articipation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urchas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of Last Resor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Aud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al Report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9F329EF-B8D3-4E18-B580-A4D9EECE7D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Reporting</a:t>
            </a:r>
            <a:endParaRPr b="1" lang="en-US" sz="3600" spc="-1" strike="noStrike">
              <a:solidFill>
                <a:srgbClr val="cc5407"/>
              </a:solidFill>
              <a:latin typeface="Verdana"/>
            </a:endParaRPr>
          </a:p>
        </p:txBody>
      </p:sp>
      <p:sp>
        <p:nvSpPr>
          <p:cNvPr id="90"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urchas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 Day Notice of Intent to Se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Transfer/Conversion Fi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Pre-Sale Repor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ll of Sale and Documentation</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ders/Sponsors in Loan Participa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ly from Lender</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Servicer report to Guaranty Agenc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Reporting</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E3AFEC9-1E2C-4D79-BA3E-FDDECA000D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2"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federalstudentaid.ed.gov/ffelp</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ina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amp;A’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Announce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reement Document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ed.gov/about/offices/list/oig/nonfed/sfa.html</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IG Audit Guide for Lenders Participating in LPPP</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1F29EE4-EB76-4EB6-9BD1-A74C0BA20F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estions??</a:t>
            </a:r>
            <a:endParaRPr b="1" lang="en-US" sz="3600" spc="-1" strike="noStrike">
              <a:solidFill>
                <a:srgbClr val="cc5407"/>
              </a:solidFill>
              <a:latin typeface="Verdana"/>
            </a:endParaRPr>
          </a:p>
        </p:txBody>
      </p:sp>
      <p:sp>
        <p:nvSpPr>
          <p:cNvPr id="9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6E674A2-EC61-4E7A-B6E5-B57A1596DD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96" name=""/>
          <p:cNvSpPr/>
          <p:nvPr/>
        </p:nvSpPr>
        <p:spPr>
          <a:xfrm>
            <a:off x="533520" y="1447920"/>
            <a:ext cx="716256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Pam 202-377-3554</a:t>
            </a:r>
            <a:endParaRPr b="0" lang="en-US" sz="2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atrina 202-377-3311</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Pam.Eliadis@ed.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99"/>
                </a:solidFill>
                <a:uFillTx/>
                <a:latin typeface="Verdana"/>
                <a:hlinkClick r:id="rId2"/>
              </a:rPr>
              <a:t>Katrina.Turner@ed.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A962F32-29C2-45F7-91B6-7D9689F5C9C4}"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Goals and Background</a:t>
            </a:r>
            <a:endParaRPr b="1" lang="en-US" sz="3600" spc="-1" strike="noStrike">
              <a:solidFill>
                <a:srgbClr val="cc5407"/>
              </a:solidFill>
              <a:latin typeface="Verdana"/>
            </a:endParaRPr>
          </a:p>
        </p:txBody>
      </p:sp>
      <p:sp>
        <p:nvSpPr>
          <p:cNvPr id="54"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ing Continuing Access to Student Loans Act of 2008 (ECASL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ed May 7, 2008</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Register July 1,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d Secretary authority to purchase FFEL lo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engthened GA Lender of Last Resort Progr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F3F8EC6-07D1-4774-8D1A-EF25916BD7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Goals and Background</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SLA Objectiv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that eligible students and parents receive federal student loans for the 2008-2009 academic ye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 the FFEL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no net cost to the federal govern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6997C10-C27A-4C70-893A-B53572C0D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Program Goals and Background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articipation Purchas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to purchase “participation interests” in eligible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provides liquid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tion interest terminates 9/30/09 via</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emption by Lende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ld to 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801D50E-4655-4D02-8230-9800ACDD2C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Program Goals and Background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0"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urchase Commitment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to purchase eligible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led “p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fully disburs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day advance notice</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9B11AAE-39E9-4103-9474-2BF9C7E659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Goals and Background</a:t>
            </a:r>
            <a:endParaRPr b="1" lang="en-US" sz="3600" spc="-1" strike="noStrike">
              <a:solidFill>
                <a:srgbClr val="cc5407"/>
              </a:solidFill>
              <a:latin typeface="Verdana"/>
            </a:endParaRPr>
          </a:p>
        </p:txBody>
      </p:sp>
      <p:sp>
        <p:nvSpPr>
          <p:cNvPr id="62"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of Last Resort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engthen current LLR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 </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ed by GA</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Advances</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6D601F5-1837-44F1-B9FC-24813FA4DA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Operational Flows:  Approval of Custodian</a:t>
            </a:r>
            <a:endParaRPr b="1" lang="en-US" sz="3600" spc="-1" strike="noStrike">
              <a:solidFill>
                <a:srgbClr val="cc5407"/>
              </a:solidFill>
              <a:latin typeface="Verdana"/>
            </a:endParaRPr>
          </a:p>
        </p:txBody>
      </p:sp>
      <p:sp>
        <p:nvSpPr>
          <p:cNvPr id="64"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fontScale="96000"/>
          </a:bodyPr>
          <a:p>
            <a:pPr marL="329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r’s Certificate </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Key Personnel, Title, Years of Service and Credential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nk’s Most recent SAS70</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y of the SEC Regulation AB report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ption of current trust activitie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ies of the Bank’s Errors and omissions policy and its fidelity bond</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ption of Disaster Recovery</a:t>
            </a:r>
            <a:endParaRPr b="0" lang="en-US" sz="2800" spc="-1" strike="noStrike">
              <a:solidFill>
                <a:srgbClr val="000000"/>
              </a:solidFill>
              <a:latin typeface="Verdana"/>
            </a:endParaRPr>
          </a:p>
          <a:p>
            <a:pPr marL="329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9728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5B31ACE-6CA3-4E8F-ABC5-09EB97E673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Approval of Custodian</a:t>
            </a:r>
            <a:endParaRPr b="1" lang="en-US" sz="3600" spc="-1" strike="noStrike">
              <a:solidFill>
                <a:srgbClr val="cc5407"/>
              </a:solidFill>
              <a:latin typeface="Verdana"/>
            </a:endParaRPr>
          </a:p>
        </p:txBody>
      </p:sp>
      <p:sp>
        <p:nvSpPr>
          <p:cNvPr id="6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EIN and all affiliates names and CEO’s  phone numb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all existing LI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recent audited Financial Statemen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A883593-71AF-4683-8849-52B1998695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7:41:53Z</dcterms:modified>
  <cp:revision>239</cp:revision>
  <dc:subject/>
  <dc:title>PowerPoint Presentation</dc:title>
</cp:coreProperties>
</file>