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32B1C7-F6D4-4360-9EED-ECB2968FD9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971800" y="549360"/>
            <a:ext cx="3659040" cy="2744640"/>
          </a:xfrm>
          <a:prstGeom prst="rect">
            <a:avLst/>
          </a:prstGeom>
          <a:ln w="0">
            <a:noFill/>
          </a:ln>
        </p:spPr>
      </p:sp>
      <p:sp>
        <p:nvSpPr>
          <p:cNvPr id="21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971800" y="549360"/>
            <a:ext cx="3659040" cy="2744640"/>
          </a:xfrm>
          <a:prstGeom prst="rect">
            <a:avLst/>
          </a:prstGeom>
          <a:ln w="0">
            <a:noFill/>
          </a:ln>
        </p:spPr>
      </p:sp>
      <p:sp>
        <p:nvSpPr>
          <p:cNvPr id="21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71800" y="549360"/>
            <a:ext cx="3659040" cy="2744640"/>
          </a:xfrm>
          <a:prstGeom prst="rect">
            <a:avLst/>
          </a:prstGeom>
          <a:ln w="0">
            <a:noFill/>
          </a:ln>
        </p:spPr>
      </p:sp>
      <p:sp>
        <p:nvSpPr>
          <p:cNvPr id="21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971800" y="549360"/>
            <a:ext cx="3659040" cy="2744640"/>
          </a:xfrm>
          <a:prstGeom prst="rect">
            <a:avLst/>
          </a:prstGeom>
          <a:ln w="0">
            <a:noFill/>
          </a:ln>
        </p:spPr>
      </p:sp>
      <p:sp>
        <p:nvSpPr>
          <p:cNvPr id="21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971800" y="549360"/>
            <a:ext cx="3659040" cy="2744640"/>
          </a:xfrm>
          <a:prstGeom prst="rect">
            <a:avLst/>
          </a:prstGeom>
          <a:ln w="0">
            <a:noFill/>
          </a:ln>
        </p:spPr>
      </p:sp>
      <p:sp>
        <p:nvSpPr>
          <p:cNvPr id="22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971800" y="549360"/>
            <a:ext cx="3659040" cy="2744640"/>
          </a:xfrm>
          <a:prstGeom prst="rect">
            <a:avLst/>
          </a:prstGeom>
          <a:ln w="0">
            <a:noFill/>
          </a:ln>
        </p:spPr>
      </p:sp>
      <p:sp>
        <p:nvSpPr>
          <p:cNvPr id="22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971800" y="549360"/>
            <a:ext cx="3659040" cy="2744640"/>
          </a:xfrm>
          <a:prstGeom prst="rect">
            <a:avLst/>
          </a:prstGeom>
          <a:ln w="0">
            <a:noFill/>
          </a:ln>
        </p:spPr>
      </p:sp>
      <p:sp>
        <p:nvSpPr>
          <p:cNvPr id="22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971800" y="549360"/>
            <a:ext cx="3659040" cy="2744640"/>
          </a:xfrm>
          <a:prstGeom prst="rect">
            <a:avLst/>
          </a:prstGeom>
          <a:ln w="0">
            <a:noFill/>
          </a:ln>
        </p:spPr>
      </p:sp>
      <p:sp>
        <p:nvSpPr>
          <p:cNvPr id="22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971800" y="549360"/>
            <a:ext cx="3659040" cy="2744640"/>
          </a:xfrm>
          <a:prstGeom prst="rect">
            <a:avLst/>
          </a:prstGeom>
          <a:ln w="0">
            <a:noFill/>
          </a:ln>
        </p:spPr>
      </p:sp>
      <p:sp>
        <p:nvSpPr>
          <p:cNvPr id="22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6E3C9-65B1-4ED5-9E0A-8416F4F9A5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22DB4CA-5A50-4D11-B421-7BB52AA768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1C98DD64-EE9E-47A2-8089-2044166F5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BCA9F016-E724-4DD0-A18B-35A0C530BD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A1A882C-ECA1-4EEB-AD41-0BDEBE7DE5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FEE4CF3-8DC4-435D-AE59-97D9B2999F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39C55A5-495F-4C19-8A7A-67065670F3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3540301-AF55-4BE8-8F2F-8242A8E7C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8EA9A58F-E65B-4110-88A1-7B4962F355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B6E7527-76E9-4C24-A4F2-3E15F5338F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EB2ABEC-9CED-4705-B62B-719093B1DC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B81D92F-E6D3-4536-A8A2-7A80F109D8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F9B6-0D0E-43EE-87E6-B126B254871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ifap.ed.gov/"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GA-04</a:t>
            </a:r>
            <a:endParaRPr b="1" lang="en-US" sz="3600" spc="-1" strike="noStrike">
              <a:solidFill>
                <a:srgbClr val="cc5407"/>
              </a:solidFill>
              <a:latin typeface="Verdana"/>
            </a:endParaRPr>
          </a:p>
        </p:txBody>
      </p:sp>
      <p:sp>
        <p:nvSpPr>
          <p:cNvPr id="51"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s New for Guaranty Agencies and Lender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amela Mor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a:t>
            </a:r>
            <a:endParaRPr b="1" lang="en-US" sz="3600" spc="-1" strike="noStrike">
              <a:solidFill>
                <a:srgbClr val="cc5407"/>
              </a:solidFill>
              <a:latin typeface="Verdana"/>
            </a:endParaRPr>
          </a:p>
        </p:txBody>
      </p:sp>
      <p:sp>
        <p:nvSpPr>
          <p:cNvPr id="69" name="PlaceHolder 2"/>
          <p:cNvSpPr>
            <a:spLocks noGrp="1"/>
          </p:cNvSpPr>
          <p:nvPr>
            <p:ph/>
          </p:nvPr>
        </p:nvSpPr>
        <p:spPr>
          <a:xfrm>
            <a:off x="457200" y="1752480"/>
            <a:ext cx="868680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duced FFEL/DL Interest Rates for Undergrad Subsidiz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Income-Based Repayment Plan –FFEL/D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Public Service Loan Forgiveness - DL</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7F3C877-45C4-41B5-A7E8-FFBB06786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a:t>
            </a:r>
            <a:endParaRPr b="1" lang="en-US" sz="3600" spc="-1" strike="noStrike">
              <a:solidFill>
                <a:srgbClr val="cc5407"/>
              </a:solidFill>
              <a:latin typeface="Verdana"/>
            </a:endParaRPr>
          </a:p>
        </p:txBody>
      </p:sp>
      <p:sp>
        <p:nvSpPr>
          <p:cNvPr id="71" name="PlaceHolder 2"/>
          <p:cNvSpPr>
            <a:spLocks noGrp="1"/>
          </p:cNvSpPr>
          <p:nvPr>
            <p:ph/>
          </p:nvPr>
        </p:nvSpPr>
        <p:spPr>
          <a:xfrm>
            <a:off x="685800" y="1904760"/>
            <a:ext cx="8153280" cy="41907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sed Defermen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conomic Hardship – Changed Eligibility Standards</a:t>
            </a:r>
            <a:endParaRPr b="0" lang="en-US" sz="3200" spc="-1" strike="noStrike">
              <a:solidFill>
                <a:srgbClr val="000000"/>
              </a:solidFill>
              <a:latin typeface="Verdana"/>
            </a:endParaRPr>
          </a:p>
          <a:p>
            <a:pPr lvl="1" marL="743040" indent="-28584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litary Service Expanded and Post-Active Duty Added</a:t>
            </a:r>
            <a:r>
              <a:rPr b="0" lang="en-US" sz="4000" spc="-1" strike="noStrike">
                <a:solidFill>
                  <a:srgbClr val="000000"/>
                </a:solidFill>
                <a:latin typeface="Verdana"/>
              </a:rPr>
              <a:t> </a:t>
            </a: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CDDA9D0E-44A4-4AC4-8BE2-46D4047E83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a:t>
            </a:r>
            <a:endParaRPr b="1" lang="en-US" sz="3600" spc="-1" strike="noStrike">
              <a:solidFill>
                <a:srgbClr val="cc5407"/>
              </a:solidFill>
              <a:latin typeface="Verdana"/>
            </a:endParaRPr>
          </a:p>
        </p:txBody>
      </p:sp>
      <p:sp>
        <p:nvSpPr>
          <p:cNvPr id="73" name="PlaceHolder 2"/>
          <p:cNvSpPr>
            <a:spLocks noGrp="1"/>
          </p:cNvSpPr>
          <p:nvPr>
            <p:ph/>
          </p:nvPr>
        </p:nvSpPr>
        <p:spPr>
          <a:xfrm>
            <a:off x="457200" y="1828800"/>
            <a:ext cx="8153280" cy="3657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Offse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ional Performer Status Eliminat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urance Reduc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ees Increas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Allowance Payments Reduced</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Auction for PLUS (First-time Parent PLU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DD04B48-B20A-42F7-A659-A3575CEF2E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a:t>
            </a:r>
            <a:endParaRPr b="1" lang="en-US" sz="3600" spc="-1" strike="noStrike">
              <a:solidFill>
                <a:srgbClr val="cc5407"/>
              </a:solidFill>
              <a:latin typeface="Verdana"/>
            </a:endParaRPr>
          </a:p>
        </p:txBody>
      </p:sp>
      <p:sp>
        <p:nvSpPr>
          <p:cNvPr id="75" name="PlaceHolder 2"/>
          <p:cNvSpPr>
            <a:spLocks noGrp="1"/>
          </p:cNvSpPr>
          <p:nvPr>
            <p:ph/>
          </p:nvPr>
        </p:nvSpPr>
        <p:spPr>
          <a:xfrm>
            <a:off x="457200" y="1828800"/>
            <a:ext cx="8153280" cy="36576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y Agency (Offsets):</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ion Retention Allowance Reduced</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ount Maintenance Fee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A7D121D-8A15-48A7-B23F-C8A16FFE1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77" name="PlaceHolder 2"/>
          <p:cNvSpPr>
            <a:spLocks noGrp="1"/>
          </p:cNvSpPr>
          <p:nvPr>
            <p:ph/>
          </p:nvPr>
        </p:nvSpPr>
        <p:spPr>
          <a:xfrm>
            <a:off x="609120" y="2133360"/>
            <a:ext cx="8153640" cy="34290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d FFEL/DL Annual and Aggregate Loan Limit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PLUS Grace Period/Relief</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B7F84C3-7CB7-46C3-8A8D-4523BCB028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79" name="PlaceHolder 2"/>
          <p:cNvSpPr>
            <a:spLocks noGrp="1"/>
          </p:cNvSpPr>
          <p:nvPr>
            <p:ph/>
          </p:nvPr>
        </p:nvSpPr>
        <p:spPr>
          <a:xfrm>
            <a:off x="609120" y="1294920"/>
            <a:ext cx="8153640" cy="40388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of-Last Resort Authority Enhanced</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Granted Authority to Purchase Loans and Participation Interest in Loans to ensure FFEL loan acces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0AF78F2-EAB2-4F3E-8FC6-94188B972E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1" name="PlaceHolder 2"/>
          <p:cNvSpPr>
            <a:spLocks noGrp="1"/>
          </p:cNvSpPr>
          <p:nvPr>
            <p:ph/>
          </p:nvPr>
        </p:nvSpPr>
        <p:spPr>
          <a:xfrm>
            <a:off x="609120" y="1447560"/>
            <a:ext cx="8153640" cy="3429000"/>
          </a:xfrm>
          <a:prstGeom prst="rect">
            <a:avLst/>
          </a:prstGeom>
          <a:noFill/>
          <a:ln w="0">
            <a:noFill/>
          </a:ln>
        </p:spPr>
        <p:txBody>
          <a:bodyPr lIns="90000" rIns="90000" tIns="46800" bIns="46800" anchor="t">
            <a:normAutofit fontScale="95000"/>
          </a:bodyPr>
          <a:p>
            <a:pPr marL="32580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 </a:t>
            </a:r>
            <a:endParaRPr b="0" lang="en-US" sz="3200" spc="-1" strike="noStrike">
              <a:solidFill>
                <a:srgbClr val="000000"/>
              </a:solidFill>
              <a:latin typeface="Verdana"/>
            </a:endParaRPr>
          </a:p>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2,000 annual Unsub Stafford loan amount for dependent undergraduate students</a:t>
            </a:r>
            <a:endParaRPr b="0" lang="en-US" sz="2800" spc="-1" strike="noStrike">
              <a:solidFill>
                <a:srgbClr val="000000"/>
              </a:solidFill>
              <a:latin typeface="Verdana"/>
            </a:endParaRPr>
          </a:p>
          <a:p>
            <a:pPr marL="325800" indent="-3258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2,000 Unsub Stafford annual loan amount for dependents with no PLUS, independent undergrads, and for non-degree preparatory coursework for undergrad  programs</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413F0D1-BACE-4E77-A45F-5A33FA562D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3" name="PlaceHolder 2"/>
          <p:cNvSpPr>
            <a:spLocks noGrp="1"/>
          </p:cNvSpPr>
          <p:nvPr>
            <p:ph/>
          </p:nvPr>
        </p:nvSpPr>
        <p:spPr>
          <a:xfrm>
            <a:off x="609120" y="1752480"/>
            <a:ext cx="8153640" cy="37339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 unchanged</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000 Additional Unsub Stafford for non-degree preparatory coursework for grad/professional program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000 Additional Unsub Stafford for non-degree teacher certification coursework</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171F8FE-39F9-446C-A7F0-8AF987165F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5" name="PlaceHolder 2"/>
          <p:cNvSpPr>
            <a:spLocks noGrp="1"/>
          </p:cNvSpPr>
          <p:nvPr>
            <p:ph/>
          </p:nvPr>
        </p:nvSpPr>
        <p:spPr>
          <a:xfrm>
            <a:off x="685800" y="1600200"/>
            <a:ext cx="8153280" cy="37339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 </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total for dependent undergrads from $23,000 to $31,000 (no more than $23,000 subsidiz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total for independent undergraduate students from $46,000 to $57,500 (no more that $23,000 subsidiz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CDF30B9-265F-4C80-874F-27476E7029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7" name="PlaceHolder 2"/>
          <p:cNvSpPr>
            <a:spLocks noGrp="1"/>
          </p:cNvSpPr>
          <p:nvPr>
            <p:ph/>
          </p:nvPr>
        </p:nvSpPr>
        <p:spPr>
          <a:xfrm>
            <a:off x="609120" y="1904760"/>
            <a:ext cx="8153640" cy="3429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gregate total for graduate/professional remains at $138,500 (no more than $65,000 subsidiz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9811E57-BF4C-42AD-8CB6-D9B336E001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3" name="PlaceHolder 2"/>
          <p:cNvSpPr>
            <a:spLocks noGrp="1"/>
          </p:cNvSpPr>
          <p:nvPr>
            <p:ph/>
          </p:nvPr>
        </p:nvSpPr>
        <p:spPr>
          <a:xfrm>
            <a:off x="304920" y="2285640"/>
            <a:ext cx="8208720" cy="3352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gislation Updat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Access Initiatives</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ulations Update</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012AD81-9ED3-4797-8D72-BD37FD9574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9" name="PlaceHolder 2"/>
          <p:cNvSpPr>
            <a:spLocks noGrp="1"/>
          </p:cNvSpPr>
          <p:nvPr>
            <p:ph/>
          </p:nvPr>
        </p:nvSpPr>
        <p:spPr>
          <a:xfrm>
            <a:off x="609120" y="1599840"/>
            <a:ext cx="8153640" cy="34290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US Loan Changes - </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onal delayed repayment start date for parent PLUS borrowers based on dependent’s enrollment stat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tenuating circumstances for PLUS adverse credit may include delinquency of up to 180 days on mortgage or medical bill paymen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57BC6F0-25B1-4DDA-AC9F-0D00ED5FB6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 Loan Access Initiatives</a:t>
            </a:r>
            <a:endParaRPr b="1" lang="en-US" sz="3600" spc="-1" strike="noStrike">
              <a:solidFill>
                <a:srgbClr val="cc5407"/>
              </a:solidFill>
              <a:latin typeface="Verdana"/>
            </a:endParaRPr>
          </a:p>
        </p:txBody>
      </p:sp>
      <p:sp>
        <p:nvSpPr>
          <p:cNvPr id="91" name="PlaceHolder 2"/>
          <p:cNvSpPr>
            <a:spLocks noGrp="1"/>
          </p:cNvSpPr>
          <p:nvPr>
            <p:ph/>
          </p:nvPr>
        </p:nvSpPr>
        <p:spPr>
          <a:xfrm>
            <a:off x="609120" y="1600200"/>
            <a:ext cx="8153640" cy="373392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Lender-of-Last-Resort -</a:t>
            </a:r>
            <a:endParaRPr b="0" lang="en-US" sz="36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dates LLR coverage for all loan types –</a:t>
            </a:r>
            <a:r>
              <a:rPr b="0" lang="en-US" sz="2400" spc="-1" strike="noStrike">
                <a:solidFill>
                  <a:srgbClr val="000000"/>
                </a:solidFill>
                <a:latin typeface="Verdana"/>
              </a:rPr>
              <a:t> </a:t>
            </a:r>
            <a:r>
              <a:rPr b="0" lang="en-US" sz="2800" spc="-1" strike="noStrike">
                <a:solidFill>
                  <a:srgbClr val="000000"/>
                </a:solidFill>
                <a:latin typeface="Verdana"/>
              </a:rPr>
              <a:t>Subsidized and Unsubsidized Stafford and PLUS for parents and graduate/professional stud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institutional designation for LLR through June 30, 2009</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FCF6259-AE6E-41CC-ABF7-73F1FC1244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3" name="PlaceHolder 2"/>
          <p:cNvSpPr>
            <a:spLocks noGrp="1"/>
          </p:cNvSpPr>
          <p:nvPr>
            <p:ph/>
          </p:nvPr>
        </p:nvSpPr>
        <p:spPr>
          <a:xfrm>
            <a:off x="609120" y="1904760"/>
            <a:ext cx="8153640" cy="34290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FFEL Loan Purchase Authority -  </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rms and conditions established by the Secretary in consultation with Treasury and OM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produce no “net” cost to the Federal governmen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no advance funding for lend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91A0AB4-74BF-491F-9B4F-C78777D6D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Purchase Commitment Program -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Commitment to purchase eligible 2008-2009 FFEL loans through September 30, 2009 from any FFEL lender/holder</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 must be fully disbursed to be purchas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5-day advance notice from lender of loans to be sol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BB75D4B-F74F-4244-98FE-9AB14B510D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Participation Purchase Program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Commitment to purchase “participation interests” in eligible 2008-2009 FFEL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rchase provides liquidity to lend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terminate ED interest, lender repays ED by redeeming loans or selling them to 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15C800C-E44D-449A-9935-F2EB15637F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9" name="PlaceHolder 2"/>
          <p:cNvSpPr>
            <a:spLocks noGrp="1"/>
          </p:cNvSpPr>
          <p:nvPr>
            <p:ph/>
          </p:nvPr>
        </p:nvSpPr>
        <p:spPr>
          <a:xfrm>
            <a:off x="609120" y="1600200"/>
            <a:ext cx="8153640" cy="373392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Go to </a:t>
            </a:r>
            <a:r>
              <a:rPr b="0" lang="en-US" sz="3200" spc="-1" strike="noStrike" u="sng">
                <a:solidFill>
                  <a:srgbClr val="000099"/>
                </a:solidFill>
                <a:uFillTx/>
                <a:latin typeface="Verdana"/>
                <a:hlinkClick r:id="rId1"/>
              </a:rPr>
              <a:t>www.ifap.ed.gov</a:t>
            </a:r>
            <a:r>
              <a:rPr b="0" lang="en-US" sz="3200" spc="-1" strike="noStrike">
                <a:solidFill>
                  <a:srgbClr val="000000"/>
                </a:solidFill>
                <a:latin typeface="Verdana"/>
              </a:rPr>
              <a:t> and hit ECASLA link for ECASLA DCLs and Legislative and Legal Notices, Electronic Announcements, and Implementation Webinars on Loan Purchase Program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FC93884-0947-4DA7-B0FE-92847635EC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R 6889- Loan Access Initiatives</a:t>
            </a:r>
            <a:endParaRPr b="1" lang="en-US" sz="3600" spc="-1" strike="noStrike">
              <a:solidFill>
                <a:srgbClr val="cc5407"/>
              </a:solidFill>
              <a:latin typeface="Verdana"/>
            </a:endParaRPr>
          </a:p>
        </p:txBody>
      </p:sp>
      <p:sp>
        <p:nvSpPr>
          <p:cNvPr id="101" name="PlaceHolder 2"/>
          <p:cNvSpPr>
            <a:spLocks noGrp="1"/>
          </p:cNvSpPr>
          <p:nvPr>
            <p:ph/>
          </p:nvPr>
        </p:nvSpPr>
        <p:spPr>
          <a:xfrm>
            <a:off x="609120" y="1904760"/>
            <a:ext cx="8153640" cy="3429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Extends Loan Purchase Programs through 2009-2010 academic year</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BCBC19F-3807-4B46-8253-F383FEF320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igher Education Opportunity Act (HEOA)</a:t>
            </a:r>
            <a:br>
              <a:rPr sz="3600"/>
            </a:br>
            <a:r>
              <a:rPr b="1" lang="en-US" sz="3600" spc="-1" strike="noStrike">
                <a:solidFill>
                  <a:srgbClr val="cc5407"/>
                </a:solidFill>
                <a:latin typeface="Verdana"/>
              </a:rPr>
              <a:t>  Reauthorization of the HEA</a:t>
            </a:r>
            <a:endParaRPr b="1" lang="en-US" sz="3600" spc="-1" strike="noStrike">
              <a:solidFill>
                <a:srgbClr val="cc5407"/>
              </a:solidFill>
              <a:latin typeface="Verdana"/>
            </a:endParaRPr>
          </a:p>
        </p:txBody>
      </p:sp>
      <p:sp>
        <p:nvSpPr>
          <p:cNvPr id="103" name="PlaceHolder 2"/>
          <p:cNvSpPr>
            <a:spLocks noGrp="1"/>
          </p:cNvSpPr>
          <p:nvPr>
            <p:ph/>
          </p:nvPr>
        </p:nvSpPr>
        <p:spPr>
          <a:xfrm>
            <a:off x="304920" y="19807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gned into law August 14, 2008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uthority for insurance of FFEL loans and to make Consolidation Loans extended to 2014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sions effective August 14, 2008, unless otherwise specifie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F94C7F3-A65F-46EA-8F6E-47082AC749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OA -Implementation</a:t>
            </a:r>
            <a:endParaRPr b="1" lang="en-US" sz="4000" spc="-1" strike="noStrike">
              <a:solidFill>
                <a:srgbClr val="cc5407"/>
              </a:solidFill>
              <a:latin typeface="Verdana"/>
            </a:endParaRPr>
          </a:p>
        </p:txBody>
      </p:sp>
      <p:sp>
        <p:nvSpPr>
          <p:cNvPr id="1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 Hearings Concluded 10/15/09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tice Announcing Formation of Committees and Soliciting Nominations for Non-Federal Negotiators – 11/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ittees Established - 12/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gotiations – 2/09 – 4/09</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B279CAF-7A98-4FEA-B3B6-C32FC2D280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Implementation  </a:t>
            </a:r>
            <a:endParaRPr b="1" lang="en-US" sz="3600" spc="-1" strike="noStrike">
              <a:solidFill>
                <a:srgbClr val="cc5407"/>
              </a:solidFill>
              <a:latin typeface="Verdana"/>
            </a:endParaRPr>
          </a:p>
        </p:txBody>
      </p:sp>
      <p:sp>
        <p:nvSpPr>
          <p:cNvPr id="107" name="PlaceHolder 2"/>
          <p:cNvSpPr>
            <a:spLocks noGrp="1"/>
          </p:cNvSpPr>
          <p:nvPr>
            <p:ph/>
          </p:nvPr>
        </p:nvSpPr>
        <p:spPr>
          <a:xfrm>
            <a:off x="380880" y="1676160"/>
            <a:ext cx="8763120" cy="38862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repared/Cleared by OMB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4/09-7/09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ublished - 8/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 Period Ends – 9/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egulations Prepared/Cleared by OMB –</a:t>
            </a:r>
            <a:r>
              <a:rPr b="0" lang="en-US" sz="3200" spc="-1" strike="noStrike">
                <a:solidFill>
                  <a:srgbClr val="000000"/>
                </a:solidFill>
                <a:latin typeface="Verdana"/>
              </a:rPr>
              <a:t>	</a:t>
            </a:r>
            <a:r>
              <a:rPr b="0" lang="en-US" sz="3200" spc="-1" strike="noStrike">
                <a:solidFill>
                  <a:srgbClr val="000000"/>
                </a:solidFill>
                <a:latin typeface="Verdana"/>
              </a:rPr>
              <a:t>9/09-10/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egulations Published – 11/1/09</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11E4FD0-68B2-4382-A979-7F0A28A6AE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70000" contrast="-70000"/>
          </a:blip>
          <a:stretch/>
        </p:blipFill>
        <p:spPr>
          <a:xfrm>
            <a:off x="1851120" y="852480"/>
            <a:ext cx="5387760" cy="5219640"/>
          </a:xfrm>
          <a:prstGeom prst="rect">
            <a:avLst/>
          </a:prstGeom>
          <a:ln w="0">
            <a:noFill/>
          </a:ln>
        </p:spPr>
      </p:pic>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0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forbearance disclosures for forbearances on or after August 14, 2008:</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f capitalization as interest and total interest for life of loa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ct every 180 days regarding capitalization and options to pay accruing interest or end forbearanc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44B2F86-E93E-41C1-9AFE-3881641561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methods of granting in-school deferment includes confirmation of borrower’s enrollment status using NSLDS, if requested by school</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d borrower notice upon loan transfer, sale, or assignment must include date of transfer and date new servicer will accept pay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81A78DA-9D28-4516-8099-6F879D2EDF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y Agency default notice for claims received on or after August 14, 2008:</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wo separate notices to borrow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mple and understandable term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ons to exit default and related costs and condition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66BA4A0-A6A0-424F-AF2A-4D16D887FB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aulted Loan Rehabilitation Consumer Credit Reporting:</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es to GA and all prior holders of the loa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request to consumer reporting agency to remove default recor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rehabilitations on or after August 14, 2008</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 required to provide rehabilitated borrowers with economic and financial material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5A67DB8-9B79-45FD-8CFF-499838DB1E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Consolidation Loan Disclosures to Federal Perkins and Direct Loan borrowers at time of applic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simple and understandab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statement that simply applying does not obligate the borrow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any loss of Perkins and Direct Loan benefits upon consolid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56293F7-1D2E-4475-9C4E-6F4E7839B1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Consolidation Loan Disclosures to Federal Perkins and Direct Loan borrowers at time of application (co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consolidation loan or repayment plans and options to change plan, options and information to prepay or pay over shorter perio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consequences of default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statement that lender-based benefits may va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4E1ADAE-DF02-4955-9F96-5B050C12C8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a:t>
            </a:r>
            <a:r>
              <a:rPr b="1" lang="en-US" sz="2400" spc="-1" strike="noStrike">
                <a:solidFill>
                  <a:srgbClr val="cc5407"/>
                </a:solidFill>
                <a:latin typeface="Verdana"/>
              </a:rPr>
              <a:t>  </a:t>
            </a:r>
            <a:endParaRPr b="1" lang="en-US" sz="2400" spc="-1" strike="noStrike">
              <a:solidFill>
                <a:srgbClr val="cc5407"/>
              </a:solidFill>
              <a:latin typeface="Verdana"/>
            </a:endParaRPr>
          </a:p>
        </p:txBody>
      </p:sp>
      <p:sp>
        <p:nvSpPr>
          <p:cNvPr id="121" name="PlaceHolder 2"/>
          <p:cNvSpPr>
            <a:spLocks noGrp="1"/>
          </p:cNvSpPr>
          <p:nvPr>
            <p:ph/>
          </p:nvPr>
        </p:nvSpPr>
        <p:spPr>
          <a:xfrm>
            <a:off x="457200" y="1371240"/>
            <a:ext cx="8153280" cy="441972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sed and new FFEL borrower disclosure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disclosures for each private education loan based on section 128(e) of Truth in Lending Ac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reporting and certificat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DD5BD1F-9DBE-4D1A-838E-75C4FBDC43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Loan Disburs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whether lender will pay required fe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of repayment pl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bearance circumstanc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of loan forgiveness and eligibility require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option to pay accrued interest and capitalization frequency if unpai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A7E28EF-4F29-4CA7-A0A1-BE2B2CFF3C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25" name="PlaceHolder 2"/>
          <p:cNvSpPr>
            <a:spLocks noGrp="1"/>
          </p:cNvSpPr>
          <p:nvPr>
            <p:ph/>
          </p:nvPr>
        </p:nvSpPr>
        <p:spPr>
          <a:xfrm>
            <a:off x="304920" y="1371600"/>
            <a:ext cx="8534160" cy="495288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repay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ing change to no more than 150 days before first payment due dat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loan servicer, if applicabl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LUS borrowers, repayment start date after in-school defer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ayment plans and option to change plan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 on lender-offered repayment benefits and limits/condition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s to avoid default and any associated cos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ed total interest and amount of any interest paid</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 for advice and assista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F9C7DDB-131E-4106-920C-C22BECD79C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27" name="PlaceHolder 2"/>
          <p:cNvSpPr>
            <a:spLocks noGrp="1"/>
          </p:cNvSpPr>
          <p:nvPr>
            <p:ph/>
          </p:nvPr>
        </p:nvSpPr>
        <p:spPr>
          <a:xfrm>
            <a:off x="304920" y="1523520"/>
            <a:ext cx="8534160" cy="48006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projections for PLUS and Unsub Stafford Loans must include loan costs of paying or capitalizing accruing interest</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disclosures during repayment for loans with first payment due date on or after July 1, 2009</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bill or statement for all borrower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disclosures for borrowers having difficulty making paymen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disclosures for delinquent borrow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10BA4CC-F159-434A-9133-1D38F15FF4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on Update</a:t>
            </a:r>
            <a:endParaRPr b="1" lang="en-US" sz="3600" spc="-1" strike="noStrike">
              <a:solidFill>
                <a:srgbClr val="cc5407"/>
              </a:solidFill>
              <a:latin typeface="Verdana"/>
            </a:endParaRPr>
          </a:p>
        </p:txBody>
      </p:sp>
      <p:sp>
        <p:nvSpPr>
          <p:cNvPr id="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er Education Reconciliation Act (HERA) (P.L. 109-171) – February 8, 200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Cost Reduction and Access Act (CCRAA)(P.L. 110-84) – September 27, 200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3B37E7E-0450-454F-BF01-4D4749DB3A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2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annual reporting for preferred lender arrangemen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identified minimum information to institutions and institution-affiliated organizatio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to ED on reasonable expenses paid to FAO staff or others with education loan responsibilitie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certification of compliance with HEOA section 120 requirements no later than February 4, 2010, and as part of lender compliance audit</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E9BBFF0-CD58-404C-8DA2-F2BCD18DA5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31" name="PlaceHolder 2"/>
          <p:cNvSpPr>
            <a:spLocks noGrp="1"/>
          </p:cNvSpPr>
          <p:nvPr>
            <p:ph/>
          </p:nvPr>
        </p:nvSpPr>
        <p:spPr>
          <a:xfrm>
            <a:off x="304920" y="1523520"/>
            <a:ext cx="8534160" cy="533412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hibited inducement provisions revised for activities undertaken by lenders or GAs on or after August 14, 2008</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GAs(chang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hibited payments include stock or other securities, prizes, travel, entertainment expenses, tuition payment or reimbursement, or other inducements to school or its employees, or any lender and its agents, employees, or independent contractors to secure guarante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exit counseling excluded from prohibited school-required functions a GA can perform or pay to have perform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1DD8D94-A53F-469D-9F54-4F4B5BB9EA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33"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enders(chang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ed payments same as GAs, but also includes lender payments for referrals and processing or finder’s fees, provision of information technology at below-market value, and additional financial aid funds to any school or its employe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lting arrangements or contracts to provide services to lender with FAO employees or other school employees with student loan responsibilities prohibit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6B0887C-6FA3-46E7-9B08-8BCD88F959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35"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enders (co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exit counseling excluded from prohibited school-required functions a lender can perform or pay to have perform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reimbursement of reasonable incurred expenses for school employee service on lender advisory boards permitt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s permitted to school’s student as lender’s representative if student is otherwise employed by lender and disclosure of employment mad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3B56D60-54D3-41F7-A73A-15863A9A3A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s required to develop and make available educational programs and materials on budgeting and financial management for students and parents </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be presented in simple and understandable format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address cost of using high interest loan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s and materials may be provided to Direct Loan only school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ed default reduction activities for section 422(h)(4)(B) of HEA</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B85D198-F875-426B-B4E7-DFF4690539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Student Loan Programs</a:t>
            </a:r>
            <a:br>
              <a:rPr sz="3600"/>
            </a:br>
            <a:r>
              <a:rPr b="1" lang="en-US" sz="3600" spc="-1" strike="noStrike">
                <a:solidFill>
                  <a:srgbClr val="cc5407"/>
                </a:solidFill>
                <a:latin typeface="Verdana"/>
              </a:rPr>
              <a:t>Borrowers</a:t>
            </a:r>
            <a:endParaRPr b="1" lang="en-US" sz="3600" spc="-1" strike="noStrike">
              <a:solidFill>
                <a:srgbClr val="cc5407"/>
              </a:solidFill>
              <a:latin typeface="Verdana"/>
            </a:endParaRPr>
          </a:p>
        </p:txBody>
      </p:sp>
      <p:sp>
        <p:nvSpPr>
          <p:cNvPr id="13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d Financial Assistance Excludes all Veterans’ Education Benefits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members Civil Relief Act (SCRA) applied to FFEL and Direct Loan Borrowe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interest rate cap during active duty service beginning date of enact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apply to PLUS endorse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DCBB872-596C-4E1A-ADD1-9E8F73ABEC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RA - continu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rrower must make written reques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lated special allowance change for loans first disbursed on/after July 1, 2008</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3DB8B76-DD54-4D24-8BF3-316EFCB5E6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deferment f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chool perio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 to six months for post-half-time enrollment perio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0FC4FA3-EB53-4C8F-B7B6-1D0BFE42D7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deferment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specific request of parent PLUS borrower based on dependent’s statu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nted automatically to grad/prof borrower for post-enrollment period with required notic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EB4AE36-C3AF-48CC-8CB5-35E5908BC2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pitalization of PLUS Loan deferment-related accrued interest may be paid monthly or quarterly or capitalized no more frequently than quarterly for all borrowe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77C4F03-B22F-4BD9-8681-80D63A9B7F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on Update</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Continued Access to Student Loans Act (ECASLA) (P.L. 110-227) – May 7, 200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er Education Opportunity Act (P.L. 110-315) (HEOA) – August 14, 200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R. 6889 (P. L. 110-350) – October 7, 2008</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D976D43-3F29-4756-96FA-3D1D0DD418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adverse credit standard” clarified for special extenuating circumstances to be existing regulatory standard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5C8C277-7069-4323-AED3-C3A7537CE2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 limited to borrower with defaulted loans assigned to E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habilitation of defaulted loans limited to one opportunity – borrower-based eligibility continues unless redefault on previously rehabilitated loa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lnSpc>
                <a:spcPct val="90000"/>
              </a:lnSpc>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087C605-BEE3-4D51-9B56-2D031EE421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orgiveness expanded, if Congress  appropriates funds, f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Childhood Educato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Language Special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brari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Qualified Teachers serving students who are limited English proficient, from low-income communities, and from underrepresented pop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0062F12-1E7F-4BC6-BD46-E3862FC525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Forgiveness expanded, if Congress  appropriates funds, for:</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ild Welfare Worke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ch-Language Pathologists and Audiologist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unselo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 Sector Employee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l Specialist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ntal Health Professional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AB7ED42-67E6-43F8-9D32-9D3CDB3D84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339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Forgiveness expanded, if Congress  appropriates funds, for:</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ntist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trition Professional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EM Employee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ysical Therapist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ccupational Therapist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erintendents, Principals, and other Administrators </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vil Legal Assistance Attorney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D4FFCAD-2953-4578-91C7-31F2EF1AA8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and Permanent Disability discharge available, July 1, 2010, subject to regulations: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borrower unable to engage in substantial gainful activity based on documented medical or mental impairment expected to result in death, or has lasted or can be expected to last for continuous period </a:t>
            </a:r>
            <a:r>
              <a:rPr b="0" lang="en-US" sz="2800" spc="-1" strike="noStrike">
                <a:solidFill>
                  <a:srgbClr val="000000"/>
                </a:solidFill>
                <a:latin typeface="Verdana"/>
              </a:rPr>
              <a:t>	</a:t>
            </a:r>
            <a:r>
              <a:rPr b="0" lang="en-US" sz="2800" spc="-1" strike="noStrike">
                <a:solidFill>
                  <a:srgbClr val="000000"/>
                </a:solidFill>
                <a:latin typeface="Verdana"/>
              </a:rPr>
              <a:t>of not less than 60 month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instatement authorized if new title IV loan or income exceeds poverty lin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364215D-800A-4320-959C-D0AF776A5E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endParaRPr b="1" lang="en-US" sz="3600" spc="-1" strike="noStrike">
              <a:solidFill>
                <a:srgbClr val="cc5407"/>
              </a:solidFill>
              <a:latin typeface="Verdana"/>
            </a:endParaRPr>
          </a:p>
        </p:txBody>
      </p:sp>
      <p:sp>
        <p:nvSpPr>
          <p:cNvPr id="1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and Permanent Disability discharge available for applications received on/after August 14, 2008: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borrower provides Department of Veterans Affairs (DVA) documentation showing DVA determination that borrower unemployable due to service-connected condition.  No other medical documentation requir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3DB2E2C-A086-42AA-9D35-0491AEB2CE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for Military Service </a:t>
            </a:r>
            <a:endParaRPr b="1" lang="en-US" sz="3600" spc="-1" strike="noStrike">
              <a:solidFill>
                <a:srgbClr val="cc5407"/>
              </a:solidFill>
              <a:latin typeface="Verdana"/>
            </a:endParaRPr>
          </a:p>
        </p:txBody>
      </p:sp>
      <p:sp>
        <p:nvSpPr>
          <p:cNvPr id="163"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No Interest Accrual” for no more than 60 months for Direct Loan borrowers who: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erving on active duty during war or other military operation or national emergency, or in qualifying National Guard duty during the same, and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erving in an area of hostility that qualifies for special pay</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3CDC32B-E71C-4761-B589-8BF8CBC1E8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for Military Service</a:t>
            </a:r>
            <a:endParaRPr b="1" lang="en-US" sz="3600" spc="-1" strike="noStrike">
              <a:solidFill>
                <a:srgbClr val="cc5407"/>
              </a:solidFill>
              <a:latin typeface="Verdana"/>
            </a:endParaRPr>
          </a:p>
        </p:txBody>
      </p:sp>
      <p:sp>
        <p:nvSpPr>
          <p:cNvPr id="165" name="PlaceHolder 2"/>
          <p:cNvSpPr>
            <a:spLocks noGrp="1"/>
          </p:cNvSpPr>
          <p:nvPr>
            <p:ph/>
          </p:nvPr>
        </p:nvSpPr>
        <p:spPr>
          <a:xfrm>
            <a:off x="304920" y="213336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borrowers may consolidate or reconsolidate FFEL consolidation loan in Direct Loan program to qualify for benefit</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6BED51D-B272-428E-8418-9742AEB7C7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Public Service Job” for Direct Loan Public Service Loan Forgiveness amended: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vernment job excludes time in US Congres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s in public health, public interest law services, and faculty teaching in “high needs areas” clarifi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282059B-21D6-4A6B-9480-A89CED55E0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uthorized FFEL Program until 2012</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d Loan Limit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ase-Out of Borrower Origination Fee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d/Prof PLUS Introduc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350F35B-8678-4E67-92D0-F7CBBFDF6A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a:t>
            </a:r>
            <a:endParaRPr b="1" lang="en-US" sz="3600" spc="-1" strike="noStrike">
              <a:solidFill>
                <a:srgbClr val="cc5407"/>
              </a:solidFill>
              <a:latin typeface="Verdana"/>
            </a:endParaRPr>
          </a:p>
        </p:txBody>
      </p:sp>
      <p:sp>
        <p:nvSpPr>
          <p:cNvPr id="16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Public Service Job” (con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ildhood education as separate category, including Head Start and State-funded pre-kindergarte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ies to service on/after 10/1/200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F6E73F2-A492-4160-8530-6E018FCB7A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of Higher Education (IHE) and IHE-affiliated organizations must adopt “codes of conduct” governing relationships with financial institutions</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fic student/family disclosure requirements for IHEs with preferred lender arrangements for FFEL and/or private education loans (minimum information requirements and model disclosure to be provided by 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08EEA86-7495-485D-A28A-DC0E4501B0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ferred Lender List (PLL) requirements added to institutional PPA for IHEs with PLL arrangements for title IV and/or private education loan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IHE and IHE-affiliated organization reporting requirements to ED on PLL arrangements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4D9406D-9CEB-4DC6-AA75-D2209A9FF2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disclosure requirements for Direct Loan school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ing limitations on preferred lender arrangements for private education loan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FAA professional judgment authority to offer dependent student Unsub Stafford if parent discontinues financial support and refuses to complete FAFSA</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A89038F-5A81-45FA-8AA8-CF4FAF979B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for first-time FFEL and DL borrowers added to law--consistent with regulations, excep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rrower’s acknowledgement of receipt and understanding required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xplain interest accrual/capitalization and borrower’s option to pay interest</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B2DA1E3-CA34-45F9-9DF5-849989B652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consistent with regulations, excep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define half-time enrollment status at the school and impact of less-than-half-time status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xplain importance of office contacts when withdrawing</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provide information on NSLDS and how to acces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9D55A20-E519-45C3-8902-0E6628B7FA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1" name="PlaceHolder 2"/>
          <p:cNvSpPr>
            <a:spLocks noGrp="1"/>
          </p:cNvSpPr>
          <p:nvPr>
            <p:ph/>
          </p:nvPr>
        </p:nvSpPr>
        <p:spPr>
          <a:xfrm>
            <a:off x="304920" y="1523520"/>
            <a:ext cx="8534160" cy="4800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it counseling requirements amended –consistent with regulations, excep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detailed repayment plan info required, including impact of interest paid/unpai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 on impact of consolidation on repayment, including underlying loan benefi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ons to prepay and change repayment pla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 on available tax benefi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ment that lender-based benefits va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7E5E946-00D7-497B-A3BA-F6C3026EC2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hort default rate-related disbursement waivers and exceptions amended for loans first disbursed on/after October 1, 2011-less than 15%</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hort default rate formula changed to use three-year period for FY 2009 and beyond with transition perio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995CF3A-A510-452D-AEB6-6AD8F1E3D2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cohort default rate penalty threshold % increased to 30% for FY 2012 and beyond</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plan required at 30% cohort default rat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70CCC32-4E7B-4135-A7A8-7D5C3C02E1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School Lender annual lender audit now requires determination that interest, special allowance, and other loan proceeds used only for need-based grants and allowable administrative and other expens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so applies to annual audit of eligible lender trustee used by school</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3BD2B4-14D3-470F-94F5-AC25B13627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igned Repayment Plans –FFEL/DL</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Relief – Cohort Default Rate Waivers for School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duced PLUS Interest Rat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7A758FE-2E6A-4043-8859-37FE7C75D7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8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eign Nursing Schools eligible for FFEL loans (excludes consolidation loans) on/after July 1, 2010 if school meets certain requirements</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retary authorized to waive annual foreign school audit if schools received less than $500,000 in preceding year;  audit requirement for other foreign schools may be modifi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8141E77-DB80-4534-A061-C5DA8CF593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lum bright="70000" contrast="-70000"/>
          </a:blip>
          <a:stretch/>
        </p:blipFill>
        <p:spPr>
          <a:xfrm>
            <a:off x="1851120" y="852480"/>
            <a:ext cx="5387760" cy="5219640"/>
          </a:xfrm>
          <a:prstGeom prst="rect">
            <a:avLst/>
          </a:prstGeom>
          <a:ln w="0">
            <a:noFill/>
          </a:ln>
        </p:spPr>
      </p:pic>
      <p:sp>
        <p:nvSpPr>
          <p:cNvPr id="191"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Regulations</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3029D71D-80C5-4550-BC39-CCE18F3AEE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endParaRPr b="1" lang="en-US" sz="3600" spc="-1" strike="noStrike">
              <a:solidFill>
                <a:srgbClr val="cc5407"/>
              </a:solidFill>
              <a:latin typeface="Verdana"/>
            </a:endParaRPr>
          </a:p>
        </p:txBody>
      </p:sp>
      <p:sp>
        <p:nvSpPr>
          <p:cNvPr id="1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Negotiating Sessions ending April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ensus Reached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PRM — July 1,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l Rule — October 23,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Date — July 1, 2009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608DA5C-E26B-4C34-814E-F219E526AC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endParaRPr b="1" lang="en-US" sz="3600" spc="-1" strike="noStrike">
              <a:solidFill>
                <a:srgbClr val="cc5407"/>
              </a:solidFill>
              <a:latin typeface="Verdana"/>
            </a:endParaRPr>
          </a:p>
        </p:txBody>
      </p:sp>
      <p:sp>
        <p:nvSpPr>
          <p:cNvPr id="1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 Service Loan Forgivenes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conomic Hardship Deferme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Service Deferme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t-for-Profit Loan Holder Defini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Preemption of Certain State Laws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63A3114-EC16-4A37-957C-413D927930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Public Service Loan Forgiveness</a:t>
            </a:r>
            <a:endParaRPr b="1" lang="en-US" sz="3600" spc="-1" strike="noStrike">
              <a:solidFill>
                <a:srgbClr val="cc5407"/>
              </a:solidFill>
              <a:latin typeface="Verdana"/>
            </a:endParaRPr>
          </a:p>
        </p:txBody>
      </p:sp>
      <p:sp>
        <p:nvSpPr>
          <p:cNvPr id="1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Program Borrowers ONLY</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in Defaul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s 120 Monthly On-time Pay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October 1, 2007</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Based Repay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Contingent Repay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Plans with a Minimum Payment Amou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time Employment in Qualifying Servi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E27FCD7-30BC-4F69-9301-CB676C0436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 Income-based Repayment </a:t>
            </a:r>
            <a:endParaRPr b="1" lang="en-US" sz="3600" spc="-1" strike="noStrike">
              <a:solidFill>
                <a:srgbClr val="cc5407"/>
              </a:solidFill>
              <a:latin typeface="Verdana"/>
            </a:endParaRPr>
          </a:p>
        </p:txBody>
      </p:sp>
      <p:sp>
        <p:nvSpPr>
          <p:cNvPr id="19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and Direct Loan Program Borrowe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Tied to a “Partial Financial Hardship”</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Payment Amount, AGI, Poverty Inco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Attribu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ued Interest, Fees, Loan Principa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fford Interest Covered for Three Yea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year Loan Forgivenes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12EC0B2-4429-42DD-952E-406B33C4B1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2007-08 Negotiated Rulemaking Economic Hardship Deferment </a:t>
            </a:r>
            <a:endParaRPr b="1" lang="en-US" sz="3600" spc="-1" strike="noStrike">
              <a:solidFill>
                <a:srgbClr val="cc5407"/>
              </a:solidFill>
              <a:latin typeface="Verdana"/>
            </a:endParaRPr>
          </a:p>
        </p:txBody>
      </p:sp>
      <p:sp>
        <p:nvSpPr>
          <p:cNvPr id="20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dified the Basic Income Criter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50% of the Poverty Level Income Appropriate to Family Siz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minated the Debt-to-Income Criter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20/220 Rul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061EB74-D506-4687-8500-7CC4BF59C4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Military Service Deferments</a:t>
            </a:r>
            <a:endParaRPr b="1" lang="en-US" sz="3600" spc="-1" strike="noStrike">
              <a:solidFill>
                <a:srgbClr val="cc5407"/>
              </a:solidFill>
              <a:latin typeface="Verdana"/>
            </a:endParaRPr>
          </a:p>
        </p:txBody>
      </p:sp>
      <p:sp>
        <p:nvSpPr>
          <p:cNvPr id="20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HERA Military Service Deferment Modified by CCRA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CCRAA Post-Active Duty Defer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les for Applying Benefits to Those Who Qualify for Multiple Benefi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A442F24-4CDB-47CE-BA4F-A206B8CECA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Military Service Deferments</a:t>
            </a:r>
            <a:endParaRPr b="1" lang="en-US" sz="3600" spc="-1" strike="noStrike">
              <a:solidFill>
                <a:srgbClr val="cc5407"/>
              </a:solidFill>
              <a:latin typeface="Verdana"/>
            </a:endParaRPr>
          </a:p>
        </p:txBody>
      </p:sp>
      <p:sp>
        <p:nvSpPr>
          <p:cNvPr id="2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Deferment revised –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title IV loans, not just loans made on/after July 1, 2001</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moves 3-year limi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s a 180-day deferment period after demobiliz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8328E25-6D7E-45AC-9F67-73F2758977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Military Service Deferments</a:t>
            </a:r>
            <a:endParaRPr b="1" lang="en-US" sz="3600" spc="-1" strike="noStrike">
              <a:solidFill>
                <a:srgbClr val="cc5407"/>
              </a:solidFill>
              <a:latin typeface="Verdana"/>
            </a:endParaRPr>
          </a:p>
        </p:txBody>
      </p:sp>
      <p:sp>
        <p:nvSpPr>
          <p:cNvPr id="2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CCRAA Post-Active Duty Deferment added -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 to13-months of deferment for certain  borrowers in school or in grace period when called to active dut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minates at return to school</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the same borrowers as Military Service deferment eligibl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C4662B0-A68E-4B71-9EC1-26A27AA46A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entity Theft Discharge</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Deferment</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Rehabilitation Relief – FFEL/DL</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BB6511D-9DF4-4FA7-945D-49205D6647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77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Negotiated Rulemaking</a:t>
            </a:r>
            <a:br>
              <a:rPr sz="3600"/>
            </a:br>
            <a:r>
              <a:rPr b="1" lang="en-US" sz="3600" spc="-1" strike="noStrike">
                <a:solidFill>
                  <a:srgbClr val="cc5407"/>
                </a:solidFill>
                <a:latin typeface="Verdana"/>
              </a:rPr>
              <a:t> Not-for-Profit Loan Holder Definition</a:t>
            </a:r>
            <a:endParaRPr b="1" lang="en-US" sz="3600" spc="-1" strike="noStrike">
              <a:solidFill>
                <a:srgbClr val="cc5407"/>
              </a:solidFill>
              <a:latin typeface="Verdana"/>
            </a:endParaRPr>
          </a:p>
        </p:txBody>
      </p:sp>
      <p:sp>
        <p:nvSpPr>
          <p:cNvPr id="209" name="PlaceHolder 2"/>
          <p:cNvSpPr>
            <a:spLocks noGrp="1"/>
          </p:cNvSpPr>
          <p:nvPr>
            <p:ph/>
          </p:nvPr>
        </p:nvSpPr>
        <p:spPr>
          <a:xfrm>
            <a:off x="304920" y="19807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l SAP Rates for Lenders/Holde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 Defines an Eligible Not-for-Profit Hold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s/Others Eligible to Issue Tax-exempt Bond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for-Profit Entity Under IRC 501(c)(3)</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T Acting on Behalf of a State or NFP Entity</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fying Lender Must Have Sole Beneficial Ownership Interes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6495B38-93F3-432E-B860-B9366BDF48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502-7732</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Pamela.Moran@ed.gov</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502-7873</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3D9F5E1-2566-4123-9523-5AB5BE2828D8}" type="slidenum">
              <a:t>81</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olidation Loan – Married/In-school/Early Conversion eliminated</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as-Lender/Use of Lender Trustee</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Reduced Insurance/“Negative SAP”</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31AF778-37E9-42C3-B6B8-8860B76241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44:07Z</dcterms:modified>
  <cp:revision>246</cp:revision>
  <dc:subject/>
  <dc:title>PowerPoint Presentation</dc:title>
</cp:coreProperties>
</file>