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805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80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78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5202360" y="0"/>
            <a:ext cx="3978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2520" y="512280"/>
            <a:ext cx="3414600" cy="25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6489720"/>
            <a:ext cx="3978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5202360" y="6489720"/>
            <a:ext cx="3978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3F22-B7FA-488B-B13D-C79A7749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External Workgroup reviewed over 177 data elements from current reporting standards (e.g., assignment, NSLDS reporting) and new data elements that cover a wide range of data (e.g., claims, reinsurance, assignment, collections) to meet Federal Student Aid’s business needs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pproved data elements: 9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moved data elements: 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a elements for follow-up: 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task order is to document the Initiative Vision (IV) for the new DMCS and TP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task order is to document the Initiative Vision (IV) for the new DMCS and TP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 current business demands with legacy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hieve operational efficiencies and implement new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 systems that can be easily supported by outside vendors and or by Federal Student Aid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prove the accuracy, timeliness and tracking capabilities for default and discharge loa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minate unnecessary and duplicative data collection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utomate data exchanges between Federal Student Aid, financial partners and borrow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view of T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View of TSV as it relates to data exchanged for the FFEL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882880" y="512640"/>
            <a:ext cx="3414600" cy="2560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24000" y="3244680"/>
            <a:ext cx="673272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external working groups were formed from the Phase II workgroup to discuss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yment/Collection Histor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discussed the needs of Federal Student Aid to obtain borrower payment history to support loan assignment, financial reporting and program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ender financial reporting (ED Form 799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discussed ways to reduce the burden of lender financial reporting through the collection of aid-level data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9074-CCA3-4872-9459-C704AE951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559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6C6E-4934-4086-9989-59E8C0A82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3DBD-9097-4836-9C8D-1A9BBA7FF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87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559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17AB-5534-420C-8AA4-549F207D9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101D-9715-4F18-BCC2-25585CD67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6244-1C03-4CEA-A2EE-9A111144F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306C-9031-4191-AE8A-8144DFBC8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6A39-FDED-472D-BA32-3F4EADB98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728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6C19-E993-42AA-AC2C-949586A56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ABFE-62DE-4FA7-A39F-4B12223B9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559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53AD-DA81-4AA4-A2FE-046AD7BE4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642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87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559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EB00-7960-462C-8894-F51C0F198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243-AFE9-4D17-A09D-1A9566451652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2556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29600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666440" indent="-1850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64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49A-16E2-4AAB-9450-7E189F689E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143000" y="44460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6373800"/>
            <a:ext cx="205740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DataStrategy@ed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GA-0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lectronic Services For The Fu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n Benne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67057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data from loan holders based on business nee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.g., events such as: disbursements, cancellations, repayment dates, status changes, reinsurance, collections, etc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timeliness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bility to synthesize, report on and analyz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a column for loan cohort year to the Lender Financial Reports (L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bility to synthesize, report on, and analyz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F4B-B5F3-4B15-A3AF-FEA2001199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4920" y="1587600"/>
          <a:ext cx="8534160" cy="4603680"/>
        </p:xfrm>
        <a:graphic>
          <a:graphicData uri="http://schemas.openxmlformats.org/drawingml/2006/table">
            <a:tbl>
              <a:tblPr/>
              <a:tblGrid>
                <a:gridCol w="5662440"/>
                <a:gridCol w="28717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rage aid-level data to reduce Guaranty Agency Financial Reportin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.g., eliminate AR-1 through AR-14 reporting which can be derived off of loan level data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d data collection and integrated end-to-end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additional data elements to support substantiation of financial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program management and over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data provided to students/borrowers on the Integrated Student 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completeness and accessibility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E1E8-FE98-435C-836C-A85FB4D19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e date certain payoffs in the consolidation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ed number of under/over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te loan level reporting with the assignment requests for default, bankruptcy and disability dis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d data collection and integrated end-to-end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8EB6-8279-477B-95CC-A7B624871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xt Step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deral Student Aid’s Enterprise Data Management team will work with the PESC change control board to modify or add the workgroup approved data el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blish in the XML Registry and Repository (XML R&amp;R) a common definition for data attributes that Federal Student Aid and the FFEL Community ex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4170-A808-47B0-AAE8-6EC3EA0E2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bt Recovery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PD Initiat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A667-5365-4844-9205-41D8BADCE2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is in the process of acquiring a single system to replace th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bt Management Collection System (DMC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PD - Conditional Discharge Disability Tracking System (CDD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FB38-11EA-452D-940D-F978900557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Debt Recovery and TPD solution will eliminate deficiencies and provide robust capabilities for both internal and external stakeh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3CE2-E9B4-4577-8979-7F620ADFF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 (con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identified the following change drive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ncile current business demands with legacy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e the accuracy, timeliness and tracking capabilities for default and discharge loan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1C69-FBC2-4F07-8C46-9FC6D2EA7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815080"/>
                <a:gridCol w="271908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and track default and discharges electronically and in rea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ccuracy, timeliness, and tracking capa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e a Web Portal to exchange information to support business 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harges (General, TP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Salary Offset and Treasury Off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tain Borrower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mated data exchanges between Federal Student Aid, financial partners, and borr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96C8-0E8E-4C9A-A562-2B6C1DEDF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automated stakeholder notifications on default and discharge stat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w for online querying and reporting capabil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mated checklists and supporting online tools to process defaults and dischar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d customer service for financ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DEE7-48FA-434D-9F2D-68D47DE06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Student Aid’s Target State Vi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data standards initi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bt Recovery and Resolution (Debt Recovery) and Total and Permanent Disability (TPD) initi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00A0-58ED-4AF7-BD84-AA7B1BD4F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xt Step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 our review of all current require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inue to define the requirements for the Debt Recovery and TPD Solu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B2BE-A5D1-4748-8699-64ACB8093A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739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/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2577960"/>
            <a:ext cx="211932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8FB2-AFD6-45FA-A8CA-23AE202DAA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447920"/>
            <a:ext cx="7162560" cy="22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 Inqui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DataStrategy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5CF5-95AF-4E1F-AEE6-389104A09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deral Student Aid embarked on a major business and systems reengineering eff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part of this effort, developed a Target State Vision (TSV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wo initiatives presented here today support the TS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slide presents a graphical depiction of the TS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EF3F-C980-4D77-B9DC-CF5F79A48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80060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124080"/>
            <a:ext cx="2210040" cy="38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85440" y="2971800"/>
            <a:ext cx="1143000" cy="2361960"/>
          </a:xfrm>
          <a:prstGeom prst="upArrowCallout">
            <a:avLst>
              <a:gd name="adj1" fmla="val 25002"/>
              <a:gd name="adj2" fmla="val 25000"/>
              <a:gd name="adj3" fmla="val 34441"/>
              <a:gd name="adj4" fmla="val 6666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FEL Data Standards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495680"/>
            <a:ext cx="7162920" cy="38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990720"/>
            <a:ext cx="1523880" cy="2057400"/>
          </a:xfrm>
          <a:prstGeom prst="downArrowCallout">
            <a:avLst>
              <a:gd name="adj1" fmla="val 25002"/>
              <a:gd name="adj2" fmla="val 12500"/>
              <a:gd name="adj3" fmla="val 25421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t Recovery and TPD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029120"/>
            <a:ext cx="6248520" cy="380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048120"/>
            <a:ext cx="76212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5135-2CF1-495F-A043-875213E7C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F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92280"/>
            <a:ext cx="7543800" cy="543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C015-6C5A-4055-8393-959BA0880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6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Data Standards Initiat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CEEC-562D-4320-9EA1-7957CE356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roac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87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 - Internal Analysis with Federal Student Aid  and Department of Education Business Owne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I – External Analysis with the FFEL Community of Inter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III – Modify/Add Data Standards through Postsecondary Education Standards Council (PESC) Change Control Boa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73C4-28F3-484B-9F2D-88A551A647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arget state business proces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FFEL data standards to support target state business proces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implemented in incremental ph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engineering of NSLDS and its data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engineering of debt recovery processes an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ing financial reporting for Lender and Guaran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BE57-6296-4A90-9CCF-A54CD9C60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72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ul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587600"/>
          <a:ext cx="8534160" cy="4343040"/>
        </p:xfrm>
        <a:graphic>
          <a:graphicData uri="http://schemas.openxmlformats.org/drawingml/2006/table">
            <a:tbl>
              <a:tblPr/>
              <a:tblGrid>
                <a:gridCol w="5662800"/>
                <a:gridCol w="287136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ef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hance loan certificatio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A Accoun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PS Transaction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al Unsubsidized 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ademic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completeness and accessibility of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iance of general eligibility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common identif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ting Identifier (R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al Award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d accuracy and consistency of information for exchangin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91AC-D7CD-4459-93AE-738465CB51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Amy Luycx</cp:lastModifiedBy>
  <dcterms:modified xsi:type="dcterms:W3CDTF">2008-09-08T16:25:49Z</dcterms:modified>
  <cp:revision>105</cp:revision>
  <dc:subject/>
  <dc:title>PowerPoint Presentation</dc:title>
</cp:coreProperties>
</file>