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805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80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78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5202360" y="0"/>
            <a:ext cx="3978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2520" y="512280"/>
            <a:ext cx="3414600" cy="25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6489720"/>
            <a:ext cx="3978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5202360" y="6489720"/>
            <a:ext cx="3978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9DF1-1A39-47EF-9473-03AE59765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External Workgroup reviewed over 177 data elements from current reporting standards (e.g., assignment, NSLDS reporting) and new data elements that cover a wide range of data (e.g., claims, reinsurance, assignment, collections) to meet Federal Student Aid’s business needs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pproved data elements: 9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moved data elements: 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ata elements for follow-up: 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task order is to document the Initiative Vision (IV) for the new DMCS and TP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task order is to document the Initiative Vision (IV) for the new DMCS and TP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ncile current business demands with legacy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 operational efficiencies and implement new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 systems that can be easily supported by outside vendors and or by Federal Student Aid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mprove the accuracy, timeliness and tracking capabilities for default and discharge loan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iminate unnecessary and duplicative data collection require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utomate data exchanges between Federal Student Aid, financial partners and borrow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view of T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View of TSV as it relates to data exchanged for the FFEL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external working groups were formed from the Phase II workgroup to discuss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yment/Collection Histor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discussed the needs of Federal Student Aid to obtain borrower payment history to support loan assignment, financial reporting and program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ender financial reporting (ED Form 799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discussed ways to reduce the burden of lender financial reporting through the collection of aid-level data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FF1B-799E-497A-8062-AAE38617B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559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C057-3706-4891-A32E-AC0BF9437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559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8559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2B37-6B1E-4D58-8F47-56D57B788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87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87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559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8559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8559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B1F8-33C8-464C-A145-4563E713F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58F1-6FD7-4F10-AAF4-635D398C3B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BE70-E158-4F6E-9E99-D583AD10E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0104-2897-42F7-BBBB-B48E083CC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86BC-1B69-47ED-8162-A030A0A62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728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5E60-9426-422B-9A4B-8C6E2943D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559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AD1D-DD24-4D48-B4EA-A7132A5EE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8559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F941-3DEC-416F-AF44-F6DCDD74E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559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BCB7-18B7-408C-ACB0-6376E1250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948E-5007-4A0A-AF76-566023441BEC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92556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29600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66644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66644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66644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464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19BF-81FF-47E7-86B7-CBA7CCD75E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143000" y="44460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52280" y="637380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DataStrategy@ed.go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GA-0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lectronic Services For The Fu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n Benne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wight Vig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8686800" y="67057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662800"/>
                <a:gridCol w="287136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data from loan holders based on business nee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e.g., events such as: disbursements, cancellations, repayment dates, status changes, reinsurance, collections, etc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timeliness of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ability to synthesize, report on and analyze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a column for loan cohort year to the Lender Financial Reports (L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ability to synthesize, report on, and analyze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CC55-9774-45AA-8591-C583C5545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04920" y="1587600"/>
          <a:ext cx="8534160" cy="4603680"/>
        </p:xfrm>
        <a:graphic>
          <a:graphicData uri="http://schemas.openxmlformats.org/drawingml/2006/table">
            <a:tbl>
              <a:tblPr/>
              <a:tblGrid>
                <a:gridCol w="5662440"/>
                <a:gridCol w="28717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erage aid-level data to reduce Guaranty Agency Financial Reportin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e.g., eliminate AR-1 through AR-14 reporting which can be derived off of loan level data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amlined data collection and integrated end-to-end 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additional data elements to support substantiation of financial repo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program management and over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data provided to students/borrowers on the Integrated Student 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completeness and accessibility of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10E4-3A1A-40F8-B9EB-59B77BB8F1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662800"/>
                <a:gridCol w="287136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e date certain payoffs in the consolidation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ed number of under/over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e loan level reporting with the assignment requests for default, bankruptcy and disability dis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amlined data collection and integrated end-to-end 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DD89-B6F1-41A3-8CAB-8A108E5376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xt Step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deral Student Aid’s Enterprise Data Management team will work with the PESC change control board to modify or add the workgroup approved data el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ablish in the XML Registry and Repository (XML R&amp;R) a common definition for data attributes that Federal Student Aid and the FFEL Community excha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699F-B755-4B38-ACC0-0DFE1887BF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bt Recovery and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PD Initiativ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67B6-E2E8-495D-B45C-76581C338B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is in the process of acquiring a single system to replace th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bt Management Collection System (DMC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PD - Conditional Discharge Disability Tracking System (CDD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B67F-6EB5-4CA4-BD06-5E88E776C8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view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Debt Recovery and TPD solution will eliminate deficiencies and provide robust capabilities for both internal and external stakehol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4E72-E732-48A5-BBC2-9097CF78C0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view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identified the following change driver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ncile current business demands with legacy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rove the accuracy, timeliness and tracking capabilities for default and discharge loan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CAC1-74BC-4504-B148-857831AD91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815080"/>
                <a:gridCol w="271908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and track default and discharges electronically and in real-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accuracy, timeliness, and tracking cap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e a Web Portal to exchange information to support business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harges (General, TP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Salary Offset and Treasury Off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tain Borrower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mated data exchanges between Federal Student Aid, financial partners, and borr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F9CB-D476-46B9-B905-3337A25414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662800"/>
                <a:gridCol w="2871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 automated stakeholder notifications on default and discharge stat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d customer service for financ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w for online querying and reporting capabil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d customer service for financ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mated checklists and supporting online tools to process defaults and dischar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d customer service for financ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C512-1A5A-4153-B246-F7A86069A1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Student Aid’s Target State Vi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data standards initiativ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bt Recovery and Resolution (Debt Recovery) and Total and Permanent Disability (TPD) initiativ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40E8-A6F0-48ED-AE3D-CBD2DFD345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xt Step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lete our review of all current require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inue to define the requirements for the Debt Recovery and TPD Solu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C1E3-B4A9-48E9-A380-3C58A3B0D7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739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/Com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2680" y="2577960"/>
            <a:ext cx="211932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83A3-A5A2-4A1C-BDBD-12EE60B76F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447920"/>
            <a:ext cx="7162560" cy="22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 Inqui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DataStrategy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9FD0-F720-4F9C-BAEF-3E78FA85D4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rget State Vi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deral Student Aid embarked on a major business and systems reengineering eff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part of this effort, developed a Target State Vision (TSV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two initiatives presented here today support the TS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ollowing slide presents a graphical depiction of the TS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2712-349F-4CF4-BACF-C83B280DEF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rget State Vi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480060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124080"/>
            <a:ext cx="2210040" cy="3812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85440" y="2971800"/>
            <a:ext cx="1143000" cy="2361960"/>
          </a:xfrm>
          <a:prstGeom prst="upArrowCallout">
            <a:avLst>
              <a:gd name="adj1" fmla="val 25002"/>
              <a:gd name="adj2" fmla="val 25000"/>
              <a:gd name="adj3" fmla="val 34441"/>
              <a:gd name="adj4" fmla="val 6666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FEL Data Standards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495680"/>
            <a:ext cx="7162920" cy="3812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990720"/>
            <a:ext cx="1523880" cy="2057400"/>
          </a:xfrm>
          <a:prstGeom prst="downArrowCallout">
            <a:avLst>
              <a:gd name="adj1" fmla="val 25002"/>
              <a:gd name="adj2" fmla="val 12500"/>
              <a:gd name="adj3" fmla="val 25421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t Recovery and TPD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029120"/>
            <a:ext cx="6248520" cy="380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048120"/>
            <a:ext cx="762120" cy="53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B57A-ABFC-4FAB-B223-318D6248A7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F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92280"/>
            <a:ext cx="7543800" cy="54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812F-A0F1-43D6-BABF-617AE71D1D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6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Data Standards Initiativ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E4CE-C024-4A47-8CAE-A112C2A1A8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roach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I - Internal Analysis with Federal Student Aid  and Department of Education Business Owne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II – External Analysis with the FFEL Community of Inter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III – Modify/Add Data Standards through Postsecondary Education Standards Council (PESC) Change Control Boa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0F42-9092-4072-947D-A28D5D3329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target state business process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FFEL data standards to support target state business process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be implemented in incremental ph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engineering of NSLDS and its data ex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engineering of debt recovery processes an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hancing financial reporting for Lender and Guaran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7714-4C9E-402F-A9DC-751A561748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662800"/>
                <a:gridCol w="2871360"/>
              </a:tblGrid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4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loan certificatio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SA Account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PS Transaction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itional Unsubsidized Reas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ademic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completeness and accessibility of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iance of general eligibility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common identif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ting Identifier (R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al Award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accuracy and consistency of information for exchanging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CA49-B421-471D-B989-F5CB8F0630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Amy Luycx</cp:lastModifiedBy>
  <dcterms:modified xsi:type="dcterms:W3CDTF">2008-09-08T16:25:49Z</dcterms:modified>
  <cp:revision>105</cp:revision>
  <dc:subject/>
  <dc:title>PowerPoint Presentation</dc:title>
</cp:coreProperties>
</file>