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34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433A-0A06-4795-88A4-08C1B1C60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88BB-36B7-4EC2-96D5-5900B3839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3E41-EE5D-449D-B73C-40058500F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D406-9B12-4561-BD4F-70E927509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6D6E-000D-49B5-B7C9-E1D9E6AC1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4C27-A1DA-490D-AF41-756CD2F52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1A72-F629-476F-A9A1-FB2C1880F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010C-5526-4253-9D79-298CFA838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1C90-4CEE-4EEF-A35C-F2ACD248B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5CC1-47BB-4363-A3A6-40D8AAD18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26AA-5B0E-42A0-AA1F-133EAFF7F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2DD3-909A-4F83-8C3C-54D467420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7CF0-F9B4-4488-8958-139C2F48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A673-8EF7-45BD-9FBB-5E6A9C46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C39E-F322-4023-AEAB-4968AC61A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3C08-5D15-4791-9A90-488A794C1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8B96-8484-4D61-A505-19B96CF1C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where we place the most updated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where we put information that has been removed from its original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atorium – For all certified TOP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at’s New Page keeps our customers informed on when the posting will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uch as a screen print showing each disbursement date and amount or a Notice of Loan Guaranty and Disclosure Statement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 claims paid on or after 7/1/2008, we would expect to see a record of the lender's disbursement of the loan funds to the school, such as a ro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65 day notice has been modified for State offsets and any future off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guard Procedures Report – GA detailed report on how they are going to safeguard the IRS tax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guard Activity Report – A summary of the data in the Procedures report and what you did to improve your processes.  If you have a major change to your process, you would need to re-submit your Safeguard Procedure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guard Certification – Used be called a transmittal letter when we used tapes.  We have given you the certification language that an official from the GA must sig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act Resources page is takes you to the Regional Directors, the Organizational Chart for Financial Partners.  It also give you the Financial Partners mailbox address: fpportal@ed.gov and where you can sign up to be on the listserv where you can receive message when there has been a new posting to the por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ncial Management System (FMS) is where you can find information on the LaRs system and Guaranty Agency Financial Reports (GAF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 Exchange page houses information Guaranty Agency Financial Reports and LAP/LaRs Rep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0147-B6EF-4A64-A596-625AE9D40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321B-ABFF-470C-AFCE-C736CFAEB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213F-7FE6-458D-B9C8-2D89AB650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2471-ECE6-4E78-9A85-556931B09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EC39-3551-49AF-BD48-94BC29F463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7A60-7813-4839-B168-3B995C9BB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A32F-A1C9-4686-A429-8D43C9F03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B886-0CFF-4155-BA4B-DCCB40C18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69D9-4250-4CCD-954F-FB1C09BA2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4D36-210C-40AB-B0C1-5A188AF6C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55D4-5FE4-49F6-B16C-E39919809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7C03-0434-43AA-8E10-BB11A38B1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845640" indent="-168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184040" indent="-168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522440" indent="-168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522440" indent="-168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522440" indent="-168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8E93-18A8-48EF-BF67-BC811564C6C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fp-mart.ed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GA-01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rrent Electronic Services Offered by Federal Student Aid for GA's and Len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m Eliad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wight Vig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s Data Ma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on selecting the “Financial Partners Data Mart” option from the Financial Partners Portal home page, you will be directed to the Financial Partners Data Mart quick access p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 users can log into FP Data Mart and new users can request access to th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0E38-31E8-4D20-AF7F-919728414A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295280"/>
            <a:ext cx="9144000" cy="4964400"/>
            <a:chOff x="0" y="1295280"/>
            <a:chExt cx="9144000" cy="49644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rcRect l="0" t="19051" r="0" b="8574"/>
            <a:stretch/>
          </p:blipFill>
          <p:spPr>
            <a:xfrm>
              <a:off x="0" y="1295280"/>
              <a:ext cx="9144000" cy="49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791320" y="2068560"/>
              <a:ext cx="2666880" cy="31240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s Data Ma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5873-69BB-49A0-AF7C-710B4017B7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s Data Mart Registr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initiate the request for access to FPDM, a completed User ID Request Form must be signed and delivered to the FPDM System Security Officer. The SSO must have a hard copy of the request form with an original signature before the request can be approv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the SSO approves it, the access request procedures become automated and the requestor will be notified by ema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05C3-4689-4F45-AE4D-7C7A6CC947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26649" r="0" b="8644"/>
          <a:stretch/>
        </p:blipFill>
        <p:spPr>
          <a:xfrm>
            <a:off x="0" y="1752480"/>
            <a:ext cx="9144000" cy="443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s Data Mart Registr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5D10-2A56-478C-8720-9CDE76EE5E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 Mart Login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stered FP Data Mart users can access the login page vi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fp.ed.gov 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s://fp-mart.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name and password are supplied during the automated registration process after security forms have been submit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179D-E7D4-43A1-A1C6-D82208E385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 Mart Login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s will be prompted to change their password upon first login and every 90 day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password must conform to Department of Ed/Federal Student Aid standa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CB19-4F96-4718-B284-E48ED23AD8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 Mart Login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eft side-bar allows for access account management in the event of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gotten Passw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 Passw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used when directed, as part of automated request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DCB2-8678-4819-8522-0D2EE02EBB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1523880"/>
            <a:ext cx="9144000" cy="4572000"/>
            <a:chOff x="0" y="1523880"/>
            <a:chExt cx="9144000" cy="4572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rcRect l="0" t="19032" r="0" b="6741"/>
            <a:stretch/>
          </p:blipFill>
          <p:spPr>
            <a:xfrm>
              <a:off x="0" y="152388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2895480"/>
              <a:ext cx="1523880" cy="19051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mart Login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62ED-D0D6-4687-9AEE-A4BCC18545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 Mart Welcome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on successful login, the Welcome page will appear and list all Microstrategy pro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PDM users will only have access to the Financial Partners proje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8641-38B2-4F30-A4E2-E74D89F407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19032" r="0" b="8644"/>
          <a:stretch/>
        </p:blipFill>
        <p:spPr>
          <a:xfrm>
            <a:off x="0" y="137160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4114800"/>
            <a:ext cx="3810240" cy="15238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 Mart Welcome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851C-7FC8-48A9-9DBB-A63C8F3B0A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 Portal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CE8A-2ABD-4B21-860F-EDF6E2788D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19467" r="0" b="8228"/>
          <a:stretch/>
        </p:blipFill>
        <p:spPr>
          <a:xfrm>
            <a:off x="2209680" y="2895480"/>
            <a:ext cx="6934320" cy="3619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19320" y="3675240"/>
            <a:ext cx="2081160" cy="10015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avigating FPDM Fold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ccess public reports, double click on the Shared Reports folder.  A list of public folders will app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A9D7-4293-4C9A-9C5E-1C8D56E5F1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600200" y="2514600"/>
            <a:ext cx="7162920" cy="3733920"/>
            <a:chOff x="1600200" y="2514600"/>
            <a:chExt cx="7162920" cy="37339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rcRect l="0" t="19448" r="0" b="8335"/>
            <a:stretch/>
          </p:blipFill>
          <p:spPr>
            <a:xfrm>
              <a:off x="1600200" y="2514600"/>
              <a:ext cx="716292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83280" y="4094280"/>
              <a:ext cx="2970000" cy="13921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avigating FPDM Fold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e click the desired to folder to view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F6D2-43F0-4576-871E-E3635FADE6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762120" y="2286000"/>
            <a:ext cx="7923960" cy="3962160"/>
            <a:chOff x="762120" y="2286000"/>
            <a:chExt cx="7923960" cy="396216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762120" y="2286000"/>
              <a:ext cx="792396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87480" y="4849920"/>
              <a:ext cx="1810800" cy="9046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unning a FPDM Repo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uble click a re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B7EC-DB19-4200-BEED-1658D06C29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09480" y="2286000"/>
            <a:ext cx="7848000" cy="4266360"/>
            <a:chOff x="609480" y="2286000"/>
            <a:chExt cx="7848000" cy="42663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09480" y="2286000"/>
              <a:ext cx="5607000" cy="32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850480" y="3282120"/>
              <a:ext cx="5607000" cy="327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unning a FPDM Repo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swer the promp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ECD2-C4EF-4014-A9AD-2A6A8424E1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2114640"/>
            <a:ext cx="6019920" cy="451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unning a FPDM Repo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ort will displa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7E8E-339E-4527-AE7F-72B14CBD3C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362320" y="2133720"/>
            <a:ext cx="6176520" cy="4647600"/>
            <a:chOff x="2362320" y="2133720"/>
            <a:chExt cx="6176520" cy="46476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2362320" y="2133720"/>
              <a:ext cx="6176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40960" y="2840760"/>
              <a:ext cx="793440" cy="2649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gging out of FPD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“logout” and close the web brow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CCAA-75D3-4B9C-A305-663A4CDEAE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ational Student Loan Data Syste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52CA-7D55-49BE-B588-A36A2B158D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SLDS Log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543800" cy="365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143000" y="5638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a9"/>
                </a:solidFill>
                <a:latin typeface="Verdana"/>
              </a:rPr>
              <a:t>www.nsldsfap.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5917-A70A-44FD-9E52-8D04944783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SLDS Log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0124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124080" y="4114800"/>
            <a:ext cx="274320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980D-06C4-4FCC-A9F2-A553179700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SLDS Log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487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C503-F57A-442F-AF50-32D5483E80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6000" r="0" b="8322"/>
          <a:stretch/>
        </p:blipFill>
        <p:spPr>
          <a:xfrm>
            <a:off x="571680" y="1371600"/>
            <a:ext cx="800100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6094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N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57A8-90D5-437E-A231-F11E8F22E2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SLDS Log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0600" y="1752480"/>
            <a:ext cx="82962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1E67-84D0-4B0B-A062-81D8C3E9FF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ssword Chan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5804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4C82-29F7-4485-87CB-67DD38691C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ystem 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49604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7B97-ACA2-4D67-BA01-979675465D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ownload Help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5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3C1D-48CC-45EB-B390-D5DBB52149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SLDS Main Menu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572000" y="3886200"/>
            <a:ext cx="312408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A4E4-786C-45A0-990D-1E5101A2A9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id Tab Menu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480" y="1447920"/>
            <a:ext cx="8915400" cy="3962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3733920" y="2362320"/>
            <a:ext cx="5331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B1B1-83D3-4FD1-9E39-031C523CBD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an Summa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7960" y="533520"/>
            <a:ext cx="4181760" cy="5410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3828960" cy="1589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800600" y="2971800"/>
            <a:ext cx="3809880" cy="8143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4190760" cy="1981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3809880" y="2286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5053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48006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4505-0DAD-490A-B338-EA6EC8654E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an Detai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1981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48200" y="1600200"/>
            <a:ext cx="4195800" cy="5257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2209680"/>
            <a:ext cx="30492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666880"/>
            <a:ext cx="0" cy="152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191120"/>
            <a:ext cx="3353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9B7E-4238-4770-9464-4B1B2CEAAB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payment Displa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60104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56E8-1419-459A-B670-8CFBBF1497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ment Summa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0572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429000" y="3962520"/>
            <a:ext cx="1676520" cy="30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2209680"/>
            <a:ext cx="45720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23F5-8F0D-4C4B-A472-187125FC2B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6189" r="0" b="8335"/>
          <a:stretch/>
        </p:blipFill>
        <p:spPr>
          <a:xfrm>
            <a:off x="304920" y="1371600"/>
            <a:ext cx="85341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6858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rch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D5D5-3530-46E2-9BFF-FB8668A467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rg Tab Menu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7960" y="1676520"/>
            <a:ext cx="867744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4648320" y="2362320"/>
            <a:ext cx="609480" cy="3045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6D58-6ED7-418C-ABF5-AE2893C5B5E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pdate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318000" cy="45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4191120" y="5486400"/>
            <a:ext cx="380880" cy="228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938F-7932-497B-84A6-EFE9190EFA9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hort Default Ra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01000" cy="4647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4343400" y="2209680"/>
            <a:ext cx="91440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0BF1-89AB-46BD-9AAF-45AAFC0C99E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chool Profi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48680" cy="34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5638680" y="2895480"/>
            <a:ext cx="1067040" cy="228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200400"/>
            <a:ext cx="251460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0563-32FB-4A46-9F75-4EB7462BDDF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port Tab – Lende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924680" cy="410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5638680" y="2362320"/>
            <a:ext cx="533520" cy="30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4419720"/>
            <a:ext cx="381240" cy="30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444B-6E1E-476F-B7C4-4DB2675416A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port Tab – G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9480" y="1676520"/>
            <a:ext cx="8001000" cy="4495680"/>
            <a:chOff x="609480" y="1676520"/>
            <a:chExt cx="8001000" cy="449568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609480" y="1676520"/>
              <a:ext cx="8001000" cy="44956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82" name=""/>
            <p:cNvSpPr/>
            <p:nvPr/>
          </p:nvSpPr>
          <p:spPr>
            <a:xfrm>
              <a:off x="5486400" y="2362320"/>
              <a:ext cx="533520" cy="2286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4ACA-783D-4D05-8D70-1CF22587632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447920"/>
            <a:ext cx="716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-377-35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pam.eliadis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A22B-A619-4ABA-AAF6-6887DF0519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fault Management and Collection Syste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3F41-8BA7-4638-A0F2-0283B24046D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fault Management and Collections System (DMCS)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ndatory Assign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udgment Proce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P – Treasury Offset Pro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RS Skip Trace Proce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5867-CDA8-4491-A6DE-00A282B1E09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datory Assign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"/>
              </a:spcBef>
              <a:spcAft>
                <a:spcPts val="187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ratorium for 2008 through June 200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"/>
              </a:spcBef>
              <a:spcAft>
                <a:spcPts val="187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w regulations and operational processes for e-signed promissory note assign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87"/>
              </a:spcBef>
              <a:spcAft>
                <a:spcPts val="187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quires front and back of the n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87"/>
              </a:spcBef>
              <a:spcAft>
                <a:spcPts val="187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quires the lender ID for the originator that activated the n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A31F-D0BC-4244-BDF6-8CB623A88AA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Com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20872" r="0" b="8404"/>
          <a:stretch/>
        </p:blipFill>
        <p:spPr>
          <a:xfrm>
            <a:off x="228600" y="1447920"/>
            <a:ext cx="876312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2447-48D2-4841-9B3A-DB2C241106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datory Assign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disbursement data for loans with MPN’s and e-signed notes assigned on or after 7/1/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disbursement data for claims paid on or after 7/1/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B4D6-B8FC-413C-8FB6-0E920545339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Judgment Process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CMC has a schedule for accepting judgments from each G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Y2009 will be the last year to adjust ending inventory bal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ce judgments are with ECMC, no new judgments will be taken until FSA has a new system to accept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5C6D-16D1-4DEA-B229-65049B2D10E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P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SA Offsets (7/31/08) - $735,380,53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 Offsets (6/30/08)  - $561,013,48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are 150% over fiscal year 2007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ery TOP eligible borrower must have been sent a new notice to be certifi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activation files are processed by the end of Novemb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vation files are done by mid Decemb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A3DA-37BB-49F4-9BAF-FC3A9696182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RS Skip Trace Process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igned agreements with IRS but you must submit to FSA a Safeguard Procedures Report to particip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submit annual Safeguard Activity report and Safeguard 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reviews the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eep the SAIG mail boxes only once per month/we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data within 3 business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D78F-0961-474C-8FAF-DDAFAA1B7B1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tal and Permanent Disability - CDD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4269-3BA0-4485-A49B-89F2787F26D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tal and Permanent Disabi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name is CDDTS – Conditional Disability Discharge Tracking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ments are in the same format as defaulted loan assign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on the lookout for a new discharge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format should improve the quality of information we rece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E713-BBF4-4B37-958A-D27B18F16B1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447920"/>
            <a:ext cx="716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-377-34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dwight.vigna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9AED-C4FB-4A9F-946F-6A7F39BAE23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Resour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26303" r="0" b="8272"/>
          <a:stretch/>
        </p:blipFill>
        <p:spPr>
          <a:xfrm>
            <a:off x="0" y="1447920"/>
            <a:ext cx="9144000" cy="46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FD93-5BB6-4509-8FE0-5CE4754870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Management Syste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26025" r="0" b="8480"/>
          <a:stretch/>
        </p:blipFill>
        <p:spPr>
          <a:xfrm>
            <a:off x="0" y="1752480"/>
            <a:ext cx="914400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3F8D-92A4-4B4F-9E7D-AB9ABCDF62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ata Exchan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26088" r="0" b="7825"/>
          <a:stretch/>
        </p:blipFill>
        <p:spPr>
          <a:xfrm>
            <a:off x="228600" y="16002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057F-F481-4900-B9A5-4841453C41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ata Ma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F927-DF69-4F44-A1D2-7BC5C6C725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#Administrator</cp:lastModifiedBy>
  <dcterms:modified xsi:type="dcterms:W3CDTF">2008-09-26T14:29:43Z</dcterms:modified>
  <cp:revision>235</cp:revision>
  <dc:subject/>
  <dc:title>PowerPoint Presentation</dc:title>
</cp:coreProperties>
</file>