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BE17-2FBF-417E-9CB5-3A053759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15A-8065-45FA-BD28-AD6E6794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79D5-0A56-4041-B8F8-0162C9C8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A23-9A26-42CF-B069-6F525728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BBD-9F41-4189-B8D9-C3857E73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60C-F9C7-4404-BDD3-24CD71B1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C94-A5E0-4D4F-BB52-049D3AB6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8F61-8F5A-45F0-82AF-1B109E280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A34A-7376-4DE8-8B0D-675A973D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3E8F-7EEF-48F0-8252-B4D4E0A9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BEB9-3986-4630-819B-136985069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A16-23AF-49B9-93D9-9ECC4A05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9AC-2AF8-4D2C-9282-4CEF07F9C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0545-AA44-40C2-AF1B-7E895C89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DDB-7396-41A8-8BB2-138981A0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7F2-5B40-4F81-9D4E-838A11C1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6F9A-8961-460C-8459-6C2813559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where we place the most updated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where we put information that has been removed from its original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atorium – For all certified TOP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at’s New Page keeps our customers informed on when the posting will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uch as a screen print showing each disbursement date and amount or a Notice of Loan Guaranty and Disclosure Statement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 claims paid on or after 7/1/2008, we would expect to see a record of the lender's disbursement of the loan funds to the school, such as a ro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65 day notice has been modified for State offsets and any future off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Procedures Report – GA detailed report on how they are going to safeguard the IRS tax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Activity Report – A summary of the data in the Procedures report and what you did to improve your processes.  If you have a major change to your process, you would need to re-submit your Safeguard Procedure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guard Certification – Used be called a transmittal letter when we used tapes.  We have given you the certification language that an official from the GA must sig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act Resources page is takes you to the Regional Directors, the Organizational Chart for Financial Partners.  It also give you the Financial Partners mailbox address: fpportal@ed.gov and where you can sign up to be on the listserv where you can receive message when there has been a new posting to the por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ncial Management System (FMS) is where you can find information on the LaRs system and Guaranty Agency Financial Reports (GAF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91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Exchange page houses information Guaranty Agency Financial Reports and LAP/LaRs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9B26-CB7C-4C96-A6B9-96389E413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54B-362E-46CC-80D3-DB1A4C847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F293-6F1E-461B-A3F6-0FEC20399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5F53-2A91-428E-A360-7DBFBBA888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5666-042A-40F6-A5B6-C11B0CB5B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E6D1-FCB5-472E-96FD-625529D40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0669-12BC-4BD4-A7B8-6C27B02E5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6C8E-ACAA-4D2E-ADE4-D0384D1B2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1E2E-87D5-4EDC-A688-A12D2DAED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A46A-67C3-4F9F-AA14-1F53D904E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F70D-599A-4167-A2B9-B0563173A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F64A-FF97-439A-8B03-EF8AC05BC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9720" indent="-21132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8456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1840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522440" indent="-168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B18C-7749-483F-A8CB-EFC3C94907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fp-mart.ed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rrent Electronic Services Offered by Federal Student Aid for GA's an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m Eliad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on selecting the “Financial Partners Data Mart” option from the Financial Partners Portal home page, you will be directed to the Financial Partners Data Mart quick access p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users can log into FP Data Mart and new users can request access to th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E0C9-D515-4195-ACD1-087974ABBC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295280"/>
            <a:ext cx="9144000" cy="4964400"/>
            <a:chOff x="0" y="1295280"/>
            <a:chExt cx="9144000" cy="49644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0" t="19051" r="0" b="8574"/>
            <a:stretch/>
          </p:blipFill>
          <p:spPr>
            <a:xfrm>
              <a:off x="0" y="1295280"/>
              <a:ext cx="9144000" cy="49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791320" y="2068560"/>
              <a:ext cx="2666880" cy="3124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4427-5A2F-4D12-9CAC-48947EE21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 Regist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initiate the request for access to FPDM, a completed User ID Request Form must be signed and delivered to the FPDM System Security Officer. The SSO must have a hard copy of the request form with an original signature before the request can be appro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the SSO approves it, the access request procedures become automated and the requestor will be notified by ema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2C4A-E39B-4C66-A1C4-052CE78C8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26649" r="0" b="8644"/>
          <a:stretch/>
        </p:blipFill>
        <p:spPr>
          <a:xfrm>
            <a:off x="0" y="1752480"/>
            <a:ext cx="9144000" cy="443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s Data Mart Regist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5C8-F611-42DD-8C37-FDD7014AE7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ed FP Data Mart users can access the login page vi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p.ed.gov 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s://fp-mart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name and password are supplied during the automated registration process after security forms have been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71B4-7361-47D6-9516-8D6F813AD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s will be prompted to change their password upon first login and every 90 day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assword must conform to Department of Ed/Federal Student Aid stand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FEFF-F72E-4B86-83EE-1EB79097D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ft side-bar allows for access account management in the event of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gotten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used when directed, as part of automated request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341C-0F55-409C-AF6D-11E93A9E3B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523880"/>
            <a:ext cx="9144000" cy="4572000"/>
            <a:chOff x="0" y="1523880"/>
            <a:chExt cx="9144000" cy="4572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0" t="19032" r="0" b="6741"/>
            <a:stretch/>
          </p:blipFill>
          <p:spPr>
            <a:xfrm>
              <a:off x="0" y="152388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2895480"/>
              <a:ext cx="1523880" cy="1905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mart Login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4C83-FCAC-4694-9DAA-867A66A526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successful login, the Welcome page will appear and list all Microstrategy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PDM users will only have access to the Financial Partners proje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5A9C-4D85-4AC4-B942-92A233F65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19032" r="0" b="8644"/>
          <a:stretch/>
        </p:blipFill>
        <p:spPr>
          <a:xfrm>
            <a:off x="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4114800"/>
            <a:ext cx="3810240" cy="15238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P Data Mart 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F425-131F-49D8-AEBC-E5DF501AE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 Portal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10C0-FDDE-4779-ABD7-16896532D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9467" r="0" b="8228"/>
          <a:stretch/>
        </p:blipFill>
        <p:spPr>
          <a:xfrm>
            <a:off x="2209680" y="2895480"/>
            <a:ext cx="6934320" cy="3619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19320" y="3675240"/>
            <a:ext cx="2081160" cy="10015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vigating FPDM Fol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ccess public reports, double click on the Shared Reports folder.  A list of public folders will app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9055-5E82-4890-83FA-27D97F34C4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00200" y="2514600"/>
            <a:ext cx="7162920" cy="3733920"/>
            <a:chOff x="1600200" y="2514600"/>
            <a:chExt cx="7162920" cy="37339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19448" r="0" b="8335"/>
            <a:stretch/>
          </p:blipFill>
          <p:spPr>
            <a:xfrm>
              <a:off x="1600200" y="2514600"/>
              <a:ext cx="71629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83280" y="4094280"/>
              <a:ext cx="2970000" cy="1392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vigating FPDM Fol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 click the desired to folder to view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E32D-CFC4-4BDF-823D-4A531B8E2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762120" y="2286000"/>
            <a:ext cx="7923960" cy="3962160"/>
            <a:chOff x="762120" y="2286000"/>
            <a:chExt cx="7923960" cy="39621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92396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87480" y="4849920"/>
              <a:ext cx="1810800" cy="9046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uble click a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BD6B-A01D-40AC-AE2A-54693A1DD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2286000"/>
            <a:ext cx="7848000" cy="4266360"/>
            <a:chOff x="609480" y="2286000"/>
            <a:chExt cx="7848000" cy="42663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2286000"/>
              <a:ext cx="5607000" cy="32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850480" y="3282120"/>
              <a:ext cx="5607000" cy="327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the promp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52D1-3FB0-42A8-8D7F-F49A1EA534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114640"/>
            <a:ext cx="6019920" cy="451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nning a FPDM Re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will displ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2808-46F1-4406-8546-E300E16042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362320" y="2133720"/>
            <a:ext cx="6176520" cy="4647600"/>
            <a:chOff x="2362320" y="2133720"/>
            <a:chExt cx="6176520" cy="46476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2362320" y="2133720"/>
              <a:ext cx="6176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40960" y="2840760"/>
              <a:ext cx="793440" cy="2649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gging out of FPD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“logout” and close the web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A497-4E55-4505-B92D-A0A40BE379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tional Student Loan Data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E6A5-03AF-4D2F-A489-7F87F704E2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365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143000" y="5638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a9"/>
                </a:solidFill>
                <a:latin typeface="Verdana"/>
              </a:rPr>
              <a:t>www.nsldsfap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4C9F-0603-4C6F-84FC-10B63CD315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012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124080" y="4114800"/>
            <a:ext cx="274320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7F74-4067-4922-A422-2AE19E1276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7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845A-8CB7-4C5D-BF29-D0A192BB9E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000" r="0" b="8322"/>
          <a:stretch/>
        </p:blipFill>
        <p:spPr>
          <a:xfrm>
            <a:off x="571680" y="13716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094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D102-73AF-4A3B-B8DC-003AF411A7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Log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0600" y="1752480"/>
            <a:ext cx="829620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5717-0B11-448D-BF38-824F43A944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ssword Cha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580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522-6F6C-404C-9FFE-4CC9CEA49D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ystem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9604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F987-F45A-4DEB-BA53-D5876A9BC9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ownload Hel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7DEC-02BA-44D2-A794-986E7F2E88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Main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572000" y="3886200"/>
            <a:ext cx="3124080" cy="533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09C6-F1A9-4116-9743-214E0FE738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id Tab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480" y="1447920"/>
            <a:ext cx="8915400" cy="396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733920" y="2362320"/>
            <a:ext cx="5331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9C8E-196B-4395-91C8-1981C99F82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7960" y="533520"/>
            <a:ext cx="418176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828960" cy="1589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3809880" cy="8143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190760" cy="1981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809880" y="2286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48006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FFD6-0208-4F0F-BADD-A1D3C17FAD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Detai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1120" cy="198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48200" y="1600200"/>
            <a:ext cx="419580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2209680"/>
            <a:ext cx="30492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666880"/>
            <a:ext cx="0" cy="152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191120"/>
            <a:ext cx="3353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0D59-0A63-4312-9A62-20107FDEC1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payment Displa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010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D43F-DC2C-4124-99AD-4F61224016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0572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429000" y="3962520"/>
            <a:ext cx="167652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209680"/>
            <a:ext cx="457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B16C-315D-494A-8BC3-AC4CD80633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6189" r="0" b="8335"/>
          <a:stretch/>
        </p:blipFill>
        <p:spPr>
          <a:xfrm>
            <a:off x="304920" y="1371600"/>
            <a:ext cx="85341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6858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rch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AB74-6766-47D8-9AFB-764226801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rg Tab Menu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7960" y="1676520"/>
            <a:ext cx="867744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4648320" y="2362320"/>
            <a:ext cx="609480" cy="3045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4691-5EB7-4AED-9639-F148A31B2F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pdate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1800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1120" y="5486400"/>
            <a:ext cx="380880" cy="228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0330-B022-4EC0-9C1A-0CE51487AF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hort Default R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464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343400" y="2209680"/>
            <a:ext cx="91440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96B4-F0A3-4DCD-A0E0-48E5CD6274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Profi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48680" cy="34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638680" y="2895480"/>
            <a:ext cx="1067040" cy="228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200400"/>
            <a:ext cx="25146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F24F-309E-4CAA-AE52-964652E0D7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 Tab – Lend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410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5638680" y="2362320"/>
            <a:ext cx="53352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419720"/>
            <a:ext cx="38124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9900-3E63-4776-83A8-4A1FC86553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 Tab – G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9480" y="1676520"/>
            <a:ext cx="8001000" cy="4495680"/>
            <a:chOff x="609480" y="1676520"/>
            <a:chExt cx="8001000" cy="44956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609480" y="1676520"/>
              <a:ext cx="8001000" cy="4495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82" name=""/>
            <p:cNvSpPr/>
            <p:nvPr/>
          </p:nvSpPr>
          <p:spPr>
            <a:xfrm>
              <a:off x="5486400" y="2362320"/>
              <a:ext cx="533520" cy="228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919F-F8E0-4801-9B0A-9F9D0B8AEE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4792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pam.eliadi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A3C8-FC8D-4FB0-BCB5-B108448E63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fault Management and Collection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5C02-D3F6-4A9D-A92D-C7D07162F2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fault Management and Collections System (DMCS)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datory Assign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dgment Proce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– Treasury Offset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RS Skip Trace Proce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7A0B-2E4E-449E-AA3E-BF33AEDC69B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Assign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ratorium for 2008 through June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 regulations and operational processes for e-signed promissory note assig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ires front and back of the n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87"/>
              </a:spcBef>
              <a:spcAft>
                <a:spcPts val="187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quires the lender ID for the originator that activated the n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16F5-EA82-4A9E-96ED-14C709D933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Com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20872" r="0" b="8404"/>
          <a:stretch/>
        </p:blipFill>
        <p:spPr>
          <a:xfrm>
            <a:off x="228600" y="1447920"/>
            <a:ext cx="876312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7090-C48C-4948-8A79-38463D3491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Assign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disbursement data for loans with MPN’s and e-signed notes assigned on or after 7/1/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disbursement data for claims paid on or after 7/1/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8C76-352A-43F2-AB18-BCF83F00B4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Judgment Process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CMC has a schedule for accepting judgments from each G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Y2009 will be the last year to adjust ending inventory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judgments are with ECMC, no new judgments will be taken until FSA has a new system to accept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2A65-E789-418B-83ED-8E0F2885A8B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SA Offsets (7/31/08) - $735,380,53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 Offsets (6/30/08)  - $561,013,48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re 150% over fiscal year 2007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TOP eligible borrower must have been sent a new notice to be cert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tivation files are processed by the end of Nove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vation files are done by mid Dece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01FE-F7CA-4D58-8B2C-2528A16D91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RS Skip Trace Process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igned agreements with IRS but you must submit to FSA a Safeguard Procedures Report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submit annual Safeguard Activity report and Safeguard 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reviews the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eep the SAIG mail boxes only once per month/we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data within 3 business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7951-78D6-46B0-A4F0-06F19D77C4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nd Permanent Disability - CDD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1202-02E9-4EAB-A276-D73D9F4CD6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nd Permanent Disa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name is CDDTS – Conditional Disability Discharge Track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ments are in the same format as defaulted loan 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on the lookout for a new discharge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format should improve the quality of information we rece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B755-6BD9-4D48-B617-4CE8F79D2E5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44792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4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dwight.vigna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F94A-FDD6-4323-83D3-55F8B6350A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6303" r="0" b="8272"/>
          <a:stretch/>
        </p:blipFill>
        <p:spPr>
          <a:xfrm>
            <a:off x="0" y="1447920"/>
            <a:ext cx="914400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579E-2287-4112-A7FB-F7921378B7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Management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26025" r="0" b="8480"/>
          <a:stretch/>
        </p:blipFill>
        <p:spPr>
          <a:xfrm>
            <a:off x="0" y="1752480"/>
            <a:ext cx="9144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8D6A-CB78-43F0-92C4-97CDF9EB58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Excha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26088" r="0" b="7825"/>
          <a:stretch/>
        </p:blipFill>
        <p:spPr>
          <a:xfrm>
            <a:off x="228600" y="16002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19FE-D639-47E7-8791-09B54D5CD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Partner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163A-EBC2-438A-8404-3F67E622E8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09-26T14:29:43Z</dcterms:modified>
  <cp:revision>235</cp:revision>
  <dc:subject/>
  <dc:title>PowerPoint Presentation</dc:title>
</cp:coreProperties>
</file>