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9.jpeg" ContentType="image/jpeg"/>
  <Override PartName="/ppt/media/image6.wmf" ContentType="image/x-wmf"/>
  <Override PartName="/ppt/media/image29.wmf" ContentType="image/x-wmf"/>
  <Override PartName="/ppt/media/image3.png" ContentType="image/png"/>
  <Override PartName="/ppt/media/image11.wmf" ContentType="image/x-wmf"/>
  <Override PartName="/ppt/media/image2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.png" ContentType="image/png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1.jpeg" ContentType="image/jpeg"/>
  <Override PartName="/ppt/media/image23.wmf" ContentType="image/x-wmf"/>
  <Override PartName="/ppt/media/image24.png" ContentType="image/pn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C312-46A3-4590-A6DE-B85C444CF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7F601A-9F52-410A-9C93-5133233A31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50834C-0C98-400E-973F-4FD4B66DEF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1104840" y="698400"/>
            <a:ext cx="464832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800" y="4417560"/>
            <a:ext cx="54849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BA8A72-DC4D-486D-986A-9F23C4917E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45C65F-31E3-4AE1-B207-7F30342D43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B300D4-A942-40D8-B161-676B3C1465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ED555C-5905-4E2B-BBF2-A6BFB0F69D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6F8D88-B967-4142-936B-C27E65AD6C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1104840" y="698400"/>
            <a:ext cx="464832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800" y="4417560"/>
            <a:ext cx="54849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D05693-5B9F-477F-8F0D-F3D840702F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1144440" y="696960"/>
            <a:ext cx="457200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CF5E651-56B8-46BD-9587-57F10706A1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144440" y="696960"/>
            <a:ext cx="457200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B1B16C-6C57-439E-8780-1E8361B6E4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1144440" y="698400"/>
            <a:ext cx="457200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259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1143000" y="685800"/>
            <a:ext cx="457200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9BDD-2DE7-496D-90FB-72319EBCC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C4C5-C086-4721-95FA-0C999D48F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1F16-1E9C-41DB-B17F-9E86F023A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0574-3145-41CD-B410-15947159C1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05A0-B509-4ECC-A848-B2C7BFD231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F85C-7BC6-495F-B998-B06EA5D00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15C3-F0DA-441F-980B-AED96E11B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2E63-683C-41D6-916D-697612DA7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6609-D20F-447B-ABD9-C81402C7B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C87F-8A7A-4837-AD47-E24C6CC9E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F7D0-24D0-45DA-9D6E-7759D9C93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E3DE-4894-4145-8F05-BA196BACC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D5F6-8487-458E-AC9F-F67293758E8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699160" y="628956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ederalstudentaid.ed.gov/ffelp" TargetMode="External"/><Relationship Id="rId2" Type="http://schemas.openxmlformats.org/officeDocument/2006/relationships/hyperlink" Target="http://www.federalstudentaid.ed.gov/ffelp" TargetMode="External"/><Relationship Id="rId3" Type="http://schemas.openxmlformats.org/officeDocument/2006/relationships/hyperlink" Target="http://www.federalstudentaid.ed.gov/ffelp" TargetMode="External"/><Relationship Id="rId4" Type="http://schemas.openxmlformats.org/officeDocument/2006/relationships/hyperlink" Target="http://www.federalstudentaid.ed.gov/ffelp" TargetMode="External"/><Relationship Id="rId5" Type="http://schemas.openxmlformats.org/officeDocument/2006/relationships/hyperlink" Target="http://www.federalstudentaid.ed.gov/ffelp" TargetMode="External"/><Relationship Id="rId6" Type="http://schemas.openxmlformats.org/officeDocument/2006/relationships/hyperlink" Target="http://www.federalstudentaid.ed.gov/ffelp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0.png"/><Relationship Id="rId9" Type="http://schemas.openxmlformats.org/officeDocument/2006/relationships/image" Target="../media/image13.wmf"/><Relationship Id="rId10" Type="http://schemas.openxmlformats.org/officeDocument/2006/relationships/image" Target="../media/image16.wmf"/><Relationship Id="rId11" Type="http://schemas.openxmlformats.org/officeDocument/2006/relationships/image" Target="../media/image13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F5D1-624C-481C-83EC-ACDED3698A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  <a:ea typeface="Times New Roman"/>
              </a:rPr>
              <a:t>Federal Update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vid Berger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n Madze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02F5-468B-4B8E-95F3-7BE9E4917A0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5107"/>
                </a:solidFill>
                <a:latin typeface="Verdana"/>
                <a:ea typeface="Times New Roman"/>
              </a:rPr>
              <a:t>ACG and National SMART Gra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ligible Non-Citizens Elig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 least half-time enroll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udents in certificate programs eligible, if program is at least one year in length and offered at a two or four-year degree granting i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wards based on student’s grade level instead of “academic year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ffective July 1, 2009 – by HEO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E567-62A9-4BC8-93A2-15C1BF2AEA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1523880"/>
          <a:ext cx="8077320" cy="4430880"/>
        </p:xfrm>
        <a:graphic>
          <a:graphicData uri="http://schemas.openxmlformats.org/drawingml/2006/table">
            <a:tbl>
              <a:tblPr/>
              <a:tblGrid>
                <a:gridCol w="3733920"/>
                <a:gridCol w="2133720"/>
                <a:gridCol w="22096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A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itional Unsubsidiz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r 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r 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per Division De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r 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r 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per Division Inde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7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uate/Profess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8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84"/>
          <p:cNvSpPr/>
          <p:nvPr/>
        </p:nvSpPr>
        <p:spPr>
          <a:xfrm>
            <a:off x="669960" y="380880"/>
            <a:ext cx="790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FFEL/DL Annual Loan Lim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0263-B6C7-46CA-BF94-A07321687CC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Interest Rates</a:t>
            </a:r>
            <a:br>
              <a:rPr sz="4400"/>
            </a:b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d interest rates on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undergraduate subsidized loans only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from current 6.8% t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5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.0% for loans disbursed on or after 7/1/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.6% for loans disbursed on or after 7/1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.5% for loans disbursed on or after 7/1/20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4% for loans disbursed on or after 7/1/2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eginning 7/1/2012, rates revert to 6.8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subsidized Stafford Loans and all Staffords for graduate students remain at 6.8% fix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300A-963C-43F9-9DB9-BD49127454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  <a:ea typeface="Times New Roman"/>
              </a:rPr>
              <a:t>PLUS Loan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tenuating circumstances for adverse credit may include delinquency of up to 180 days on mortgage payments or on medical bill pay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layed repayment start date for parent PLUS borrowers at their op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2C09-B366-461F-A030-02E9B07FA4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  <a:ea typeface="Times New Roman"/>
              </a:rPr>
              <a:t>Professional Judgment Dependency Override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ds dislocated worker and homelessness as examples of when an FAA can use professional judg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vides that an FAA can use a dependency override made by another FAA within the same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oth effective for the 2009-2010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17A8-CCA7-4426-B6E1-1F485667E5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99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  <a:ea typeface="Lucida Sans Unicode"/>
              </a:rPr>
              <a:t>Student Lending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69FF-DF19-448E-9B64-ED57C23FE2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L/FFEL Activity for ’08-’09</a:t>
            </a:r>
            <a:br>
              <a:rPr sz="16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914400"/>
          <a:ext cx="8534520" cy="5099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904760"/>
                <a:gridCol w="17528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TD 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TD 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ct Lo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9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5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ELP Lo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7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7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6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2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ct Lo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.5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2.3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6.7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2.6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5.2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4.9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9"/>
          <p:cNvSpPr/>
          <p:nvPr/>
        </p:nvSpPr>
        <p:spPr>
          <a:xfrm>
            <a:off x="380880" y="15238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umber of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50"/>
          <p:cNvSpPr/>
          <p:nvPr/>
        </p:nvSpPr>
        <p:spPr>
          <a:xfrm>
            <a:off x="838080" y="3962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F637-BA6F-4CB2-9513-28F24CAA67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Student Lending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A Lender of Last Resort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ar Colleague Let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CASLA Loan Purchase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federalstudentaid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.ed.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4"/>
              </a:rPr>
              <a:t>gov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5"/>
              </a:rPr>
              <a:t>/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6"/>
              </a:rPr>
              <a:t>ffel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1F2A-BFEB-48AC-A913-FC5E7E262B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05920" cy="35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2006-2007 Regulations</a:t>
            </a:r>
            <a:br>
              <a:rPr sz="4400"/>
            </a:b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School Lender Relationships</a:t>
            </a:r>
            <a:br>
              <a:rPr sz="4400"/>
            </a:b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(Effective 7-1-08)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96E4-5D76-49B9-9088-A9A5780F10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FFEL Loan Certification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school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may no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fuse or delay certification based on borrower’s choice of lender or G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gn lender to first-time borr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fuse to certify or certify a reduced amount; except on 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 case-by-case ba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Includes “school as lender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D26C-0B53-4E36-B59A-E6257F3379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7160"/>
            <a:ext cx="872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  <a:ea typeface="Times New Roman"/>
              </a:rPr>
              <a:t>Agenda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71280"/>
            <a:ext cx="7772400" cy="58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dg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ere We Are To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udent Lend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gul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ar Colleague Let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 Rational Approach to Federal Student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3B55-4DF3-4823-9828-F0921BC4C0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510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ool may choose to have preferred lender list (includes web process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st must have at least 3 unaffiliated len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st disclose method/criteria for lender inclusion on the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provide comparativ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Must include prominent statement advising borrowers that use of school preferred lender not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5468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  <a:ea typeface="ＭＳ Ｐゴシック"/>
              </a:rPr>
              <a:t>FFEL Preferred Lender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B087-2829-4DED-9F04-EDCC403FDF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3499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Prohibited Inducement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ffects FFEL lenders and guaranty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reates concept of “rebuttable presumption” for prohibited and allowed activ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des a non-exhaustive list of prohibited activ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des a list of allowed activ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B6E6-B110-4FD0-A9FD-9F42453AE4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305920" cy="31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2007-2008 Regulation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C6F2-0962-48F4-A79D-18CCB2B2D13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2007-08 TEACH Final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ffective for the 2008-2009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st be repaid as Direct Unsubsidized Loan if student does not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ach for at least four years within eight years of ceasing enrollment in the TEACH Grant eligible program, as a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3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ighly Qualified Teac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 a Title I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a specified subject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for a dollar, in for four years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7E38-F498-45FC-ABBA-99B131D9EF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2007-08 TEACH Final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p to $4,000 per year for first undergraduate or post-baccalaureate (non degree) program - $16,000 aggreg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p to $4,000 per year for graduate student -  $8,000 aggreg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rated amounts for less than full-tim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ward, when combined with other assistance, cannot exceed cost of attendance (No EF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B1D3-B4F7-4F11-9C6A-9C0D32F686C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2007-08 TEACH Final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 Grant recipient must teach in a high-need field in the majority of classes tau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” high-need fields must be listed in the Department of Education’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ationwide Listing of Teacher Shortage Area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time the recipient begins qualified teac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63D1-92E7-43EE-A4EA-3D5A414B1CD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2007-08 TEACH Final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itutional Elig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DCL GEN-08-07, posted to IFAP on June 3,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al Choice whether to particip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n institution that offers one or more TEACH Grant-eligible programs may participate in the TEACH Grant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FD5E-6082-47F0-A619-3257F422CAA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TEACH Grant Statistic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533520" y="2209680"/>
          <a:ext cx="8286480" cy="24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28648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E3EB-6DF8-4FF6-B16E-12A97863C1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80" y="784440"/>
            <a:ext cx="8915400" cy="5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2007-2008 Loans Final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52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 algn="ctr">
              <a:lnSpc>
                <a:spcPct val="2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finition of Not-for-Profit Ho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FEL On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ome-based Repayment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FEL and Direct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lnSpc>
                <a:spcPct val="5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ublic Service Loan Forgive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rect Loan on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lnSpc>
                <a:spcPct val="4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conomic Hardship and Military Servic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fer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FEL, Direct Loans, and Perk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6DCC-BEC1-4080-B129-33CEC8DC0E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5407"/>
                </a:solidFill>
                <a:latin typeface="Verdana"/>
              </a:rPr>
              <a:t>A Rational Approach to Federal Student Aid</a:t>
            </a:r>
            <a:endParaRPr b="1" lang="en-US" sz="48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2A1D-7D9B-45AE-9370-606A6A7947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63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  <a:ea typeface="Lucida Sans Unicode"/>
              </a:rPr>
              <a:t>Appropriations and</a:t>
            </a:r>
            <a:br>
              <a:rPr sz="4400"/>
            </a:br>
            <a:r>
              <a:rPr b="1" lang="en-GB" sz="4400" spc="-1" strike="noStrike">
                <a:solidFill>
                  <a:srgbClr val="c85107"/>
                </a:solidFill>
                <a:latin typeface="Verdana"/>
                <a:ea typeface="Lucida Sans Unicode"/>
              </a:rPr>
              <a:t>Program Budget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443C-ED95-4760-B97D-45EC6B07E3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dat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ntire financial aid system—including federal, state, institutional, and private programs—is confusing, complex, inefficient, duplicative, and frequently does not direct aid to students who truly need i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ecretary of Education’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ssion on the Future of Higher Edu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3EA4-0FDB-4AD0-B741-8C63D7CD19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dat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gress, in passing the HEOA, required the Department of Education to issue a report on efforts to simplify the FAFSA that includes looking at the elimination of income data elements, as well as other items. 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6AE1-5729-4B6B-A977-F99188F35C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484200" y="5446800"/>
            <a:ext cx="8659800" cy="1209600"/>
          </a:xfrm>
          <a:prstGeom prst="rect">
            <a:avLst/>
          </a:prstGeom>
          <a:solidFill>
            <a:srgbClr val="ffcc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84200" y="3160800"/>
            <a:ext cx="8659800" cy="2286000"/>
          </a:xfrm>
          <a:prstGeom prst="rect">
            <a:avLst/>
          </a:prstGeom>
          <a:solidFill>
            <a:srgbClr val="ffcc99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77920" y="2117880"/>
            <a:ext cx="8658000" cy="1042920"/>
          </a:xfrm>
          <a:prstGeom prst="rect">
            <a:avLst/>
          </a:prstGeom>
          <a:solidFill>
            <a:srgbClr val="ffcc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77920" y="974880"/>
            <a:ext cx="865800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77920" y="135000"/>
            <a:ext cx="8658000" cy="839880"/>
          </a:xfrm>
          <a:prstGeom prst="rect">
            <a:avLst/>
          </a:prstGeom>
          <a:solidFill>
            <a:srgbClr val="ffffcc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7"/>
          <p:cNvSpPr/>
          <p:nvPr/>
        </p:nvSpPr>
        <p:spPr>
          <a:xfrm rot="5400000">
            <a:off x="133200" y="279360"/>
            <a:ext cx="839880" cy="550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epa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 rot="5400000">
            <a:off x="-1440" y="1254240"/>
            <a:ext cx="1109520" cy="550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hoo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9"/>
          <p:cNvSpPr/>
          <p:nvPr/>
        </p:nvSpPr>
        <p:spPr>
          <a:xfrm rot="5400000">
            <a:off x="31680" y="2363760"/>
            <a:ext cx="1042920" cy="55080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l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0"/>
          <p:cNvSpPr/>
          <p:nvPr/>
        </p:nvSpPr>
        <p:spPr>
          <a:xfrm rot="5400000">
            <a:off x="-589680" y="4028400"/>
            <a:ext cx="2286000" cy="5508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"/>
          <p:cNvSpPr/>
          <p:nvPr/>
        </p:nvSpPr>
        <p:spPr>
          <a:xfrm rot="5400000">
            <a:off x="-51480" y="5776200"/>
            <a:ext cx="1209600" cy="550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2" descr="j0106614"/>
          <p:cNvPicPr/>
          <p:nvPr/>
        </p:nvPicPr>
        <p:blipFill>
          <a:blip r:embed="rId1"/>
          <a:stretch/>
        </p:blipFill>
        <p:spPr>
          <a:xfrm>
            <a:off x="4017960" y="571680"/>
            <a:ext cx="897120" cy="46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BL00544A"/>
          <p:cNvPicPr/>
          <p:nvPr/>
        </p:nvPicPr>
        <p:blipFill>
          <a:blip r:embed="rId2"/>
          <a:stretch/>
        </p:blipFill>
        <p:spPr>
          <a:xfrm>
            <a:off x="1662120" y="2117880"/>
            <a:ext cx="831960" cy="358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j0199843"/>
          <p:cNvPicPr/>
          <p:nvPr/>
        </p:nvPicPr>
        <p:blipFill>
          <a:blip r:embed="rId3"/>
          <a:stretch/>
        </p:blipFill>
        <p:spPr>
          <a:xfrm>
            <a:off x="762120" y="2655720"/>
            <a:ext cx="993600" cy="536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j0389512"/>
          <p:cNvPicPr/>
          <p:nvPr/>
        </p:nvPicPr>
        <p:blipFill>
          <a:blip r:embed="rId4"/>
          <a:stretch/>
        </p:blipFill>
        <p:spPr>
          <a:xfrm>
            <a:off x="4017960" y="3025800"/>
            <a:ext cx="969840" cy="39996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163" name="Picture 16" descr="j0370310"/>
          <p:cNvPicPr/>
          <p:nvPr/>
        </p:nvPicPr>
        <p:blipFill>
          <a:blip r:embed="rId5"/>
          <a:stretch/>
        </p:blipFill>
        <p:spPr>
          <a:xfrm>
            <a:off x="7620120" y="2620800"/>
            <a:ext cx="1244520" cy="381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BS01022_"/>
          <p:cNvPicPr/>
          <p:nvPr/>
        </p:nvPicPr>
        <p:blipFill>
          <a:blip r:embed="rId6"/>
          <a:stretch/>
        </p:blipFill>
        <p:spPr>
          <a:xfrm>
            <a:off x="7689960" y="1951200"/>
            <a:ext cx="1245960" cy="57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BS01111_"/>
          <p:cNvPicPr/>
          <p:nvPr/>
        </p:nvPicPr>
        <p:blipFill>
          <a:blip r:embed="rId7"/>
          <a:stretch/>
        </p:blipFill>
        <p:spPr>
          <a:xfrm>
            <a:off x="4363920" y="5008680"/>
            <a:ext cx="1109880" cy="40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BL00544A"/>
          <p:cNvPicPr/>
          <p:nvPr/>
        </p:nvPicPr>
        <p:blipFill>
          <a:blip r:embed="rId8"/>
          <a:stretch/>
        </p:blipFill>
        <p:spPr>
          <a:xfrm>
            <a:off x="4017960" y="6018120"/>
            <a:ext cx="1047600" cy="4525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0"/>
          <p:cNvSpPr/>
          <p:nvPr/>
        </p:nvSpPr>
        <p:spPr>
          <a:xfrm>
            <a:off x="5166360" y="5446800"/>
            <a:ext cx="480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w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3186000" y="4538520"/>
            <a:ext cx="828720" cy="1666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Subsidiz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4433760" y="4538520"/>
            <a:ext cx="831960" cy="1666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Un-subsidiz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5541840" y="4538520"/>
            <a:ext cx="831960" cy="1666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PL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4"/>
          <p:cNvSpPr/>
          <p:nvPr/>
        </p:nvSpPr>
        <p:spPr>
          <a:xfrm>
            <a:off x="3602160" y="4336920"/>
            <a:ext cx="23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3602160" y="4336920"/>
            <a:ext cx="0" cy="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6"/>
          <p:cNvSpPr/>
          <p:nvPr/>
        </p:nvSpPr>
        <p:spPr>
          <a:xfrm>
            <a:off x="4780080" y="4336920"/>
            <a:ext cx="0" cy="6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7"/>
          <p:cNvSpPr/>
          <p:nvPr/>
        </p:nvSpPr>
        <p:spPr>
          <a:xfrm>
            <a:off x="5958000" y="4336920"/>
            <a:ext cx="0" cy="6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8"/>
          <p:cNvSpPr/>
          <p:nvPr/>
        </p:nvSpPr>
        <p:spPr>
          <a:xfrm>
            <a:off x="5156640" y="3124080"/>
            <a:ext cx="3834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9"/>
          <p:cNvSpPr/>
          <p:nvPr/>
        </p:nvSpPr>
        <p:spPr>
          <a:xfrm>
            <a:off x="3672000" y="3732120"/>
            <a:ext cx="898560" cy="335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F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5818320" y="3732120"/>
            <a:ext cx="903240" cy="335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erk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4780080" y="3732120"/>
            <a:ext cx="901440" cy="335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2"/>
          <p:cNvSpPr/>
          <p:nvPr/>
        </p:nvSpPr>
        <p:spPr>
          <a:xfrm>
            <a:off x="4087800" y="356400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3"/>
          <p:cNvSpPr/>
          <p:nvPr/>
        </p:nvSpPr>
        <p:spPr>
          <a:xfrm>
            <a:off x="4087800" y="356400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4"/>
          <p:cNvSpPr/>
          <p:nvPr/>
        </p:nvSpPr>
        <p:spPr>
          <a:xfrm>
            <a:off x="5264280" y="356400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5"/>
          <p:cNvSpPr/>
          <p:nvPr/>
        </p:nvSpPr>
        <p:spPr>
          <a:xfrm>
            <a:off x="6303960" y="356400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6"/>
          <p:cNvSpPr/>
          <p:nvPr/>
        </p:nvSpPr>
        <p:spPr>
          <a:xfrm>
            <a:off x="4572000" y="342900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7" descr="j0370310"/>
          <p:cNvPicPr/>
          <p:nvPr/>
        </p:nvPicPr>
        <p:blipFill>
          <a:blip r:embed="rId9"/>
          <a:stretch/>
        </p:blipFill>
        <p:spPr>
          <a:xfrm>
            <a:off x="969840" y="3462480"/>
            <a:ext cx="1246320" cy="3808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8"/>
          <p:cNvSpPr/>
          <p:nvPr/>
        </p:nvSpPr>
        <p:spPr>
          <a:xfrm>
            <a:off x="1565640" y="3763800"/>
            <a:ext cx="654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t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stitut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9"/>
          <p:cNvSpPr/>
          <p:nvPr/>
        </p:nvSpPr>
        <p:spPr>
          <a:xfrm>
            <a:off x="2631960" y="3732120"/>
            <a:ext cx="900360" cy="335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0"/>
          <p:cNvSpPr/>
          <p:nvPr/>
        </p:nvSpPr>
        <p:spPr>
          <a:xfrm>
            <a:off x="3048120" y="356400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>
            <a:off x="5264640" y="2689200"/>
            <a:ext cx="4460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2" descr="BS00561_"/>
          <p:cNvPicPr/>
          <p:nvPr/>
        </p:nvPicPr>
        <p:blipFill>
          <a:blip r:embed="rId10"/>
          <a:stretch/>
        </p:blipFill>
        <p:spPr>
          <a:xfrm>
            <a:off x="2008080" y="2763720"/>
            <a:ext cx="1113120" cy="397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3"/>
          <p:cNvSpPr/>
          <p:nvPr/>
        </p:nvSpPr>
        <p:spPr>
          <a:xfrm>
            <a:off x="1746720" y="2522520"/>
            <a:ext cx="4734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end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4"/>
          <p:cNvSpPr/>
          <p:nvPr/>
        </p:nvSpPr>
        <p:spPr>
          <a:xfrm>
            <a:off x="995760" y="3208320"/>
            <a:ext cx="541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uaran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g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5"/>
          <p:cNvSpPr/>
          <p:nvPr/>
        </p:nvSpPr>
        <p:spPr>
          <a:xfrm>
            <a:off x="2183760" y="3125880"/>
            <a:ext cx="577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cond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rke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6"/>
          <p:cNvSpPr/>
          <p:nvPr/>
        </p:nvSpPr>
        <p:spPr>
          <a:xfrm>
            <a:off x="3946680" y="2824200"/>
            <a:ext cx="125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4572000" y="2755800"/>
            <a:ext cx="0" cy="6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48"/>
          <p:cNvSpPr/>
          <p:nvPr/>
        </p:nvSpPr>
        <p:spPr>
          <a:xfrm>
            <a:off x="4572000" y="282420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9"/>
          <p:cNvSpPr/>
          <p:nvPr/>
        </p:nvSpPr>
        <p:spPr>
          <a:xfrm flipH="1" flipV="1">
            <a:off x="2563560" y="2554200"/>
            <a:ext cx="13827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0"/>
          <p:cNvSpPr/>
          <p:nvPr/>
        </p:nvSpPr>
        <p:spPr>
          <a:xfrm flipH="1">
            <a:off x="1454040" y="2554200"/>
            <a:ext cx="20664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1"/>
          <p:cNvSpPr/>
          <p:nvPr/>
        </p:nvSpPr>
        <p:spPr>
          <a:xfrm>
            <a:off x="2286000" y="2554200"/>
            <a:ext cx="13644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2"/>
          <p:cNvSpPr/>
          <p:nvPr/>
        </p:nvSpPr>
        <p:spPr>
          <a:xfrm flipH="1">
            <a:off x="2215800" y="2824200"/>
            <a:ext cx="1730520" cy="77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53"/>
          <p:cNvSpPr/>
          <p:nvPr/>
        </p:nvSpPr>
        <p:spPr>
          <a:xfrm>
            <a:off x="4986360" y="3276720"/>
            <a:ext cx="200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6994440" y="3294000"/>
            <a:ext cx="1800" cy="184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5"/>
          <p:cNvSpPr/>
          <p:nvPr/>
        </p:nvSpPr>
        <p:spPr>
          <a:xfrm flipH="1">
            <a:off x="5611320" y="5143680"/>
            <a:ext cx="14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8326080" y="2959200"/>
            <a:ext cx="42156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r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7" descr="j0370310"/>
          <p:cNvPicPr/>
          <p:nvPr/>
        </p:nvPicPr>
        <p:blipFill>
          <a:blip r:embed="rId11"/>
          <a:stretch/>
        </p:blipFill>
        <p:spPr>
          <a:xfrm>
            <a:off x="5888160" y="2811600"/>
            <a:ext cx="1245960" cy="3808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8"/>
          <p:cNvSpPr/>
          <p:nvPr/>
        </p:nvSpPr>
        <p:spPr>
          <a:xfrm>
            <a:off x="6554160" y="3106800"/>
            <a:ext cx="6516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ed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ork Stu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59"/>
          <p:cNvSpPr/>
          <p:nvPr/>
        </p:nvSpPr>
        <p:spPr>
          <a:xfrm>
            <a:off x="5197320" y="2824200"/>
            <a:ext cx="828720" cy="1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0"/>
          <p:cNvSpPr/>
          <p:nvPr/>
        </p:nvSpPr>
        <p:spPr>
          <a:xfrm flipV="1">
            <a:off x="5197320" y="2722680"/>
            <a:ext cx="255924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7897680" y="3160800"/>
            <a:ext cx="1036800" cy="334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r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2"/>
          <p:cNvSpPr/>
          <p:nvPr/>
        </p:nvSpPr>
        <p:spPr>
          <a:xfrm>
            <a:off x="7966080" y="3732120"/>
            <a:ext cx="968400" cy="268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EAP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LE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3"/>
          <p:cNvSpPr/>
          <p:nvPr/>
        </p:nvSpPr>
        <p:spPr>
          <a:xfrm>
            <a:off x="7966080" y="4303800"/>
            <a:ext cx="900000" cy="268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SE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4"/>
          <p:cNvSpPr/>
          <p:nvPr/>
        </p:nvSpPr>
        <p:spPr>
          <a:xfrm>
            <a:off x="6303960" y="316080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65"/>
          <p:cNvSpPr/>
          <p:nvPr/>
        </p:nvSpPr>
        <p:spPr>
          <a:xfrm flipH="1">
            <a:off x="7481880" y="3294000"/>
            <a:ext cx="1440" cy="184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66"/>
          <p:cNvSpPr/>
          <p:nvPr/>
        </p:nvSpPr>
        <p:spPr>
          <a:xfrm flipH="1">
            <a:off x="7482960" y="2992320"/>
            <a:ext cx="34452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67"/>
          <p:cNvSpPr/>
          <p:nvPr/>
        </p:nvSpPr>
        <p:spPr>
          <a:xfrm>
            <a:off x="7483320" y="336240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68"/>
          <p:cNvSpPr/>
          <p:nvPr/>
        </p:nvSpPr>
        <p:spPr>
          <a:xfrm>
            <a:off x="7481880" y="389880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9"/>
          <p:cNvSpPr/>
          <p:nvPr/>
        </p:nvSpPr>
        <p:spPr>
          <a:xfrm>
            <a:off x="7481880" y="440388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0"/>
          <p:cNvSpPr/>
          <p:nvPr/>
        </p:nvSpPr>
        <p:spPr>
          <a:xfrm flipH="1">
            <a:off x="6996240" y="5143680"/>
            <a:ext cx="48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4264200" y="1109520"/>
            <a:ext cx="4536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7903440" y="1681200"/>
            <a:ext cx="753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epartment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1185840" y="1378080"/>
            <a:ext cx="6271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4"/>
          <p:cNvSpPr/>
          <p:nvPr/>
        </p:nvSpPr>
        <p:spPr>
          <a:xfrm>
            <a:off x="6824520" y="773280"/>
            <a:ext cx="4428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AF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5"/>
          <p:cNvSpPr/>
          <p:nvPr/>
        </p:nvSpPr>
        <p:spPr>
          <a:xfrm flipH="1">
            <a:off x="3393720" y="1076400"/>
            <a:ext cx="76212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6"/>
          <p:cNvSpPr/>
          <p:nvPr/>
        </p:nvSpPr>
        <p:spPr>
          <a:xfrm>
            <a:off x="2978280" y="1681200"/>
            <a:ext cx="8334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7"/>
          <p:cNvSpPr/>
          <p:nvPr/>
        </p:nvSpPr>
        <p:spPr>
          <a:xfrm>
            <a:off x="5778000" y="2298600"/>
            <a:ext cx="91548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udent Eligibi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78"/>
          <p:cNvSpPr/>
          <p:nvPr/>
        </p:nvSpPr>
        <p:spPr>
          <a:xfrm flipH="1">
            <a:off x="5470560" y="2319480"/>
            <a:ext cx="2286000" cy="23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79"/>
          <p:cNvSpPr/>
          <p:nvPr/>
        </p:nvSpPr>
        <p:spPr>
          <a:xfrm>
            <a:off x="5056200" y="974880"/>
            <a:ext cx="138600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0"/>
          <p:cNvSpPr/>
          <p:nvPr/>
        </p:nvSpPr>
        <p:spPr>
          <a:xfrm>
            <a:off x="7412040" y="1681200"/>
            <a:ext cx="62244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1"/>
          <p:cNvSpPr/>
          <p:nvPr/>
        </p:nvSpPr>
        <p:spPr>
          <a:xfrm>
            <a:off x="3969360" y="1512720"/>
            <a:ext cx="9702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udent Aid 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2"/>
          <p:cNvSpPr/>
          <p:nvPr/>
        </p:nvSpPr>
        <p:spPr>
          <a:xfrm flipH="1" flipV="1">
            <a:off x="6165360" y="1780920"/>
            <a:ext cx="1662120" cy="47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3"/>
          <p:cNvSpPr/>
          <p:nvPr/>
        </p:nvSpPr>
        <p:spPr>
          <a:xfrm flipH="1" flipV="1">
            <a:off x="4571640" y="1244160"/>
            <a:ext cx="6922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84"/>
          <p:cNvSpPr/>
          <p:nvPr/>
        </p:nvSpPr>
        <p:spPr>
          <a:xfrm>
            <a:off x="1454040" y="4067280"/>
            <a:ext cx="831960" cy="1699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Emplo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5"/>
          <p:cNvSpPr/>
          <p:nvPr/>
        </p:nvSpPr>
        <p:spPr>
          <a:xfrm>
            <a:off x="1454040" y="4303800"/>
            <a:ext cx="831960" cy="1666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Gra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6"/>
          <p:cNvSpPr/>
          <p:nvPr/>
        </p:nvSpPr>
        <p:spPr>
          <a:xfrm>
            <a:off x="1454040" y="4538520"/>
            <a:ext cx="831960" cy="168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Loa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7"/>
          <p:cNvSpPr/>
          <p:nvPr/>
        </p:nvSpPr>
        <p:spPr>
          <a:xfrm>
            <a:off x="1454040" y="4773600"/>
            <a:ext cx="831960" cy="1681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Scholarship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8"/>
          <p:cNvSpPr/>
          <p:nvPr/>
        </p:nvSpPr>
        <p:spPr>
          <a:xfrm>
            <a:off x="1176480" y="3832200"/>
            <a:ext cx="0" cy="12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89"/>
          <p:cNvSpPr/>
          <p:nvPr/>
        </p:nvSpPr>
        <p:spPr>
          <a:xfrm flipH="1">
            <a:off x="1176120" y="413532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0"/>
          <p:cNvSpPr/>
          <p:nvPr/>
        </p:nvSpPr>
        <p:spPr>
          <a:xfrm flipH="1">
            <a:off x="1176120" y="440388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91"/>
          <p:cNvSpPr/>
          <p:nvPr/>
        </p:nvSpPr>
        <p:spPr>
          <a:xfrm flipH="1">
            <a:off x="1176120" y="460548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92"/>
          <p:cNvSpPr/>
          <p:nvPr/>
        </p:nvSpPr>
        <p:spPr>
          <a:xfrm flipH="1">
            <a:off x="1176120" y="484020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93"/>
          <p:cNvSpPr/>
          <p:nvPr/>
        </p:nvSpPr>
        <p:spPr>
          <a:xfrm>
            <a:off x="2701800" y="5446800"/>
            <a:ext cx="898560" cy="3157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94"/>
          <p:cNvSpPr/>
          <p:nvPr/>
        </p:nvSpPr>
        <p:spPr>
          <a:xfrm>
            <a:off x="2988000" y="4952880"/>
            <a:ext cx="52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w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5"/>
          <p:cNvSpPr/>
          <p:nvPr/>
        </p:nvSpPr>
        <p:spPr>
          <a:xfrm>
            <a:off x="3012120" y="5446800"/>
            <a:ext cx="4460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96"/>
          <p:cNvSpPr/>
          <p:nvPr/>
        </p:nvSpPr>
        <p:spPr>
          <a:xfrm>
            <a:off x="2494080" y="5580000"/>
            <a:ext cx="901440" cy="3193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97"/>
          <p:cNvSpPr/>
          <p:nvPr/>
        </p:nvSpPr>
        <p:spPr>
          <a:xfrm>
            <a:off x="2355840" y="5715000"/>
            <a:ext cx="898560" cy="3175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8"/>
          <p:cNvSpPr/>
          <p:nvPr/>
        </p:nvSpPr>
        <p:spPr>
          <a:xfrm>
            <a:off x="2440440" y="5748480"/>
            <a:ext cx="660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ound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99"/>
          <p:cNvSpPr/>
          <p:nvPr/>
        </p:nvSpPr>
        <p:spPr>
          <a:xfrm>
            <a:off x="1176480" y="5041800"/>
            <a:ext cx="131760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00"/>
          <p:cNvSpPr/>
          <p:nvPr/>
        </p:nvSpPr>
        <p:spPr>
          <a:xfrm flipV="1">
            <a:off x="3672000" y="5209920"/>
            <a:ext cx="76176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1"/>
          <p:cNvSpPr/>
          <p:nvPr/>
        </p:nvSpPr>
        <p:spPr>
          <a:xfrm>
            <a:off x="2436120" y="125280"/>
            <a:ext cx="40683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ivery Process/Student View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Y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2"/>
          <p:cNvSpPr/>
          <p:nvPr/>
        </p:nvSpPr>
        <p:spPr>
          <a:xfrm>
            <a:off x="5126040" y="538200"/>
            <a:ext cx="104616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10 Million Recipi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3"/>
          <p:cNvSpPr/>
          <p:nvPr/>
        </p:nvSpPr>
        <p:spPr>
          <a:xfrm flipH="1">
            <a:off x="4917960" y="706320"/>
            <a:ext cx="27792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4"/>
          <p:cNvSpPr/>
          <p:nvPr/>
        </p:nvSpPr>
        <p:spPr>
          <a:xfrm>
            <a:off x="7694280" y="914400"/>
            <a:ext cx="851400" cy="30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14.5 M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Aid 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5"/>
          <p:cNvSpPr/>
          <p:nvPr/>
        </p:nvSpPr>
        <p:spPr>
          <a:xfrm flipH="1">
            <a:off x="7391160" y="1295280"/>
            <a:ext cx="27756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06"/>
          <p:cNvSpPr/>
          <p:nvPr/>
        </p:nvSpPr>
        <p:spPr>
          <a:xfrm>
            <a:off x="1454040" y="1849320"/>
            <a:ext cx="37476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2,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7"/>
          <p:cNvSpPr/>
          <p:nvPr/>
        </p:nvSpPr>
        <p:spPr>
          <a:xfrm>
            <a:off x="1731960" y="1982880"/>
            <a:ext cx="136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08"/>
          <p:cNvSpPr/>
          <p:nvPr/>
        </p:nvSpPr>
        <p:spPr>
          <a:xfrm>
            <a:off x="989280" y="2438280"/>
            <a:ext cx="21888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09"/>
          <p:cNvSpPr/>
          <p:nvPr/>
        </p:nvSpPr>
        <p:spPr>
          <a:xfrm>
            <a:off x="1039680" y="2589120"/>
            <a:ext cx="6984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0"/>
          <p:cNvSpPr/>
          <p:nvPr/>
        </p:nvSpPr>
        <p:spPr>
          <a:xfrm>
            <a:off x="3276720" y="2803680"/>
            <a:ext cx="2696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11"/>
          <p:cNvSpPr/>
          <p:nvPr/>
        </p:nvSpPr>
        <p:spPr>
          <a:xfrm flipH="1">
            <a:off x="3117600" y="2890800"/>
            <a:ext cx="20772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12"/>
          <p:cNvSpPr/>
          <p:nvPr/>
        </p:nvSpPr>
        <p:spPr>
          <a:xfrm>
            <a:off x="3200400" y="2438280"/>
            <a:ext cx="344520" cy="30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6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13"/>
          <p:cNvSpPr/>
          <p:nvPr/>
        </p:nvSpPr>
        <p:spPr>
          <a:xfrm>
            <a:off x="3532320" y="2554200"/>
            <a:ext cx="2077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14"/>
          <p:cNvSpPr/>
          <p:nvPr/>
        </p:nvSpPr>
        <p:spPr>
          <a:xfrm>
            <a:off x="5824440" y="2563920"/>
            <a:ext cx="11858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83 Billion Federal A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15"/>
          <p:cNvSpPr/>
          <p:nvPr/>
        </p:nvSpPr>
        <p:spPr>
          <a:xfrm flipH="1" flipV="1">
            <a:off x="5403600" y="2620440"/>
            <a:ext cx="55548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16"/>
          <p:cNvSpPr/>
          <p:nvPr/>
        </p:nvSpPr>
        <p:spPr>
          <a:xfrm>
            <a:off x="6858000" y="2755800"/>
            <a:ext cx="609480" cy="30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1.2 B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17"/>
          <p:cNvSpPr/>
          <p:nvPr/>
        </p:nvSpPr>
        <p:spPr>
          <a:xfrm flipH="1">
            <a:off x="6649920" y="2857680"/>
            <a:ext cx="2779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8"/>
          <p:cNvSpPr/>
          <p:nvPr/>
        </p:nvSpPr>
        <p:spPr>
          <a:xfrm>
            <a:off x="3672000" y="4067280"/>
            <a:ext cx="96840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51.3 B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9"/>
          <p:cNvSpPr/>
          <p:nvPr/>
        </p:nvSpPr>
        <p:spPr>
          <a:xfrm>
            <a:off x="4780080" y="4067280"/>
            <a:ext cx="90792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 13 B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0"/>
          <p:cNvSpPr/>
          <p:nvPr/>
        </p:nvSpPr>
        <p:spPr>
          <a:xfrm>
            <a:off x="5818320" y="4067280"/>
            <a:ext cx="9032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1.1 B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21"/>
          <p:cNvSpPr/>
          <p:nvPr/>
        </p:nvSpPr>
        <p:spPr>
          <a:xfrm>
            <a:off x="7966080" y="4572000"/>
            <a:ext cx="9698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976 M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22"/>
          <p:cNvSpPr/>
          <p:nvPr/>
        </p:nvSpPr>
        <p:spPr>
          <a:xfrm>
            <a:off x="7966080" y="4000680"/>
            <a:ext cx="9698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165 M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3"/>
          <p:cNvSpPr/>
          <p:nvPr/>
        </p:nvSpPr>
        <p:spPr>
          <a:xfrm>
            <a:off x="7966080" y="3429000"/>
            <a:ext cx="9698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14.4 B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24"/>
          <p:cNvSpPr/>
          <p:nvPr/>
        </p:nvSpPr>
        <p:spPr>
          <a:xfrm>
            <a:off x="5604480" y="2400480"/>
            <a:ext cx="324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S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25" descr="j0128398"/>
          <p:cNvPicPr/>
          <p:nvPr/>
        </p:nvPicPr>
        <p:blipFill>
          <a:blip r:embed="rId12"/>
          <a:stretch/>
        </p:blipFill>
        <p:spPr>
          <a:xfrm>
            <a:off x="3740040" y="1849320"/>
            <a:ext cx="1722600" cy="906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6" descr="BS01060_"/>
          <p:cNvPicPr/>
          <p:nvPr/>
        </p:nvPicPr>
        <p:blipFill>
          <a:blip r:embed="rId13"/>
          <a:stretch/>
        </p:blipFill>
        <p:spPr>
          <a:xfrm>
            <a:off x="2077920" y="1076400"/>
            <a:ext cx="1123920" cy="533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7" descr="SAR"/>
          <p:cNvPicPr/>
          <p:nvPr/>
        </p:nvPicPr>
        <p:blipFill>
          <a:blip r:embed="rId14"/>
          <a:stretch/>
        </p:blipFill>
        <p:spPr>
          <a:xfrm>
            <a:off x="5195880" y="1209600"/>
            <a:ext cx="911160" cy="57168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275" name="Picture 128" descr="FAFSA07"/>
          <p:cNvPicPr/>
          <p:nvPr/>
        </p:nvPicPr>
        <p:blipFill>
          <a:blip r:embed="rId15"/>
          <a:stretch/>
        </p:blipFill>
        <p:spPr>
          <a:xfrm>
            <a:off x="6580080" y="974880"/>
            <a:ext cx="968400" cy="6062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sp>
        <p:nvSpPr>
          <p:cNvPr id="276" name="Rectangle 129"/>
          <p:cNvSpPr/>
          <p:nvPr/>
        </p:nvSpPr>
        <p:spPr>
          <a:xfrm>
            <a:off x="7966080" y="4908600"/>
            <a:ext cx="900000" cy="336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CG/SM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30"/>
          <p:cNvSpPr/>
          <p:nvPr/>
        </p:nvSpPr>
        <p:spPr>
          <a:xfrm>
            <a:off x="7966080" y="5245200"/>
            <a:ext cx="9698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580 M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31"/>
          <p:cNvSpPr/>
          <p:nvPr/>
        </p:nvSpPr>
        <p:spPr>
          <a:xfrm>
            <a:off x="7481880" y="500868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32"/>
          <p:cNvSpPr/>
          <p:nvPr/>
        </p:nvSpPr>
        <p:spPr>
          <a:xfrm>
            <a:off x="3048120" y="3564000"/>
            <a:ext cx="10396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33"/>
          <p:cNvSpPr/>
          <p:nvPr/>
        </p:nvSpPr>
        <p:spPr>
          <a:xfrm>
            <a:off x="1871640" y="2620800"/>
            <a:ext cx="13644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34"/>
          <p:cNvSpPr/>
          <p:nvPr/>
        </p:nvSpPr>
        <p:spPr>
          <a:xfrm>
            <a:off x="2008080" y="3395520"/>
            <a:ext cx="83196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35"/>
          <p:cNvSpPr/>
          <p:nvPr/>
        </p:nvSpPr>
        <p:spPr>
          <a:xfrm>
            <a:off x="4226040" y="4202280"/>
            <a:ext cx="0" cy="13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36"/>
          <p:cNvSpPr/>
          <p:nvPr/>
        </p:nvSpPr>
        <p:spPr>
          <a:xfrm>
            <a:off x="5334120" y="4202280"/>
            <a:ext cx="0" cy="13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37"/>
          <p:cNvSpPr/>
          <p:nvPr/>
        </p:nvSpPr>
        <p:spPr>
          <a:xfrm>
            <a:off x="4641840" y="554688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38"/>
          <p:cNvSpPr/>
          <p:nvPr/>
        </p:nvSpPr>
        <p:spPr>
          <a:xfrm flipH="1">
            <a:off x="4987800" y="1816200"/>
            <a:ext cx="2764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ssues – Federal Student Ai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34272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pplication is complex and intimidat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ch of the data are unverifia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 EFC formula is arbitrary,   difficult to understand, lacks clarity  and relevance, and subject to “gaming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 of application (EFC) is “how much the student will NOT receiv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plicity of programs is confus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8550-F0D5-43EF-9E6E-3E79EFF629F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inciples for Refor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 to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tion will request information that is easily obtainable and verifi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tion will only ask questions necessary to determine eligibility and award leve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6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Student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rgets the neediest student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independent of other aid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predictabl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portable, 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ributes aid through fewer progra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1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5078-8098-4647-BB31-891A6299EF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5107"/>
                </a:solidFill>
                <a:latin typeface="Verdana"/>
              </a:rPr>
              <a:t>Current Mode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80880" y="990720"/>
            <a:ext cx="1524240" cy="533160"/>
          </a:xfrm>
          <a:prstGeom prst="rect">
            <a:avLst/>
          </a:prstGeom>
          <a:gradFill rotWithShape="0">
            <a:gsLst>
              <a:gs pos="0">
                <a:srgbClr val="e1e1ff"/>
              </a:gs>
              <a:gs pos="100000">
                <a:srgbClr val="9595ff"/>
              </a:gs>
            </a:gsLst>
            <a:lin ang="54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981080" y="121932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3565440" y="914400"/>
            <a:ext cx="53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nancial Resource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(45 Question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981080" y="1447920"/>
          <a:ext cx="7162920" cy="2068560"/>
        </p:xfrm>
        <a:graphic>
          <a:graphicData uri="http://schemas.openxmlformats.org/drawingml/2006/table">
            <a:tbl>
              <a:tblPr/>
              <a:tblGrid>
                <a:gridCol w="3299040"/>
                <a:gridCol w="386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(37 Quest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(6 Quest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+ Taxable Income (A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+ C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+ Untaxed Inc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+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+ Stocks, Bonds, Investments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Home Equity, Retirement Accou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Text Box 46"/>
          <p:cNvSpPr/>
          <p:nvPr/>
        </p:nvSpPr>
        <p:spPr>
          <a:xfrm>
            <a:off x="4276800" y="3581280"/>
            <a:ext cx="32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mily size &amp; Number in College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48"/>
          <p:cNvSpPr/>
          <p:nvPr/>
        </p:nvSpPr>
        <p:spPr>
          <a:xfrm>
            <a:off x="4191120" y="3886200"/>
            <a:ext cx="35049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49"/>
          <p:cNvSpPr/>
          <p:nvPr/>
        </p:nvSpPr>
        <p:spPr>
          <a:xfrm flipH="1">
            <a:off x="4876920" y="3886200"/>
            <a:ext cx="761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0"/>
          <p:cNvSpPr/>
          <p:nvPr/>
        </p:nvSpPr>
        <p:spPr>
          <a:xfrm>
            <a:off x="6324480" y="388620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1"/>
          <p:cNvSpPr/>
          <p:nvPr/>
        </p:nvSpPr>
        <p:spPr>
          <a:xfrm>
            <a:off x="3733920" y="42670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retionary 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2"/>
          <p:cNvSpPr/>
          <p:nvPr/>
        </p:nvSpPr>
        <p:spPr>
          <a:xfrm>
            <a:off x="6024600" y="4267080"/>
            <a:ext cx="2192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n-Discretionary Us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axes, Living Expen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53"/>
          <p:cNvSpPr/>
          <p:nvPr/>
        </p:nvSpPr>
        <p:spPr>
          <a:xfrm>
            <a:off x="4800600" y="4572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4"/>
          <p:cNvSpPr/>
          <p:nvPr/>
        </p:nvSpPr>
        <p:spPr>
          <a:xfrm>
            <a:off x="411480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e4e4ff"/>
              </a:gs>
              <a:gs pos="100000">
                <a:srgbClr val="9c9cff"/>
              </a:gs>
            </a:gsLst>
            <a:lin ang="54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55"/>
          <p:cNvSpPr/>
          <p:nvPr/>
        </p:nvSpPr>
        <p:spPr>
          <a:xfrm flipV="1">
            <a:off x="1066680" y="1523880"/>
            <a:ext cx="0" cy="3657600"/>
          </a:xfrm>
          <a:prstGeom prst="line">
            <a:avLst/>
          </a:prstGeom>
          <a:ln w="57240">
            <a:solidFill>
              <a:srgbClr val="00cc99">
                <a:alpha val="82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7"/>
          <p:cNvSpPr/>
          <p:nvPr/>
        </p:nvSpPr>
        <p:spPr>
          <a:xfrm>
            <a:off x="5106600" y="4876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9"/>
          <p:cNvSpPr/>
          <p:nvPr/>
        </p:nvSpPr>
        <p:spPr>
          <a:xfrm>
            <a:off x="5562720" y="4876920"/>
            <a:ext cx="2666880" cy="45720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st of Atten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1"/>
          <p:cNvSpPr/>
          <p:nvPr/>
        </p:nvSpPr>
        <p:spPr>
          <a:xfrm>
            <a:off x="5334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2"/>
          <p:cNvSpPr/>
          <p:nvPr/>
        </p:nvSpPr>
        <p:spPr>
          <a:xfrm>
            <a:off x="4648320" y="5562720"/>
            <a:ext cx="1143000" cy="38088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ll G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63"/>
          <p:cNvSpPr/>
          <p:nvPr/>
        </p:nvSpPr>
        <p:spPr>
          <a:xfrm>
            <a:off x="5792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64"/>
          <p:cNvSpPr/>
          <p:nvPr/>
        </p:nvSpPr>
        <p:spPr>
          <a:xfrm>
            <a:off x="6095880" y="5562720"/>
            <a:ext cx="1905120" cy="38088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bsidized Lo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65"/>
          <p:cNvSpPr/>
          <p:nvPr/>
        </p:nvSpPr>
        <p:spPr>
          <a:xfrm>
            <a:off x="70102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7"/>
          <p:cNvSpPr/>
          <p:nvPr/>
        </p:nvSpPr>
        <p:spPr>
          <a:xfrm>
            <a:off x="5105520" y="6172200"/>
            <a:ext cx="2286000" cy="38088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subsidized Lo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1"/>
          <p:cNvSpPr/>
          <p:nvPr/>
        </p:nvSpPr>
        <p:spPr>
          <a:xfrm>
            <a:off x="1066680" y="5181480"/>
            <a:ext cx="3200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2"/>
          <p:cNvSpPr/>
          <p:nvPr/>
        </p:nvSpPr>
        <p:spPr>
          <a:xfrm>
            <a:off x="4267080" y="5410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>
            <a:off x="4267080" y="6324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79"/>
          <p:cNvSpPr/>
          <p:nvPr/>
        </p:nvSpPr>
        <p:spPr>
          <a:xfrm>
            <a:off x="8267040" y="55627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7"/>
          <p:cNvSpPr/>
          <p:nvPr/>
        </p:nvSpPr>
        <p:spPr>
          <a:xfrm>
            <a:off x="2209680" y="17524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131"/>
          <p:cNvSpPr/>
          <p:nvPr/>
        </p:nvSpPr>
        <p:spPr>
          <a:xfrm>
            <a:off x="4495680" y="5486400"/>
            <a:ext cx="3657600" cy="5335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133"/>
          <p:cNvSpPr/>
          <p:nvPr/>
        </p:nvSpPr>
        <p:spPr>
          <a:xfrm flipV="1">
            <a:off x="8305920" y="4952880"/>
            <a:ext cx="609480" cy="609840"/>
          </a:xfrm>
          <a:prstGeom prst="pie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136"/>
          <p:cNvSpPr/>
          <p:nvPr/>
        </p:nvSpPr>
        <p:spPr>
          <a:xfrm flipV="1" rot="5400000">
            <a:off x="7848720" y="5637600"/>
            <a:ext cx="533160" cy="1295640"/>
          </a:xfrm>
          <a:prstGeom prst="pie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108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58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2514600" cy="179388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4"/>
          <p:cNvSpPr/>
          <p:nvPr/>
        </p:nvSpPr>
        <p:spPr>
          <a:xfrm>
            <a:off x="1066680" y="5257800"/>
            <a:ext cx="2590920" cy="7945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66ffcc">
                  <a:alpha val="7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at students and families have to p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5A78-29CE-4270-8DF6-0209863DC9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5107"/>
                </a:solidFill>
                <a:latin typeface="Verdana"/>
              </a:rPr>
              <a:t>Proposed Mode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80880" y="990720"/>
            <a:ext cx="1524240" cy="533160"/>
          </a:xfrm>
          <a:prstGeom prst="rect">
            <a:avLst/>
          </a:prstGeom>
          <a:gradFill rotWithShape="0">
            <a:gsLst>
              <a:gs pos="0">
                <a:srgbClr val="e1e1ff"/>
              </a:gs>
              <a:gs pos="100000">
                <a:srgbClr val="9595ff"/>
              </a:gs>
            </a:gsLst>
            <a:lin ang="54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1981080" y="129528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655800" y="990720"/>
            <a:ext cx="46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nancial Resource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(2 Question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8"/>
          <p:cNvSpPr/>
          <p:nvPr/>
        </p:nvSpPr>
        <p:spPr>
          <a:xfrm flipH="1">
            <a:off x="4876560" y="2666880"/>
            <a:ext cx="685800" cy="838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9"/>
          <p:cNvSpPr/>
          <p:nvPr/>
        </p:nvSpPr>
        <p:spPr>
          <a:xfrm>
            <a:off x="6095880" y="2666880"/>
            <a:ext cx="685800" cy="838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4"/>
          <p:cNvSpPr/>
          <p:nvPr/>
        </p:nvSpPr>
        <p:spPr>
          <a:xfrm flipV="1">
            <a:off x="1066680" y="1523520"/>
            <a:ext cx="0" cy="2210040"/>
          </a:xfrm>
          <a:prstGeom prst="line">
            <a:avLst/>
          </a:prstGeom>
          <a:ln w="57240">
            <a:solidFill>
              <a:srgbClr val="0066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6"/>
          <p:cNvSpPr/>
          <p:nvPr/>
        </p:nvSpPr>
        <p:spPr>
          <a:xfrm>
            <a:off x="4495680" y="4572000"/>
            <a:ext cx="2667240" cy="45720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st of Atten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4191120" y="3505320"/>
            <a:ext cx="1295280" cy="53316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ll G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9"/>
          <p:cNvSpPr/>
          <p:nvPr/>
        </p:nvSpPr>
        <p:spPr>
          <a:xfrm>
            <a:off x="54100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0"/>
          <p:cNvSpPr/>
          <p:nvPr/>
        </p:nvSpPr>
        <p:spPr>
          <a:xfrm>
            <a:off x="5867280" y="3505320"/>
            <a:ext cx="1905120" cy="53316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bsidized Lo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42"/>
          <p:cNvSpPr/>
          <p:nvPr/>
        </p:nvSpPr>
        <p:spPr>
          <a:xfrm>
            <a:off x="4495680" y="5791320"/>
            <a:ext cx="2667240" cy="30456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subsidized Loans/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3"/>
          <p:cNvSpPr/>
          <p:nvPr/>
        </p:nvSpPr>
        <p:spPr>
          <a:xfrm>
            <a:off x="1066680" y="3733920"/>
            <a:ext cx="3048120" cy="0"/>
          </a:xfrm>
          <a:prstGeom prst="line">
            <a:avLst/>
          </a:prstGeom>
          <a:ln w="38160">
            <a:solidFill>
              <a:srgbClr val="0066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657600" y="1523880"/>
          <a:ext cx="4648320" cy="106704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4d"/>
                          </a:solidFill>
                          <a:latin typeface="Verdana"/>
                        </a:rPr>
                        <a:t>+ Adjusted Gross In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4d"/>
                          </a:solidFill>
                          <a:latin typeface="Verdana"/>
                        </a:rPr>
                        <a:t>+ Tax Exem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Text Box 57"/>
          <p:cNvSpPr/>
          <p:nvPr/>
        </p:nvSpPr>
        <p:spPr>
          <a:xfrm>
            <a:off x="5562720" y="4038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28" descr=""/>
          <p:cNvPicPr/>
          <p:nvPr/>
        </p:nvPicPr>
        <p:blipFill>
          <a:blip r:embed="rId1"/>
          <a:stretch/>
        </p:blipFill>
        <p:spPr>
          <a:xfrm>
            <a:off x="1066680" y="380988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341" name="Down Arrow 29"/>
          <p:cNvSpPr/>
          <p:nvPr/>
        </p:nvSpPr>
        <p:spPr>
          <a:xfrm>
            <a:off x="5303880" y="4038480"/>
            <a:ext cx="82224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Down Arrow 31"/>
          <p:cNvSpPr/>
          <p:nvPr/>
        </p:nvSpPr>
        <p:spPr>
          <a:xfrm>
            <a:off x="5334120" y="5029200"/>
            <a:ext cx="822240" cy="669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13FC-567B-4965-AD36-785C25B5EC4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5107"/>
                </a:solidFill>
                <a:latin typeface="Verdana"/>
              </a:rPr>
              <a:t>A Simplified FAFS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ly ask for information needed to determine federal aid eligibility, aid types, and amou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17136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pages - no instruction pages(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17136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wer than 30 questions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epend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ontact Inform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Income / Exem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Eligibil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ert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lleges and states to which information will be s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8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9C8D-86E6-449F-94B3-A3D808B1C5E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e FAFS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45744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9" name="Picture 4" descr=""/>
          <p:cNvPicPr/>
          <p:nvPr/>
        </p:nvPicPr>
        <p:blipFill>
          <a:blip r:embed="rId2"/>
          <a:stretch/>
        </p:blipFill>
        <p:spPr>
          <a:xfrm>
            <a:off x="5048280" y="914400"/>
            <a:ext cx="345744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DA07-A488-4AD7-BA0F-3C546E4A3A7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ational Approach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ablish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3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Student Aid Target (FSA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Student Aid Commitment (FSA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5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olidate aid programs into one grant (Pell), one loan (DL/FFEL) and one work study (FWS) progra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6B87-CD9B-4073-AD03-5F8AE41214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2"/>
          <p:cNvGraphicFramePr/>
          <p:nvPr/>
        </p:nvGraphicFramePr>
        <p:xfrm>
          <a:off x="457200" y="2133720"/>
          <a:ext cx="8193240" cy="349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8193240" cy="34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36864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Title IV Program Budgets     Appropriation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DE92-9C10-497F-A218-964419C5380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5407"/>
                </a:solidFill>
                <a:uFillTx/>
                <a:latin typeface="Verdana"/>
              </a:rPr>
              <a:t>Federal Student Aid Target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(FSAT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ximum amount of federal subsidized aid (Pell Grant, subsidized loans, and FW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mount increases annually by CP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For example –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100% of average Tuition &amp; Fees, Books &amp; Supplies, and Meals &amp; Housing at community colleg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CB82-645F-40E5-BA7E-89967003754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5407"/>
                </a:solidFill>
                <a:uFillTx/>
                <a:latin typeface="Verdana"/>
              </a:rPr>
              <a:t>Federal Student Aid Commitment</a:t>
            </a:r>
            <a:r>
              <a:rPr b="1" lang="en-US" sz="4000" spc="-1" strike="noStrike" u="sng">
                <a:solidFill>
                  <a:srgbClr val="cc5407"/>
                </a:solidFill>
                <a:uFillTx/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(FSAC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4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’s portion of FSAT based on AGI and IRS Number of Exemptions, related to HHS Poverty Leve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71360" indent="0">
              <a:lnSpc>
                <a:spcPct val="4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xample: -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457200" indent="-11412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Grants up to 250% of poverty level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457200" indent="-11412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ub loans and FWS up to 400% of poverty level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4572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F76C-0699-4215-B2CC-2E9C7FE42EA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5407"/>
                </a:solidFill>
                <a:uFillTx/>
                <a:latin typeface="Verdana"/>
              </a:rPr>
              <a:t>Unsubsidized Ai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s unsubsidized Stafford and PLUS loan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s only after all other aid is awarded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vers difference between cost of attendance and all other sources of aid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s annual loan limits for unsubsidized Staffor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F873-5D8C-4F7C-B99A-900E09F078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5407"/>
                </a:solidFill>
                <a:uFillTx/>
                <a:latin typeface="Verdana"/>
              </a:rPr>
              <a:t>Policy/Budget Consider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 “Dials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SAT: percentage of cost of attendance at which type of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SAC: percentages of HHS poverty level to be used for grant, subsidized loan, and work stu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“Levers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ximum spending with current allo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mized spending to ensure access and suc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285F-B224-4444-84F4-4F1C8C45699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0" y="1066680"/>
          <a:ext cx="3962520" cy="25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396252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2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85107"/>
                </a:solidFill>
                <a:latin typeface="Verdana"/>
              </a:rPr>
              <a:t>Examples of Dials and Lever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3"/>
          <a:stretch/>
        </p:blipFill>
        <p:spPr>
          <a:xfrm>
            <a:off x="4191120" y="762120"/>
            <a:ext cx="4476600" cy="30477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"/>
          <p:cNvPicPr/>
          <p:nvPr/>
        </p:nvPicPr>
        <p:blipFill>
          <a:blip r:embed="rId4"/>
          <a:stretch/>
        </p:blipFill>
        <p:spPr>
          <a:xfrm>
            <a:off x="0" y="342900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"/>
          <p:cNvPicPr/>
          <p:nvPr/>
        </p:nvPicPr>
        <p:blipFill>
          <a:blip r:embed="rId5"/>
          <a:stretch/>
        </p:blipFill>
        <p:spPr>
          <a:xfrm>
            <a:off x="4114800" y="3733920"/>
            <a:ext cx="4495680" cy="25812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9"/>
          <p:cNvSpPr/>
          <p:nvPr/>
        </p:nvSpPr>
        <p:spPr>
          <a:xfrm>
            <a:off x="2209680" y="1523880"/>
            <a:ext cx="1524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ubsid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6629400" y="1523880"/>
            <a:ext cx="1523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ubsid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981080" y="4114800"/>
            <a:ext cx="1524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ubsid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6705720" y="4191120"/>
            <a:ext cx="1523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ubsid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1FD8-0892-4E97-BAB0-5063A380D9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685800" y="1359000"/>
            <a:ext cx="7772400" cy="46609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imple Look-Up Table</a:t>
            </a:r>
            <a:br>
              <a:rPr sz="3600"/>
            </a:br>
            <a:r>
              <a:rPr b="0" lang="en-US" sz="2000" spc="-1" strike="noStrike">
                <a:solidFill>
                  <a:srgbClr val="cc5407"/>
                </a:solidFill>
                <a:latin typeface="Verdana"/>
              </a:rPr>
              <a:t>(For Illustrative Purposes Only)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50B2-8E71-42F5-9248-45D7E2370A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Does This Mean For Students?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FAFSA that encourages access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al-time feedback on probable Federal Student Aid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etter awareness of state and institutional value-added aid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, an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dictability for persist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0640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EA2C-0D89-4552-98DF-9BBC7CD8DD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457200" y="2144880"/>
          <a:ext cx="8229600" cy="37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44880"/>
                    <a:ext cx="82296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36864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Title IV Program Budgets           Status of Appropriation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D32D-B101-4916-AE36-4C407CC69ED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6880"/>
            <a:ext cx="8686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Title IV Program Budgets </a:t>
            </a:r>
            <a:br>
              <a:rPr sz="4400"/>
            </a:b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Aid Available </a:t>
            </a:r>
            <a:r>
              <a:rPr b="1" lang="en-GB" sz="3600" spc="-1" strike="noStrike">
                <a:solidFill>
                  <a:srgbClr val="c85107"/>
                </a:solidFill>
                <a:latin typeface="Verdana"/>
              </a:rPr>
              <a:t>($000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228600" y="1711440"/>
          <a:ext cx="8545680" cy="51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1440"/>
                    <a:ext cx="854568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A624-8A40-41A9-B820-4F27E62BC6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08320"/>
            <a:ext cx="8458200" cy="24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5400"/>
            </a:b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Recent Legislation</a:t>
            </a:r>
            <a:r>
              <a:rPr b="1" lang="en-GB" sz="4800" spc="-1" strike="noStrike">
                <a:solidFill>
                  <a:srgbClr val="cc3300"/>
                </a:solidFill>
                <a:latin typeface="Verdana"/>
              </a:rPr>
              <a:t> </a:t>
            </a:r>
            <a:br>
              <a:rPr sz="3800"/>
            </a:br>
            <a:r>
              <a:rPr b="1" lang="en-GB" sz="54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98E0-BCDA-4616-A92F-3216B2D2BFC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7160" y="498240"/>
            <a:ext cx="863748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1048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spcAft>
                <a:spcPts val="10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igher Education Reconciliation Act (HERA) – February 8, 200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587"/>
              </a:spcBef>
              <a:spcAft>
                <a:spcPts val="587"/>
              </a:spcAft>
              <a:buClr>
                <a:srgbClr val="c851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llege Cost Reduction and Access Act (CCRAA) – September 7, 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nsuring Continued Access to Student Loans Act of 2008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ECASLA) – May 7, 200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nded by HR 68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igher Education Opportunity Act (Reauthorization) – August 14, 200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4D37-2DFA-4D55-9C1E-DA420C073F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  <a:ea typeface="Times New Roman"/>
              </a:rPr>
              <a:t>Where We Are Today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ademic Competitiveness and National SMART 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FFEL and DL Loan Lim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US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Judgment/Dependency Overr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RENTEX</cp:lastModifiedBy>
  <dcterms:modified xsi:type="dcterms:W3CDTF">2008-12-05T19:17:21Z</dcterms:modified>
  <cp:revision>249</cp:revision>
  <dc:subject/>
  <dc:title>PowerPoint Presentation</dc:title>
</cp:coreProperties>
</file>