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9.jpeg" ContentType="image/jpeg"/>
  <Override PartName="/ppt/media/image6.wmf" ContentType="image/x-wmf"/>
  <Override PartName="/ppt/media/image29.wmf" ContentType="image/x-wmf"/>
  <Override PartName="/ppt/media/image3.png" ContentType="image/png"/>
  <Override PartName="/ppt/media/image11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1.jpeg" ContentType="image/jpeg"/>
  <Override PartName="/ppt/media/image23.wmf" ContentType="image/x-wmf"/>
  <Override PartName="/ppt/media/image24.png" ContentType="image/pn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D0A-9DBF-4FDC-AF26-FD3BB1737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A9622A-72CF-4F7E-A571-9CC087D29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D1B5DF-E545-4CBC-8F90-403ED5FD9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97F176-5B1A-4B1E-B56C-4736363632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7299A1-D845-4434-ACB1-412911883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15DA12-77BD-4F63-984B-444C45140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FD593F-1540-4499-AF96-1F74AC01C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9A13D9-65FE-4303-9033-0A950D399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E6FF97-CABC-429B-B6E4-7C1BBA0CA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144440" y="69696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1DF211-4E97-466E-8736-3BC801C03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44440" y="69696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3DF784-E287-4EE4-ACA1-60015E63D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1144440" y="698400"/>
            <a:ext cx="457200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BED4-0FF0-4F2E-8919-7CB8F638C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178C-BE93-4F1C-AE23-AC7FB838B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A8FE-1D06-47E3-B88F-75BF2648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63BD-4964-45FC-9AA7-C7AFD2ADA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80A6-2F74-4F04-9AE9-B3C68A657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03D3-9890-4A19-855B-612303DF5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EE5-57FC-4A82-92E9-644ED5D5E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0469-4C19-4AF6-8E18-246A47811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D010-9208-444D-B06B-6D617592F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B694-E77C-44DD-9272-8197020EA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A1CC-F227-40B6-A76C-E7FF52B61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529D-5230-4CBD-9E61-6B1A6DFD8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356C-BA1D-47A5-95ED-303534B8FF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699160" y="62895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ederalstudentaid.ed.gov/ffelp" TargetMode="External"/><Relationship Id="rId2" Type="http://schemas.openxmlformats.org/officeDocument/2006/relationships/hyperlink" Target="http://www.federalstudentaid.ed.gov/ffelp" TargetMode="External"/><Relationship Id="rId3" Type="http://schemas.openxmlformats.org/officeDocument/2006/relationships/hyperlink" Target="http://www.federalstudentaid.ed.gov/ffelp" TargetMode="External"/><Relationship Id="rId4" Type="http://schemas.openxmlformats.org/officeDocument/2006/relationships/hyperlink" Target="http://www.federalstudentaid.ed.gov/ffelp" TargetMode="External"/><Relationship Id="rId5" Type="http://schemas.openxmlformats.org/officeDocument/2006/relationships/hyperlink" Target="http://www.federalstudentaid.ed.gov/ffelp" TargetMode="External"/><Relationship Id="rId6" Type="http://schemas.openxmlformats.org/officeDocument/2006/relationships/hyperlink" Target="http://www.federalstudentaid.ed.gov/ffelp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0.png"/><Relationship Id="rId9" Type="http://schemas.openxmlformats.org/officeDocument/2006/relationships/image" Target="../media/image13.wmf"/><Relationship Id="rId10" Type="http://schemas.openxmlformats.org/officeDocument/2006/relationships/image" Target="../media/image16.wmf"/><Relationship Id="rId11" Type="http://schemas.openxmlformats.org/officeDocument/2006/relationships/image" Target="../media/image13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47DB-E9FA-4448-BBF4-CDFA4D13EF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Federal Update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Berger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75AB-2A1A-4F7A-A165-7303CE7CC5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5107"/>
                </a:solidFill>
                <a:latin typeface="Verdana"/>
                <a:ea typeface="Times New Roman"/>
              </a:rPr>
              <a:t>ACG and National SMART Gra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igible Non-Citizens Elig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 least half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udents in certificate programs eligible, if program is at least one year in length and offered at a two or four-year degree granting i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wards based on student’s grade level instead of “academic year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ffective July 1, 2009 – by 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786-BC15-4D2D-9723-B1E464237C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523880"/>
          <a:ext cx="8077320" cy="4430880"/>
        </p:xfrm>
        <a:graphic>
          <a:graphicData uri="http://schemas.openxmlformats.org/drawingml/2006/table">
            <a:tbl>
              <a:tblPr/>
              <a:tblGrid>
                <a:gridCol w="3733920"/>
                <a:gridCol w="2133720"/>
                <a:gridCol w="2209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al Unsubsidiz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per Division D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r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per Division Ind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uate/Profess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8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84"/>
          <p:cNvSpPr/>
          <p:nvPr/>
        </p:nvSpPr>
        <p:spPr>
          <a:xfrm>
            <a:off x="669960" y="380880"/>
            <a:ext cx="790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FFEL/DL Annual Loan Lim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D17-78FB-4342-BC13-BE34CC0E3F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Interest Rates</a:t>
            </a:r>
            <a:br>
              <a:rPr sz="44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d interest rates o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ubsidized loans onl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current 6.8% t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.0% for loans disbursed on or after 7/1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5.6% for loans disbursed on or after 7/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4.5% for loans disbursed on or after 7/1/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.4% for loans disbursed on or after 7/1/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ginning 7/1/2012, rates revert to 6.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subsidized Stafford Loans and all Staffords for graduate students remain at 6.8% fi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4C2-8544-41EB-979D-F3DBCF26B0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PLUS Loa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tenuating circumstances for adverse credit may include delinquency of up to 180 days on mortgage payments or on medical bill pay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layed repayment start date for parent PLUS borrowers at their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E544-04F5-4FCF-B5E6-4D122C5631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Professional Judgment Dependency Override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s dislocated worker and homelessness as examples of when an FAA can use professional judg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vides that an FAA can use a dependency override made by another FAA within the same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oth effective for the 2009-2010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FFC-51EC-414F-8F46-5E3B6F1458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99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Student Lending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808F-4796-4575-BEE0-23DC2A9E95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L/FFEL Activity for ’08-’09</a:t>
            </a:r>
            <a:br>
              <a:rPr sz="16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914400"/>
          <a:ext cx="8534520" cy="5099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904760"/>
                <a:gridCol w="17528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TD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TD 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9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ELP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7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7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6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2 m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Lo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.5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.3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6.7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2.6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5.2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4.9 bill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9"/>
          <p:cNvSpPr/>
          <p:nvPr/>
        </p:nvSpPr>
        <p:spPr>
          <a:xfrm>
            <a:off x="380880" y="15238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umber of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50"/>
          <p:cNvSpPr/>
          <p:nvPr/>
        </p:nvSpPr>
        <p:spPr>
          <a:xfrm>
            <a:off x="838080" y="3962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202-C554-4290-A5E8-CD656365A2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Student Lending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 Lender of Last Resort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CASLA Loan Purch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federalstudentaid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.ed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gov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5"/>
              </a:rPr>
              <a:t>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6"/>
              </a:rPr>
              <a:t>ffel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BB2F-7F56-4F95-B549-A9A147A4D7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2006-2007 Regulations</a:t>
            </a:r>
            <a:br>
              <a:rPr sz="4400"/>
            </a:b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School Lender Relationships</a:t>
            </a:r>
            <a:br>
              <a:rPr sz="4400"/>
            </a:b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(Effective 7-1-08)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02E-8585-4039-8B15-7B5FC4A7B9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FFEL Loan Certification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schoo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ay no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fuse or delay certification based on borrower’s choice of lender or 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lender to first-tim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fuse to certify or certify a reduced amount; except on 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 case-by-case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cludes “school as lende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FA79-151D-41FB-855D-416DF8ABF5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7160"/>
            <a:ext cx="872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Agend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712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re We Are 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udent Lend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Rational Approach to Federal Student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E646-FD58-494F-A059-6EB4C8FAAF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10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ool may choose to have preferred lender list (includes web process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must have at least 3 unaffiliated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disclose method/criteria for lender inclusion on the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vide comparativ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ust include prominent statement advising borrowers that use of school preferred lender not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46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ＭＳ Ｐゴシック"/>
              </a:rPr>
              <a:t>FFEL Preferred Lender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EF5-A554-4E8D-99A0-B5B54BDE1B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3499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Prohibited Inducement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ffects FFEL lenders and guaranty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reates concept of “rebuttable presumption” for prohibited and allow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a non-exhaustive list of prohibit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7680" indent="-337680">
              <a:spcBef>
                <a:spcPts val="876"/>
              </a:spcBef>
              <a:spcAft>
                <a:spcPts val="8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s a list of allowed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9B7D-71D5-4054-BF26-C0E7DBBF8E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05920" cy="31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</a:rPr>
              <a:t>2007-2008 Regul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79A-BD1D-4CDE-A872-B1CB7F8AFF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ffective for the 2008-2009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be repaid as Direct Unsubsidized Loan if student does not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ach for at least four years within eight years of ceasing enrollment in the TEACH Grant eligible program, as a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3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ighly Qualified Teac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a Title I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a specified subject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for a dollar, in for four year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998-8588-40D8-9911-0CDAE58250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 to $4,000 per year for first undergraduate or post-baccalaureate (non degree) program - $16,000 aggreg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p to $4,000 per year for graduate student -  $8,000 aggreg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rated amounts for less than 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ward, when combined with other assistance, cannot exceed cost of attendance (No EF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493-B704-46AD-932B-AECBB2F5EE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 recipient must teach in a high-need field in the majority of classes tau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” high-need fields must be listed in the Department of Education’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ationwide Listing of Teacher Shortage Area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time the recipient begins qualified teac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053-9C13-4420-A493-D6533B1DC7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2007-08 TEACH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DCL GEN-08-07, posted to IFAP on June 3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Choice whether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institution that offers one or more TEACH Grant-eligible programs may participate in the TEACH Grant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F45D-3E25-4B0C-8070-5555603F54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TEACH Grant Statistic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533520" y="2209680"/>
          <a:ext cx="8286480" cy="24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28648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85F-5CFC-42CB-9BEB-9678341C72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80" y="784440"/>
            <a:ext cx="891540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2007-2008 Loans Final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2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0" algn="ctr">
              <a:lnSpc>
                <a:spcPct val="2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tion of Not-for-Profit H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ome-based Repayment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 and Direct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lnSpc>
                <a:spcPct val="5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 Loan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lnSpc>
                <a:spcPct val="4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onomic Hardship and Military Servic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er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FEL, Direct Loans, and Perk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B54-A2B8-4BC5-84BB-088504B9EB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A Rational Approach to Federal Student Aid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D36E-2BF1-4084-8712-14EFDF517B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6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Appropriations and</a:t>
            </a:r>
            <a:br>
              <a:rPr sz="4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Program Budget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2EE8-120F-4B33-AB89-0F535E6687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tire financial aid system—including federal, state, institutional, and private programs—is confusing, complex, inefficient, duplicative, and frequently does not direct aid to students who truly need 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cretary of Education’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ssion on the Future of Higher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35E-A9B1-4EF9-B86A-5C80F77251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ess, in passing the HEOA, required the Department of Education to issue a report on efforts to simplify the FAFSA that includes looking at the elimination of income data elements, as well as other items.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1F5E-5A93-40FB-B7ED-680C8F0006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84200" y="5446800"/>
            <a:ext cx="8659800" cy="1209600"/>
          </a:xfrm>
          <a:prstGeom prst="rect">
            <a:avLst/>
          </a:prstGeom>
          <a:solidFill>
            <a:srgbClr val="ffcc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84200" y="3160800"/>
            <a:ext cx="8659800" cy="2286000"/>
          </a:xfrm>
          <a:prstGeom prst="rect">
            <a:avLst/>
          </a:prstGeom>
          <a:solidFill>
            <a:srgbClr val="ffcc99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77920" y="2117880"/>
            <a:ext cx="8658000" cy="1042920"/>
          </a:xfrm>
          <a:prstGeom prst="rect">
            <a:avLst/>
          </a:prstGeom>
          <a:solidFill>
            <a:srgbClr val="ffcc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77920" y="974880"/>
            <a:ext cx="865800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77920" y="135000"/>
            <a:ext cx="8658000" cy="839880"/>
          </a:xfrm>
          <a:prstGeom prst="rect">
            <a:avLst/>
          </a:prstGeom>
          <a:solidFill>
            <a:srgbClr val="ffffcc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7"/>
          <p:cNvSpPr/>
          <p:nvPr/>
        </p:nvSpPr>
        <p:spPr>
          <a:xfrm rot="5400000">
            <a:off x="133200" y="279360"/>
            <a:ext cx="839880" cy="550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epa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 rot="5400000">
            <a:off x="-1440" y="1254240"/>
            <a:ext cx="1109520" cy="550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oo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9"/>
          <p:cNvSpPr/>
          <p:nvPr/>
        </p:nvSpPr>
        <p:spPr>
          <a:xfrm rot="5400000">
            <a:off x="31680" y="2363760"/>
            <a:ext cx="1042920" cy="5508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ppl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-589680" y="4028400"/>
            <a:ext cx="2286000" cy="5508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 rot="5400000">
            <a:off x="-51480" y="5776200"/>
            <a:ext cx="1209600" cy="550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2" descr="j0106614"/>
          <p:cNvPicPr/>
          <p:nvPr/>
        </p:nvPicPr>
        <p:blipFill>
          <a:blip r:embed="rId1"/>
          <a:stretch/>
        </p:blipFill>
        <p:spPr>
          <a:xfrm>
            <a:off x="4017960" y="571680"/>
            <a:ext cx="8971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BL00544A"/>
          <p:cNvPicPr/>
          <p:nvPr/>
        </p:nvPicPr>
        <p:blipFill>
          <a:blip r:embed="rId2"/>
          <a:stretch/>
        </p:blipFill>
        <p:spPr>
          <a:xfrm>
            <a:off x="1662120" y="2117880"/>
            <a:ext cx="831960" cy="358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j0199843"/>
          <p:cNvPicPr/>
          <p:nvPr/>
        </p:nvPicPr>
        <p:blipFill>
          <a:blip r:embed="rId3"/>
          <a:stretch/>
        </p:blipFill>
        <p:spPr>
          <a:xfrm>
            <a:off x="762120" y="2655720"/>
            <a:ext cx="993600" cy="536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j0389512"/>
          <p:cNvPicPr/>
          <p:nvPr/>
        </p:nvPicPr>
        <p:blipFill>
          <a:blip r:embed="rId4"/>
          <a:stretch/>
        </p:blipFill>
        <p:spPr>
          <a:xfrm>
            <a:off x="4017960" y="3025800"/>
            <a:ext cx="969840" cy="3999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163" name="Picture 16" descr="j0370310"/>
          <p:cNvPicPr/>
          <p:nvPr/>
        </p:nvPicPr>
        <p:blipFill>
          <a:blip r:embed="rId5"/>
          <a:stretch/>
        </p:blipFill>
        <p:spPr>
          <a:xfrm>
            <a:off x="7620120" y="2620800"/>
            <a:ext cx="1244520" cy="381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BS01022_"/>
          <p:cNvPicPr/>
          <p:nvPr/>
        </p:nvPicPr>
        <p:blipFill>
          <a:blip r:embed="rId6"/>
          <a:stretch/>
        </p:blipFill>
        <p:spPr>
          <a:xfrm>
            <a:off x="7689960" y="1951200"/>
            <a:ext cx="1245960" cy="57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BS01111_"/>
          <p:cNvPicPr/>
          <p:nvPr/>
        </p:nvPicPr>
        <p:blipFill>
          <a:blip r:embed="rId7"/>
          <a:stretch/>
        </p:blipFill>
        <p:spPr>
          <a:xfrm>
            <a:off x="4363920" y="5008680"/>
            <a:ext cx="1109880" cy="40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BL00544A"/>
          <p:cNvPicPr/>
          <p:nvPr/>
        </p:nvPicPr>
        <p:blipFill>
          <a:blip r:embed="rId8"/>
          <a:stretch/>
        </p:blipFill>
        <p:spPr>
          <a:xfrm>
            <a:off x="4017960" y="6018120"/>
            <a:ext cx="1047600" cy="452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"/>
          <p:cNvSpPr/>
          <p:nvPr/>
        </p:nvSpPr>
        <p:spPr>
          <a:xfrm>
            <a:off x="5166360" y="544680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3186000" y="4538520"/>
            <a:ext cx="82872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Subsidiz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4433760" y="453852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Un-subsidiz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541840" y="453852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3602160" y="4336920"/>
            <a:ext cx="23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602160" y="4336920"/>
            <a:ext cx="0" cy="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4780080" y="433692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5958000" y="433692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5156640" y="3124080"/>
            <a:ext cx="383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3672000" y="3732120"/>
            <a:ext cx="89856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5818320" y="3732120"/>
            <a:ext cx="90324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erk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4780080" y="3732120"/>
            <a:ext cx="90144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4087800" y="356400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408780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4"/>
          <p:cNvSpPr/>
          <p:nvPr/>
        </p:nvSpPr>
        <p:spPr>
          <a:xfrm>
            <a:off x="526428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5"/>
          <p:cNvSpPr/>
          <p:nvPr/>
        </p:nvSpPr>
        <p:spPr>
          <a:xfrm>
            <a:off x="630396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6"/>
          <p:cNvSpPr/>
          <p:nvPr/>
        </p:nvSpPr>
        <p:spPr>
          <a:xfrm>
            <a:off x="4572000" y="34290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7" descr="j0370310"/>
          <p:cNvPicPr/>
          <p:nvPr/>
        </p:nvPicPr>
        <p:blipFill>
          <a:blip r:embed="rId9"/>
          <a:stretch/>
        </p:blipFill>
        <p:spPr>
          <a:xfrm>
            <a:off x="969840" y="3462480"/>
            <a:ext cx="1246320" cy="3808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8"/>
          <p:cNvSpPr/>
          <p:nvPr/>
        </p:nvSpPr>
        <p:spPr>
          <a:xfrm>
            <a:off x="1565640" y="3763800"/>
            <a:ext cx="654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t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nstitut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631960" y="3732120"/>
            <a:ext cx="900360" cy="335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3048120" y="356400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>
            <a:off x="5264640" y="2689200"/>
            <a:ext cx="4460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2" descr="BS00561_"/>
          <p:cNvPicPr/>
          <p:nvPr/>
        </p:nvPicPr>
        <p:blipFill>
          <a:blip r:embed="rId10"/>
          <a:stretch/>
        </p:blipFill>
        <p:spPr>
          <a:xfrm>
            <a:off x="2008080" y="2763720"/>
            <a:ext cx="1113120" cy="397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3"/>
          <p:cNvSpPr/>
          <p:nvPr/>
        </p:nvSpPr>
        <p:spPr>
          <a:xfrm>
            <a:off x="1746720" y="2522520"/>
            <a:ext cx="473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n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4"/>
          <p:cNvSpPr/>
          <p:nvPr/>
        </p:nvSpPr>
        <p:spPr>
          <a:xfrm>
            <a:off x="995760" y="3208320"/>
            <a:ext cx="541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uaran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5"/>
          <p:cNvSpPr/>
          <p:nvPr/>
        </p:nvSpPr>
        <p:spPr>
          <a:xfrm>
            <a:off x="2183760" y="3125880"/>
            <a:ext cx="577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6"/>
          <p:cNvSpPr/>
          <p:nvPr/>
        </p:nvSpPr>
        <p:spPr>
          <a:xfrm>
            <a:off x="3946680" y="2824200"/>
            <a:ext cx="12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4572000" y="2755800"/>
            <a:ext cx="0" cy="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4572000" y="28242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9"/>
          <p:cNvSpPr/>
          <p:nvPr/>
        </p:nvSpPr>
        <p:spPr>
          <a:xfrm flipH="1" flipV="1">
            <a:off x="2563560" y="2554200"/>
            <a:ext cx="13827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0"/>
          <p:cNvSpPr/>
          <p:nvPr/>
        </p:nvSpPr>
        <p:spPr>
          <a:xfrm flipH="1">
            <a:off x="1454040" y="2554200"/>
            <a:ext cx="20664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1"/>
          <p:cNvSpPr/>
          <p:nvPr/>
        </p:nvSpPr>
        <p:spPr>
          <a:xfrm>
            <a:off x="2286000" y="2554200"/>
            <a:ext cx="13644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2"/>
          <p:cNvSpPr/>
          <p:nvPr/>
        </p:nvSpPr>
        <p:spPr>
          <a:xfrm flipH="1">
            <a:off x="2215800" y="2824200"/>
            <a:ext cx="1730520" cy="77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3"/>
          <p:cNvSpPr/>
          <p:nvPr/>
        </p:nvSpPr>
        <p:spPr>
          <a:xfrm>
            <a:off x="4986360" y="3276720"/>
            <a:ext cx="20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6994440" y="3294000"/>
            <a:ext cx="1800" cy="184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5"/>
          <p:cNvSpPr/>
          <p:nvPr/>
        </p:nvSpPr>
        <p:spPr>
          <a:xfrm flipH="1">
            <a:off x="5611320" y="5143680"/>
            <a:ext cx="14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8326080" y="2959200"/>
            <a:ext cx="4215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7" descr="j0370310"/>
          <p:cNvPicPr/>
          <p:nvPr/>
        </p:nvPicPr>
        <p:blipFill>
          <a:blip r:embed="rId11"/>
          <a:stretch/>
        </p:blipFill>
        <p:spPr>
          <a:xfrm>
            <a:off x="5888160" y="2811600"/>
            <a:ext cx="1245960" cy="380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8"/>
          <p:cNvSpPr/>
          <p:nvPr/>
        </p:nvSpPr>
        <p:spPr>
          <a:xfrm>
            <a:off x="6554160" y="3106800"/>
            <a:ext cx="6516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Work Stu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9"/>
          <p:cNvSpPr/>
          <p:nvPr/>
        </p:nvSpPr>
        <p:spPr>
          <a:xfrm>
            <a:off x="5197320" y="2824200"/>
            <a:ext cx="82872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0"/>
          <p:cNvSpPr/>
          <p:nvPr/>
        </p:nvSpPr>
        <p:spPr>
          <a:xfrm flipV="1">
            <a:off x="5197320" y="2722680"/>
            <a:ext cx="255924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7897680" y="3160800"/>
            <a:ext cx="1036800" cy="334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7966080" y="3732120"/>
            <a:ext cx="968400" cy="268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AP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E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3"/>
          <p:cNvSpPr/>
          <p:nvPr/>
        </p:nvSpPr>
        <p:spPr>
          <a:xfrm>
            <a:off x="7966080" y="4303800"/>
            <a:ext cx="900000" cy="268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SE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4"/>
          <p:cNvSpPr/>
          <p:nvPr/>
        </p:nvSpPr>
        <p:spPr>
          <a:xfrm>
            <a:off x="6303960" y="31608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 flipH="1">
            <a:off x="7481880" y="3294000"/>
            <a:ext cx="1440" cy="184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66"/>
          <p:cNvSpPr/>
          <p:nvPr/>
        </p:nvSpPr>
        <p:spPr>
          <a:xfrm flipH="1">
            <a:off x="7482960" y="2992320"/>
            <a:ext cx="34452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7483320" y="336240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68"/>
          <p:cNvSpPr/>
          <p:nvPr/>
        </p:nvSpPr>
        <p:spPr>
          <a:xfrm>
            <a:off x="7481880" y="389880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9"/>
          <p:cNvSpPr/>
          <p:nvPr/>
        </p:nvSpPr>
        <p:spPr>
          <a:xfrm>
            <a:off x="7481880" y="44038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0"/>
          <p:cNvSpPr/>
          <p:nvPr/>
        </p:nvSpPr>
        <p:spPr>
          <a:xfrm flipH="1">
            <a:off x="6996240" y="514368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4264200" y="1109520"/>
            <a:ext cx="4536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903440" y="1681200"/>
            <a:ext cx="753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epartment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1185840" y="1378080"/>
            <a:ext cx="6271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6824520" y="773280"/>
            <a:ext cx="442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AF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5"/>
          <p:cNvSpPr/>
          <p:nvPr/>
        </p:nvSpPr>
        <p:spPr>
          <a:xfrm flipH="1">
            <a:off x="3393720" y="1076400"/>
            <a:ext cx="76212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6"/>
          <p:cNvSpPr/>
          <p:nvPr/>
        </p:nvSpPr>
        <p:spPr>
          <a:xfrm>
            <a:off x="2978280" y="1681200"/>
            <a:ext cx="8334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7"/>
          <p:cNvSpPr/>
          <p:nvPr/>
        </p:nvSpPr>
        <p:spPr>
          <a:xfrm>
            <a:off x="5778000" y="2298600"/>
            <a:ext cx="9154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8"/>
          <p:cNvSpPr/>
          <p:nvPr/>
        </p:nvSpPr>
        <p:spPr>
          <a:xfrm flipH="1">
            <a:off x="5470560" y="2319480"/>
            <a:ext cx="228600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9"/>
          <p:cNvSpPr/>
          <p:nvPr/>
        </p:nvSpPr>
        <p:spPr>
          <a:xfrm>
            <a:off x="5056200" y="974880"/>
            <a:ext cx="138600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0"/>
          <p:cNvSpPr/>
          <p:nvPr/>
        </p:nvSpPr>
        <p:spPr>
          <a:xfrm>
            <a:off x="7412040" y="1681200"/>
            <a:ext cx="62244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1"/>
          <p:cNvSpPr/>
          <p:nvPr/>
        </p:nvSpPr>
        <p:spPr>
          <a:xfrm>
            <a:off x="3969360" y="1512720"/>
            <a:ext cx="9702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udent Aid 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2"/>
          <p:cNvSpPr/>
          <p:nvPr/>
        </p:nvSpPr>
        <p:spPr>
          <a:xfrm flipH="1" flipV="1">
            <a:off x="6165360" y="1780920"/>
            <a:ext cx="1662120" cy="47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3"/>
          <p:cNvSpPr/>
          <p:nvPr/>
        </p:nvSpPr>
        <p:spPr>
          <a:xfrm flipH="1" flipV="1">
            <a:off x="4571640" y="1244160"/>
            <a:ext cx="6922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4"/>
          <p:cNvSpPr/>
          <p:nvPr/>
        </p:nvSpPr>
        <p:spPr>
          <a:xfrm>
            <a:off x="1454040" y="4067280"/>
            <a:ext cx="831960" cy="169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Emplo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85"/>
          <p:cNvSpPr/>
          <p:nvPr/>
        </p:nvSpPr>
        <p:spPr>
          <a:xfrm>
            <a:off x="1454040" y="4303800"/>
            <a:ext cx="831960" cy="1666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Gra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6"/>
          <p:cNvSpPr/>
          <p:nvPr/>
        </p:nvSpPr>
        <p:spPr>
          <a:xfrm>
            <a:off x="1454040" y="4538520"/>
            <a:ext cx="831960" cy="168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Loa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7"/>
          <p:cNvSpPr/>
          <p:nvPr/>
        </p:nvSpPr>
        <p:spPr>
          <a:xfrm>
            <a:off x="1454040" y="4773600"/>
            <a:ext cx="831960" cy="1681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Scholarshi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8"/>
          <p:cNvSpPr/>
          <p:nvPr/>
        </p:nvSpPr>
        <p:spPr>
          <a:xfrm>
            <a:off x="1176480" y="3832200"/>
            <a:ext cx="0" cy="12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9"/>
          <p:cNvSpPr/>
          <p:nvPr/>
        </p:nvSpPr>
        <p:spPr>
          <a:xfrm flipH="1">
            <a:off x="1176120" y="413532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0"/>
          <p:cNvSpPr/>
          <p:nvPr/>
        </p:nvSpPr>
        <p:spPr>
          <a:xfrm flipH="1">
            <a:off x="1176120" y="44038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1"/>
          <p:cNvSpPr/>
          <p:nvPr/>
        </p:nvSpPr>
        <p:spPr>
          <a:xfrm flipH="1">
            <a:off x="1176120" y="460548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2"/>
          <p:cNvSpPr/>
          <p:nvPr/>
        </p:nvSpPr>
        <p:spPr>
          <a:xfrm flipH="1">
            <a:off x="1176120" y="4840200"/>
            <a:ext cx="27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3"/>
          <p:cNvSpPr/>
          <p:nvPr/>
        </p:nvSpPr>
        <p:spPr>
          <a:xfrm>
            <a:off x="2701800" y="5446800"/>
            <a:ext cx="898560" cy="3157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4"/>
          <p:cNvSpPr/>
          <p:nvPr/>
        </p:nvSpPr>
        <p:spPr>
          <a:xfrm>
            <a:off x="2988000" y="4952880"/>
            <a:ext cx="520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5"/>
          <p:cNvSpPr/>
          <p:nvPr/>
        </p:nvSpPr>
        <p:spPr>
          <a:xfrm>
            <a:off x="3012120" y="5446800"/>
            <a:ext cx="4460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96"/>
          <p:cNvSpPr/>
          <p:nvPr/>
        </p:nvSpPr>
        <p:spPr>
          <a:xfrm>
            <a:off x="2494080" y="5580000"/>
            <a:ext cx="901440" cy="3193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97"/>
          <p:cNvSpPr/>
          <p:nvPr/>
        </p:nvSpPr>
        <p:spPr>
          <a:xfrm>
            <a:off x="2355840" y="5715000"/>
            <a:ext cx="898560" cy="31752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2440440" y="5748480"/>
            <a:ext cx="660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99"/>
          <p:cNvSpPr/>
          <p:nvPr/>
        </p:nvSpPr>
        <p:spPr>
          <a:xfrm>
            <a:off x="1176480" y="5041800"/>
            <a:ext cx="131760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00"/>
          <p:cNvSpPr/>
          <p:nvPr/>
        </p:nvSpPr>
        <p:spPr>
          <a:xfrm flipV="1">
            <a:off x="3672000" y="5209920"/>
            <a:ext cx="76176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2436120" y="125280"/>
            <a:ext cx="4068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Process/Student View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Y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2"/>
          <p:cNvSpPr/>
          <p:nvPr/>
        </p:nvSpPr>
        <p:spPr>
          <a:xfrm>
            <a:off x="5126040" y="538200"/>
            <a:ext cx="104616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0 Million Recipi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3"/>
          <p:cNvSpPr/>
          <p:nvPr/>
        </p:nvSpPr>
        <p:spPr>
          <a:xfrm flipH="1">
            <a:off x="4917960" y="706320"/>
            <a:ext cx="27792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4"/>
          <p:cNvSpPr/>
          <p:nvPr/>
        </p:nvSpPr>
        <p:spPr>
          <a:xfrm>
            <a:off x="7694280" y="914400"/>
            <a:ext cx="85140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14.5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Aid 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5"/>
          <p:cNvSpPr/>
          <p:nvPr/>
        </p:nvSpPr>
        <p:spPr>
          <a:xfrm flipH="1">
            <a:off x="7391160" y="1295280"/>
            <a:ext cx="27756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6"/>
          <p:cNvSpPr/>
          <p:nvPr/>
        </p:nvSpPr>
        <p:spPr>
          <a:xfrm>
            <a:off x="1454040" y="1849320"/>
            <a:ext cx="37476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2,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7"/>
          <p:cNvSpPr/>
          <p:nvPr/>
        </p:nvSpPr>
        <p:spPr>
          <a:xfrm>
            <a:off x="1731960" y="1982880"/>
            <a:ext cx="136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8"/>
          <p:cNvSpPr/>
          <p:nvPr/>
        </p:nvSpPr>
        <p:spPr>
          <a:xfrm>
            <a:off x="989280" y="2438280"/>
            <a:ext cx="21888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9"/>
          <p:cNvSpPr/>
          <p:nvPr/>
        </p:nvSpPr>
        <p:spPr>
          <a:xfrm>
            <a:off x="1039680" y="2589120"/>
            <a:ext cx="6984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0"/>
          <p:cNvSpPr/>
          <p:nvPr/>
        </p:nvSpPr>
        <p:spPr>
          <a:xfrm>
            <a:off x="3276720" y="2803680"/>
            <a:ext cx="2696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1"/>
          <p:cNvSpPr/>
          <p:nvPr/>
        </p:nvSpPr>
        <p:spPr>
          <a:xfrm flipH="1">
            <a:off x="3117600" y="2890800"/>
            <a:ext cx="20772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2"/>
          <p:cNvSpPr/>
          <p:nvPr/>
        </p:nvSpPr>
        <p:spPr>
          <a:xfrm>
            <a:off x="3200400" y="2438280"/>
            <a:ext cx="34452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6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13"/>
          <p:cNvSpPr/>
          <p:nvPr/>
        </p:nvSpPr>
        <p:spPr>
          <a:xfrm>
            <a:off x="3532320" y="2554200"/>
            <a:ext cx="2077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4"/>
          <p:cNvSpPr/>
          <p:nvPr/>
        </p:nvSpPr>
        <p:spPr>
          <a:xfrm>
            <a:off x="5824440" y="2563920"/>
            <a:ext cx="1185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83 Billion Federal A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15"/>
          <p:cNvSpPr/>
          <p:nvPr/>
        </p:nvSpPr>
        <p:spPr>
          <a:xfrm flipH="1" flipV="1">
            <a:off x="5403600" y="2620440"/>
            <a:ext cx="55548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16"/>
          <p:cNvSpPr/>
          <p:nvPr/>
        </p:nvSpPr>
        <p:spPr>
          <a:xfrm>
            <a:off x="6858000" y="2755800"/>
            <a:ext cx="609480" cy="30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.2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17"/>
          <p:cNvSpPr/>
          <p:nvPr/>
        </p:nvSpPr>
        <p:spPr>
          <a:xfrm flipH="1">
            <a:off x="6649920" y="2857680"/>
            <a:ext cx="2779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8"/>
          <p:cNvSpPr/>
          <p:nvPr/>
        </p:nvSpPr>
        <p:spPr>
          <a:xfrm>
            <a:off x="3672000" y="4067280"/>
            <a:ext cx="96840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51.3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9"/>
          <p:cNvSpPr/>
          <p:nvPr/>
        </p:nvSpPr>
        <p:spPr>
          <a:xfrm>
            <a:off x="4780080" y="4067280"/>
            <a:ext cx="90792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 13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0"/>
          <p:cNvSpPr/>
          <p:nvPr/>
        </p:nvSpPr>
        <p:spPr>
          <a:xfrm>
            <a:off x="5818320" y="4067280"/>
            <a:ext cx="9032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.1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1"/>
          <p:cNvSpPr/>
          <p:nvPr/>
        </p:nvSpPr>
        <p:spPr>
          <a:xfrm>
            <a:off x="7966080" y="45720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976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2"/>
          <p:cNvSpPr/>
          <p:nvPr/>
        </p:nvSpPr>
        <p:spPr>
          <a:xfrm>
            <a:off x="7966080" y="400068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65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3"/>
          <p:cNvSpPr/>
          <p:nvPr/>
        </p:nvSpPr>
        <p:spPr>
          <a:xfrm>
            <a:off x="7966080" y="34290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14.4 B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24"/>
          <p:cNvSpPr/>
          <p:nvPr/>
        </p:nvSpPr>
        <p:spPr>
          <a:xfrm>
            <a:off x="5604480" y="2400480"/>
            <a:ext cx="3240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S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25" descr="j0128398"/>
          <p:cNvPicPr/>
          <p:nvPr/>
        </p:nvPicPr>
        <p:blipFill>
          <a:blip r:embed="rId12"/>
          <a:stretch/>
        </p:blipFill>
        <p:spPr>
          <a:xfrm>
            <a:off x="3740040" y="1849320"/>
            <a:ext cx="1722600" cy="906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6" descr="BS01060_"/>
          <p:cNvPicPr/>
          <p:nvPr/>
        </p:nvPicPr>
        <p:blipFill>
          <a:blip r:embed="rId13"/>
          <a:stretch/>
        </p:blipFill>
        <p:spPr>
          <a:xfrm>
            <a:off x="2077920" y="1076400"/>
            <a:ext cx="1123920" cy="533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7" descr="SAR"/>
          <p:cNvPicPr/>
          <p:nvPr/>
        </p:nvPicPr>
        <p:blipFill>
          <a:blip r:embed="rId14"/>
          <a:stretch/>
        </p:blipFill>
        <p:spPr>
          <a:xfrm>
            <a:off x="5195880" y="1209600"/>
            <a:ext cx="911160" cy="57168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275" name="Picture 128" descr="FAFSA07"/>
          <p:cNvPicPr/>
          <p:nvPr/>
        </p:nvPicPr>
        <p:blipFill>
          <a:blip r:embed="rId15"/>
          <a:stretch/>
        </p:blipFill>
        <p:spPr>
          <a:xfrm>
            <a:off x="6580080" y="974880"/>
            <a:ext cx="968400" cy="6062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276" name="Rectangle 129"/>
          <p:cNvSpPr/>
          <p:nvPr/>
        </p:nvSpPr>
        <p:spPr>
          <a:xfrm>
            <a:off x="7966080" y="4908600"/>
            <a:ext cx="900000" cy="336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CG/SM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30"/>
          <p:cNvSpPr/>
          <p:nvPr/>
        </p:nvSpPr>
        <p:spPr>
          <a:xfrm>
            <a:off x="7966080" y="5245200"/>
            <a:ext cx="969840" cy="17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$580 Mil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31"/>
          <p:cNvSpPr/>
          <p:nvPr/>
        </p:nvSpPr>
        <p:spPr>
          <a:xfrm>
            <a:off x="7481880" y="500868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2"/>
          <p:cNvSpPr/>
          <p:nvPr/>
        </p:nvSpPr>
        <p:spPr>
          <a:xfrm>
            <a:off x="3048120" y="3564000"/>
            <a:ext cx="10396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3"/>
          <p:cNvSpPr/>
          <p:nvPr/>
        </p:nvSpPr>
        <p:spPr>
          <a:xfrm>
            <a:off x="1871640" y="2620800"/>
            <a:ext cx="13644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34"/>
          <p:cNvSpPr/>
          <p:nvPr/>
        </p:nvSpPr>
        <p:spPr>
          <a:xfrm>
            <a:off x="2008080" y="3395520"/>
            <a:ext cx="83196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5"/>
          <p:cNvSpPr/>
          <p:nvPr/>
        </p:nvSpPr>
        <p:spPr>
          <a:xfrm>
            <a:off x="4226040" y="4202280"/>
            <a:ext cx="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6"/>
          <p:cNvSpPr/>
          <p:nvPr/>
        </p:nvSpPr>
        <p:spPr>
          <a:xfrm>
            <a:off x="5334120" y="4202280"/>
            <a:ext cx="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7"/>
          <p:cNvSpPr/>
          <p:nvPr/>
        </p:nvSpPr>
        <p:spPr>
          <a:xfrm>
            <a:off x="4641840" y="554688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8"/>
          <p:cNvSpPr/>
          <p:nvPr/>
        </p:nvSpPr>
        <p:spPr>
          <a:xfrm flipH="1">
            <a:off x="4987800" y="1816200"/>
            <a:ext cx="2764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ssues – Federal Student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34272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pplication is complex and intimida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ch of the data are unverifi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EFC formula is arbitrary,   difficult to understand, lacks clarity  and relevance, and subject to “gaming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of application (EFC) is “how much the student will NOT receiv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icity of programs is confus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58E-809A-4EBA-BDA1-942F1FA9EF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nciples for Refor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o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will request information that is easily obtainable and verifi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will only ask questions necessary to determine eligibility and award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6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s the neediest student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dependent of other aid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redictabl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ortable,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es aid through fewer progra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D5DC-5B54-4B04-BEEE-71D5EBCC3B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Current Mode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80880" y="990720"/>
            <a:ext cx="1524240" cy="533160"/>
          </a:xfrm>
          <a:prstGeom prst="rect">
            <a:avLst/>
          </a:prstGeom>
          <a:gradFill rotWithShape="0">
            <a:gsLst>
              <a:gs pos="0">
                <a:srgbClr val="e1e1ff"/>
              </a:gs>
              <a:gs pos="100000">
                <a:srgbClr val="9595ff"/>
              </a:gs>
            </a:gsLst>
            <a:lin ang="54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981080" y="121932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565440" y="914400"/>
            <a:ext cx="53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ncial Resource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45 Question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981080" y="1447920"/>
          <a:ext cx="7162920" cy="2068560"/>
        </p:xfrm>
        <a:graphic>
          <a:graphicData uri="http://schemas.openxmlformats.org/drawingml/2006/table">
            <a:tbl>
              <a:tblPr/>
              <a:tblGrid>
                <a:gridCol w="3299040"/>
                <a:gridCol w="386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37 Ques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6 Ques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Taxable Income (A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C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Untaxed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+ Stocks, Bonds, Investments,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Home Equity, Retirement Ac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Text Box 46"/>
          <p:cNvSpPr/>
          <p:nvPr/>
        </p:nvSpPr>
        <p:spPr>
          <a:xfrm>
            <a:off x="4276800" y="3581280"/>
            <a:ext cx="32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 size &amp; Number in College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8"/>
          <p:cNvSpPr/>
          <p:nvPr/>
        </p:nvSpPr>
        <p:spPr>
          <a:xfrm>
            <a:off x="4191120" y="3886200"/>
            <a:ext cx="3504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9"/>
          <p:cNvSpPr/>
          <p:nvPr/>
        </p:nvSpPr>
        <p:spPr>
          <a:xfrm flipH="1">
            <a:off x="4876920" y="3886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0"/>
          <p:cNvSpPr/>
          <p:nvPr/>
        </p:nvSpPr>
        <p:spPr>
          <a:xfrm>
            <a:off x="6324480" y="38862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1"/>
          <p:cNvSpPr/>
          <p:nvPr/>
        </p:nvSpPr>
        <p:spPr>
          <a:xfrm>
            <a:off x="3733920" y="42670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retionary 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52"/>
          <p:cNvSpPr/>
          <p:nvPr/>
        </p:nvSpPr>
        <p:spPr>
          <a:xfrm>
            <a:off x="6024600" y="4267080"/>
            <a:ext cx="2192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n-Discretionary U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axes, Living Expe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3"/>
          <p:cNvSpPr/>
          <p:nvPr/>
        </p:nvSpPr>
        <p:spPr>
          <a:xfrm>
            <a:off x="480060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411480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e4e4ff"/>
              </a:gs>
              <a:gs pos="100000">
                <a:srgbClr val="9c9cff"/>
              </a:gs>
            </a:gsLst>
            <a:lin ang="54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5"/>
          <p:cNvSpPr/>
          <p:nvPr/>
        </p:nvSpPr>
        <p:spPr>
          <a:xfrm flipV="1">
            <a:off x="1066680" y="1523880"/>
            <a:ext cx="0" cy="3657600"/>
          </a:xfrm>
          <a:prstGeom prst="line">
            <a:avLst/>
          </a:prstGeom>
          <a:ln w="57240">
            <a:solidFill>
              <a:srgbClr val="00cc99">
                <a:alpha val="82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7"/>
          <p:cNvSpPr/>
          <p:nvPr/>
        </p:nvSpPr>
        <p:spPr>
          <a:xfrm>
            <a:off x="5106600" y="4876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9"/>
          <p:cNvSpPr/>
          <p:nvPr/>
        </p:nvSpPr>
        <p:spPr>
          <a:xfrm>
            <a:off x="5562720" y="4876920"/>
            <a:ext cx="2666880" cy="45720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1"/>
          <p:cNvSpPr/>
          <p:nvPr/>
        </p:nvSpPr>
        <p:spPr>
          <a:xfrm>
            <a:off x="5334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2"/>
          <p:cNvSpPr/>
          <p:nvPr/>
        </p:nvSpPr>
        <p:spPr>
          <a:xfrm>
            <a:off x="4648320" y="5562720"/>
            <a:ext cx="114300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ll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3"/>
          <p:cNvSpPr/>
          <p:nvPr/>
        </p:nvSpPr>
        <p:spPr>
          <a:xfrm>
            <a:off x="5792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64"/>
          <p:cNvSpPr/>
          <p:nvPr/>
        </p:nvSpPr>
        <p:spPr>
          <a:xfrm>
            <a:off x="6095880" y="5562720"/>
            <a:ext cx="190512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7010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7"/>
          <p:cNvSpPr/>
          <p:nvPr/>
        </p:nvSpPr>
        <p:spPr>
          <a:xfrm>
            <a:off x="5105520" y="6172200"/>
            <a:ext cx="2286000" cy="38088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1"/>
          <p:cNvSpPr/>
          <p:nvPr/>
        </p:nvSpPr>
        <p:spPr>
          <a:xfrm>
            <a:off x="1066680" y="5181480"/>
            <a:ext cx="3200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4267080" y="5410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267080" y="6324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9"/>
          <p:cNvSpPr/>
          <p:nvPr/>
        </p:nvSpPr>
        <p:spPr>
          <a:xfrm>
            <a:off x="8267040" y="55627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7"/>
          <p:cNvSpPr/>
          <p:nvPr/>
        </p:nvSpPr>
        <p:spPr>
          <a:xfrm>
            <a:off x="2209680" y="17524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131"/>
          <p:cNvSpPr/>
          <p:nvPr/>
        </p:nvSpPr>
        <p:spPr>
          <a:xfrm>
            <a:off x="4495680" y="5486400"/>
            <a:ext cx="3657600" cy="5335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33"/>
          <p:cNvSpPr/>
          <p:nvPr/>
        </p:nvSpPr>
        <p:spPr>
          <a:xfrm flipV="1">
            <a:off x="8305920" y="4952880"/>
            <a:ext cx="609480" cy="609840"/>
          </a:xfrm>
          <a:prstGeom prst="pie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36"/>
          <p:cNvSpPr/>
          <p:nvPr/>
        </p:nvSpPr>
        <p:spPr>
          <a:xfrm flipV="1" rot="5400000">
            <a:off x="7848720" y="5637600"/>
            <a:ext cx="533160" cy="1295640"/>
          </a:xfrm>
          <a:prstGeom prst="pie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108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58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514600" cy="17938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4"/>
          <p:cNvSpPr/>
          <p:nvPr/>
        </p:nvSpPr>
        <p:spPr>
          <a:xfrm>
            <a:off x="1066680" y="5257800"/>
            <a:ext cx="2590920" cy="7945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66ffcc">
                  <a:alpha val="7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at students and families have to p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5ED-D174-4052-8575-A2D25E0EBE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Proposed Mode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80880" y="990720"/>
            <a:ext cx="1524240" cy="533160"/>
          </a:xfrm>
          <a:prstGeom prst="rect">
            <a:avLst/>
          </a:prstGeom>
          <a:gradFill rotWithShape="0">
            <a:gsLst>
              <a:gs pos="0">
                <a:srgbClr val="e1e1ff"/>
              </a:gs>
              <a:gs pos="100000">
                <a:srgbClr val="9595ff"/>
              </a:gs>
            </a:gsLst>
            <a:lin ang="54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1981080" y="12952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655800" y="99072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nancial Resource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(2 Question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8"/>
          <p:cNvSpPr/>
          <p:nvPr/>
        </p:nvSpPr>
        <p:spPr>
          <a:xfrm flipH="1">
            <a:off x="4876560" y="2666880"/>
            <a:ext cx="68580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6095880" y="2666880"/>
            <a:ext cx="685800" cy="838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34"/>
          <p:cNvSpPr/>
          <p:nvPr/>
        </p:nvSpPr>
        <p:spPr>
          <a:xfrm flipV="1">
            <a:off x="1066680" y="1523520"/>
            <a:ext cx="0" cy="2210040"/>
          </a:xfrm>
          <a:prstGeom prst="line">
            <a:avLst/>
          </a:prstGeom>
          <a:ln w="57240">
            <a:solidFill>
              <a:srgbClr val="0066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4495680" y="4572000"/>
            <a:ext cx="2667240" cy="45720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4191120" y="3505320"/>
            <a:ext cx="1295280" cy="5331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ll G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9"/>
          <p:cNvSpPr/>
          <p:nvPr/>
        </p:nvSpPr>
        <p:spPr>
          <a:xfrm>
            <a:off x="54100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0"/>
          <p:cNvSpPr/>
          <p:nvPr/>
        </p:nvSpPr>
        <p:spPr>
          <a:xfrm>
            <a:off x="5867280" y="3505320"/>
            <a:ext cx="1905120" cy="5331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sidized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4495680" y="5791320"/>
            <a:ext cx="2667240" cy="30456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subsidized Loans/P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3"/>
          <p:cNvSpPr/>
          <p:nvPr/>
        </p:nvSpPr>
        <p:spPr>
          <a:xfrm>
            <a:off x="1066680" y="3733920"/>
            <a:ext cx="3048120" cy="0"/>
          </a:xfrm>
          <a:prstGeom prst="line">
            <a:avLst/>
          </a:prstGeom>
          <a:ln w="38160">
            <a:solidFill>
              <a:srgbClr val="0066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657600" y="1523880"/>
          <a:ext cx="4648320" cy="106704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4d"/>
                          </a:solidFill>
                          <a:latin typeface="Verdana"/>
                        </a:rPr>
                        <a:t>+ Adjusted Gross 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4d"/>
                          </a:solidFill>
                          <a:latin typeface="Verdana"/>
                        </a:rPr>
                        <a:t>+ Tax Exem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 Box 57"/>
          <p:cNvSpPr/>
          <p:nvPr/>
        </p:nvSpPr>
        <p:spPr>
          <a:xfrm>
            <a:off x="5562720" y="4038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8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341" name="Down Arrow 29"/>
          <p:cNvSpPr/>
          <p:nvPr/>
        </p:nvSpPr>
        <p:spPr>
          <a:xfrm>
            <a:off x="5303880" y="4038480"/>
            <a:ext cx="82224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Down Arrow 31"/>
          <p:cNvSpPr/>
          <p:nvPr/>
        </p:nvSpPr>
        <p:spPr>
          <a:xfrm>
            <a:off x="5334120" y="5029200"/>
            <a:ext cx="822240" cy="669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E88-A41A-4D9D-9B9C-6A2BC11B0A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A Simplified FAFS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ask for information needed to determine federal aid eligibility, aid types, and amou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17136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ages - no instruction pages(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17136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wer than 30 questions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pend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ntact Inform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Income / Exe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ligi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ert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lleges and states to which information will be s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8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20C-9C33-4BC1-822B-15AA34F00E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e FAFS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457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5048280" y="914400"/>
            <a:ext cx="34574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BA0-2339-4054-AFB7-635E3739A7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ational Approac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Target (FSA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Commitment (FSA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olidate aid programs into one grant (Pell), one loan (DL/FFEL) and one work study (FWS) progra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CFB2-B52B-4984-BE19-0C40CAAEEA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457200" y="2133720"/>
          <a:ext cx="8193240" cy="34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19324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3686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    Appropri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4675-0BFB-4B0B-A6F6-D1DBC7DB2C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5407"/>
                </a:solidFill>
                <a:uFillTx/>
                <a:latin typeface="Verdana"/>
              </a:rPr>
              <a:t>Federal Student Aid Target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(FSAT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amount of federal subsidized aid (Pell Grant, subsidized loans, and FWS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ount increases annually by CP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or example –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100% of average Tuition &amp; Fees, Books &amp; Supplies, and Meals &amp; Housing at community colleg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76D-4D78-498D-BD61-B249ABADDA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Federal Student Aid Commitment</a:t>
            </a:r>
            <a:r>
              <a:rPr b="1" lang="en-US" sz="4000" spc="-1" strike="noStrike" u="sng">
                <a:solidFill>
                  <a:srgbClr val="cc5407"/>
                </a:solidFill>
                <a:uFillTx/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(FSAC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4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’s portion of FSAT based on AGI and IRS Number of Exemptions, related to HHS Poverty Leve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71360" indent="0">
              <a:lnSpc>
                <a:spcPct val="4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xample: -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-11412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Grants up to 250% of poverty lev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-114120"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b loans and FWS up to 400% of poverty lev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4572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9F28-34A8-46FE-80FF-2E705640CC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Unsubsidized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unsubsidized Stafford and PLUS loan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only after all other aid is awarde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vers difference between cost of attendance and all other sources of aid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annual loan limits for unsubsidized Staffo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B8C-2804-4750-8FFF-93F641134B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Policy/Budget Consider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“Dial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AT: percentage of cost of attendance at which type of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AC: percentages of HHS poverty level to be used for grant, subsidized loan, and work 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“Levers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spending with current allo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ized spending to ensure access and suc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BB07-7523-406E-B79E-00981C9D11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0" y="1066680"/>
          <a:ext cx="3962520" cy="25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396252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2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85107"/>
                </a:solidFill>
                <a:latin typeface="Verdana"/>
              </a:rPr>
              <a:t>Examples of Dials and Lever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476600" cy="3047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4"/>
          <a:stretch/>
        </p:blipFill>
        <p:spPr>
          <a:xfrm>
            <a:off x="0" y="3429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5"/>
          <a:stretch/>
        </p:blipFill>
        <p:spPr>
          <a:xfrm>
            <a:off x="4114800" y="3733920"/>
            <a:ext cx="4495680" cy="25812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9"/>
          <p:cNvSpPr/>
          <p:nvPr/>
        </p:nvSpPr>
        <p:spPr>
          <a:xfrm>
            <a:off x="2209680" y="1523880"/>
            <a:ext cx="152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6629400" y="1523880"/>
            <a:ext cx="1523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981080" y="4114800"/>
            <a:ext cx="1524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6705720" y="4191120"/>
            <a:ext cx="1523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bsi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BC08-B260-40A2-B32D-23CBB04BBD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685800" y="1359000"/>
            <a:ext cx="7772400" cy="46609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e Look-Up Table</a:t>
            </a:r>
            <a:br>
              <a:rPr sz="3600"/>
            </a:br>
            <a:r>
              <a:rPr b="0" lang="en-US" sz="2000" spc="-1" strike="noStrike">
                <a:solidFill>
                  <a:srgbClr val="cc5407"/>
                </a:solidFill>
                <a:latin typeface="Verdana"/>
              </a:rPr>
              <a:t>(For Illustrative Purposes Only)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C06-29D8-4DB1-A559-DB7BDE0ABF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oes This Mean For Students?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FAFSA that encourages access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l-time feedback on probable Federal Student Aid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tter awareness of state and institutional value-added ai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dictability for persis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064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BA5-37E3-4702-8AD5-1E7D8F9FA6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457200" y="2144880"/>
          <a:ext cx="822960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44880"/>
                    <a:ext cx="82296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36864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          Status of Appropriation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C611-FA27-4A55-9E78-1EDCB1FD9E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880"/>
            <a:ext cx="8686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Title IV Program Budgets </a:t>
            </a:r>
            <a:br>
              <a:rPr sz="4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Aid Available </a:t>
            </a:r>
            <a:r>
              <a:rPr b="1" lang="en-GB" sz="3600" spc="-1" strike="noStrike">
                <a:solidFill>
                  <a:srgbClr val="c85107"/>
                </a:solidFill>
                <a:latin typeface="Verdana"/>
              </a:rPr>
              <a:t>($000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228600" y="1711440"/>
          <a:ext cx="8545680" cy="51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1440"/>
                    <a:ext cx="854568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3E2-0CC7-4B98-9A3E-4A153ABA5A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08320"/>
            <a:ext cx="8458200" cy="24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5400"/>
            </a:br>
            <a:r>
              <a:rPr b="1" lang="en-GB" sz="4400" spc="-1" strike="noStrike">
                <a:solidFill>
                  <a:srgbClr val="c85107"/>
                </a:solidFill>
                <a:latin typeface="Verdana"/>
              </a:rPr>
              <a:t>Recent Legislation</a:t>
            </a:r>
            <a:r>
              <a:rPr b="1" lang="en-GB" sz="48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3800"/>
            </a:br>
            <a:r>
              <a:rPr b="1" lang="en-GB" sz="5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DA78-88F2-4AD4-9DD1-BCB8E6535D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nded by HR 68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E7B-047C-44AC-B8EF-18F587AF3E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85107"/>
                </a:solidFill>
                <a:latin typeface="Verdana"/>
                <a:ea typeface="Times New Roman"/>
              </a:rPr>
              <a:t>Where We Are Today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and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US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spcAft>
                <a:spcPts val="176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Judgment/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5T19:17:21Z</dcterms:modified>
  <cp:revision>249</cp:revision>
  <dc:subject/>
  <dc:title>PowerPoint Presentation</dc:title>
</cp:coreProperties>
</file>